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295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Nov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994440" y="6545160"/>
            <a:ext cx="890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2756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5F889678-4A57-4203-9198-DDC902FA2110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10666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nalysis of B3 vs. 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2286000"/>
            <a:ext cx="69343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vision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id Ba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’H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Robe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dvanced Micr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AMD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nnyvale CA, 9408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t’s Unlikely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ve an 11-bit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proponents claim random number means stations are highly unlikely to choose the same t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 in 2048 chance of choosing any particula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proponents claim that even if they do, it probably won’t happen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.e., probability is 1/(2048)^2 = very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 Look At “Random” Numb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andom” numbers are generated using an algorithm operating on a se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inear Congru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F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y are “random” at a macroscopic scale (spectral test, etc.) but not at a microscopic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ame seed value always generates same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ed value for next choice is the output of previous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 baseline="-25000">
                <a:solidFill>
                  <a:srgbClr val="00279f"/>
                </a:solidFill>
                <a:latin typeface="Arial"/>
                <a:ea typeface="Arial"/>
              </a:rPr>
              <a:t>n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= F(R</a:t>
            </a:r>
            <a:r>
              <a:rPr b="1" lang="en-US" sz="1800" spc="-1" strike="noStrike" baseline="-25000">
                <a:solidFill>
                  <a:srgbClr val="00279f"/>
                </a:solidFill>
                <a:latin typeface="Arial"/>
                <a:ea typeface="Arial"/>
              </a:rPr>
              <a:t>n-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NG results in a sequence of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ample PR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3-bit linear congr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(n) = (5n + 3) mod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N(n) = F(RN(n-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produces the 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0, 3, 2, 5, 4, 7, 6, 1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, 0, 3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last RNG generated is used as the seed to generate the next random number, also known as the state of th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tors that cycle through all possible states before repeating are called maximal length gen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 want this property for a MID for duplicate de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NG/MID Im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iven a particular state value, the PRNG “picks” the next value in sequence with P=1.  It picks all other numbers from set with P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 that for the purposes of correlating frames in a dialog, we don’t care what the MID value is.  13 is just as good a 12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 also that a simple counter has the same property as above.  A PRNG is just a strange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nce we don’t care what the value of the PRNG output is, a counter is just as good as a P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The MID might as well be a simple coun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ions Can Become “In Sync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ven if stations start out (at powerup) with different positions in the “random” sequence, traffic patterns can cause them to reach the same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ce they reach the same position, the probabily gets very high that they will col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station’s position will “crossover” the other station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becomes much more likely the more stations you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f outbound traffic patterns are similar, then stations will tend to stay in sync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t may take them a long to reach this point, but it will also take them a long time to get out of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ntroducing More Random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e a larger s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.g., use low order bits of larger seed as P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reaks maximal length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ting a new MID for Data/ACK than that used for RTS/CTS doesn’t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You’ll generate the same va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You’ll use duplicate detection tags more quickly, leadin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general, doing anything breaks duplicate detec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andomness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andom” numbers aren’t as random as you might 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y are really no better than a sequenc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nce stations become sync’d, the probability is quite high that collisions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ability of stations becoming sync’d increases greatly with increase in number of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ying to change this breaks duplicate detec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ximal lenght property no longer exists which increases the probability of a duplicate detection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“</a:t>
            </a: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t’s Only A Problem With Frames Of Equal Size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90512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lse: It’s a problem with all frames that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nd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ND, frames of equal size are actually very 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lem Win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problem occurs when a transmitter waits for a reply and sees what it thinks is a valid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occurs if a false ACK or CTS is returned within a SIFS after the transmitter st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ifferent start times are acceptable as long as stop times are within a SIF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CA Doesn’t Necessarily 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488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3704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75080" y="2346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775480" y="4708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1752480"/>
            <a:ext cx="548640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657600" cy="3809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1295280"/>
            <a:ext cx="5029200" cy="44197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600200" y="2666880"/>
            <a:ext cx="91440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486400" y="3581280"/>
            <a:ext cx="304920" cy="1067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13160" y="1728720"/>
            <a:ext cx="42624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P 1’s CCA can’t detect A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o it may start a shorter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fter AP 2 has already 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mmon 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 was a lot of concensus reached around B3 funct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teration of NID to uniqu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C fiel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iform 32-bit C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xtual ESSID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ability of STAs Choosing Same Size Is 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sizes are not randomly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 measured the sizes of 1236 TCP/IP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were 25 different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f 1236 frames, 800 were 576 bytes (6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ssuming random choosing (false), then with 5 nodes the probability that any two choose 576-byte frames is 9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e following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ality is that frame sizes are not “chosen” randomly, which makes thing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 doing file transfer outbound will send all large frames (the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 doing file transfer inbound will send all short frames (network layer acknowledge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ability of Two Nodes Choosing 576-Byte Fr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01800" y="1409760"/>
            <a:ext cx="7234200" cy="4915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203480" y="14241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Pr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60880" y="6072120"/>
            <a:ext cx="1352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# of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18280" y="2185920"/>
            <a:ext cx="27367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dividual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Of Choosing a 576-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D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21932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andom” numbers aren’t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N is no better than sequence # for MID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collision is more probable than first glance might sug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ions can get in sync and stay in sync for quite a 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lem can occur many times in su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sizes cluster and probability that two stations choose same frame size is high with only moderate number of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probabilities increase with larger number of nodes (and increase is non-linear, as in case of two stations choosing same size fra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a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rguments Against 94/2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29000" y="1905120"/>
            <a:ext cx="22096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  <a:ea typeface="Arial"/>
              </a:rPr>
              <a:t>Simp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ome say MID is more efficient than 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MID results in dramatic reduction in frame header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rames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B3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ID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/CTS/Data/ACK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60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48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/ACK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4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0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-11.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Yes, but this is a meaningless measure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roughput De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only meaningful measurement is change in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sers don’t care how big the frame headers a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MD created a spreadsheet to calculate throughput based on total dialog exchange parameters (PHY preamble, SIFS/DIFS time, realistic payload sizes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 even figured in the decrease in throughput caused by retrys caused by increase in frame error rate caused by more bits being trans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spreadsheet was distributed to the email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roughput Delta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Payload size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RTS/CTS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MID/B3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85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.5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85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0.5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9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Y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.75%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9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585-byte payload represents 576-byte IP or IPX packet with 9-byte LLC/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9-byte payload represents 30-byte minimum size IPX packet with 9-byte LLC/SN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*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’t do this!  But we already knew t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rther Throughput 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argest deltas occur when payload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 expect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t throughput is bad at this point anywa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s and IFS times dominate in an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pected throughput for B3 at 39-byte payload w/o RTS/CTS is only 284.5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a MID rather than B3 increases throughput to only 293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ing a MID isn’t going to increase user satisfaction an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impl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Proponents claim that MID results in easier state machin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i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eiver copies MID unconditionally to the CTS or 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t this is putting the cart before the h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ID scheme doesn’t work reliab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Overall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ID is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s proponents admit this but claim that the probability of failur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UT they haven’t put forth the detailed analysis to show thi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’ve shown that the probability can be quite high under reasonable loading conditions and station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though B3 directed frames result in a small decrease in throughput (&lt;3%), B3 doesn’t rely on probabalistic arguement to show that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sagreement Surrounds WDS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l believe that WDS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solutions: 94/248 vs. M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rgument could be characteriszed as: stablility vs.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3 Summary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uses directed addressing for all frames in a transmission “dialo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TS carries return address for CTS, Data carries return address for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ssue with B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lem results in wireless distribution system because 4 addresses are needed to be carried in a data frame: immediate transmitter, immediate receiver, original source, and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3 only specified that 3 addresses be carried in a data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ult was that second AP in forwarding sequence could not send ACK for Data frame to first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D Summary Descri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attempts to remedy situation by making CTS and ACK non-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 token (MID) is used to match a CTS with an RTS and an ACK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mitter “randomly” picks a MID value from 11-bit space (2048 choi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is included with RTS and Data and returned with CTS and 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D uses the bits B3 used for sequence number, plus a couple more, and so is also used for MPDU duplicat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lem with 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problem with the MID is the same problem MPDUID originally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wo stations in close proximity can choose the same MID value and frames in a dialog can become miscor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can lead to errored frames not being retried and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Example of Mis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7488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37040" y="3184560"/>
            <a:ext cx="1047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ST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75080" y="2346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75480" y="4708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P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752480"/>
            <a:ext cx="5486400" cy="2666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666880"/>
            <a:ext cx="3657600" cy="3809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1295280"/>
            <a:ext cx="5029200" cy="441972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00200" y="2666880"/>
            <a:ext cx="91440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486400" y="3581280"/>
            <a:ext cx="304920" cy="1067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429000" y="2743200"/>
            <a:ext cx="1523880" cy="5335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3581280"/>
            <a:ext cx="304920" cy="106704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05040" y="1728720"/>
            <a:ext cx="1441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RTS/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ID = 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STA 1 fi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bad C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194000" y="3938760"/>
            <a:ext cx="1263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RTS/D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I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70400" y="1957320"/>
            <a:ext cx="240660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P1 hears STA 2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response and th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t’s from ST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946840" y="3710160"/>
            <a:ext cx="1263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TS/A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ID =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D Answers to Miscorrellation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’s unlik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t’s only a problem if the frames are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refore, it’s not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