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8380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32480" y="531720"/>
            <a:ext cx="234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–94/28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398680" y="487440"/>
            <a:ext cx="3683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berating the Mor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9320" y="1447920"/>
            <a:ext cx="808380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078760" y="10368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047E8A9-EA5C-4DC0-980F-BBD19662D4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4800" y="555480"/>
            <a:ext cx="1370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gital Oce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iberating The “More”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05120"/>
            <a:ext cx="6095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hael Fisch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Ocean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asons to modify the Mor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523880"/>
            <a:ext cx="815328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se of the More FC-bit is unnecessarily restricted in draft 20b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class of potential benefits are preclu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The More indication can merge into the Power Management FC–bits with no loss of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groups together indicators primarily relevant to power conservation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bit position in the FC field becomes available for other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 By vacating the More FC bit position, the Last Frag (F) bit can be relocated to the FC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–bit logically belongs in the FC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ving the F–bit from the Fragment Number field permits a longer dialog token or sequence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moving the unnecessary rest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b3 restricts the More function to indicate that additional frames are queued at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are explicitly required to set More =0 (page 48, lines 16-1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functional benefit from this restri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with &gt;1 queued frame for the same wireless recipient should b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ow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ot required) to set More =1.  Benefit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CF could give a station with more queued frames additional transmission opportunities during a given CF-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ender of an ATIM could indicate additional queued frames to the same recip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erging More into 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wer Management bits can encode Power Save Mode + Mo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 = Active (CAM/TAM), no More fra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1 = Power Save Polling (PSP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 = Power Save No-Polling (PSNP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 = Active (CAM/TAM), Mor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M and CAM differ in the need for AP buff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can be indicated as part of association/reassoci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ynamic indication is “Active” vs. “PSx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ransi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tive from PSP or PSNP is the call for the AP to send buffered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ransi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tive to PSP or PSNP is the signal for the AP to resume buffering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uration of “temporary” activity is controlled by the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locating F-bit into FC-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523880"/>
            <a:ext cx="8153280" cy="49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“Last Fragment” bit moves to the FC–bit vacated by M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ndicator is a frame control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presently the only 1–bit header subfield outside the FC–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Number and Fragment Number fields are combined as a 16–bit field with a 12–bit Dialog Token or Sequence Number and a 4–bit Fragment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6 fragments are plenty for 2304–byte MSD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12–bit uniqueness value reduces the risk of discarding a new frame as a dupl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12–bit Dialog Token is available (for proposal 94/254) without giving up the reserved FC–b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464832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00200" y="4648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4648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46483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5105520"/>
            <a:ext cx="5638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36640" y="4721400"/>
            <a:ext cx="4044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Dialog Token or Sequence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927760" y="4721400"/>
            <a:ext cx="12254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Fra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To permit stations, as well as APs, to use the More indication when additional buffered frames are pre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To combine the Sequence Number and Fragment Number fields into a 16–bit field, while reducing the size of the Fragment Number sub–field to 4 bits with a corresponding increase in the size of the Sequence Number sub–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To adopt the frame header changes affecting the More, Power Management, Fragment Number, and Sequence Number fields described in submission 94/2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