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2295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Presentation Nov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461280" y="6545160"/>
            <a:ext cx="1363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4/248  rev 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327560" y="6545160"/>
            <a:ext cx="663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4D7A6F6E-9317-4EA3-9D46-5FF50B276B43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10666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Extending B3 frame formats to include WDS suppor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228600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vision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id Ba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b O’H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e Rob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Advanced Micro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One AMD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unnyvale CA, 940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3 no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3 uses the following con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A = sourc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 = Destinatio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VIA = the address of the (single) AP which is a member of a specific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name was changed to BSSID during the August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 bit”: indicates if a frame was “to”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om bit”: indicates if a frame was “from”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e connectivity categor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frastructur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dependent BSS (“Ad-Hoc”)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ireless DS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xed terminology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1: STA to STA, via DS; firs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ntering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DS via 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2: STA to STA via DS; las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xiting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DS via 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3: STA to AP; frame destined fo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3 destined to A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4: AP to STA; frame originated by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AP3 destined 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dependent BSS (“Ad-Hoc”)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5: STA to STA di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originated by S4 destined for S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ca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6: AP to AP, distributing (a case 1 or 2 frame) via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same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(i.e. in-band) wireless medium as that used for either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first OR las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terminology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verlapping”, “within”, “when a member of”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re later, after we have examined the concepts that are being intermixe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eparate overloaded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alysis of case 6 points out that we are still mixing concepts and overloading different concepts onto address 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rchitectural “transit points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riginator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rminator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mitter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eiver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rchitectural “transit points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term “source” has been used to refer to both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riginator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nd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mitter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term “destination” has been used to refer to both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stination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nd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eiver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fusion occurs because we do not always mean the same thing by “source” and “destination” in all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probably because our brains have been constrained by thinking about networks with zero levels of in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802.11 architecture is a 1 indirection leve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rchitectural “transit points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 the Ad-hoc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riginator = Transmitter = “sour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rminator  = Receiver = “destin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frastructure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VIA concept in B3, is a recognition that in transiting an ESS, “receiver” does NOT always equal “terminato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6, also points out that if you have a WDS, “originator” does not always equal “transmitte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leads one to introduce the concept of “R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ummary of proposed chan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unctiona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nectivity comb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erform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eader l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uplicate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presentation will comment on each of these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et’s name these different addre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et [ variable ] == the value of “variable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[SA] = Maddr (of the STA which originated the fra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is consistent with the term SA as used in other 802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[DA] = Maddr (of the STA which is the final destination of the fra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is consistent with the term DA as used in other 802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[RA] = Maddr (of the STA which is intended to receive the frame off the 802.11 wireless med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[TA] = Maddr (of the STA which placed the frame onto the 802.11 wireless med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me direction wrt 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802.11 has also found it necessary to specify the direction of a frame with respect to the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done by bits in the FC field of the frame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 bit” == Frame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nterin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he DS from the wireless medium via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om bit” == Frame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xitin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he DS via an AP onto the wireless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me direction wrt 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truth table for these bit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  FROM  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alse   False    “Direct, not via a 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alse   True      “Frame outbound from 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ue     False    “Frame inbound to 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ue     True     “Frame wirelessly distribu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oncept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o / from an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P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oncept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is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o / from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DS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should correct the names of the 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o AP” is changed to “To 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om AP” is changed to “From 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2209680"/>
            <a:ext cx="6705720" cy="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1828800"/>
            <a:ext cx="0" cy="205740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1828800"/>
            <a:ext cx="0" cy="205740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90720" y="68580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nsider cases concepts separated out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8288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efore optimizing the addressing needed for each case, we must clearly understand which address is needed for each case and w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e: A claim that four addresses are needed in every message is </a:t>
            </a:r>
            <a:r>
              <a:rPr b="1" i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going to be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dependent BSS (“Ad-Hoc”)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5: STA to STA di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originated by S4 destined for S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S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S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S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S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1: STA to STA, via DS; firs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nterin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S via A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inbound to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2: STA to STA via DS; las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xitin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S via A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A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outbound from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3: STA to AP; frame destined fo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3 destined to A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, it is destined to the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4: AP to STA; frame originated by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AP3 destined to 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, it originated at the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uidance from August 94 mee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t functionality correct as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fficiency improvements follow functionality in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sing this guideline, this paper analyzes functionality first, performance improvements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general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1371600"/>
            <a:ext cx="7162920" cy="4952880"/>
          </a:xfrm>
          <a:prstGeom prst="rect">
            <a:avLst/>
          </a:prstGeom>
          <a:noFill/>
          <a:ln w="12600">
            <a:solidFill>
              <a:srgbClr val="618ffd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14400" y="3657600"/>
            <a:ext cx="91440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14800" y="3657600"/>
            <a:ext cx="198108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5410080"/>
            <a:ext cx="609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010280" y="54100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828800" y="33526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29000" y="33526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5880" y="342900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447920" y="4038480"/>
            <a:ext cx="53316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4038480"/>
            <a:ext cx="53352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75248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086600" y="44197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38280" y="2743200"/>
            <a:ext cx="533880" cy="609840"/>
          </a:xfrm>
          <a:custGeom>
            <a:avLst/>
            <a:gdLst/>
            <a:ahLst/>
            <a:rect l="0" t="0" r="r" b="b"/>
            <a:pathLst>
              <a:path fill="none" w="1483" h="1694">
                <a:moveTo>
                  <a:pt x="1483" y="0"/>
                </a:moveTo>
                <a:lnTo>
                  <a:pt x="1483" y="0"/>
                </a:lnTo>
                <a:cubicBezTo>
                  <a:pt x="1223" y="0"/>
                  <a:pt x="967" y="78"/>
                  <a:pt x="741" y="227"/>
                </a:cubicBezTo>
                <a:cubicBezTo>
                  <a:pt x="516" y="376"/>
                  <a:pt x="329" y="589"/>
                  <a:pt x="199" y="847"/>
                </a:cubicBezTo>
                <a:cubicBezTo>
                  <a:pt x="69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2743200"/>
            <a:ext cx="533880" cy="609840"/>
          </a:xfrm>
          <a:custGeom>
            <a:avLst/>
            <a:gdLst/>
            <a:ahLst/>
            <a:rect l="0" t="0" r="r" b="b"/>
            <a:pathLst>
              <a:path fill="none" w="1483" h="1694">
                <a:moveTo>
                  <a:pt x="1483" y="1694"/>
                </a:moveTo>
                <a:lnTo>
                  <a:pt x="1483" y="1694"/>
                </a:lnTo>
                <a:lnTo>
                  <a:pt x="1483" y="1694"/>
                </a:lnTo>
                <a:cubicBezTo>
                  <a:pt x="1483" y="1397"/>
                  <a:pt x="1414" y="1105"/>
                  <a:pt x="1284" y="847"/>
                </a:cubicBezTo>
                <a:cubicBezTo>
                  <a:pt x="1154" y="589"/>
                  <a:pt x="967" y="376"/>
                  <a:pt x="741" y="227"/>
                </a:cubicBezTo>
                <a:cubicBezTo>
                  <a:pt x="516" y="78"/>
                  <a:pt x="260" y="0"/>
                  <a:pt x="0" y="0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2520" y="2743200"/>
            <a:ext cx="914760" cy="609840"/>
          </a:xfrm>
          <a:custGeom>
            <a:avLst/>
            <a:gdLst/>
            <a:ahLst/>
            <a:rect l="0" t="0" r="r" b="b"/>
            <a:pathLst>
              <a:path fill="none" w="2541" h="1694">
                <a:moveTo>
                  <a:pt x="2541" y="0"/>
                </a:moveTo>
                <a:lnTo>
                  <a:pt x="2541" y="0"/>
                </a:lnTo>
                <a:cubicBezTo>
                  <a:pt x="2095" y="0"/>
                  <a:pt x="1657" y="78"/>
                  <a:pt x="1270" y="227"/>
                </a:cubicBezTo>
                <a:cubicBezTo>
                  <a:pt x="884" y="376"/>
                  <a:pt x="563" y="589"/>
                  <a:pt x="340" y="847"/>
                </a:cubicBezTo>
                <a:cubicBezTo>
                  <a:pt x="117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2743200"/>
            <a:ext cx="838440" cy="686160"/>
          </a:xfrm>
          <a:custGeom>
            <a:avLst/>
            <a:gdLst/>
            <a:ahLst/>
            <a:rect l="0" t="0" r="r" b="b"/>
            <a:pathLst>
              <a:path fill="none" w="2329" h="1906">
                <a:moveTo>
                  <a:pt x="2329" y="1906"/>
                </a:moveTo>
                <a:lnTo>
                  <a:pt x="2329" y="1906"/>
                </a:lnTo>
                <a:lnTo>
                  <a:pt x="2329" y="1906"/>
                </a:lnTo>
                <a:cubicBezTo>
                  <a:pt x="2329" y="1571"/>
                  <a:pt x="2221" y="1243"/>
                  <a:pt x="2017" y="953"/>
                </a:cubicBezTo>
                <a:cubicBezTo>
                  <a:pt x="1813" y="663"/>
                  <a:pt x="1519" y="423"/>
                  <a:pt x="1164" y="255"/>
                </a:cubicBezTo>
                <a:cubicBezTo>
                  <a:pt x="810" y="88"/>
                  <a:pt x="409" y="0"/>
                  <a:pt x="0" y="0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666880" y="2971800"/>
            <a:ext cx="609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362320" y="1447920"/>
            <a:ext cx="3962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63de8"/>
                </a:solidFill>
                <a:uFillTx/>
                <a:latin typeface="Arial"/>
                <a:ea typeface="Arial"/>
              </a:rPr>
              <a:t>Distribution System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4952880"/>
            <a:ext cx="2819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63de8"/>
                </a:solidFill>
                <a:uFillTx/>
                <a:latin typeface="Arial"/>
                <a:ea typeface="Arial"/>
              </a:rPr>
              <a:t>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52480" y="1828800"/>
            <a:ext cx="53341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gical Distribution Service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ociation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2743200"/>
            <a:ext cx="1522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3048120"/>
            <a:ext cx="914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itional WDS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057400" y="2209680"/>
            <a:ext cx="457200" cy="129564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2362320"/>
            <a:ext cx="0" cy="114300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48520" y="2286000"/>
            <a:ext cx="228600" cy="129528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6: AP to AP, distributing a frame via the wireless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transiting a wireless DS between AP1 and AP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 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 (A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inbound to DS from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outbound from DS onto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e: with all four addresses, it is possible to handle an arbitrary number of WDS h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provides a general solution for wireless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terminology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ny loose terms causing conf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verlapp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thi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hen a member o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 the same volume 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ssociated wit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key concept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Overlapping coverage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volu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ases under discussion are those where a STA desires to both make use of the services of an ESS, and also be able to communicate directly with another 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re are 3 combinations which cover the permu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key is to understand that the state of a STA (with respect to membership in an ESS)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orthogonal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o the communication method used for any particular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90720" y="1066680"/>
            <a:ext cx="7162920" cy="13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et’s Consider the mixed mode cases wrt SA, DA, RA, TA, To, &amp; From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09880" y="190512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05120" y="388620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3809880"/>
            <a:ext cx="990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419112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352680" y="3733920"/>
            <a:ext cx="1600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xed mode cases A, B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1 is a member of a BSS which contains AP1 and is Associated with AP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7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 member of the same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 from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 onto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7 is a member of a BSS which contains AP1 and is Associated with AP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1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 member of the same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 from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 onto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1 is a member of a BSS which contains AP1 and S1 is Associated with AP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7 is also a member of the BSS which contains AP1 and S7 is Associated with AP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 from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 onto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nnectivity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0 connectivity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 cases from 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 additional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ll three of the mixed mode cases are the s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rt SA, DA, RA, TA, To &amp; From, all three mixed mode cases are iden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three mixed mode cases are also identical to case 5 (direct communi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3 contains confusion when it talks about the address of the BSS, within a ESS of which S1 is a member, and overload this concept with BSS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o let’s examine the concept of BSSI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SSID vs mixed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t is desirable to have a BSSID so that receiving STAs can filter incoming msgs based on BSS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 particular, there is interest in filtering Broadcast and Multicast ms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SSID is substituting in our shared media environment for the concept of a “logically separate medi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SSID vs mixed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key question: What is the BSSID that should be used for mixed mode cases A, B and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swer: The BSS that contains both S1 and S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may or may 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be the same BSS which contains AP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ets look at each case close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5335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43000" y="15238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981080" y="205740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057400" y="403848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91320" y="3962520"/>
            <a:ext cx="990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43434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09880" y="3886200"/>
            <a:ext cx="1600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xed mode cas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1752480"/>
            <a:ext cx="2209680" cy="3276720"/>
          </a:xfrm>
          <a:prstGeom prst="roundRect">
            <a:avLst/>
          </a:prstGeom>
          <a:noFill/>
          <a:ln w="12600">
            <a:solidFill>
              <a:srgbClr val="618ffd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3581280"/>
            <a:ext cx="5638680" cy="1523880"/>
          </a:xfrm>
          <a:prstGeom prst="roundRect">
            <a:avLst/>
          </a:prstGeom>
          <a:noFill/>
          <a:ln w="12600">
            <a:solidFill>
              <a:srgbClr val="00ae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429000" y="190512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  <a:ea typeface="Arial"/>
              </a:rPr>
              <a:t>BSSID = Maddr(AP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267080" y="51814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BSSID = “Ad-Hoc 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A BSS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the frame going from S1 to S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SSID must = “Ad-Hoc 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the only piece of info common to both S1 and S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Please have trust while we get thru the remaining cases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5335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15238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91320" y="198108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057400" y="403848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91320" y="3962520"/>
            <a:ext cx="990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43434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505320" y="3886200"/>
            <a:ext cx="1600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xed mode cas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34120" y="1600200"/>
            <a:ext cx="1981080" cy="3276720"/>
          </a:xfrm>
          <a:prstGeom prst="roundRect">
            <a:avLst/>
          </a:prstGeom>
          <a:noFill/>
          <a:ln w="12600">
            <a:solidFill>
              <a:srgbClr val="618ffd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3581280"/>
            <a:ext cx="5638680" cy="1523880"/>
          </a:xfrm>
          <a:prstGeom prst="roundRect">
            <a:avLst/>
          </a:prstGeom>
          <a:noFill/>
          <a:ln w="12600">
            <a:solidFill>
              <a:srgbClr val="00ae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124080" y="190512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  <a:ea typeface="Arial"/>
              </a:rPr>
              <a:t>BSSID = Maddr(AP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505320" y="51814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BSSID = “Ad-Hoc B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B BSS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the frame going from S1 to S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SSID must = “Ad-Hoc 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the only BSSID known to S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the only piece of info common to both S1 and S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Please have trust while we get thru the remaining cases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5335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15238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86200" y="251460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057400" y="403848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791320" y="3962520"/>
            <a:ext cx="990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43434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505320" y="3886200"/>
            <a:ext cx="1600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xed mode cas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1752480"/>
            <a:ext cx="6324480" cy="3886200"/>
          </a:xfrm>
          <a:prstGeom prst="roundRect">
            <a:avLst/>
          </a:prstGeom>
          <a:noFill/>
          <a:ln w="12600">
            <a:solidFill>
              <a:srgbClr val="618ffd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52480" y="3581280"/>
            <a:ext cx="5638680" cy="1523880"/>
          </a:xfrm>
          <a:prstGeom prst="roundRect">
            <a:avLst/>
          </a:prstGeom>
          <a:noFill/>
          <a:ln w="12600">
            <a:solidFill>
              <a:srgbClr val="00ae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429000" y="190512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  <a:ea typeface="Arial"/>
              </a:rPr>
              <a:t>BSSID = Maddr(AP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267080" y="51814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BSSID = “Ad-Hoc C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C BSS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the frame going from S1 to S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re are two choices for BSS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-Hoc 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ddr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ither will get the msg from the source to the destination without causing any problems at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[From] = False, so APs will not attempt to process the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irect communication BSSID 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BSSID must be that of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BSS of which both the Source and Destination stations ar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allows both choices for Case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uch a BSS always exists for direct communication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hoice of BSSID to use for mixed mode case C can be unspecified by 802.11 - either works from the MAC view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choice of which to use and/or try first is not of significance to 802.11 MAC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3 Connectivity ca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36960" y="2855880"/>
            <a:ext cx="66024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60440" y="2703600"/>
            <a:ext cx="66024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689440" y="2703600"/>
            <a:ext cx="66024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76200" y="415116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762600" y="407520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019400" y="415116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43240" y="559908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1905120"/>
            <a:ext cx="4267080" cy="9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52388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6668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12408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619600" y="559908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114800" y="3276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276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579132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1600" y="335268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629400" y="320040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358128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05320" y="358128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62520" y="533412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62520" y="1600200"/>
            <a:ext cx="762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114800" y="220968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0" y="220968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From 94/v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BSSID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BSSs which are part of an 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SSID = Maddr(A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Using ESSID to find BSS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 an ESS, a STA learns about local 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hat it learns is { ESSID, Maddr(AP) }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tained in beacon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s wishing to join a particular administrative group, pick an AP by using the Maddr(AP) of an AP which belongs to the desired administrativ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Using Ad-Hoc admin group to find BSS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BSSID of an IBSS = Maddr( the STA which initiated establishment of the B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same mechanism used by a STA to find BSSID from ESSID is su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STA wishing to join an IBSS simply selects a Maddr which corresponds with the desired administrative grou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dependent BSSID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clusion: For Independent BSSs, BSSID = Maddr( the STA which initiated establishment of the B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supports as much differentiation between different IBSSs  as des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us broadcast, multicast filtering by BSSID is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interaction conclus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t any given i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STA may be a member of zero or 1 ES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STA may be a member of as many IBSSs as it des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ince APs are STAs, this also applies to 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DS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 u="sng">
                <a:solidFill>
                  <a:srgbClr val="001af0"/>
                </a:solidFill>
                <a:uFillTx/>
                <a:latin typeface="Arial"/>
                <a:ea typeface="Arial"/>
              </a:rPr>
              <a:t>Logically</a:t>
            </a:r>
            <a:r>
              <a:rPr b="1" i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BSSs are used to build WD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3657600"/>
            <a:ext cx="91440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14800" y="3657600"/>
            <a:ext cx="198108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143000" y="5410080"/>
            <a:ext cx="609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010280" y="54100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828800" y="33526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429000" y="33526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5880" y="342900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447920" y="4038480"/>
            <a:ext cx="53316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4038480"/>
            <a:ext cx="53352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5248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086600" y="44197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743200"/>
            <a:ext cx="533880" cy="609840"/>
          </a:xfrm>
          <a:custGeom>
            <a:avLst/>
            <a:gdLst/>
            <a:ahLst/>
            <a:rect l="0" t="0" r="r" b="b"/>
            <a:pathLst>
              <a:path fill="none" w="1483" h="1694">
                <a:moveTo>
                  <a:pt x="1483" y="0"/>
                </a:moveTo>
                <a:lnTo>
                  <a:pt x="1483" y="0"/>
                </a:lnTo>
                <a:cubicBezTo>
                  <a:pt x="1223" y="0"/>
                  <a:pt x="967" y="78"/>
                  <a:pt x="741" y="227"/>
                </a:cubicBezTo>
                <a:cubicBezTo>
                  <a:pt x="516" y="376"/>
                  <a:pt x="329" y="589"/>
                  <a:pt x="199" y="847"/>
                </a:cubicBezTo>
                <a:cubicBezTo>
                  <a:pt x="69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2743200"/>
            <a:ext cx="533880" cy="609840"/>
          </a:xfrm>
          <a:custGeom>
            <a:avLst/>
            <a:gdLst/>
            <a:ahLst/>
            <a:rect l="0" t="0" r="r" b="b"/>
            <a:pathLst>
              <a:path fill="none" w="1483" h="1694">
                <a:moveTo>
                  <a:pt x="1483" y="1694"/>
                </a:moveTo>
                <a:lnTo>
                  <a:pt x="1483" y="1694"/>
                </a:lnTo>
                <a:lnTo>
                  <a:pt x="1483" y="1694"/>
                </a:lnTo>
                <a:cubicBezTo>
                  <a:pt x="1483" y="1397"/>
                  <a:pt x="1414" y="1105"/>
                  <a:pt x="1284" y="847"/>
                </a:cubicBezTo>
                <a:cubicBezTo>
                  <a:pt x="1154" y="589"/>
                  <a:pt x="967" y="376"/>
                  <a:pt x="741" y="227"/>
                </a:cubicBezTo>
                <a:cubicBezTo>
                  <a:pt x="516" y="78"/>
                  <a:pt x="260" y="0"/>
                  <a:pt x="0" y="0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2743200"/>
            <a:ext cx="914760" cy="609840"/>
          </a:xfrm>
          <a:custGeom>
            <a:avLst/>
            <a:gdLst/>
            <a:ahLst/>
            <a:rect l="0" t="0" r="r" b="b"/>
            <a:pathLst>
              <a:path fill="none" w="2541" h="1694">
                <a:moveTo>
                  <a:pt x="2541" y="0"/>
                </a:moveTo>
                <a:lnTo>
                  <a:pt x="2541" y="0"/>
                </a:lnTo>
                <a:cubicBezTo>
                  <a:pt x="2095" y="0"/>
                  <a:pt x="1657" y="78"/>
                  <a:pt x="1270" y="227"/>
                </a:cubicBezTo>
                <a:cubicBezTo>
                  <a:pt x="884" y="376"/>
                  <a:pt x="563" y="589"/>
                  <a:pt x="340" y="847"/>
                </a:cubicBezTo>
                <a:cubicBezTo>
                  <a:pt x="117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2743200"/>
            <a:ext cx="838440" cy="686160"/>
          </a:xfrm>
          <a:custGeom>
            <a:avLst/>
            <a:gdLst/>
            <a:ahLst/>
            <a:rect l="0" t="0" r="r" b="b"/>
            <a:pathLst>
              <a:path fill="none" w="2329" h="1906">
                <a:moveTo>
                  <a:pt x="2329" y="1906"/>
                </a:moveTo>
                <a:lnTo>
                  <a:pt x="2329" y="1906"/>
                </a:lnTo>
                <a:lnTo>
                  <a:pt x="2329" y="1906"/>
                </a:lnTo>
                <a:cubicBezTo>
                  <a:pt x="2329" y="1571"/>
                  <a:pt x="2221" y="1243"/>
                  <a:pt x="2017" y="953"/>
                </a:cubicBezTo>
                <a:cubicBezTo>
                  <a:pt x="1813" y="663"/>
                  <a:pt x="1519" y="423"/>
                  <a:pt x="1164" y="255"/>
                </a:cubicBezTo>
                <a:cubicBezTo>
                  <a:pt x="810" y="88"/>
                  <a:pt x="409" y="0"/>
                  <a:pt x="0" y="0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666880" y="2971800"/>
            <a:ext cx="609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362320" y="14479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63de8"/>
                </a:solidFill>
                <a:uFillTx/>
                <a:latin typeface="Arial"/>
                <a:ea typeface="Arial"/>
              </a:rPr>
              <a:t>Distribution System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971800" y="4952880"/>
            <a:ext cx="2819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63de8"/>
                </a:solidFill>
                <a:uFillTx/>
                <a:latin typeface="Arial"/>
                <a:ea typeface="Arial"/>
              </a:rPr>
              <a:t>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752480" y="1828800"/>
            <a:ext cx="53341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gical Distribution Service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ociation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2743200"/>
            <a:ext cx="1522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8320" y="3048120"/>
            <a:ext cx="914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itional WDS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76520" y="2666880"/>
            <a:ext cx="2514600" cy="1600200"/>
          </a:xfrm>
          <a:prstGeom prst="roundRect">
            <a:avLst/>
          </a:prstGeom>
          <a:noFill/>
          <a:ln w="38160">
            <a:solidFill>
              <a:srgbClr val="8901f3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057400" y="2209680"/>
            <a:ext cx="457200" cy="129564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2362320"/>
            <a:ext cx="0" cy="114300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48520" y="2286000"/>
            <a:ext cx="228600" cy="129528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429000" y="4343400"/>
            <a:ext cx="45720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901f3"/>
                </a:solidFill>
                <a:latin typeface="Arial"/>
                <a:ea typeface="Arial"/>
              </a:rPr>
              <a:t>IB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 u="sng">
                <a:solidFill>
                  <a:srgbClr val="001af0"/>
                </a:solidFill>
                <a:uFillTx/>
                <a:latin typeface="Arial"/>
                <a:ea typeface="Arial"/>
              </a:rPr>
              <a:t>Logically</a:t>
            </a:r>
            <a:r>
              <a:rPr b="1" i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BSSs are used to build WD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wo APs must be in direct communication or they can not be used to wirelessly distribute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terestingly, the BSSID of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ogical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IBSS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 required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within the case 6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e case 6 frame examples later in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nly a DS need know how APs are re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In order to figure out which APs to use to wirelessly distribute a fram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f were needed, the logically correct BSSID for a case 6 frame is the ID of the BSS which contains both AP1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AP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hether a DS actually does, or does not, set up the logical IBSSs is irrelevant to the 802.11 M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bile STAs neither need to know, nor care, about these logical BS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Observations about WDS ca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6 is only required for wirelessly distributed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DATA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ype fr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trol frame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ever transi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TS, CTS, ACK,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nagement frame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ever transi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y are always between directly communicating 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 to STA in a B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 to AP in an 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Only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ata frames are ever Distributed and hence transit a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Observations about WDS ca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6 (WDS) is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only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case where all four logical addresses can actually have 4 distinc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 all case 6 “hops”,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logical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istribution Service, is invok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quired in order to access the Association information to determine how to distribute the original frame from S1 to S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hether this functionality is implemented within a physical AP is not relev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dditional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0666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ittee discussion has been using loose terminology, resulting in less than optimum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icter terminology and attention to notational detail are required to correctly understand all the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refore, the first step in the analysis is to establish more precise terminolog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DS Data frame suppo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should enable support of W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irelessly distributed msgs are identified by  [To] = [From] =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DS link msgs use a WDS Data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vides support for WDS li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ly a small amount of additional information is needed (above a normal Data header) for specific ms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verhead cost is only paid for msgs that are actually wirelessly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other msgs have increased over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DS Data h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143000" y="2438280"/>
            <a:ext cx="2514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36 / B3 DATA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657600" y="2438280"/>
            <a:ext cx="685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0" y="2438280"/>
            <a:ext cx="3352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S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819520" y="3352680"/>
            <a:ext cx="3276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ent IFF [To] = [From] = TRUE in FC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3048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114300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2209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00200" y="1905120"/>
            <a:ext cx="19051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DS Data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mpacts on frame head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w that we have explored the previously overloaded concepts, lets look at what this means for frame head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TA = Maddr( transmitt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RA = Maddr( receiv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RA = Maddr( receiv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RA = Maddr( receiv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TA = Maddr( transmitt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s 5, A &amp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(case 5 example sh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d-hoc initiating S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S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erminology 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n has been used to describe both a station and a station’s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Ps, and their address are described as AP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obscures the fact that APs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RE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obscures the fact that APs straddle two logically different  address sp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two address spaces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could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physically b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lead to 94/v4’s case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1) or Maddr (ad-hoc initiating S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(WDS DATA support fr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using 236/B3 field n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s actually RA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s actually TA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s actually DA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Orig SA 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s actually SA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t is proposed that for the WDS Data header, the fields be renamed to accurately reflect thei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ase 6 example would beco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(WDS DATA support fr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RA ] = Maddr (A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A ] = Maddr 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DS DATA header field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371600" y="1828800"/>
            <a:ext cx="5181840" cy="380880"/>
            <a:chOff x="1371600" y="1828800"/>
            <a:chExt cx="5181840" cy="380880"/>
          </a:xfrm>
        </p:grpSpPr>
        <p:sp>
          <p:nvSpPr>
            <p:cNvPr id="307" name=""/>
            <p:cNvSpPr txBox="1"/>
            <p:nvPr/>
          </p:nvSpPr>
          <p:spPr>
            <a:xfrm>
              <a:off x="137160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190512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243828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297180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3505320" y="182880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4343400" y="1828800"/>
              <a:ext cx="9144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5257800" y="1828800"/>
              <a:ext cx="7621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601992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Extended B3 H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990720" y="10666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/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D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676520" y="5867280"/>
            <a:ext cx="5486400" cy="380880"/>
            <a:chOff x="1676520" y="5867280"/>
            <a:chExt cx="5486400" cy="380880"/>
          </a:xfrm>
        </p:grpSpPr>
        <p:sp>
          <p:nvSpPr>
            <p:cNvPr id="318" name=""/>
            <p:cNvSpPr txBox="1"/>
            <p:nvPr/>
          </p:nvSpPr>
          <p:spPr>
            <a:xfrm>
              <a:off x="1676520" y="586728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2209680" y="586728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048120" y="5867280"/>
              <a:ext cx="4114800" cy="380880"/>
              <a:chOff x="3048120" y="5867280"/>
              <a:chExt cx="4114800" cy="380880"/>
            </a:xfrm>
          </p:grpSpPr>
          <p:sp>
            <p:nvSpPr>
              <p:cNvPr id="321" name=""/>
              <p:cNvSpPr txBox="1"/>
              <p:nvPr/>
            </p:nvSpPr>
            <p:spPr>
              <a:xfrm>
                <a:off x="3048120" y="586728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3581280" y="586728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>
                <a:off x="4114800" y="5867280"/>
                <a:ext cx="83808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 #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4952880" y="586728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ag #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 txBox="1"/>
              <p:nvPr/>
            </p:nvSpPr>
            <p:spPr>
              <a:xfrm>
                <a:off x="5867280" y="586728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 txBox="1"/>
              <p:nvPr/>
            </p:nvSpPr>
            <p:spPr>
              <a:xfrm>
                <a:off x="6629400" y="586728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7" name=""/>
          <p:cNvGrpSpPr/>
          <p:nvPr/>
        </p:nvGrpSpPr>
        <p:grpSpPr>
          <a:xfrm>
            <a:off x="1676520" y="4952880"/>
            <a:ext cx="4952880" cy="380880"/>
            <a:chOff x="1676520" y="4952880"/>
            <a:chExt cx="4952880" cy="380880"/>
          </a:xfrm>
        </p:grpSpPr>
        <p:sp>
          <p:nvSpPr>
            <p:cNvPr id="328" name=""/>
            <p:cNvSpPr txBox="1"/>
            <p:nvPr/>
          </p:nvSpPr>
          <p:spPr>
            <a:xfrm>
              <a:off x="1676520" y="495288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2209680" y="495288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3048120" y="495288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3581280" y="495288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4114800" y="495288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4952880" y="4952880"/>
              <a:ext cx="9144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5867280" y="4952880"/>
              <a:ext cx="7621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 txBox="1"/>
          <p:nvPr/>
        </p:nvSpPr>
        <p:spPr>
          <a:xfrm>
            <a:off x="3048120" y="327672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867280" y="3276720"/>
            <a:ext cx="7621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76520" y="1447920"/>
            <a:ext cx="4952880" cy="380880"/>
            <a:chOff x="1676520" y="1447920"/>
            <a:chExt cx="4952880" cy="380880"/>
          </a:xfrm>
        </p:grpSpPr>
        <p:grpSp>
          <p:nvGrpSpPr>
            <p:cNvPr id="338" name=""/>
            <p:cNvGrpSpPr/>
            <p:nvPr/>
          </p:nvGrpSpPr>
          <p:grpSpPr>
            <a:xfrm>
              <a:off x="1676520" y="1447920"/>
              <a:ext cx="4952880" cy="380880"/>
              <a:chOff x="1676520" y="1447920"/>
              <a:chExt cx="4952880" cy="380880"/>
            </a:xfrm>
          </p:grpSpPr>
          <p:sp>
            <p:nvSpPr>
              <p:cNvPr id="339" name=""/>
              <p:cNvSpPr txBox="1"/>
              <p:nvPr/>
            </p:nvSpPr>
            <p:spPr>
              <a:xfrm>
                <a:off x="1676520" y="14479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 txBox="1"/>
              <p:nvPr/>
            </p:nvSpPr>
            <p:spPr>
              <a:xfrm>
                <a:off x="3048120" y="14479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 txBox="1"/>
              <p:nvPr/>
            </p:nvSpPr>
            <p:spPr>
              <a:xfrm>
                <a:off x="3581280" y="14479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 txBox="1"/>
              <p:nvPr/>
            </p:nvSpPr>
            <p:spPr>
              <a:xfrm>
                <a:off x="5867280" y="144792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2209680" y="182880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14800" y="1828800"/>
              <a:ext cx="1752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676520" y="2362320"/>
            <a:ext cx="4952880" cy="380880"/>
            <a:chOff x="1676520" y="2362320"/>
            <a:chExt cx="4952880" cy="380880"/>
          </a:xfrm>
        </p:grpSpPr>
        <p:grpSp>
          <p:nvGrpSpPr>
            <p:cNvPr id="346" name=""/>
            <p:cNvGrpSpPr/>
            <p:nvPr/>
          </p:nvGrpSpPr>
          <p:grpSpPr>
            <a:xfrm>
              <a:off x="1676520" y="2362320"/>
              <a:ext cx="4952880" cy="380880"/>
              <a:chOff x="1676520" y="2362320"/>
              <a:chExt cx="4952880" cy="380880"/>
            </a:xfrm>
          </p:grpSpPr>
          <p:sp>
            <p:nvSpPr>
              <p:cNvPr id="347" name=""/>
              <p:cNvSpPr txBox="1"/>
              <p:nvPr/>
            </p:nvSpPr>
            <p:spPr>
              <a:xfrm>
                <a:off x="1676520" y="23623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>
                <a:off x="3048120" y="23623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 txBox="1"/>
              <p:nvPr/>
            </p:nvSpPr>
            <p:spPr>
              <a:xfrm>
                <a:off x="5867280" y="236232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2209680" y="2743200"/>
              <a:ext cx="838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81280" y="27432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676520" y="3276720"/>
            <a:ext cx="4190760" cy="380880"/>
            <a:chOff x="1676520" y="3276720"/>
            <a:chExt cx="4190760" cy="380880"/>
          </a:xfrm>
        </p:grpSpPr>
        <p:sp>
          <p:nvSpPr>
            <p:cNvPr id="353" name=""/>
            <p:cNvSpPr txBox="1"/>
            <p:nvPr/>
          </p:nvSpPr>
          <p:spPr>
            <a:xfrm>
              <a:off x="1676520" y="327672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09680" y="3657600"/>
              <a:ext cx="838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81280" y="36576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676520" y="4114800"/>
            <a:ext cx="2438280" cy="380880"/>
            <a:chOff x="1676520" y="4114800"/>
            <a:chExt cx="2438280" cy="380880"/>
          </a:xfrm>
        </p:grpSpPr>
        <p:sp>
          <p:nvSpPr>
            <p:cNvPr id="357" name=""/>
            <p:cNvSpPr txBox="1"/>
            <p:nvPr/>
          </p:nvSpPr>
          <p:spPr>
            <a:xfrm>
              <a:off x="1676520" y="4114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2209680" y="411480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3581280" y="4114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8120" y="44956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nclus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802.11 should adopt the proposed changes to extrend the B3 frame formats to enable support of Wiress Distributi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erminology 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loose english concepts of “within a BSS”, “within an ESS”, “a member of a BSS”, “associated” and “in the same physical volume” have been used interchangeab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has caused much confusion among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re are several of these cases depending on how the loose terms are interpr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94/v4 identified 2 (v4 cases 7, 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et’s get more formal in terminolog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ddr(sta) == 802.11 MAC address of a 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can only be a wireless medium address as that is the only address space used by 802.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notation is for 802.11 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covers both STAs and APs, since APs are addressable STAs within the 802.11 MAC addres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Saddr(sta) == the DS address of an 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is the address used by the DS to address the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DS side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of an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details of the DS address space are dependent on the DS implementation and outside the scope of 802.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single DS implementation that 802.11 impacts is when a DS is implemented using an 802.11 wireless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