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61280" y="6545160"/>
            <a:ext cx="890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E46B0404-69FE-415B-832F-984FCF363D29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romise Proposal (Ammend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To ammend the frame formats in 94/290 to further regularize the header fields as shown in the following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143000" y="1676520"/>
            <a:ext cx="701028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romise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38280" y="20574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733920" y="2057400"/>
            <a:ext cx="53352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971800" y="20574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33920" y="2971800"/>
            <a:ext cx="53352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71800" y="29718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38280" y="29718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38280" y="34290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33920" y="3429000"/>
            <a:ext cx="83808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34290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438280" y="16002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33920" y="1600200"/>
            <a:ext cx="53352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67080" y="16002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971800" y="16002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438280" y="25146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3920" y="2514600"/>
            <a:ext cx="53352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25146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800600" y="25146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4120" y="2514600"/>
            <a:ext cx="8380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72200" y="25146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971800" y="25146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86600" y="25146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962520" y="1828800"/>
            <a:ext cx="609480" cy="3808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038480" y="2666880"/>
            <a:ext cx="533520" cy="45720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91000" y="966960"/>
            <a:ext cx="743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219320"/>
            <a:ext cx="0" cy="304560"/>
          </a:xfrm>
          <a:prstGeom prst="line">
            <a:avLst/>
          </a:prstGeom>
          <a:ln w="25560">
            <a:solidFill>
              <a:srgbClr val="00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68440" y="4471920"/>
            <a:ext cx="8445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88960" y="4495680"/>
            <a:ext cx="11365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784600" y="4495680"/>
            <a:ext cx="12891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32160" y="4495680"/>
            <a:ext cx="12891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03760" y="4495680"/>
            <a:ext cx="12891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051680" y="4495680"/>
            <a:ext cx="12891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ress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93880" y="6072120"/>
            <a:ext cx="464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elds with N/A contents shall be o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438280" y="38862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00600" y="3886200"/>
            <a:ext cx="8380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267080" y="3886200"/>
            <a:ext cx="533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733920" y="3886200"/>
            <a:ext cx="533520" cy="3808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638680" y="3886200"/>
            <a:ext cx="8380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477120" y="3886200"/>
            <a:ext cx="9144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 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971800" y="38862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71800" y="3429000"/>
            <a:ext cx="762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