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1698F4F-905D-4C00-AD54-5ED38E3AE7FB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9-12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Jose, 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anuary 9, 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4/250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work on test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Management Informatio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ve ann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on “to be determined”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60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  Wednesday   |    Thurs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PH!MAC|PH!PH!PH!PH!MAC|PH!PH!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DS!FH!IR!   |DS!FH!IR!IR!   |DS!FH!IR!IR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BB!   |  !  !CB!BB!   |  !  !CB!BB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..!..!..!..!   |..!..!..!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BB!   |  !  !  !   |    PHY    !   |    PHY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PH!PH!PH!MAC|     802.11    |     802.11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DS!FH!IR!   |   MAC / PHY   |    Reports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BB!   |  !  !BB!   |   Interface   |    Outputs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!  !  !   |...............|   Next mtng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!  !  !   |  PHY  !  MAC  |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uary 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ine Village meeting (subject to quoru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uary 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Aug. 3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en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Sept. 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Sept. 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20 and Feb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J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Bar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SE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Tethe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t Lake City, 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