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7924680" cy="6324480"/>
          </a:xfrm>
          <a:prstGeom prst="roundRect">
            <a:avLst/>
          </a:prstGeom>
          <a:noFill/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1203480" y="6545160"/>
            <a:ext cx="22953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EEE 802.11 Presentation Nov 199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6461280" y="6545160"/>
            <a:ext cx="13636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OC 94/248  rev 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4327560" y="6545160"/>
            <a:ext cx="66348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age </a:t>
            </a:r>
            <a:fld id="{27CBFCCD-E124-42F0-816C-EF649C0ABBBB}" type="slidenum"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990720" y="10666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Extending B3 frame formats to include WDS suppor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990720" y="2286000"/>
            <a:ext cx="693432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evision 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David Bag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Bob O’H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Dave Robe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Advanced Micro De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One AMD Pl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Sunnyvale CA, 9408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B3 nota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B3 uses the following conce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A = source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A = Destinatio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VIA = the address of the (single) AP which is a member of a specific B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his name was changed to BSSID during the August mee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“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o bit”: indicates if a frame was “to” an 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“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From bit”: indicates if a frame was “from” an 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The connectivity categori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Infrastructur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Independent BSS (“Ad-Hoc”)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Wireless DS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ixed terminology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Infrastructure cas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ase 1: STA to STA, via DS; first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Example: Frame from S1 destined to S2, </a:t>
            </a:r>
            <a:r>
              <a:rPr b="1" lang="en-US" sz="18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entering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 DS via A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ase 2: STA to STA via DS; last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Example: Frame from S1 destined to S2, </a:t>
            </a:r>
            <a:r>
              <a:rPr b="1" lang="en-US" sz="18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exiting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 DS via A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ase 3: STA to AP; frame destined for 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Example: Frame from S3 destined to A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ase 4: AP to STA; frame originated by 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Example: Frame from AP3 destined to S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Independent BSS (“Ad-Hoc”) cas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ase 5: STA to STA dir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Example: Frame originated by S4 destined for S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Wireless DS cas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ase 6: AP to AP, distributing (a case 1 or 2 frame) via the 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same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(i.e. in-band) wireless medium as that used for either the 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first OR last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li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ixed terminology cas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“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Overlapping”, “within”, “when a member of”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re later, after we have examined the concepts that are being intermixed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Separate overloaded conce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nalysis of case 6 points out that we are still mixing concepts and overloading different concepts onto address fiel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Architectural “transit points”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Originator of a fr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erminator of a fr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ransmitter of a fr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ceiver of a fr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Architectural “transit points”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 term “source” has been used to refer to both the </a:t>
            </a:r>
            <a:r>
              <a:rPr b="1" i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Originator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and the </a:t>
            </a:r>
            <a:r>
              <a:rPr b="1" i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ransmitter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of a fr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 term “destination” has been used to refer to both the </a:t>
            </a:r>
            <a:r>
              <a:rPr b="1" i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estination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and the </a:t>
            </a:r>
            <a:r>
              <a:rPr b="1" i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ceiver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of a fr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onfusion occurs because we do not always mean the same thing by “source” and “destination” in all c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is is probably because our brains have been constrained by thinking about networks with zero levels of indir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 802.11 architecture is a 1 indirection level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Architectural “transit points”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In the Ad-hoc ca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Originator = Transmitter = “sourc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erminator  = Receiver = “destinatio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Infrastructure ca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he VIA concept in B3, is a recognition that in transiting an ESS, “receiver” does NOT always equal “terminator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ase 6, also points out that if you have a WDS, “originator” does not always equal “transmitter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his leads one to introduce the concept of “RA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Summary of proposed chang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Functiona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onnectivity combin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Performa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Header leng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Duplicate detection / Miscor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rame fil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is presentation will comment on each of these su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Let’s name these different address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Let [ variable ] == the value of “variable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[SA] = Maddr (of the STA which originated the fram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his is consistent with the term SA as used in other 802 standa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[DA] = Maddr (of the STA which is the final destination of the fram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his is consistent with the term DA as used in other 802 standa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[RA] = Maddr (of the STA which is intended to receive the frame off the 802.11 wireless mediu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[TA] = Maddr (of the STA which placed the frame onto the 802.11 wireless mediu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Frame direction wrt 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802.11 has also found it necessary to specify the direction of a frame with respect to the 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is is done by bits in the FC field of the frame hea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“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o bit” == Frame is 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entering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the DS from the wireless medium via an 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“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From bit” == Frame is 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exiting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the DS via an AP onto the wireless medi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Frame direction wrt 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 truth table for these bits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O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    FROM   Mea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False   False    “Direct, not via a D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False   True      “Frame outbound from D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rue     False    “Frame inbound to D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rue     True     “Frame wirelessly distribute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 concept is 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not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to / from an 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AP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 concept 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is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to / from the 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DS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We should correct the names of the bi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o AP” is changed to “To D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rom AP” is changed to “From D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95280" y="2209680"/>
            <a:ext cx="6705720" cy="0"/>
          </a:xfrm>
          <a:prstGeom prst="line">
            <a:avLst/>
          </a:prstGeom>
          <a:ln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0" y="1828800"/>
            <a:ext cx="0" cy="2057400"/>
          </a:xfrm>
          <a:prstGeom prst="line">
            <a:avLst/>
          </a:prstGeom>
          <a:ln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1828800"/>
            <a:ext cx="0" cy="2057400"/>
          </a:xfrm>
          <a:prstGeom prst="line">
            <a:avLst/>
          </a:prstGeom>
          <a:ln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990720" y="68580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onsider cases concepts separated out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90720" y="18288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Before optimizing the addressing needed for each case, we must clearly understand which address is needed for each case and wh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Note: A claim that four addresses are needed in every message is </a:t>
            </a:r>
            <a:r>
              <a:rPr b="1" i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not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going to be m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Independent BSS (“Ad-Hoc”) cas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ase 5: STA to STA dir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Example: Frame originated by S4 destined for S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SA] = Maddr(S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DA] = Maddr(S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TA] = Maddr(S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RA] = Maddr(S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To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From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Infrastructure cas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ase 1: STA to STA, via DS; first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Example: Frame from S1 destined to S2, 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entering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DS via A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SA] = Maddr(S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DA] = Maddr(S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TA] = Maddr(S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RA] = Maddr(A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To] =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rame is inbound to 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From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Infrastructure cas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ase 2: STA to STA via DS; last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Example: Frame from S1 destined to S2, 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exiting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DS via A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SA] = Maddr(S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DA] = Maddr(S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TA] = Maddr(A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RA] = Maddr(S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To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From] =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rame is outbound from 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Infrastructure cas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ase 3: STA to AP; frame destined for 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Example: Frame from S3 destined to A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SA] = Maddr(S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DA] = Maddr(AP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TA] = Maddr(S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RA] = Maddr(AP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To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rame is NOT inbound to DS, it is destined to the A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From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rame is NOT outbound from 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Infrastructure cas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ase 4: AP to STA; frame originated by 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Example: Frame from AP3 destined to S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SA] = Maddr(AP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DA] = Maddr(S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TA] = Maddr(AP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RA] = Maddr(S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To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rame is NOT inbound to 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From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rame is NOT outbound from DS, it originated at the A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Wireless DS c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Guidance from August 94 meeting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Get functionality correct as highest prior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Efficiency improvements follow functionality in prior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Using this guideline, this paper analyzes functionality first, performance improvements sec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Wireless DS general c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14400" y="1371600"/>
            <a:ext cx="7162920" cy="4952880"/>
          </a:xfrm>
          <a:prstGeom prst="rect">
            <a:avLst/>
          </a:prstGeom>
          <a:noFill/>
          <a:ln w="12600">
            <a:solidFill>
              <a:srgbClr val="618ffd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3657600"/>
            <a:ext cx="914400" cy="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3657600"/>
            <a:ext cx="914400" cy="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14800" y="3657600"/>
            <a:ext cx="1981080" cy="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143000" y="5410080"/>
            <a:ext cx="60948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7010280" y="5410080"/>
            <a:ext cx="6094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3352680"/>
            <a:ext cx="6858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429000" y="3352680"/>
            <a:ext cx="6858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095880" y="3429000"/>
            <a:ext cx="6858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447920" y="4038480"/>
            <a:ext cx="533160" cy="1371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629400" y="4038480"/>
            <a:ext cx="533520" cy="1371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752480" y="480060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as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7086600" y="44197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as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38280" y="2743200"/>
            <a:ext cx="533880" cy="609840"/>
          </a:xfrm>
          <a:custGeom>
            <a:avLst/>
            <a:gdLst/>
            <a:ahLst/>
            <a:rect l="0" t="0" r="r" b="b"/>
            <a:pathLst>
              <a:path fill="none" w="1483" h="1694">
                <a:moveTo>
                  <a:pt x="1483" y="0"/>
                </a:moveTo>
                <a:lnTo>
                  <a:pt x="1483" y="0"/>
                </a:lnTo>
                <a:cubicBezTo>
                  <a:pt x="1223" y="0"/>
                  <a:pt x="967" y="78"/>
                  <a:pt x="741" y="227"/>
                </a:cubicBezTo>
                <a:cubicBezTo>
                  <a:pt x="516" y="376"/>
                  <a:pt x="329" y="589"/>
                  <a:pt x="199" y="847"/>
                </a:cubicBezTo>
                <a:cubicBezTo>
                  <a:pt x="69" y="1105"/>
                  <a:pt x="0" y="1397"/>
                  <a:pt x="0" y="1694"/>
                </a:cubicBezTo>
              </a:path>
            </a:pathLst>
          </a:custGeom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71800" y="2743200"/>
            <a:ext cx="533880" cy="609840"/>
          </a:xfrm>
          <a:custGeom>
            <a:avLst/>
            <a:gdLst/>
            <a:ahLst/>
            <a:rect l="0" t="0" r="r" b="b"/>
            <a:pathLst>
              <a:path fill="none" w="1483" h="1694">
                <a:moveTo>
                  <a:pt x="1483" y="1694"/>
                </a:moveTo>
                <a:lnTo>
                  <a:pt x="1483" y="1694"/>
                </a:lnTo>
                <a:lnTo>
                  <a:pt x="1483" y="1694"/>
                </a:lnTo>
                <a:cubicBezTo>
                  <a:pt x="1483" y="1397"/>
                  <a:pt x="1414" y="1105"/>
                  <a:pt x="1284" y="847"/>
                </a:cubicBezTo>
                <a:cubicBezTo>
                  <a:pt x="1154" y="589"/>
                  <a:pt x="967" y="376"/>
                  <a:pt x="741" y="227"/>
                </a:cubicBezTo>
                <a:cubicBezTo>
                  <a:pt x="516" y="78"/>
                  <a:pt x="260" y="0"/>
                  <a:pt x="0" y="0"/>
                </a:cubicBezTo>
              </a:path>
            </a:pathLst>
          </a:custGeom>
          <a:ln w="12600">
            <a:solidFill>
              <a:srgbClr val="fc0128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62520" y="2743200"/>
            <a:ext cx="914760" cy="609840"/>
          </a:xfrm>
          <a:custGeom>
            <a:avLst/>
            <a:gdLst/>
            <a:ahLst/>
            <a:rect l="0" t="0" r="r" b="b"/>
            <a:pathLst>
              <a:path fill="none" w="2541" h="1694">
                <a:moveTo>
                  <a:pt x="2541" y="0"/>
                </a:moveTo>
                <a:lnTo>
                  <a:pt x="2541" y="0"/>
                </a:lnTo>
                <a:cubicBezTo>
                  <a:pt x="2095" y="0"/>
                  <a:pt x="1657" y="78"/>
                  <a:pt x="1270" y="227"/>
                </a:cubicBezTo>
                <a:cubicBezTo>
                  <a:pt x="884" y="376"/>
                  <a:pt x="563" y="589"/>
                  <a:pt x="340" y="847"/>
                </a:cubicBezTo>
                <a:cubicBezTo>
                  <a:pt x="117" y="1105"/>
                  <a:pt x="0" y="1397"/>
                  <a:pt x="0" y="1694"/>
                </a:cubicBezTo>
              </a:path>
            </a:pathLst>
          </a:custGeom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34120" y="2743200"/>
            <a:ext cx="838440" cy="686160"/>
          </a:xfrm>
          <a:custGeom>
            <a:avLst/>
            <a:gdLst/>
            <a:ahLst/>
            <a:rect l="0" t="0" r="r" b="b"/>
            <a:pathLst>
              <a:path fill="none" w="2329" h="1906">
                <a:moveTo>
                  <a:pt x="2329" y="1906"/>
                </a:moveTo>
                <a:lnTo>
                  <a:pt x="2329" y="1906"/>
                </a:lnTo>
                <a:lnTo>
                  <a:pt x="2329" y="1906"/>
                </a:lnTo>
                <a:cubicBezTo>
                  <a:pt x="2329" y="1571"/>
                  <a:pt x="2221" y="1243"/>
                  <a:pt x="2017" y="953"/>
                </a:cubicBezTo>
                <a:cubicBezTo>
                  <a:pt x="1813" y="663"/>
                  <a:pt x="1519" y="423"/>
                  <a:pt x="1164" y="255"/>
                </a:cubicBezTo>
                <a:cubicBezTo>
                  <a:pt x="810" y="88"/>
                  <a:pt x="409" y="0"/>
                  <a:pt x="0" y="0"/>
                </a:cubicBezTo>
              </a:path>
            </a:pathLst>
          </a:custGeom>
          <a:ln w="12600">
            <a:solidFill>
              <a:srgbClr val="fc0128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666880" y="2971800"/>
            <a:ext cx="6094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ase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362320" y="1447920"/>
            <a:ext cx="39625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63de8"/>
                </a:solidFill>
                <a:uFillTx/>
                <a:latin typeface="Arial"/>
                <a:ea typeface="Arial"/>
              </a:rPr>
              <a:t>Distribution System Me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971800" y="4952880"/>
            <a:ext cx="28195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63de8"/>
                </a:solidFill>
                <a:uFillTx/>
                <a:latin typeface="Arial"/>
                <a:ea typeface="Arial"/>
              </a:rPr>
              <a:t>Wireless Me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752480" y="1828800"/>
            <a:ext cx="5334120" cy="685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ff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gical Distribution Service 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ssociation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029200" y="2743200"/>
            <a:ext cx="152280" cy="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48320" y="3048120"/>
            <a:ext cx="91440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ditional WDS lin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057400" y="2209680"/>
            <a:ext cx="457200" cy="1295640"/>
          </a:xfrm>
          <a:prstGeom prst="line">
            <a:avLst/>
          </a:prstGeom>
          <a:ln w="12600">
            <a:solidFill>
              <a:srgbClr val="00ff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09880" y="2362320"/>
            <a:ext cx="0" cy="1143000"/>
          </a:xfrm>
          <a:prstGeom prst="line">
            <a:avLst/>
          </a:prstGeom>
          <a:ln w="12600">
            <a:solidFill>
              <a:srgbClr val="00ff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2286000"/>
            <a:ext cx="228600" cy="1295280"/>
          </a:xfrm>
          <a:prstGeom prst="line">
            <a:avLst/>
          </a:prstGeom>
          <a:ln w="12600">
            <a:solidFill>
              <a:srgbClr val="00ff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Wireless DS c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ase 6: AP to AP, distributing a frame via the wireless medi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Example: Frame from S1 destined to S2, transiting a wireless DS between AP1 and AP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SA] = Maddr (S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DA] = Maddr (S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TA] = Maddr (A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RA] = Maddr (AP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To] =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rame IS inbound to DS from the wireless me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From] =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rame IS outbound from DS onto the wireless me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Wireless DS c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Note: with all four addresses, it is possible to handle an arbitrary number of WDS ho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is provides a general solution for wireless distrib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ixed terminology c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ny loose terms causing confu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Overlapp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withi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when a member of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in the same volume a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ssociated wit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etc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 key concept is 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Overlapping coverage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volu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Ixed mode case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 cases under discussion are those where a STA desires to both make use of the services of an ESS, and also be able to communicate directly with another 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re are 3 combinations which cover the permu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 key is to understand that the state of a STA (with respect to membership in an ESS) is 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orthogonal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to the communication method used for any particular fr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990720" y="1066680"/>
            <a:ext cx="7162920" cy="13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Let’s Consider the mixed mode cases wrt SA, DA, RA, TA, To, &amp; From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ixed mode case 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809880" y="1905120"/>
            <a:ext cx="106668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905120" y="3886200"/>
            <a:ext cx="9144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638680" y="3809880"/>
            <a:ext cx="9907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895480" y="4191120"/>
            <a:ext cx="2667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352680" y="3733920"/>
            <a:ext cx="160020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ixed mode cases A, B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ixed mode case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1 is a member of a BSS which contains AP1 and is Associated with AP1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7 is 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not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a member of the same B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SA] = Maddr (S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DA] = Maddr (S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TA] = Maddr (S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RA] = Maddr (S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To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rame is NOT inbound to DS from the wireless me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From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rame is NOT outbound from DS onto the wireless me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ixed mode case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7 is a member of a BSS which contains AP1 and is Associated with AP1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1 is 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not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a member of the same B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SA] = Maddr (S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DA] = Maddr (S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TA] = Maddr (S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RA] = Maddr (S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To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rame is NOT inbound to DS from the wireless me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From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rame is NOT outbound from DS onto the wireless me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ixed mode case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1 is a member of a BSS which contains AP1 and S1 is Associated with AP1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7 is also a member of the BSS which contains AP1 and S7 is Associated with AP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SA] = Maddr (S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DA] = Maddr (S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TA] = Maddr (S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RA] = Maddr (S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To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rame is NOT inbound to DS from the wireless me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From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rame is NOT outbound from DS onto the wireless me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onnectivity cas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10 connectivity ca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5 cases from 2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5 additional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All three of the mixed mode cases are the sa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Wrt SA, DA, RA, TA, To &amp; From, all three mixed mode cases are identic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ll three mixed mode cases are also identical to case 5 (direct communic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B3 contains confusion when it talks about the address of the BSS, within a ESS of which S1 is a member, and overload this concept with BSS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o let’s examine the concept of BSSID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BSSID vs mixed mo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It is desirable to have a BSSID so that receiving STAs can filter incoming msgs based on BSS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In particular, there is interest in filtering Broadcast and Multicast ms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BSSID is substituting in our shared media environment for the concept of a “logically separate media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BSSID vs mixed mo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 key question: What is the BSSID that should be used for mixed mode cases A, B and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nswer: The BSS that contains both S1 and S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is 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may or may not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be the same BSS which contains AP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Lets look at each case closer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ixed mode case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43000" y="53352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143000" y="152388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981080" y="2057400"/>
            <a:ext cx="106668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2057400" y="4038480"/>
            <a:ext cx="9144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791320" y="3962520"/>
            <a:ext cx="9907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048120" y="4343400"/>
            <a:ext cx="2666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809880" y="3886200"/>
            <a:ext cx="160020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ixed mode case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371600" y="1752480"/>
            <a:ext cx="2209680" cy="3276720"/>
          </a:xfrm>
          <a:prstGeom prst="roundRect">
            <a:avLst/>
          </a:prstGeom>
          <a:noFill/>
          <a:ln w="12600">
            <a:solidFill>
              <a:srgbClr val="618ffd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52480" y="3581280"/>
            <a:ext cx="5638680" cy="1523880"/>
          </a:xfrm>
          <a:prstGeom prst="roundRect">
            <a:avLst/>
          </a:prstGeom>
          <a:noFill/>
          <a:ln w="12600">
            <a:solidFill>
              <a:srgbClr val="00ae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429000" y="1905120"/>
            <a:ext cx="22860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618ffd"/>
                </a:solidFill>
                <a:latin typeface="Arial"/>
                <a:ea typeface="Arial"/>
              </a:rPr>
              <a:t>BSSID = Maddr(AP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267080" y="518148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ae00"/>
                </a:solidFill>
                <a:latin typeface="Arial"/>
                <a:ea typeface="Arial"/>
              </a:rPr>
              <a:t>BSSID = “Ad-Hoc A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ixed mode Case A BSS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For the frame going from S1 to S7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BSSID must = “Ad-Hoc 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is is the only piece of info common to both S1 and S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ixed mode case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43000" y="53352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143000" y="152388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791320" y="1981080"/>
            <a:ext cx="106668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057400" y="4038480"/>
            <a:ext cx="9144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791320" y="3962520"/>
            <a:ext cx="9907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48120" y="4343400"/>
            <a:ext cx="2666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505320" y="3886200"/>
            <a:ext cx="160020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ixed mode case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34120" y="1600200"/>
            <a:ext cx="1981080" cy="3276720"/>
          </a:xfrm>
          <a:prstGeom prst="roundRect">
            <a:avLst/>
          </a:prstGeom>
          <a:noFill/>
          <a:ln w="12600">
            <a:solidFill>
              <a:srgbClr val="618ffd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752480" y="3581280"/>
            <a:ext cx="5638680" cy="1523880"/>
          </a:xfrm>
          <a:prstGeom prst="roundRect">
            <a:avLst/>
          </a:prstGeom>
          <a:noFill/>
          <a:ln w="12600">
            <a:solidFill>
              <a:srgbClr val="00ae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124080" y="1905120"/>
            <a:ext cx="22860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618ffd"/>
                </a:solidFill>
                <a:latin typeface="Arial"/>
                <a:ea typeface="Arial"/>
              </a:rPr>
              <a:t>BSSID = Maddr(AP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505320" y="518148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ae00"/>
                </a:solidFill>
                <a:latin typeface="Arial"/>
                <a:ea typeface="Arial"/>
              </a:rPr>
              <a:t>BSSID = “Ad-Hoc B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ixed mode Case B BSS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For the frame going from S1 to S7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BSSID must = “Ad-Hoc B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is is the only BSSID known to S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is is the only piece of info common to both S1 and S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ixed mode case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53352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43000" y="152388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886200" y="2514600"/>
            <a:ext cx="106668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057400" y="4038480"/>
            <a:ext cx="9144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791320" y="3962520"/>
            <a:ext cx="9907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48120" y="4343400"/>
            <a:ext cx="2666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505320" y="3886200"/>
            <a:ext cx="160020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ixed mode case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371600" y="1752480"/>
            <a:ext cx="6324480" cy="3886200"/>
          </a:xfrm>
          <a:prstGeom prst="roundRect">
            <a:avLst/>
          </a:prstGeom>
          <a:noFill/>
          <a:ln w="12600">
            <a:solidFill>
              <a:srgbClr val="618ffd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752480" y="3581280"/>
            <a:ext cx="5638680" cy="1523880"/>
          </a:xfrm>
          <a:prstGeom prst="roundRect">
            <a:avLst/>
          </a:prstGeom>
          <a:noFill/>
          <a:ln w="12600">
            <a:solidFill>
              <a:srgbClr val="00ae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429000" y="1905120"/>
            <a:ext cx="22860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618ffd"/>
                </a:solidFill>
                <a:latin typeface="Arial"/>
                <a:ea typeface="Arial"/>
              </a:rPr>
              <a:t>BSSID = Maddr(AP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267080" y="518148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ae00"/>
                </a:solidFill>
                <a:latin typeface="Arial"/>
                <a:ea typeface="Arial"/>
              </a:rPr>
              <a:t>BSSID = “Ad-Hoc C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ixed mode Case C BSS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For the frame going from S1 to S7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re are two choices for BSS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d-Hoc C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addr(A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Either will get the msg from the source to the destination without causing any problems at an 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To] = [From] = False, so APs will not attempt to process the fr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Direct communication BSSID conclu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 BSSID must be that of 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a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BSS of which both the Source and Destination stations are me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his allows both choices for Case 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uch a BSS always exists for direct communication c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 choice of BSSID to use for mixed mode case C can be unspecified by 802.11 - either works from the MAC view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he choice of which to use and/or try first is not of significance to 802.11 MAC op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B3 Connectivity cas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936960" y="2855880"/>
            <a:ext cx="660240" cy="398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260440" y="2703600"/>
            <a:ext cx="660240" cy="398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689440" y="2703600"/>
            <a:ext cx="660240" cy="398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276200" y="4151160"/>
            <a:ext cx="495360" cy="398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762600" y="4075200"/>
            <a:ext cx="495360" cy="398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019400" y="4151160"/>
            <a:ext cx="495360" cy="398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343240" y="5599080"/>
            <a:ext cx="495360" cy="398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33720" y="1905120"/>
            <a:ext cx="4267080" cy="990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523880" y="3124080"/>
            <a:ext cx="990720" cy="9907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90920" y="2666880"/>
            <a:ext cx="33526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19920" y="3124080"/>
            <a:ext cx="914400" cy="914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619600" y="5599080"/>
            <a:ext cx="495360" cy="398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114800" y="327672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19720" y="327672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5791320"/>
            <a:ext cx="23619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371600" y="3352680"/>
            <a:ext cx="3808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629400" y="3200400"/>
            <a:ext cx="3808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48320" y="3581280"/>
            <a:ext cx="3808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505320" y="3581280"/>
            <a:ext cx="3808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962520" y="5334120"/>
            <a:ext cx="3808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962520" y="1600200"/>
            <a:ext cx="762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stribution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114800" y="2209680"/>
            <a:ext cx="3808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Infrastructure BSSID val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For BSSs which are part of an 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     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BSSID = Maddr(AP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Using ESSID to find BSS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In an ESS, a STA learns about local A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What it learns is { ESSID, Maddr(AP) } p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ontained in beacons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TAs wishing to join a particular administrative group, pick an AP by using the Maddr(AP) of an AP which belongs to the desired administrative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Using Ad-Hoc admin group to find BSSI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 BSSID of an IBSS = Maddr( the STA which initiated establishment of the B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 same mechanism used by a STA to find BSSID from ESSID is suffici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 STA wishing to join an IBSS simply selects a Maddr which corresponds with the desired administrative group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Independent BSSID val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onclusion: For Independent BSSs, BSSID = Maddr( the STA which initiated establishment of the BS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is supports as much differentiation between different IBSSs  as desi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us broadcast, multicast filtering by BSSID is provi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ixed mode interaction conclusio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t any given insta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 STA may be a member of zero or 1 ES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 STA may be a member of as many IBSSs as it desi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ince APs are STAs, this also applies to A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WDS compon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3600" spc="-1" strike="noStrike" u="sng">
                <a:solidFill>
                  <a:srgbClr val="001af0"/>
                </a:solidFill>
                <a:uFillTx/>
                <a:latin typeface="Arial"/>
                <a:ea typeface="Arial"/>
              </a:rPr>
              <a:t>Logically</a:t>
            </a:r>
            <a:r>
              <a:rPr b="1" i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, </a:t>
            </a: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IBSSs are used to build WDS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914400" y="3657600"/>
            <a:ext cx="914400" cy="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14600" y="3657600"/>
            <a:ext cx="914400" cy="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114800" y="3657600"/>
            <a:ext cx="1981080" cy="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143000" y="5410080"/>
            <a:ext cx="60948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5410080"/>
            <a:ext cx="6094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828800" y="3352680"/>
            <a:ext cx="6858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429000" y="3352680"/>
            <a:ext cx="6858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095880" y="3429000"/>
            <a:ext cx="6858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1447920" y="4038480"/>
            <a:ext cx="533160" cy="1371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629400" y="4038480"/>
            <a:ext cx="533520" cy="1371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752480" y="480060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as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7086600" y="44197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as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438280" y="2743200"/>
            <a:ext cx="533880" cy="609840"/>
          </a:xfrm>
          <a:custGeom>
            <a:avLst/>
            <a:gdLst/>
            <a:ahLst/>
            <a:rect l="0" t="0" r="r" b="b"/>
            <a:pathLst>
              <a:path fill="none" w="1483" h="1694">
                <a:moveTo>
                  <a:pt x="1483" y="0"/>
                </a:moveTo>
                <a:lnTo>
                  <a:pt x="1483" y="0"/>
                </a:lnTo>
                <a:cubicBezTo>
                  <a:pt x="1223" y="0"/>
                  <a:pt x="967" y="78"/>
                  <a:pt x="741" y="227"/>
                </a:cubicBezTo>
                <a:cubicBezTo>
                  <a:pt x="516" y="376"/>
                  <a:pt x="329" y="589"/>
                  <a:pt x="199" y="847"/>
                </a:cubicBezTo>
                <a:cubicBezTo>
                  <a:pt x="69" y="1105"/>
                  <a:pt x="0" y="1397"/>
                  <a:pt x="0" y="1694"/>
                </a:cubicBezTo>
              </a:path>
            </a:pathLst>
          </a:custGeom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971800" y="2743200"/>
            <a:ext cx="533880" cy="609840"/>
          </a:xfrm>
          <a:custGeom>
            <a:avLst/>
            <a:gdLst/>
            <a:ahLst/>
            <a:rect l="0" t="0" r="r" b="b"/>
            <a:pathLst>
              <a:path fill="none" w="1483" h="1694">
                <a:moveTo>
                  <a:pt x="1483" y="1694"/>
                </a:moveTo>
                <a:lnTo>
                  <a:pt x="1483" y="1694"/>
                </a:lnTo>
                <a:lnTo>
                  <a:pt x="1483" y="1694"/>
                </a:lnTo>
                <a:cubicBezTo>
                  <a:pt x="1483" y="1397"/>
                  <a:pt x="1414" y="1105"/>
                  <a:pt x="1284" y="847"/>
                </a:cubicBezTo>
                <a:cubicBezTo>
                  <a:pt x="1154" y="589"/>
                  <a:pt x="967" y="376"/>
                  <a:pt x="741" y="227"/>
                </a:cubicBezTo>
                <a:cubicBezTo>
                  <a:pt x="516" y="78"/>
                  <a:pt x="260" y="0"/>
                  <a:pt x="0" y="0"/>
                </a:cubicBezTo>
              </a:path>
            </a:pathLst>
          </a:custGeom>
          <a:ln w="12600">
            <a:solidFill>
              <a:srgbClr val="fc0128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62520" y="2743200"/>
            <a:ext cx="914760" cy="609840"/>
          </a:xfrm>
          <a:custGeom>
            <a:avLst/>
            <a:gdLst/>
            <a:ahLst/>
            <a:rect l="0" t="0" r="r" b="b"/>
            <a:pathLst>
              <a:path fill="none" w="2541" h="1694">
                <a:moveTo>
                  <a:pt x="2541" y="0"/>
                </a:moveTo>
                <a:lnTo>
                  <a:pt x="2541" y="0"/>
                </a:lnTo>
                <a:cubicBezTo>
                  <a:pt x="2095" y="0"/>
                  <a:pt x="1657" y="78"/>
                  <a:pt x="1270" y="227"/>
                </a:cubicBezTo>
                <a:cubicBezTo>
                  <a:pt x="884" y="376"/>
                  <a:pt x="563" y="589"/>
                  <a:pt x="340" y="847"/>
                </a:cubicBezTo>
                <a:cubicBezTo>
                  <a:pt x="117" y="1105"/>
                  <a:pt x="0" y="1397"/>
                  <a:pt x="0" y="1694"/>
                </a:cubicBezTo>
              </a:path>
            </a:pathLst>
          </a:custGeom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334120" y="2743200"/>
            <a:ext cx="838440" cy="686160"/>
          </a:xfrm>
          <a:custGeom>
            <a:avLst/>
            <a:gdLst/>
            <a:ahLst/>
            <a:rect l="0" t="0" r="r" b="b"/>
            <a:pathLst>
              <a:path fill="none" w="2329" h="1906">
                <a:moveTo>
                  <a:pt x="2329" y="1906"/>
                </a:moveTo>
                <a:lnTo>
                  <a:pt x="2329" y="1906"/>
                </a:lnTo>
                <a:lnTo>
                  <a:pt x="2329" y="1906"/>
                </a:lnTo>
                <a:cubicBezTo>
                  <a:pt x="2329" y="1571"/>
                  <a:pt x="2221" y="1243"/>
                  <a:pt x="2017" y="953"/>
                </a:cubicBezTo>
                <a:cubicBezTo>
                  <a:pt x="1813" y="663"/>
                  <a:pt x="1519" y="423"/>
                  <a:pt x="1164" y="255"/>
                </a:cubicBezTo>
                <a:cubicBezTo>
                  <a:pt x="810" y="88"/>
                  <a:pt x="409" y="0"/>
                  <a:pt x="0" y="0"/>
                </a:cubicBezTo>
              </a:path>
            </a:pathLst>
          </a:custGeom>
          <a:ln w="12600">
            <a:solidFill>
              <a:srgbClr val="fc0128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2666880" y="2971800"/>
            <a:ext cx="6094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ase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362320" y="14479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63de8"/>
                </a:solidFill>
                <a:uFillTx/>
                <a:latin typeface="Arial"/>
                <a:ea typeface="Arial"/>
              </a:rPr>
              <a:t>Distribution System Me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2971800" y="4952880"/>
            <a:ext cx="28195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63de8"/>
                </a:solidFill>
                <a:uFillTx/>
                <a:latin typeface="Arial"/>
                <a:ea typeface="Arial"/>
              </a:rPr>
              <a:t>Wireless Me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752480" y="1828800"/>
            <a:ext cx="5334120" cy="685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ff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gical Distribution Service 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ssociation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029200" y="2743200"/>
            <a:ext cx="152280" cy="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648320" y="3048120"/>
            <a:ext cx="91440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ditional WDS lin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676520" y="2666880"/>
            <a:ext cx="2514600" cy="1600200"/>
          </a:xfrm>
          <a:prstGeom prst="roundRect">
            <a:avLst/>
          </a:prstGeom>
          <a:noFill/>
          <a:ln w="38160">
            <a:solidFill>
              <a:srgbClr val="8901f3"/>
            </a:solidFill>
            <a:round/>
            <a:tailEnd len="med" type="triangle" w="med"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2057400" y="2209680"/>
            <a:ext cx="457200" cy="1295640"/>
          </a:xfrm>
          <a:prstGeom prst="line">
            <a:avLst/>
          </a:prstGeom>
          <a:ln w="12600">
            <a:solidFill>
              <a:srgbClr val="00ff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09880" y="2362320"/>
            <a:ext cx="0" cy="1143000"/>
          </a:xfrm>
          <a:prstGeom prst="line">
            <a:avLst/>
          </a:prstGeom>
          <a:ln w="12600">
            <a:solidFill>
              <a:srgbClr val="00ff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248520" y="2286000"/>
            <a:ext cx="228600" cy="1295280"/>
          </a:xfrm>
          <a:prstGeom prst="line">
            <a:avLst/>
          </a:prstGeom>
          <a:ln w="12600">
            <a:solidFill>
              <a:srgbClr val="00ff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429000" y="4343400"/>
            <a:ext cx="45720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8901f3"/>
                </a:solidFill>
                <a:latin typeface="Arial"/>
                <a:ea typeface="Arial"/>
              </a:rPr>
              <a:t>IB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3600" spc="-1" strike="noStrike" u="sng">
                <a:solidFill>
                  <a:srgbClr val="001af0"/>
                </a:solidFill>
                <a:uFillTx/>
                <a:latin typeface="Arial"/>
                <a:ea typeface="Arial"/>
              </a:rPr>
              <a:t>Logically</a:t>
            </a:r>
            <a:r>
              <a:rPr b="1" i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, </a:t>
            </a: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IBSSs are used to build WDS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wo APs must be in direct communication or they can not be used to wirelessly distribute a fr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Interestingly, the BSSID of the </a:t>
            </a:r>
            <a:r>
              <a:rPr b="1" i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logical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IBSS is 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not required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within the case 6 fr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See case 6 frame examples later in pap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Only a DS need know how APs are rel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(In order to figure out which APs to use to wirelessly distribute a fram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If were needed, the logically correct BSSID for a case 6 frame is the ID of the BSS which contains both AP1 </a:t>
            </a:r>
            <a:r>
              <a:rPr b="1" lang="en-US" sz="18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AND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 AP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Whether a DS actually does, or does not, set up the logical IBSSs is irrelevant to the 802.11 MA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obile STAs neither need to know, nor care, about these logical BS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Observations about WDS cas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ase 6 is only required for wirelessly distributed 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DATA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type fra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ontrol frames 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never transit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a 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TS, CTS, ACK,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nagement frames 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never transit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a 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hey are always between directly communicating 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STA to STA in a B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STA to AP in an 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Only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Data frames are ever Distributed and hence transit a 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Observations about WDS cas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ase 6 (WDS) is the 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only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case where all four logical addresses can actually have 4 distinct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In all case 6 “hops”, the 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logical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Distribution Service, is invok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equired in order to access the Association information to determine how to distribute the original frame from S1 to S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Whether this functionality is implemented within a physical AP is not relev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Additional c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990720" y="106668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ommittee discussion has been using loose terminology, resulting in less than optimum ana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tricter terminology and attention to notational detail are required to correctly understand all the c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refore, the first step in the analysis is to establish more precise terminolog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WDS Data frame suppor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We should enable support of W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Wirelessly distributed msgs are identified by  [To] = [From] =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WDS link msgs use a WDS Data hea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rovides support for WDS lin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Only a small amount of additional information is needed (above a normal Data header) for specific ms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One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Overhead cost is only paid for msgs that are actually wirelessly distrib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No other msgs have increased overhe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WDS Data hea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143000" y="2438280"/>
            <a:ext cx="2514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3 DATA 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657600" y="2438280"/>
            <a:ext cx="6858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i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0" y="2438280"/>
            <a:ext cx="33526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S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2819520" y="3352680"/>
            <a:ext cx="32767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esent IFF [To] = [From] = TRUE in FC 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114800" y="3048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1143000" y="22096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20968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343400" y="22096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600200" y="1905120"/>
            <a:ext cx="190512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DS Data 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Impacts on frame heade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Now that we have explored the previously overloaded concepts, lets look at what this means for frame header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Header Address field contents for each msg typ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ll 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SA field ] = TA = Maddr( transmitting STA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DA field ] = RA = Maddr( receiving STA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To DS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From DS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ll 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DA field ] = RA = Maddr( receiving STA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To DS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From DS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Header Address field contents for each msg typ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ll 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DA field ] = RA = Maddr( receiving STA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To DS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From DS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PO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ll 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SA field ] = TA = Maddr( transmitting STA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To DS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From DS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Header Address field contents for each msg typ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ATA &amp; M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as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BSSID field ] = Maddr (A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SA field ]  = Maddr (S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DA field ] = Maddr (S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To DS] =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From DS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Header Address field contents for each msg typ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ATA &amp; M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as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BSSID field ] = Maddr (A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SA field ] = Maddr (S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DA field ] = Maddr (S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To DS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From DS] =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Header Address field contents for each msg typ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ATA &amp; M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as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BSSID field ] = Maddr (AP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SA field ] = Maddr (S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DA field ] = Maddr (AP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To DS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From DS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Header Address field contents for each msg typ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ATA &amp; M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as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BSSID field ] = Maddr (AP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SA field ] = Maddr (AP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DA field ] = Maddr (S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To DS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From DS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Header Address field contents for each msg typ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ATA &amp; M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ases 5, A &amp; 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(case 5 example show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BSSID field ] = Maddr (ad-hoc initiating S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SA field ] = Maddr (S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DA field ] = Maddr (S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To DS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From DS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Terminology problem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TAn has been used to describe both a station and a station’s addr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Ps, and their address are described as AP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his obscures the fact that APs </a:t>
            </a:r>
            <a:r>
              <a:rPr b="1" lang="en-US" sz="18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ARE 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St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his obscures the fact that APs straddle two logically different  address spac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he two address spaces </a:t>
            </a:r>
            <a:r>
              <a:rPr b="1" lang="en-US" sz="18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could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 physically be the s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Header Address field contents for each msg typ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ATA &amp; M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ase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BSSID field ] = Maddr (AP1) or Maddr (ad-hoc initiating S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SA field ] = Maddr (S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DA field ] = Maddr (S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To DS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From DS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Header Address field contents for each msg typ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ATA (WDS DATA support fra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ase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(using 236/B3 field nam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BSSID field ] = Maddr (AP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Is actually RA 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SA field ] = Maddr (A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Is actually TA 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DA field ] = Maddr (S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Is actually DA 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Orig SA ] = Maddr (S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Is actually SA 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To DS ] =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From DS ] =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Header Address field contents for each msg typ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It is proposed that for the WDS Data header, the fields be renamed to accurately reflect their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 case 6 example would beco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ATA (WDS DATA support fra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ase 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RA ] = Maddr (AP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TA ] = Maddr (A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DA ] = Maddr (S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SA ] = Maddr (S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To DS ] =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From DS ] =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Header Address field contents for each msg typ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WDS DATA header field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1371600" y="1828800"/>
            <a:ext cx="5181840" cy="380880"/>
            <a:chOff x="1371600" y="1828800"/>
            <a:chExt cx="5181840" cy="380880"/>
          </a:xfrm>
        </p:grpSpPr>
        <p:sp>
          <p:nvSpPr>
            <p:cNvPr id="306" name=""/>
            <p:cNvSpPr txBox="1"/>
            <p:nvPr/>
          </p:nvSpPr>
          <p:spPr>
            <a:xfrm>
              <a:off x="1371600" y="1828800"/>
              <a:ext cx="5335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 txBox="1"/>
            <p:nvPr/>
          </p:nvSpPr>
          <p:spPr>
            <a:xfrm>
              <a:off x="1905120" y="1828800"/>
              <a:ext cx="5335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 txBox="1"/>
            <p:nvPr/>
          </p:nvSpPr>
          <p:spPr>
            <a:xfrm>
              <a:off x="2438280" y="1828800"/>
              <a:ext cx="5335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 txBox="1"/>
            <p:nvPr/>
          </p:nvSpPr>
          <p:spPr>
            <a:xfrm>
              <a:off x="2971800" y="1828800"/>
              <a:ext cx="5335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 txBox="1"/>
            <p:nvPr/>
          </p:nvSpPr>
          <p:spPr>
            <a:xfrm>
              <a:off x="3505320" y="1828800"/>
              <a:ext cx="8380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q #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 txBox="1"/>
            <p:nvPr/>
          </p:nvSpPr>
          <p:spPr>
            <a:xfrm>
              <a:off x="4343400" y="1828800"/>
              <a:ext cx="91440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ag #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 txBox="1"/>
            <p:nvPr/>
          </p:nvSpPr>
          <p:spPr>
            <a:xfrm>
              <a:off x="5257800" y="1828800"/>
              <a:ext cx="7621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 txBox="1"/>
            <p:nvPr/>
          </p:nvSpPr>
          <p:spPr>
            <a:xfrm>
              <a:off x="6019920" y="1828800"/>
              <a:ext cx="5335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Extended B3 Hea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990720" y="106668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PO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ATA / M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WD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1676520" y="5867280"/>
            <a:ext cx="5486400" cy="380880"/>
            <a:chOff x="1676520" y="5867280"/>
            <a:chExt cx="5486400" cy="380880"/>
          </a:xfrm>
        </p:grpSpPr>
        <p:sp>
          <p:nvSpPr>
            <p:cNvPr id="317" name=""/>
            <p:cNvSpPr txBox="1"/>
            <p:nvPr/>
          </p:nvSpPr>
          <p:spPr>
            <a:xfrm>
              <a:off x="1676520" y="5867280"/>
              <a:ext cx="5335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 txBox="1"/>
            <p:nvPr/>
          </p:nvSpPr>
          <p:spPr>
            <a:xfrm>
              <a:off x="2209680" y="5867280"/>
              <a:ext cx="8380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3048120" y="5867280"/>
              <a:ext cx="4114800" cy="380880"/>
              <a:chOff x="3048120" y="5867280"/>
              <a:chExt cx="4114800" cy="380880"/>
            </a:xfrm>
          </p:grpSpPr>
          <p:sp>
            <p:nvSpPr>
              <p:cNvPr id="320" name=""/>
              <p:cNvSpPr txBox="1"/>
              <p:nvPr/>
            </p:nvSpPr>
            <p:spPr>
              <a:xfrm>
                <a:off x="3048120" y="5867280"/>
                <a:ext cx="53352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 txBox="1"/>
              <p:nvPr/>
            </p:nvSpPr>
            <p:spPr>
              <a:xfrm>
                <a:off x="3581280" y="5867280"/>
                <a:ext cx="53352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 txBox="1"/>
              <p:nvPr/>
            </p:nvSpPr>
            <p:spPr>
              <a:xfrm>
                <a:off x="4114800" y="5867280"/>
                <a:ext cx="83808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q #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 txBox="1"/>
              <p:nvPr/>
            </p:nvSpPr>
            <p:spPr>
              <a:xfrm>
                <a:off x="4952880" y="5867280"/>
                <a:ext cx="91440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rag #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 txBox="1"/>
              <p:nvPr/>
            </p:nvSpPr>
            <p:spPr>
              <a:xfrm>
                <a:off x="5867280" y="5867280"/>
                <a:ext cx="76212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u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 txBox="1"/>
              <p:nvPr/>
            </p:nvSpPr>
            <p:spPr>
              <a:xfrm>
                <a:off x="6629400" y="5867280"/>
                <a:ext cx="53352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6" name=""/>
          <p:cNvGrpSpPr/>
          <p:nvPr/>
        </p:nvGrpSpPr>
        <p:grpSpPr>
          <a:xfrm>
            <a:off x="1676520" y="4952880"/>
            <a:ext cx="4952880" cy="380880"/>
            <a:chOff x="1676520" y="4952880"/>
            <a:chExt cx="4952880" cy="380880"/>
          </a:xfrm>
        </p:grpSpPr>
        <p:sp>
          <p:nvSpPr>
            <p:cNvPr id="327" name=""/>
            <p:cNvSpPr txBox="1"/>
            <p:nvPr/>
          </p:nvSpPr>
          <p:spPr>
            <a:xfrm>
              <a:off x="1676520" y="4952880"/>
              <a:ext cx="5335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 txBox="1"/>
            <p:nvPr/>
          </p:nvSpPr>
          <p:spPr>
            <a:xfrm>
              <a:off x="2209680" y="4952880"/>
              <a:ext cx="8380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SS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 txBox="1"/>
            <p:nvPr/>
          </p:nvSpPr>
          <p:spPr>
            <a:xfrm>
              <a:off x="3048120" y="4952880"/>
              <a:ext cx="5335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 txBox="1"/>
            <p:nvPr/>
          </p:nvSpPr>
          <p:spPr>
            <a:xfrm>
              <a:off x="3581280" y="4952880"/>
              <a:ext cx="5335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 txBox="1"/>
            <p:nvPr/>
          </p:nvSpPr>
          <p:spPr>
            <a:xfrm>
              <a:off x="4114800" y="4952880"/>
              <a:ext cx="8380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q #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 txBox="1"/>
            <p:nvPr/>
          </p:nvSpPr>
          <p:spPr>
            <a:xfrm>
              <a:off x="4952880" y="4952880"/>
              <a:ext cx="91440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ag #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 txBox="1"/>
            <p:nvPr/>
          </p:nvSpPr>
          <p:spPr>
            <a:xfrm>
              <a:off x="5867280" y="4952880"/>
              <a:ext cx="7621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"/>
          <p:cNvSpPr txBox="1"/>
          <p:nvPr/>
        </p:nvSpPr>
        <p:spPr>
          <a:xfrm>
            <a:off x="3048120" y="3276720"/>
            <a:ext cx="53352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5867280" y="3276720"/>
            <a:ext cx="76212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1676520" y="1447920"/>
            <a:ext cx="4952880" cy="380880"/>
            <a:chOff x="1676520" y="1447920"/>
            <a:chExt cx="4952880" cy="380880"/>
          </a:xfrm>
        </p:grpSpPr>
        <p:grpSp>
          <p:nvGrpSpPr>
            <p:cNvPr id="337" name=""/>
            <p:cNvGrpSpPr/>
            <p:nvPr/>
          </p:nvGrpSpPr>
          <p:grpSpPr>
            <a:xfrm>
              <a:off x="1676520" y="1447920"/>
              <a:ext cx="4952880" cy="380880"/>
              <a:chOff x="1676520" y="1447920"/>
              <a:chExt cx="4952880" cy="380880"/>
            </a:xfrm>
          </p:grpSpPr>
          <p:sp>
            <p:nvSpPr>
              <p:cNvPr id="338" name=""/>
              <p:cNvSpPr txBox="1"/>
              <p:nvPr/>
            </p:nvSpPr>
            <p:spPr>
              <a:xfrm>
                <a:off x="1676520" y="1447920"/>
                <a:ext cx="53352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 txBox="1"/>
              <p:nvPr/>
            </p:nvSpPr>
            <p:spPr>
              <a:xfrm>
                <a:off x="3048120" y="1447920"/>
                <a:ext cx="53352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 txBox="1"/>
              <p:nvPr/>
            </p:nvSpPr>
            <p:spPr>
              <a:xfrm>
                <a:off x="3581280" y="1447920"/>
                <a:ext cx="53352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 txBox="1"/>
              <p:nvPr/>
            </p:nvSpPr>
            <p:spPr>
              <a:xfrm>
                <a:off x="5867280" y="1447920"/>
                <a:ext cx="76212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u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2209680" y="1828800"/>
              <a:ext cx="838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114800" y="1828800"/>
              <a:ext cx="17524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1676520" y="2362320"/>
            <a:ext cx="4952880" cy="380880"/>
            <a:chOff x="1676520" y="2362320"/>
            <a:chExt cx="4952880" cy="380880"/>
          </a:xfrm>
        </p:grpSpPr>
        <p:grpSp>
          <p:nvGrpSpPr>
            <p:cNvPr id="345" name=""/>
            <p:cNvGrpSpPr/>
            <p:nvPr/>
          </p:nvGrpSpPr>
          <p:grpSpPr>
            <a:xfrm>
              <a:off x="1676520" y="2362320"/>
              <a:ext cx="4952880" cy="380880"/>
              <a:chOff x="1676520" y="2362320"/>
              <a:chExt cx="4952880" cy="380880"/>
            </a:xfrm>
          </p:grpSpPr>
          <p:sp>
            <p:nvSpPr>
              <p:cNvPr id="346" name=""/>
              <p:cNvSpPr txBox="1"/>
              <p:nvPr/>
            </p:nvSpPr>
            <p:spPr>
              <a:xfrm>
                <a:off x="1676520" y="2362320"/>
                <a:ext cx="53352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 txBox="1"/>
              <p:nvPr/>
            </p:nvSpPr>
            <p:spPr>
              <a:xfrm>
                <a:off x="3048120" y="2362320"/>
                <a:ext cx="53352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 txBox="1"/>
              <p:nvPr/>
            </p:nvSpPr>
            <p:spPr>
              <a:xfrm>
                <a:off x="5867280" y="2362320"/>
                <a:ext cx="76212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u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2209680" y="2743200"/>
              <a:ext cx="8384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581280" y="2743200"/>
              <a:ext cx="22860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1676520" y="3276720"/>
            <a:ext cx="4190760" cy="380880"/>
            <a:chOff x="1676520" y="3276720"/>
            <a:chExt cx="4190760" cy="380880"/>
          </a:xfrm>
        </p:grpSpPr>
        <p:sp>
          <p:nvSpPr>
            <p:cNvPr id="352" name=""/>
            <p:cNvSpPr txBox="1"/>
            <p:nvPr/>
          </p:nvSpPr>
          <p:spPr>
            <a:xfrm>
              <a:off x="1676520" y="3276720"/>
              <a:ext cx="5335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209680" y="3657600"/>
              <a:ext cx="8384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581280" y="3657600"/>
              <a:ext cx="22860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1676520" y="4114800"/>
            <a:ext cx="2438280" cy="380880"/>
            <a:chOff x="1676520" y="4114800"/>
            <a:chExt cx="2438280" cy="380880"/>
          </a:xfrm>
        </p:grpSpPr>
        <p:sp>
          <p:nvSpPr>
            <p:cNvPr id="356" name=""/>
            <p:cNvSpPr txBox="1"/>
            <p:nvPr/>
          </p:nvSpPr>
          <p:spPr>
            <a:xfrm>
              <a:off x="1676520" y="4114800"/>
              <a:ext cx="5335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 txBox="1"/>
            <p:nvPr/>
          </p:nvSpPr>
          <p:spPr>
            <a:xfrm>
              <a:off x="2209680" y="4114800"/>
              <a:ext cx="8380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SS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 txBox="1"/>
            <p:nvPr/>
          </p:nvSpPr>
          <p:spPr>
            <a:xfrm>
              <a:off x="3581280" y="4114800"/>
              <a:ext cx="5335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048120" y="4495680"/>
              <a:ext cx="5331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ixed mode case corrections to B3 section 2 tex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B3 Section 2 State Diagram Corr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Now that we understand the mixed mode cases it becomes clear that the transmitting station state diagram in sec 2.5 is incorrect and needs to be correc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 existing states described in B3 section 2 are still correct, but the division of services is n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 correct dependency on STA state is sets of allowable transmit frames, not serv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ny frame can be received at any time, but if not in a correct state at the receiver (e.g authenticated), an error occ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Station St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tate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Initial start state, Unauthenticated, Unassoci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tate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uthenticated, not Associ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tate 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uthenticated and Associ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STA State vs frame ty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001880" y="1351080"/>
            <a:ext cx="7162920" cy="4952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141720" y="1463760"/>
            <a:ext cx="2297160" cy="833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1af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State 1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Unauthenticated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Unassoci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3213000" y="3143160"/>
            <a:ext cx="2286000" cy="882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1af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State 2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Authenticated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Unassoci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119400" y="4927680"/>
            <a:ext cx="2320920" cy="87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1af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State 3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Authenticat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and Associ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592520" y="2262240"/>
            <a:ext cx="559080" cy="498960"/>
          </a:xfrm>
          <a:custGeom>
            <a:avLst/>
            <a:gdLst/>
            <a:ahLst/>
            <a:rect l="0" t="0" r="r" b="b"/>
            <a:pathLst>
              <a:path w="1553" h="1386">
                <a:moveTo>
                  <a:pt x="59" y="162"/>
                </a:moveTo>
                <a:lnTo>
                  <a:pt x="0" y="162"/>
                </a:lnTo>
                <a:lnTo>
                  <a:pt x="0" y="180"/>
                </a:lnTo>
                <a:lnTo>
                  <a:pt x="29" y="261"/>
                </a:lnTo>
                <a:lnTo>
                  <a:pt x="88" y="321"/>
                </a:lnTo>
                <a:lnTo>
                  <a:pt x="147" y="403"/>
                </a:lnTo>
                <a:lnTo>
                  <a:pt x="177" y="463"/>
                </a:lnTo>
                <a:lnTo>
                  <a:pt x="236" y="541"/>
                </a:lnTo>
                <a:lnTo>
                  <a:pt x="295" y="604"/>
                </a:lnTo>
                <a:lnTo>
                  <a:pt x="354" y="664"/>
                </a:lnTo>
                <a:lnTo>
                  <a:pt x="469" y="823"/>
                </a:lnTo>
                <a:lnTo>
                  <a:pt x="558" y="923"/>
                </a:lnTo>
                <a:lnTo>
                  <a:pt x="587" y="965"/>
                </a:lnTo>
                <a:lnTo>
                  <a:pt x="646" y="1004"/>
                </a:lnTo>
                <a:lnTo>
                  <a:pt x="676" y="1044"/>
                </a:lnTo>
                <a:lnTo>
                  <a:pt x="731" y="1086"/>
                </a:lnTo>
                <a:lnTo>
                  <a:pt x="761" y="1125"/>
                </a:lnTo>
                <a:lnTo>
                  <a:pt x="880" y="1224"/>
                </a:lnTo>
                <a:lnTo>
                  <a:pt x="1057" y="1347"/>
                </a:lnTo>
                <a:lnTo>
                  <a:pt x="1113" y="1365"/>
                </a:lnTo>
                <a:lnTo>
                  <a:pt x="1172" y="1365"/>
                </a:lnTo>
                <a:lnTo>
                  <a:pt x="1202" y="1386"/>
                </a:lnTo>
                <a:lnTo>
                  <a:pt x="1261" y="1386"/>
                </a:lnTo>
                <a:lnTo>
                  <a:pt x="1320" y="1365"/>
                </a:lnTo>
                <a:lnTo>
                  <a:pt x="1320" y="1347"/>
                </a:lnTo>
                <a:lnTo>
                  <a:pt x="1349" y="1347"/>
                </a:lnTo>
                <a:lnTo>
                  <a:pt x="1379" y="1326"/>
                </a:lnTo>
                <a:lnTo>
                  <a:pt x="1379" y="1305"/>
                </a:lnTo>
                <a:lnTo>
                  <a:pt x="1438" y="1266"/>
                </a:lnTo>
                <a:lnTo>
                  <a:pt x="1438" y="1245"/>
                </a:lnTo>
                <a:lnTo>
                  <a:pt x="1464" y="1206"/>
                </a:lnTo>
                <a:lnTo>
                  <a:pt x="1464" y="1164"/>
                </a:lnTo>
                <a:lnTo>
                  <a:pt x="1494" y="1125"/>
                </a:lnTo>
                <a:lnTo>
                  <a:pt x="1494" y="1086"/>
                </a:lnTo>
                <a:lnTo>
                  <a:pt x="1523" y="1004"/>
                </a:lnTo>
                <a:lnTo>
                  <a:pt x="1523" y="802"/>
                </a:lnTo>
                <a:lnTo>
                  <a:pt x="1553" y="763"/>
                </a:lnTo>
                <a:lnTo>
                  <a:pt x="1553" y="382"/>
                </a:lnTo>
                <a:lnTo>
                  <a:pt x="1523" y="240"/>
                </a:lnTo>
                <a:lnTo>
                  <a:pt x="1523" y="0"/>
                </a:lnTo>
                <a:lnTo>
                  <a:pt x="1464" y="0"/>
                </a:lnTo>
                <a:lnTo>
                  <a:pt x="1464" y="21"/>
                </a:lnTo>
                <a:lnTo>
                  <a:pt x="1464" y="240"/>
                </a:lnTo>
                <a:lnTo>
                  <a:pt x="1494" y="382"/>
                </a:lnTo>
                <a:lnTo>
                  <a:pt x="1494" y="763"/>
                </a:lnTo>
                <a:lnTo>
                  <a:pt x="1464" y="802"/>
                </a:lnTo>
                <a:lnTo>
                  <a:pt x="1464" y="1004"/>
                </a:lnTo>
                <a:lnTo>
                  <a:pt x="1438" y="1086"/>
                </a:lnTo>
                <a:lnTo>
                  <a:pt x="1438" y="1104"/>
                </a:lnTo>
                <a:lnTo>
                  <a:pt x="1409" y="1146"/>
                </a:lnTo>
                <a:lnTo>
                  <a:pt x="1409" y="1206"/>
                </a:lnTo>
                <a:lnTo>
                  <a:pt x="1379" y="1224"/>
                </a:lnTo>
                <a:lnTo>
                  <a:pt x="1379" y="1245"/>
                </a:lnTo>
                <a:lnTo>
                  <a:pt x="1349" y="1266"/>
                </a:lnTo>
                <a:lnTo>
                  <a:pt x="1349" y="1284"/>
                </a:lnTo>
                <a:lnTo>
                  <a:pt x="1290" y="1326"/>
                </a:lnTo>
                <a:lnTo>
                  <a:pt x="1231" y="1347"/>
                </a:lnTo>
                <a:lnTo>
                  <a:pt x="1261" y="1347"/>
                </a:lnTo>
                <a:lnTo>
                  <a:pt x="1202" y="1347"/>
                </a:lnTo>
                <a:lnTo>
                  <a:pt x="1172" y="1326"/>
                </a:lnTo>
                <a:lnTo>
                  <a:pt x="1113" y="1326"/>
                </a:lnTo>
                <a:lnTo>
                  <a:pt x="1028" y="1266"/>
                </a:lnTo>
                <a:lnTo>
                  <a:pt x="969" y="1245"/>
                </a:lnTo>
                <a:lnTo>
                  <a:pt x="939" y="1224"/>
                </a:lnTo>
                <a:lnTo>
                  <a:pt x="910" y="1185"/>
                </a:lnTo>
                <a:lnTo>
                  <a:pt x="791" y="1104"/>
                </a:lnTo>
                <a:lnTo>
                  <a:pt x="761" y="1065"/>
                </a:lnTo>
                <a:lnTo>
                  <a:pt x="731" y="1025"/>
                </a:lnTo>
                <a:lnTo>
                  <a:pt x="676" y="983"/>
                </a:lnTo>
                <a:lnTo>
                  <a:pt x="646" y="944"/>
                </a:lnTo>
                <a:lnTo>
                  <a:pt x="617" y="905"/>
                </a:lnTo>
                <a:lnTo>
                  <a:pt x="528" y="802"/>
                </a:lnTo>
                <a:lnTo>
                  <a:pt x="380" y="643"/>
                </a:lnTo>
                <a:lnTo>
                  <a:pt x="354" y="583"/>
                </a:lnTo>
                <a:lnTo>
                  <a:pt x="295" y="523"/>
                </a:lnTo>
                <a:lnTo>
                  <a:pt x="236" y="442"/>
                </a:lnTo>
                <a:lnTo>
                  <a:pt x="206" y="382"/>
                </a:lnTo>
                <a:lnTo>
                  <a:pt x="147" y="300"/>
                </a:lnTo>
                <a:lnTo>
                  <a:pt x="88" y="240"/>
                </a:lnTo>
                <a:lnTo>
                  <a:pt x="59" y="162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078520" y="2162160"/>
            <a:ext cx="138600" cy="136800"/>
          </a:xfrm>
          <a:custGeom>
            <a:avLst/>
            <a:gdLst/>
            <a:ahLst/>
            <a:rect l="0" t="0" r="r" b="b"/>
            <a:pathLst>
              <a:path w="385" h="380">
                <a:moveTo>
                  <a:pt x="0" y="380"/>
                </a:moveTo>
                <a:lnTo>
                  <a:pt x="172" y="0"/>
                </a:lnTo>
                <a:lnTo>
                  <a:pt x="385" y="380"/>
                </a:lnTo>
                <a:lnTo>
                  <a:pt x="172" y="265"/>
                </a:lnTo>
                <a:lnTo>
                  <a:pt x="0" y="380"/>
                </a:lnTo>
                <a:close/>
              </a:path>
            </a:pathLst>
          </a:custGeom>
          <a:solidFill>
            <a:srgbClr val="ff00ff"/>
          </a:solidFill>
          <a:ln w="12600">
            <a:solidFill>
              <a:srgbClr val="ff00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3664080" y="2290680"/>
            <a:ext cx="125640" cy="923040"/>
            <a:chOff x="3664080" y="2290680"/>
            <a:chExt cx="125640" cy="923040"/>
          </a:xfrm>
        </p:grpSpPr>
        <p:sp>
          <p:nvSpPr>
            <p:cNvPr id="374" name=""/>
            <p:cNvSpPr/>
            <p:nvPr/>
          </p:nvSpPr>
          <p:spPr>
            <a:xfrm>
              <a:off x="3714840" y="2290680"/>
              <a:ext cx="9720" cy="864000"/>
            </a:xfrm>
            <a:custGeom>
              <a:avLst/>
              <a:gdLst/>
              <a:ahLst/>
              <a:rect l="0" t="0" r="r" b="b"/>
              <a:pathLst>
                <a:path w="27" h="2400">
                  <a:moveTo>
                    <a:pt x="27" y="30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0" y="2400"/>
                  </a:lnTo>
                  <a:lnTo>
                    <a:pt x="14" y="2400"/>
                  </a:lnTo>
                  <a:lnTo>
                    <a:pt x="14" y="2374"/>
                  </a:lnTo>
                  <a:lnTo>
                    <a:pt x="27" y="2374"/>
                  </a:lnTo>
                  <a:lnTo>
                    <a:pt x="27" y="30"/>
                  </a:lnTo>
                  <a:close/>
                </a:path>
              </a:pathLst>
            </a:custGeom>
            <a:solidFill>
              <a:srgbClr val="ff00ff"/>
            </a:solidFill>
            <a:ln w="12600">
              <a:solidFill>
                <a:srgbClr val="ff00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664080" y="3075120"/>
              <a:ext cx="125640" cy="138600"/>
            </a:xfrm>
            <a:custGeom>
              <a:avLst/>
              <a:gdLst/>
              <a:ahLst/>
              <a:rect l="0" t="0" r="r" b="b"/>
              <a:pathLst>
                <a:path w="349" h="385">
                  <a:moveTo>
                    <a:pt x="349" y="0"/>
                  </a:moveTo>
                  <a:lnTo>
                    <a:pt x="177" y="385"/>
                  </a:lnTo>
                  <a:lnTo>
                    <a:pt x="0" y="0"/>
                  </a:lnTo>
                  <a:lnTo>
                    <a:pt x="177" y="120"/>
                  </a:lnTo>
                  <a:lnTo>
                    <a:pt x="349" y="0"/>
                  </a:lnTo>
                  <a:close/>
                </a:path>
              </a:pathLst>
            </a:custGeom>
            <a:solidFill>
              <a:srgbClr val="ff00ff"/>
            </a:solidFill>
            <a:ln w="12600">
              <a:solidFill>
                <a:srgbClr val="ff00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3678120" y="4016520"/>
            <a:ext cx="125640" cy="922680"/>
            <a:chOff x="3678120" y="4016520"/>
            <a:chExt cx="125640" cy="922680"/>
          </a:xfrm>
        </p:grpSpPr>
        <p:sp>
          <p:nvSpPr>
            <p:cNvPr id="377" name=""/>
            <p:cNvSpPr/>
            <p:nvPr/>
          </p:nvSpPr>
          <p:spPr>
            <a:xfrm>
              <a:off x="3728880" y="4016520"/>
              <a:ext cx="9720" cy="864000"/>
            </a:xfrm>
            <a:custGeom>
              <a:avLst/>
              <a:gdLst/>
              <a:ahLst/>
              <a:rect l="0" t="0" r="r" b="b"/>
              <a:pathLst>
                <a:path w="27" h="2400">
                  <a:moveTo>
                    <a:pt x="27" y="30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0" y="2400"/>
                  </a:lnTo>
                  <a:lnTo>
                    <a:pt x="14" y="2400"/>
                  </a:lnTo>
                  <a:lnTo>
                    <a:pt x="14" y="2374"/>
                  </a:lnTo>
                  <a:lnTo>
                    <a:pt x="27" y="2374"/>
                  </a:lnTo>
                  <a:lnTo>
                    <a:pt x="27" y="3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678120" y="4800600"/>
              <a:ext cx="125640" cy="138600"/>
            </a:xfrm>
            <a:custGeom>
              <a:avLst/>
              <a:gdLst/>
              <a:ahLst/>
              <a:rect l="0" t="0" r="r" b="b"/>
              <a:pathLst>
                <a:path w="349" h="385">
                  <a:moveTo>
                    <a:pt x="349" y="0"/>
                  </a:moveTo>
                  <a:lnTo>
                    <a:pt x="177" y="385"/>
                  </a:lnTo>
                  <a:lnTo>
                    <a:pt x="0" y="0"/>
                  </a:lnTo>
                  <a:lnTo>
                    <a:pt x="177" y="120"/>
                  </a:lnTo>
                  <a:lnTo>
                    <a:pt x="349" y="0"/>
                  </a:lnTo>
                  <a:close/>
                </a:path>
              </a:pathLst>
            </a:custGeom>
            <a:solidFill>
              <a:srgbClr val="ff00ff"/>
            </a:solidFill>
            <a:ln w="12600">
              <a:solidFill>
                <a:srgbClr val="ff00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4716360" y="4037040"/>
            <a:ext cx="125640" cy="922680"/>
            <a:chOff x="4716360" y="4037040"/>
            <a:chExt cx="125640" cy="922680"/>
          </a:xfrm>
        </p:grpSpPr>
        <p:sp>
          <p:nvSpPr>
            <p:cNvPr id="380" name=""/>
            <p:cNvSpPr/>
            <p:nvPr/>
          </p:nvSpPr>
          <p:spPr>
            <a:xfrm>
              <a:off x="4781520" y="4095720"/>
              <a:ext cx="9720" cy="864000"/>
            </a:xfrm>
            <a:custGeom>
              <a:avLst/>
              <a:gdLst/>
              <a:ahLst/>
              <a:rect l="0" t="0" r="r" b="b"/>
              <a:pathLst>
                <a:path w="27" h="2400">
                  <a:moveTo>
                    <a:pt x="0" y="2370"/>
                  </a:moveTo>
                  <a:lnTo>
                    <a:pt x="0" y="2400"/>
                  </a:lnTo>
                  <a:lnTo>
                    <a:pt x="27" y="2400"/>
                  </a:lnTo>
                  <a:lnTo>
                    <a:pt x="27" y="0"/>
                  </a:lnTo>
                  <a:lnTo>
                    <a:pt x="14" y="0"/>
                  </a:lnTo>
                  <a:lnTo>
                    <a:pt x="14" y="25"/>
                  </a:lnTo>
                  <a:lnTo>
                    <a:pt x="0" y="25"/>
                  </a:lnTo>
                  <a:lnTo>
                    <a:pt x="0" y="237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716360" y="4037040"/>
              <a:ext cx="125640" cy="138600"/>
            </a:xfrm>
            <a:custGeom>
              <a:avLst/>
              <a:gdLst/>
              <a:ahLst/>
              <a:rect l="0" t="0" r="r" b="b"/>
              <a:pathLst>
                <a:path w="349" h="385">
                  <a:moveTo>
                    <a:pt x="0" y="385"/>
                  </a:moveTo>
                  <a:lnTo>
                    <a:pt x="171" y="0"/>
                  </a:lnTo>
                  <a:lnTo>
                    <a:pt x="349" y="385"/>
                  </a:lnTo>
                  <a:lnTo>
                    <a:pt x="171" y="26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ff00ff"/>
            </a:solidFill>
            <a:ln w="12600">
              <a:solidFill>
                <a:srgbClr val="ff00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2513160" y="5424480"/>
            <a:ext cx="936720" cy="471960"/>
            <a:chOff x="2513160" y="5424480"/>
            <a:chExt cx="936720" cy="471960"/>
          </a:xfrm>
        </p:grpSpPr>
        <p:sp>
          <p:nvSpPr>
            <p:cNvPr id="383" name=""/>
            <p:cNvSpPr/>
            <p:nvPr/>
          </p:nvSpPr>
          <p:spPr>
            <a:xfrm>
              <a:off x="2513160" y="5424480"/>
              <a:ext cx="900360" cy="471960"/>
            </a:xfrm>
            <a:custGeom>
              <a:avLst/>
              <a:gdLst/>
              <a:ahLst/>
              <a:rect l="0" t="0" r="r" b="b"/>
              <a:pathLst>
                <a:path w="2501" h="1311">
                  <a:moveTo>
                    <a:pt x="1592" y="55"/>
                  </a:moveTo>
                  <a:lnTo>
                    <a:pt x="1592" y="0"/>
                  </a:lnTo>
                  <a:lnTo>
                    <a:pt x="1566" y="0"/>
                  </a:lnTo>
                  <a:lnTo>
                    <a:pt x="1464" y="85"/>
                  </a:lnTo>
                  <a:lnTo>
                    <a:pt x="1365" y="140"/>
                  </a:lnTo>
                  <a:lnTo>
                    <a:pt x="1263" y="200"/>
                  </a:lnTo>
                  <a:lnTo>
                    <a:pt x="1160" y="255"/>
                  </a:lnTo>
                  <a:lnTo>
                    <a:pt x="883" y="427"/>
                  </a:lnTo>
                  <a:lnTo>
                    <a:pt x="656" y="572"/>
                  </a:lnTo>
                  <a:lnTo>
                    <a:pt x="605" y="628"/>
                  </a:lnTo>
                  <a:lnTo>
                    <a:pt x="481" y="713"/>
                  </a:lnTo>
                  <a:lnTo>
                    <a:pt x="405" y="743"/>
                  </a:lnTo>
                  <a:lnTo>
                    <a:pt x="353" y="798"/>
                  </a:lnTo>
                  <a:lnTo>
                    <a:pt x="302" y="828"/>
                  </a:lnTo>
                  <a:lnTo>
                    <a:pt x="226" y="913"/>
                  </a:lnTo>
                  <a:lnTo>
                    <a:pt x="175" y="939"/>
                  </a:lnTo>
                  <a:lnTo>
                    <a:pt x="25" y="1111"/>
                  </a:lnTo>
                  <a:lnTo>
                    <a:pt x="25" y="1141"/>
                  </a:lnTo>
                  <a:lnTo>
                    <a:pt x="0" y="1170"/>
                  </a:lnTo>
                  <a:lnTo>
                    <a:pt x="0" y="1200"/>
                  </a:lnTo>
                  <a:lnTo>
                    <a:pt x="25" y="1256"/>
                  </a:lnTo>
                  <a:lnTo>
                    <a:pt x="51" y="1256"/>
                  </a:lnTo>
                  <a:lnTo>
                    <a:pt x="76" y="1286"/>
                  </a:lnTo>
                  <a:lnTo>
                    <a:pt x="102" y="1286"/>
                  </a:lnTo>
                  <a:lnTo>
                    <a:pt x="153" y="1311"/>
                  </a:lnTo>
                  <a:lnTo>
                    <a:pt x="529" y="1311"/>
                  </a:lnTo>
                  <a:lnTo>
                    <a:pt x="656" y="1286"/>
                  </a:lnTo>
                  <a:lnTo>
                    <a:pt x="733" y="1286"/>
                  </a:lnTo>
                  <a:lnTo>
                    <a:pt x="883" y="1256"/>
                  </a:lnTo>
                  <a:lnTo>
                    <a:pt x="1036" y="1226"/>
                  </a:lnTo>
                  <a:lnTo>
                    <a:pt x="1135" y="1200"/>
                  </a:lnTo>
                  <a:lnTo>
                    <a:pt x="1314" y="1170"/>
                  </a:lnTo>
                  <a:lnTo>
                    <a:pt x="1416" y="1141"/>
                  </a:lnTo>
                  <a:lnTo>
                    <a:pt x="1515" y="1111"/>
                  </a:lnTo>
                  <a:lnTo>
                    <a:pt x="1617" y="1085"/>
                  </a:lnTo>
                  <a:lnTo>
                    <a:pt x="1745" y="1055"/>
                  </a:lnTo>
                  <a:lnTo>
                    <a:pt x="1844" y="1025"/>
                  </a:lnTo>
                  <a:lnTo>
                    <a:pt x="1971" y="1000"/>
                  </a:lnTo>
                  <a:lnTo>
                    <a:pt x="2223" y="913"/>
                  </a:lnTo>
                  <a:lnTo>
                    <a:pt x="2351" y="884"/>
                  </a:lnTo>
                  <a:lnTo>
                    <a:pt x="2501" y="828"/>
                  </a:lnTo>
                  <a:lnTo>
                    <a:pt x="2501" y="768"/>
                  </a:lnTo>
                  <a:lnTo>
                    <a:pt x="2475" y="768"/>
                  </a:lnTo>
                  <a:lnTo>
                    <a:pt x="2351" y="828"/>
                  </a:lnTo>
                  <a:lnTo>
                    <a:pt x="2223" y="854"/>
                  </a:lnTo>
                  <a:lnTo>
                    <a:pt x="1971" y="939"/>
                  </a:lnTo>
                  <a:lnTo>
                    <a:pt x="1844" y="969"/>
                  </a:lnTo>
                  <a:lnTo>
                    <a:pt x="1719" y="1000"/>
                  </a:lnTo>
                  <a:lnTo>
                    <a:pt x="1617" y="1025"/>
                  </a:lnTo>
                  <a:lnTo>
                    <a:pt x="1515" y="1055"/>
                  </a:lnTo>
                  <a:lnTo>
                    <a:pt x="1416" y="1085"/>
                  </a:lnTo>
                  <a:lnTo>
                    <a:pt x="1314" y="1111"/>
                  </a:lnTo>
                  <a:lnTo>
                    <a:pt x="1113" y="1141"/>
                  </a:lnTo>
                  <a:lnTo>
                    <a:pt x="1036" y="1170"/>
                  </a:lnTo>
                  <a:lnTo>
                    <a:pt x="857" y="1200"/>
                  </a:lnTo>
                  <a:lnTo>
                    <a:pt x="707" y="1226"/>
                  </a:lnTo>
                  <a:lnTo>
                    <a:pt x="631" y="1226"/>
                  </a:lnTo>
                  <a:lnTo>
                    <a:pt x="529" y="1256"/>
                  </a:lnTo>
                  <a:lnTo>
                    <a:pt x="153" y="1256"/>
                  </a:lnTo>
                  <a:lnTo>
                    <a:pt x="102" y="1226"/>
                  </a:lnTo>
                  <a:lnTo>
                    <a:pt x="76" y="1226"/>
                  </a:lnTo>
                  <a:lnTo>
                    <a:pt x="76" y="1200"/>
                  </a:lnTo>
                  <a:lnTo>
                    <a:pt x="51" y="1200"/>
                  </a:lnTo>
                  <a:lnTo>
                    <a:pt x="76" y="1170"/>
                  </a:lnTo>
                  <a:lnTo>
                    <a:pt x="76" y="1141"/>
                  </a:lnTo>
                  <a:lnTo>
                    <a:pt x="102" y="1111"/>
                  </a:lnTo>
                  <a:lnTo>
                    <a:pt x="102" y="1085"/>
                  </a:lnTo>
                  <a:lnTo>
                    <a:pt x="175" y="1000"/>
                  </a:lnTo>
                  <a:lnTo>
                    <a:pt x="226" y="969"/>
                  </a:lnTo>
                  <a:lnTo>
                    <a:pt x="251" y="939"/>
                  </a:lnTo>
                  <a:lnTo>
                    <a:pt x="328" y="884"/>
                  </a:lnTo>
                  <a:lnTo>
                    <a:pt x="379" y="828"/>
                  </a:lnTo>
                  <a:lnTo>
                    <a:pt x="430" y="798"/>
                  </a:lnTo>
                  <a:lnTo>
                    <a:pt x="503" y="743"/>
                  </a:lnTo>
                  <a:lnTo>
                    <a:pt x="631" y="657"/>
                  </a:lnTo>
                  <a:lnTo>
                    <a:pt x="682" y="628"/>
                  </a:lnTo>
                  <a:lnTo>
                    <a:pt x="908" y="487"/>
                  </a:lnTo>
                  <a:lnTo>
                    <a:pt x="1186" y="315"/>
                  </a:lnTo>
                  <a:lnTo>
                    <a:pt x="1289" y="255"/>
                  </a:lnTo>
                  <a:lnTo>
                    <a:pt x="1391" y="200"/>
                  </a:lnTo>
                  <a:lnTo>
                    <a:pt x="1490" y="140"/>
                  </a:lnTo>
                  <a:lnTo>
                    <a:pt x="1592" y="55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321000" y="5662440"/>
              <a:ext cx="128880" cy="117720"/>
            </a:xfrm>
            <a:custGeom>
              <a:avLst/>
              <a:gdLst/>
              <a:ahLst/>
              <a:rect l="0" t="0" r="r" b="b"/>
              <a:pathLst>
                <a:path w="358" h="327">
                  <a:moveTo>
                    <a:pt x="0" y="0"/>
                  </a:moveTo>
                  <a:lnTo>
                    <a:pt x="358" y="88"/>
                  </a:lnTo>
                  <a:lnTo>
                    <a:pt x="51" y="327"/>
                  </a:lnTo>
                  <a:lnTo>
                    <a:pt x="128" y="1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ff"/>
            </a:solidFill>
            <a:ln w="12600">
              <a:solidFill>
                <a:srgbClr val="ff00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5222880" y="3036960"/>
            <a:ext cx="697320" cy="576720"/>
            <a:chOff x="5222880" y="3036960"/>
            <a:chExt cx="697320" cy="576720"/>
          </a:xfrm>
        </p:grpSpPr>
        <p:sp>
          <p:nvSpPr>
            <p:cNvPr id="386" name=""/>
            <p:cNvSpPr/>
            <p:nvPr/>
          </p:nvSpPr>
          <p:spPr>
            <a:xfrm>
              <a:off x="5249880" y="3036960"/>
              <a:ext cx="670320" cy="576720"/>
            </a:xfrm>
            <a:custGeom>
              <a:avLst/>
              <a:gdLst/>
              <a:ahLst/>
              <a:rect l="0" t="0" r="r" b="b"/>
              <a:pathLst>
                <a:path w="1862" h="1602">
                  <a:moveTo>
                    <a:pt x="677" y="1534"/>
                  </a:moveTo>
                  <a:lnTo>
                    <a:pt x="677" y="1602"/>
                  </a:lnTo>
                  <a:lnTo>
                    <a:pt x="696" y="1602"/>
                  </a:lnTo>
                  <a:lnTo>
                    <a:pt x="772" y="1498"/>
                  </a:lnTo>
                  <a:lnTo>
                    <a:pt x="846" y="1430"/>
                  </a:lnTo>
                  <a:lnTo>
                    <a:pt x="921" y="1357"/>
                  </a:lnTo>
                  <a:lnTo>
                    <a:pt x="997" y="1289"/>
                  </a:lnTo>
                  <a:lnTo>
                    <a:pt x="1204" y="1080"/>
                  </a:lnTo>
                  <a:lnTo>
                    <a:pt x="1372" y="903"/>
                  </a:lnTo>
                  <a:lnTo>
                    <a:pt x="1411" y="835"/>
                  </a:lnTo>
                  <a:lnTo>
                    <a:pt x="1504" y="730"/>
                  </a:lnTo>
                  <a:lnTo>
                    <a:pt x="1561" y="694"/>
                  </a:lnTo>
                  <a:lnTo>
                    <a:pt x="1599" y="626"/>
                  </a:lnTo>
                  <a:lnTo>
                    <a:pt x="1637" y="590"/>
                  </a:lnTo>
                  <a:lnTo>
                    <a:pt x="1694" y="485"/>
                  </a:lnTo>
                  <a:lnTo>
                    <a:pt x="1732" y="454"/>
                  </a:lnTo>
                  <a:lnTo>
                    <a:pt x="1843" y="245"/>
                  </a:lnTo>
                  <a:lnTo>
                    <a:pt x="1843" y="208"/>
                  </a:lnTo>
                  <a:lnTo>
                    <a:pt x="1862" y="172"/>
                  </a:lnTo>
                  <a:lnTo>
                    <a:pt x="1862" y="135"/>
                  </a:lnTo>
                  <a:lnTo>
                    <a:pt x="1843" y="67"/>
                  </a:lnTo>
                  <a:lnTo>
                    <a:pt x="1824" y="67"/>
                  </a:lnTo>
                  <a:lnTo>
                    <a:pt x="1805" y="31"/>
                  </a:lnTo>
                  <a:lnTo>
                    <a:pt x="1786" y="31"/>
                  </a:lnTo>
                  <a:lnTo>
                    <a:pt x="1748" y="0"/>
                  </a:lnTo>
                  <a:lnTo>
                    <a:pt x="1468" y="0"/>
                  </a:lnTo>
                  <a:lnTo>
                    <a:pt x="1372" y="31"/>
                  </a:lnTo>
                  <a:lnTo>
                    <a:pt x="1315" y="31"/>
                  </a:lnTo>
                  <a:lnTo>
                    <a:pt x="1204" y="67"/>
                  </a:lnTo>
                  <a:lnTo>
                    <a:pt x="1090" y="104"/>
                  </a:lnTo>
                  <a:lnTo>
                    <a:pt x="1016" y="135"/>
                  </a:lnTo>
                  <a:lnTo>
                    <a:pt x="883" y="172"/>
                  </a:lnTo>
                  <a:lnTo>
                    <a:pt x="808" y="208"/>
                  </a:lnTo>
                  <a:lnTo>
                    <a:pt x="734" y="245"/>
                  </a:lnTo>
                  <a:lnTo>
                    <a:pt x="658" y="276"/>
                  </a:lnTo>
                  <a:lnTo>
                    <a:pt x="563" y="312"/>
                  </a:lnTo>
                  <a:lnTo>
                    <a:pt x="489" y="349"/>
                  </a:lnTo>
                  <a:lnTo>
                    <a:pt x="394" y="380"/>
                  </a:lnTo>
                  <a:lnTo>
                    <a:pt x="206" y="485"/>
                  </a:lnTo>
                  <a:lnTo>
                    <a:pt x="111" y="522"/>
                  </a:lnTo>
                  <a:lnTo>
                    <a:pt x="0" y="590"/>
                  </a:lnTo>
                  <a:lnTo>
                    <a:pt x="0" y="663"/>
                  </a:lnTo>
                  <a:lnTo>
                    <a:pt x="18" y="663"/>
                  </a:lnTo>
                  <a:lnTo>
                    <a:pt x="111" y="590"/>
                  </a:lnTo>
                  <a:lnTo>
                    <a:pt x="206" y="558"/>
                  </a:lnTo>
                  <a:lnTo>
                    <a:pt x="394" y="454"/>
                  </a:lnTo>
                  <a:lnTo>
                    <a:pt x="489" y="418"/>
                  </a:lnTo>
                  <a:lnTo>
                    <a:pt x="582" y="380"/>
                  </a:lnTo>
                  <a:lnTo>
                    <a:pt x="658" y="349"/>
                  </a:lnTo>
                  <a:lnTo>
                    <a:pt x="734" y="312"/>
                  </a:lnTo>
                  <a:lnTo>
                    <a:pt x="808" y="276"/>
                  </a:lnTo>
                  <a:lnTo>
                    <a:pt x="883" y="245"/>
                  </a:lnTo>
                  <a:lnTo>
                    <a:pt x="1033" y="208"/>
                  </a:lnTo>
                  <a:lnTo>
                    <a:pt x="1090" y="172"/>
                  </a:lnTo>
                  <a:lnTo>
                    <a:pt x="1223" y="135"/>
                  </a:lnTo>
                  <a:lnTo>
                    <a:pt x="1334" y="104"/>
                  </a:lnTo>
                  <a:lnTo>
                    <a:pt x="1391" y="104"/>
                  </a:lnTo>
                  <a:lnTo>
                    <a:pt x="1468" y="67"/>
                  </a:lnTo>
                  <a:lnTo>
                    <a:pt x="1748" y="67"/>
                  </a:lnTo>
                  <a:lnTo>
                    <a:pt x="1786" y="104"/>
                  </a:lnTo>
                  <a:lnTo>
                    <a:pt x="1805" y="104"/>
                  </a:lnTo>
                  <a:lnTo>
                    <a:pt x="1805" y="135"/>
                  </a:lnTo>
                  <a:lnTo>
                    <a:pt x="1824" y="135"/>
                  </a:lnTo>
                  <a:lnTo>
                    <a:pt x="1805" y="172"/>
                  </a:lnTo>
                  <a:lnTo>
                    <a:pt x="1805" y="208"/>
                  </a:lnTo>
                  <a:lnTo>
                    <a:pt x="1786" y="245"/>
                  </a:lnTo>
                  <a:lnTo>
                    <a:pt x="1786" y="276"/>
                  </a:lnTo>
                  <a:lnTo>
                    <a:pt x="1732" y="380"/>
                  </a:lnTo>
                  <a:lnTo>
                    <a:pt x="1694" y="418"/>
                  </a:lnTo>
                  <a:lnTo>
                    <a:pt x="1675" y="454"/>
                  </a:lnTo>
                  <a:lnTo>
                    <a:pt x="1618" y="522"/>
                  </a:lnTo>
                  <a:lnTo>
                    <a:pt x="1580" y="590"/>
                  </a:lnTo>
                  <a:lnTo>
                    <a:pt x="1542" y="626"/>
                  </a:lnTo>
                  <a:lnTo>
                    <a:pt x="1487" y="694"/>
                  </a:lnTo>
                  <a:lnTo>
                    <a:pt x="1391" y="798"/>
                  </a:lnTo>
                  <a:lnTo>
                    <a:pt x="1353" y="835"/>
                  </a:lnTo>
                  <a:lnTo>
                    <a:pt x="1185" y="1007"/>
                  </a:lnTo>
                  <a:lnTo>
                    <a:pt x="978" y="1216"/>
                  </a:lnTo>
                  <a:lnTo>
                    <a:pt x="902" y="1289"/>
                  </a:lnTo>
                  <a:lnTo>
                    <a:pt x="827" y="1357"/>
                  </a:lnTo>
                  <a:lnTo>
                    <a:pt x="753" y="1430"/>
                  </a:lnTo>
                  <a:lnTo>
                    <a:pt x="677" y="1534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222880" y="3179880"/>
              <a:ext cx="95760" cy="143280"/>
            </a:xfrm>
            <a:custGeom>
              <a:avLst/>
              <a:gdLst/>
              <a:ahLst/>
              <a:rect l="0" t="0" r="r" b="b"/>
              <a:pathLst>
                <a:path w="266" h="398">
                  <a:moveTo>
                    <a:pt x="266" y="398"/>
                  </a:moveTo>
                  <a:lnTo>
                    <a:pt x="0" y="290"/>
                  </a:lnTo>
                  <a:lnTo>
                    <a:pt x="228" y="0"/>
                  </a:lnTo>
                  <a:lnTo>
                    <a:pt x="170" y="215"/>
                  </a:lnTo>
                  <a:lnTo>
                    <a:pt x="266" y="398"/>
                  </a:lnTo>
                  <a:close/>
                </a:path>
              </a:pathLst>
            </a:custGeom>
            <a:solidFill>
              <a:srgbClr val="ff00ff"/>
            </a:solidFill>
            <a:ln w="12600">
              <a:solidFill>
                <a:srgbClr val="ff00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"/>
          <p:cNvSpPr txBox="1"/>
          <p:nvPr/>
        </p:nvSpPr>
        <p:spPr>
          <a:xfrm>
            <a:off x="2433600" y="2502000"/>
            <a:ext cx="119052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uccessfu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uthent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992840" y="2387520"/>
            <a:ext cx="107460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lass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ra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5818320" y="3327480"/>
            <a:ext cx="8334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lass 1 &amp;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ra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1957320" y="5187960"/>
            <a:ext cx="81288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lass 1, 2 &amp;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ra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5381640" y="1855800"/>
            <a:ext cx="2175120" cy="3664440"/>
            <a:chOff x="5381640" y="1855800"/>
            <a:chExt cx="2175120" cy="3664440"/>
          </a:xfrm>
        </p:grpSpPr>
        <p:sp>
          <p:nvSpPr>
            <p:cNvPr id="393" name=""/>
            <p:cNvSpPr/>
            <p:nvPr/>
          </p:nvSpPr>
          <p:spPr>
            <a:xfrm>
              <a:off x="5452920" y="1919160"/>
              <a:ext cx="2103840" cy="2048400"/>
            </a:xfrm>
            <a:custGeom>
              <a:avLst/>
              <a:gdLst/>
              <a:ahLst/>
              <a:rect l="0" t="0" r="r" b="b"/>
              <a:pathLst>
                <a:path fill="none" w="5844" h="5690">
                  <a:moveTo>
                    <a:pt x="5844" y="5690"/>
                  </a:moveTo>
                  <a:lnTo>
                    <a:pt x="5844" y="5690"/>
                  </a:lnTo>
                  <a:lnTo>
                    <a:pt x="5844" y="5690"/>
                  </a:lnTo>
                  <a:cubicBezTo>
                    <a:pt x="5844" y="4691"/>
                    <a:pt x="5574" y="3710"/>
                    <a:pt x="5061" y="2845"/>
                  </a:cubicBezTo>
                  <a:cubicBezTo>
                    <a:pt x="4548" y="1980"/>
                    <a:pt x="3810" y="1262"/>
                    <a:pt x="2922" y="762"/>
                  </a:cubicBezTo>
                  <a:cubicBezTo>
                    <a:pt x="2034" y="263"/>
                    <a:pt x="1026" y="0"/>
                    <a:pt x="0" y="0"/>
                  </a:cubicBezTo>
                </a:path>
              </a:pathLst>
            </a:custGeom>
            <a:ln w="12600">
              <a:solidFill>
                <a:srgbClr val="ff00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381640" y="3967200"/>
              <a:ext cx="2173680" cy="1553040"/>
            </a:xfrm>
            <a:custGeom>
              <a:avLst/>
              <a:gdLst/>
              <a:ahLst/>
              <a:rect l="0" t="0" r="r" b="b"/>
              <a:pathLst>
                <a:path fill="none" w="6038" h="4314">
                  <a:moveTo>
                    <a:pt x="0" y="4314"/>
                  </a:moveTo>
                  <a:lnTo>
                    <a:pt x="0" y="4314"/>
                  </a:lnTo>
                  <a:cubicBezTo>
                    <a:pt x="1060" y="4314"/>
                    <a:pt x="2101" y="4115"/>
                    <a:pt x="3019" y="3736"/>
                  </a:cubicBezTo>
                  <a:cubicBezTo>
                    <a:pt x="3937" y="3357"/>
                    <a:pt x="4699" y="2813"/>
                    <a:pt x="5229" y="2157"/>
                  </a:cubicBezTo>
                  <a:cubicBezTo>
                    <a:pt x="5759" y="1501"/>
                    <a:pt x="6038" y="757"/>
                    <a:pt x="6038" y="0"/>
                  </a:cubicBezTo>
                </a:path>
              </a:pathLst>
            </a:custGeom>
            <a:ln w="12600">
              <a:solidFill>
                <a:srgbClr val="ff00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423040" y="1855800"/>
              <a:ext cx="136800" cy="138600"/>
            </a:xfrm>
            <a:custGeom>
              <a:avLst/>
              <a:gdLst/>
              <a:ahLst/>
              <a:rect l="0" t="0" r="r" b="b"/>
              <a:pathLst>
                <a:path w="380" h="385">
                  <a:moveTo>
                    <a:pt x="380" y="385"/>
                  </a:moveTo>
                  <a:lnTo>
                    <a:pt x="0" y="212"/>
                  </a:lnTo>
                  <a:lnTo>
                    <a:pt x="380" y="0"/>
                  </a:lnTo>
                  <a:lnTo>
                    <a:pt x="265" y="212"/>
                  </a:lnTo>
                  <a:lnTo>
                    <a:pt x="380" y="385"/>
                  </a:lnTo>
                  <a:close/>
                </a:path>
              </a:pathLst>
            </a:custGeom>
            <a:solidFill>
              <a:srgbClr val="ff00ff"/>
            </a:solidFill>
            <a:ln w="12600">
              <a:solidFill>
                <a:srgbClr val="ff00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"/>
          <p:cNvSpPr txBox="1"/>
          <p:nvPr/>
        </p:nvSpPr>
        <p:spPr>
          <a:xfrm>
            <a:off x="6345360" y="1841400"/>
            <a:ext cx="152100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Authent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2558880" y="4135320"/>
            <a:ext cx="117792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uccessf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ssoci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875120" y="4297320"/>
            <a:ext cx="137304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sassocai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t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STA State vs frame ty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ss 1 frames (any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Legal from within States 1, 2 and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ontrol Fr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gt Fr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robe R/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Beac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Success enables Class 2 fram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Failure leaves STA in State 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Terminology problem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 loose english concepts of “within a BSS”, “within an ESS”, “a member of a BSS”, “associated” and “in the same physical volume” have been used interchangeab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his has caused much confusion among me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here are several of these cases depending on how the loose terms are interpre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STA State vs frame ty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tate 1 -&gt; 2 tran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Successful Authentication frames sequence transitions to state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STA State vs frame ty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ss 2 frames (IFF Authenticat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Legal from within States 1, 2 and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Data fr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sync 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Direct only NOT to/from 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gt fr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T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ssociation R/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Success enables Class 3 fram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Failure leaves STA in state 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STA State vs frame ty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tate 2 -&gt; 3 transition fr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Successful Association frames sequence transitions to state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STA State vs frame ty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990720" y="132876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ss 3 frames (IFF Associat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Legal from within States 1, 2 and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Data fr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sync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Direct and indirect allow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gt fr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rivacy R/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eassociation R/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Dissa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ontinued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STA State vs frame ty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990720" y="132552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ss 3 frames (IFF Associat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F Fr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F Data fram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CF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CF DATA + 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F Control fr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CF 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STA State vs frame ty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tate 3 -&gt; 2 transition fr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Dissasociation: STA now Unassociated, so back to state 2 and Class 2 fra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STA State vs frame ty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tate 2 or 3 -&gt; 1 transition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urrent draft assumes Authentication is aged during inactive perio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his can result in “disauthentication” as an error respon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Disauthenticaion =&gt; Disassocaition, so is back to State 1 and Class 1 fra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(As shown in B3 state diagram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onclusio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tion: That in order to provide WDS support, the extensions and corrections to B3 contained in 94/248 and 94/248A be adopted and that the changes be incoroprated into draft B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Let’s get more formal in terminolog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ddr(sta) == 802.11 MAC address of a 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his can only be a wireless medium address as that is the only address space used by 802.1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his notation is for 802.11 st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his covers both STAs and APs, since APs are addressable STAs within the 802.11 MAC address sp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Saddr(sta) == the DS address of an A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his is the address used by the DS to address the </a:t>
            </a:r>
            <a:r>
              <a:rPr b="1" lang="en-US" sz="18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DS side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 of an A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he details of the DS address space are dependent on the DS implementation and outside the scope of 802.1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he single DS implementation that 802.11 impacts is when a DS is implemented using an 802.11 wireless medi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