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11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CF priority analyses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BF8EA8BB-D98F-4874-A481-AE7AA57B6A1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Access analy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200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es of Priority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 AT&amp;T-GIS (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P may jam the Ac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04840" y="3559320"/>
            <a:ext cx="7577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P impact of the “Hidden node problem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P may jam the Ack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re CSMA/CA has lower jam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olution: HPIFS should be &gt; SIFS+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shows the unsynchronized PrP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cause leakage between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7680" y="1533600"/>
            <a:ext cx="6638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decrease Ack vulner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47880" y="4645080"/>
            <a:ext cx="71629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PrP overlap increases HPIFS about 6 slots, and decrease LPIFS with 8 (at 50% CW overl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Ack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5200" y="1492200"/>
            <a:ext cx="85248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TBS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3040" y="1649520"/>
            <a:ext cx="77198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standard should support DTBS based on DCF priority access, as already concluded in the March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implementation method is still to be decided, and two alternatives have been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PrP based method has different characteristics compared to the original doc 58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lutions of the identified problems have been found, but need further specification and simulation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lated issue’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0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we support one or both TBS methods in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nly DT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the priority mechanism be opt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he priority should be considered a fixed part of the non-optional D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DTBS be an optional or standard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functions need further specification to support DT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oS I/F, “Time_to_Live” function, HP mon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ditional DTBS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6320" y="1530360"/>
            <a:ext cx="74055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oS based interface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e_to_Live” parameter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Priority Load monitoring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we need to standardize Queue ordering functions, or is this an implementation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an implementation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ssible DTBS I/F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9120" y="4459320"/>
            <a:ext cx="8134200" cy="12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ssible TBS-LLC could have Header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. Delay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ard parameter (to allow drop of frame that experienced a too long delay, and allow recovery of timing in the receiv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08200" y="1547640"/>
            <a:ext cx="7500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verage Delay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00280" y="2058840"/>
            <a:ext cx="77151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priority difference when load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30280" y="1509840"/>
            <a:ext cx="6502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only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difference at low Loads, minor impact during higher loads, showing lower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1000" y="1565280"/>
            <a:ext cx="6634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1830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 msec max delay can be met even in high priority overload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4040" y="1601640"/>
            <a:ext cx="6265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76440" y="1647720"/>
            <a:ext cx="6134040" cy="359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848040" y="2668680"/>
            <a:ext cx="35622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from .05-3.05 in steps of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5335560"/>
            <a:ext cx="7067520" cy="6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Low and High Priority traffic load increases in this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 adopted in Mar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d a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 B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service functionality to the Foundation MAC and to determine  by the end of the May meeting whether  one or both of the TBS’s will remain in th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754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 traffic gets high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1240" y="1352520"/>
            <a:ext cx="7380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44560" y="8431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 Bounded Alterna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6304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protocol defines optional PCF to support Time B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mitation due to PCF overlap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limits larger instal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evant for current and future frequency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1.9 GHz PCS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potential 5.2 GHz band (HIPERL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for reservation based “Time Bounded” Servic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Distributed Time Bounded Service (DTBS) using priority access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BS voice 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7080" y="4687920"/>
            <a:ext cx="7853400" cy="12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ay variance is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variable transfer delay up to a given maximum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ing can be restored in the receiver using a Fi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3600" y="1495440"/>
            <a:ext cx="77630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28880" y="1563840"/>
            <a:ext cx="716292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No overlap limi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for all priority levels to support “Bursty”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probability distribution for High Priority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delay limit for DTBS acceptable to support Voic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30 msec frame times should be accep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er delays acceptable for local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Low Priority only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lay and throughput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in CSMA/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5316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only” efficiency issue identified, but does not show up significantly in the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5040" y="1508040"/>
            <a:ext cx="7174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lternative Priority sch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09800" y="4249800"/>
            <a:ext cx="712476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HP stations signal their precence by generating the “Priority request Pulse” (P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nly a long LPIFS when High Priority traffic i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ves delay and throughput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4400" y="1523880"/>
            <a:ext cx="66913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P based Priority sch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04760" y="5502240"/>
            <a:ext cx="71913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 “LP-only” delay, higher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5240" y="1511280"/>
            <a:ext cx="7345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Other PrP method issue’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19160" y="1630440"/>
            <a:ext cx="73198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P method requires synchronization between all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generate and recognise the P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 antenna slotting needs to be synchro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o Rx-Tx turnaround times, and “CCA-off detection” implementations, so more critical PH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mplex access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not all stations see “Data and Ack”, then they generate and expect the PrP at different times, so impacting the priority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