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990720" y="533520"/>
            <a:ext cx="71629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March 1994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IEEE P802.11-94/58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09480" y="60958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984240" y="6173640"/>
            <a:ext cx="717696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TBS proposal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ide:</a:t>
            </a:r>
            <a:fld id="{0D100F2C-1787-434B-82F1-C3EE4F33D043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0120" y="1457280"/>
            <a:ext cx="79437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New Foundation functionalit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tributed Time Bounded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vid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CF with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m Diepstraten AT&amp;T-GIS (NC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Delay Distrib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71640" y="18302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 msec max delay can be met even in high priority overload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54040" y="1601640"/>
            <a:ext cx="62658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More Delay Distrib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76440" y="1647720"/>
            <a:ext cx="6134040" cy="3591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848040" y="2668680"/>
            <a:ext cx="356220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from .05-3.05 in steps of 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219320" y="5335560"/>
            <a:ext cx="7067520" cy="6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Low and High Priority traffic load increases in this sim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Throughp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90720" y="17542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 priority traffic gets higher through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11240" y="1352520"/>
            <a:ext cx="738036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Throughput impac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14400" y="1697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nimal impact for 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Priority on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78040" y="1352520"/>
            <a:ext cx="730404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Independent priority ca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y similar priority behavi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36800" y="1565280"/>
            <a:ext cx="70628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Impact on “Low Priority” onl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90720" y="1849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at higher loads causing somewhat lower Through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65200" y="1542960"/>
            <a:ext cx="62056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HP Delay Distrib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90720" y="17733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y similar performance despite incomplete priority sepa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35240" y="1563840"/>
            <a:ext cx="64659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LP Delay Distrib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what different profile at high lo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79600" y="1536840"/>
            <a:ext cx="617688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Repetitive High Priority Loa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ice traffic is not “Burs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etitive Connection oriented traffic is a fixed L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ption is that High Priority Load is limi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xed High Priority Load 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3 (simplex) Voice channels (32 Kbps ADP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ming period of 30 msec (120 Bytes / fr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more evaluation to determine effect as function of High Priority Load, and at different Framing peri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Fixed load characteristic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887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xed 120 Byte high priority frame size at 30 msec frame interv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50800" y="1457280"/>
            <a:ext cx="62341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44560" y="8431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Time Bounded Alternativ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17733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undation protocol defines optional PCF to support Time Boun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mitation due to PCF overlap probl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limits larger instal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vant for current and future frequency b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speed in 1.9 GHz PCS b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speed in potential 5.2 GHz band (HIPERLA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ternative for reservation based “Time Bounded” Service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: Distributed Time Bounded Service (DTBS) using priority access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Fixed High Priority Loa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35040" y="1652760"/>
            <a:ext cx="6066000" cy="3848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257640" y="4992840"/>
            <a:ext cx="131436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= 12 m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13000" y="552780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er maximum delay limit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Low Priority Delay Distrib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impact on Low Priority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41280" y="1486080"/>
            <a:ext cx="665316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Howmany Priority level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71680" y="1849320"/>
            <a:ext cx="800100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two levels needed to distinct Asynchronous from DTBS traf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makes much sense to have different priority levels between stations and AP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 will typically handle large percentage of the total traff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 priority levels can be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priorit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PIFS = 2, HPcw = 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For DT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um priorit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PIFS = 2+16, MPcw = 32   For Async 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 priorit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PIFS = 2+16, LPcw=6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For Async s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s can manage their Queue’s such that the DTBS Queue can given higher access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How to use Priorit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71640" y="1735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Quality-of-Service (QoS) para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oS to contain a 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x. transfer del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Async traffic this can be set to “MAX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DTBS it can be set to the desir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x. Transfer Del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to translate QoS into Priority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QoS is anything  other then “MAX.”, then the MAC could put the QoS value in a 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_to_L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 element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 could maintain this by substracting the actual transfer delay that the frame experienced in the MAC + Me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TBS to use the Asynchronous frame forma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Possible DTBS I/F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76280" y="4802040"/>
            <a:ext cx="8134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possible TBS-LLC could have Header contai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x. Delay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card parameter (to allow drop of frame that experienced a too long delay, and allow recovery of timing in the receiver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08200" y="1719360"/>
            <a:ext cx="75009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Conclus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71680" y="163980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TBS based on DCF with priority does not have an overlapping network lim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CSMA/CA priority can be controlled by 3 access protocol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 priority levels can be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priorit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PIFS  = 2, HPcw = 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For DT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um priorit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PIFS = 2+16, MPcw = 32   For Async 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 priorit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PIFS  = 2+16, LPcw=6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For Async s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QoS based  I/F can be def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“Time_to_Live” parameter could be maintained in the M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Mo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add a 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tributed Time  Bound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” service functionality to the Foundation MAC and to determine  by the end of the May meeting whether  one or both of the TBS’s will remain in the stand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Mo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90400" y="1887480"/>
            <a:ext cx="79628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add a “priority access mechanism” to the DCF of the 802.11 MA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Mo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use the mechanisms proposed in doc P802.11-94/58 as a basis for the “priority access mechanism” to be included in the DCF, and to further investigate its sensitivity to relevant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TBS voice Applic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14440" y="188748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lay variance is less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variable transfer delay up to a given maximum is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ing can be restored in the receiver using a FiF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93720" y="1509840"/>
            <a:ext cx="776304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Required Characteristic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28880" y="15638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No overlap limi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tween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ynchron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TB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transfer delay for all priority levels to support “Bursty” traf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transfer delay probability distribution for High Priority traf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ximum delay limit for DTBS acceptable to support Voice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-30 msec frame times should be accep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nger delays acceptable for local conn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impact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Low Priority only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elay and throughput characteris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How to provide priorit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23960" y="1601640"/>
            <a:ext cx="76201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t IFS values per priority (HPIFS&lt;LPIF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 priority traffic will defer earl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 priority will decrease Back-off delay later compared to high priority traff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independence between priority levels possible but not necess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t Contention Window (CW) values per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selected Back-off delay will depend on CW-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t CW  increase policies per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W can be constant or even decrease for retransmi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ad of High Priority traffic should best be limi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Priority in CSMA/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43040" y="1830240"/>
            <a:ext cx="7658280" cy="40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need differentiation in existing CSMA/CA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19160" y="1503360"/>
            <a:ext cx="71740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Simulation approac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90720" y="1639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parameter sets analyz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PIFS=HPIFS + 16,  LPcw = 64,  HPcw = 32 s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PIFS=HPIFS + 32,  LPcw = 32,  HPcw = 32 s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me length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0% Short (64 Bytes) and 40% Long (576 Byt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High and 6 Low priority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mulations as function of L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racteristics analyz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delay with and without High Priority l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ay distribution per priority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delay impact for “Low Priority only” (compared to LPIFS=HPIFS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Average Delay performanc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00280" y="2058840"/>
            <a:ext cx="771516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ificant priority difference when load incr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30280" y="1509840"/>
            <a:ext cx="650232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Low Priority only impac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849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difference at low Loads, minor impact during higher loads, showing lower Through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51000" y="1565280"/>
            <a:ext cx="66340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