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3640" y="174600"/>
            <a:ext cx="1216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606920" y="174600"/>
            <a:ext cx="211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4/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09960" y="8732880"/>
            <a:ext cx="687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CF08F8C4-7ECA-439D-BBF2-6768083E8099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8732880"/>
            <a:ext cx="207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Diagram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4572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7631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035600" y="8732880"/>
            <a:ext cx="268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, Advanced Micro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7200" y="2498760"/>
            <a:ext cx="6338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802.11 Wireless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0920" y="7489800"/>
            <a:ext cx="2451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icro Devices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bob.ohara@am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33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9960" y="2163600"/>
            <a:ext cx="5654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hope abandon, ye who enter 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17840" y="5440320"/>
            <a:ext cx="1913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nte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5638680" cy="76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municating state machines for the asynchronous portion of th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additional resources (timer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cu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with this protocol is that transition X fails because 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fix this by changing P into Q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 more form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 base for fur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ime-bounded and contention-fre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ccess poi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independent simulation, analysis and critique of a comm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suggestion to pro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what i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iz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2209680"/>
            <a:ext cx="342900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62720"/>
            <a:ext cx="220968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5562720"/>
            <a:ext cx="3048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371600" y="3505320"/>
            <a:ext cx="83808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86000" y="3505320"/>
            <a:ext cx="30492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733920" y="3505320"/>
            <a:ext cx="15228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95680" y="487692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676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35053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24280" y="6705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57800" y="48769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505320"/>
            <a:ext cx="22860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800600" y="3505320"/>
            <a:ext cx="22860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343400"/>
            <a:ext cx="6858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343400"/>
            <a:ext cx="60948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267080" y="3505320"/>
            <a:ext cx="15264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81320" y="4510080"/>
            <a:ext cx="677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79880" y="451008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625840" y="2689200"/>
            <a:ext cx="1913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68400" y="6041880"/>
            <a:ext cx="203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56200" y="6041880"/>
            <a:ext cx="190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84240" y="329076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04840" y="55767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01680" y="1461960"/>
            <a:ext cx="97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76560" y="7710480"/>
            <a:ext cx="5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62480" y="76341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_recei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83080" y="5576760"/>
            <a:ext cx="9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68960" y="5576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59520" y="557676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91080" y="329076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14880" y="4357800"/>
            <a:ext cx="438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74800" y="73836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16040" y="8472600"/>
            <a:ext cx="1465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Data path is not show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5880" y="16765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65600" y="5576760"/>
            <a:ext cx="1062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Recogniz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295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295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12952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7524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752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91120" y="3200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8120" y="3200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32004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8080" y="3200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77880" y="15382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16240" y="153828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9880" y="1538280"/>
            <a:ext cx="598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 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1960" y="29862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59000" y="2986200"/>
            <a:ext cx="996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body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82680" y="2986200"/>
            <a:ext cx="663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6676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00080" y="2986200"/>
            <a:ext cx="895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mble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1520" y="89856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29000" y="90648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98920" y="90648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Start Delim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99160" y="906480"/>
            <a:ext cx="7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672000" y="2430360"/>
            <a:ext cx="103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28800" y="2430360"/>
            <a:ext cx="63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7760" y="2430360"/>
            <a:ext cx="928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6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st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9560" y="585720"/>
            <a:ext cx="255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1240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680" y="3581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1520" y="89856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244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81520" y="898560"/>
            <a:ext cx="10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080" y="21337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676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90880" y="14619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_recei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68680" y="191916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_error | Format_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46483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6172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7543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38080" y="380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352680" y="5105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8080" y="5334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352680" y="80010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38080" y="6858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52680" y="632448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38080" y="8229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78200" y="273528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78200" y="425916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1720" y="5783400"/>
            <a:ext cx="96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60560" y="7155000"/>
            <a:ext cx="984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16320" y="3367080"/>
            <a:ext cx="101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16320" y="4890960"/>
            <a:ext cx="101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173480" y="61102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685800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086360" y="6643800"/>
            <a:ext cx="1201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Unit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03720" y="778680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33440" y="662040"/>
            <a:ext cx="23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55720" y="3824280"/>
            <a:ext cx="7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5720" y="5348160"/>
            <a:ext cx="7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51040" y="687240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41320" y="824400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8080" y="3276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38080" y="4800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38080" y="63244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8080" y="7696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71720" y="3290760"/>
            <a:ext cx="21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= 0, Update NAV, Start R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49360" y="481500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 = 0, Update 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51040" y="633888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41320" y="771048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58960" y="3062160"/>
            <a:ext cx="749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59080" y="4586400"/>
            <a:ext cx="1349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39760" y="6110280"/>
            <a:ext cx="198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 | 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59080" y="7481880"/>
            <a:ext cx="1349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8960" y="3595680"/>
            <a:ext cx="749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87520" y="511956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36520" y="6643800"/>
            <a:ext cx="199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1 &amp; 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87520" y="801540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078440" y="359568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_ID = MPDU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02120" y="687240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_ID = MPDU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71760" y="1690560"/>
            <a:ext cx="176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, Reset 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25520" y="662040"/>
            <a:ext cx="240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1952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9907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200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76440" y="29862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73560" y="2986200"/>
            <a:ext cx="59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41520" y="59364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14760" y="2430360"/>
            <a:ext cx="97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49760" y="2430360"/>
            <a:ext cx="73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 W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37240" y="601560"/>
            <a:ext cx="7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W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990720"/>
            <a:ext cx="0" cy="7619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200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200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17524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9360" y="1363680"/>
            <a:ext cx="984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51040" y="2986200"/>
            <a:ext cx="22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ata_req &amp; Media Free DIFS &amp; Backoff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281560" y="29862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38080" y="121932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117960" y="10047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90720" y="1233360"/>
            <a:ext cx="32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= 0, CW = CWmin, Reset frame type flags, Stop ACK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411480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498920" y="3726000"/>
            <a:ext cx="1062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Fai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114800" y="420516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time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9200" y="4952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167440" y="4738680"/>
            <a:ext cx="793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time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38080" y="49528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367000" y="4738680"/>
            <a:ext cx="1212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&gt; Retry_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4320" y="4967280"/>
            <a:ext cx="362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failed = 1, Retry_cnt = 0, Reset NAV, CW = CWmin, Reset 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867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92280" y="5478480"/>
            <a:ext cx="957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ck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71800" y="617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357720" y="5958000"/>
            <a:ext cx="1211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y_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38080" y="61722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33480" y="6186600"/>
            <a:ext cx="19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 = min(2*CW, CWmax), Backoff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7010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72388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33720" y="6621480"/>
            <a:ext cx="97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24280" y="7024680"/>
            <a:ext cx="1471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&amp; Media Free S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38080" y="76960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54560" y="74818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7848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80773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30840" y="7459560"/>
            <a:ext cx="100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346640" y="78627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080" y="85345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68960" y="8319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410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3400" y="5195880"/>
            <a:ext cx="412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 | Tx_unitdata_req | Tx_data_req) &amp; Media not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01920" y="618660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= Retry_cnt +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9810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38080" y="23623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39960" y="1766880"/>
            <a:ext cx="422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 | Tx_unitdata_req) &amp; Media Free DIFS &amp; Backoff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71560" y="2147760"/>
            <a:ext cx="2401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) &amp; 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886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2096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33480" y="34434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&amp; No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95240" y="3900600"/>
            <a:ext cx="145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, RTS_timeou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5424480"/>
            <a:ext cx="1371600" cy="671400"/>
            <a:chOff x="838080" y="5424480"/>
            <a:chExt cx="1371600" cy="671400"/>
          </a:xfrm>
        </p:grpSpPr>
        <p:sp>
          <p:nvSpPr>
            <p:cNvPr id="232" name=""/>
            <p:cNvSpPr/>
            <p:nvPr/>
          </p:nvSpPr>
          <p:spPr>
            <a:xfrm>
              <a:off x="838080" y="5638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58672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209680" y="56386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085760" y="5424480"/>
              <a:ext cx="8762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off expi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182600" y="5881680"/>
              <a:ext cx="682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off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1200" y="6415200"/>
            <a:ext cx="1638360" cy="671400"/>
            <a:chOff x="781200" y="6415200"/>
            <a:chExt cx="1638360" cy="671400"/>
          </a:xfrm>
        </p:grpSpPr>
        <p:sp>
          <p:nvSpPr>
            <p:cNvPr id="238" name=""/>
            <p:cNvSpPr/>
            <p:nvPr/>
          </p:nvSpPr>
          <p:spPr>
            <a:xfrm>
              <a:off x="838080" y="66294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6858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6629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81200" y="6415200"/>
              <a:ext cx="16383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TS_flag &amp; Media not Free SIF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6240" y="6872400"/>
              <a:ext cx="755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TS_flag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 txBox="1"/>
          <p:nvPr/>
        </p:nvSpPr>
        <p:spPr>
          <a:xfrm>
            <a:off x="4138560" y="3214800"/>
            <a:ext cx="8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C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16400" y="8548560"/>
            <a:ext cx="666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267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495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0968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08000" y="4052880"/>
            <a:ext cx="1030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&amp;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62000" y="4510080"/>
            <a:ext cx="925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93640" y="1477800"/>
            <a:ext cx="56545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r" pos="5429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ey of a thousand miles must begin with a singl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o-t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