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480" y="406440"/>
            <a:ext cx="6629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240" y="8636040"/>
            <a:ext cx="6629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200" y="98280"/>
            <a:ext cx="1152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ch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937040" y="98280"/>
            <a:ext cx="23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4/3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2320" y="8734320"/>
            <a:ext cx="1260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879640" y="8734320"/>
            <a:ext cx="905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DEE0D07-A334-4718-9C29-0979DFCC925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937040" y="8734320"/>
            <a:ext cx="229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k Demange, 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93032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/ Reassembly at the 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57160" y="3962520"/>
            <a:ext cx="5143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Dem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Dat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Better Performance With Hidden &amp; Sleep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 System With RTS/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5200" y="3473280"/>
            <a:ext cx="518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Removes Constraints On Dwell/Superfram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Should Maximize Use Of Bandwidth In Each Hop Interval’ – January 1993 PHY Committee (Pas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Options To Achieve Above Goal – more details in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 Dwell/Superframe – No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s Long Dwells To Compensate For Wasted Bandwidth – Long Dwells Undesirable For Effective 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tched Dwell/Super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 Retransmission Rate Due To Unsynchronized Ho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not meet PHY Motion January 1993 “The hop rate shall be configurable in the MAC but fixed within a given BSA. It does not have to adapt.” PASS 20-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 Dwell/Superframe – With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ows Short Dwells Without Lost Bandwidth Pena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minates Unsynchronized Hopping And Its Drawb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minates Variation In Start Time Of Time Bounded Services Supper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Removes Constraints On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Dwell Duration with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Frames That Will Fit Within Current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ally Adjust Frame Length To Fully Utilize End Of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5800" y="4726080"/>
            <a:ext cx="61214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Of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43040" y="1930320"/>
            <a:ext cx="577224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In Fringe Areas (No Interference or Hidden S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 % Of Stations In Outer 5% of Coverag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Error Rate (FER) approximated from BER (1 * 10</a:t>
            </a:r>
            <a:r>
              <a:rPr b="1" lang="en-US" sz="1400" spc="-1" strike="noStrike" baseline="67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ected Bytes Transmitted per 1100 Byte 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14520" y="4346640"/>
            <a:ext cx="8077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Of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Not In Fringe Areas (No Interference or Hidden S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R of PHY Better Than 1 * 10</a:t>
            </a:r>
            <a:r>
              <a:rPr b="1" lang="en-US" sz="1800" spc="-1" strike="noStrike" baseline="67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ields FER &lt;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cted Throughput Typical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le Assumes Network Level Request-Reply protocol with 1100 byte packets, 100 byte acknowledgments, client response time of 3 ms., server response time of 3 ms., and MAC level windowing of frames. Table does not include effects of interfe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7560" y="5119560"/>
            <a:ext cx="6086520" cy="1714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936720" y="7531200"/>
            <a:ext cx="68756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ation yields less than 5 % degradation in performance at 1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ation yields less than 4% degradation in performance at 2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Of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tocol Must Ensure Control Of the Channel Is Mai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 Foundation MAC Provides A Mechanism To Provide Channe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nel Control With Wind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2160" y="5129280"/>
            <a:ext cx="4863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14440" y="1727280"/>
            <a:ext cx="588636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yload Of A Packet Shall Typically Be Some Fixed Number Of Bytes: (max_payload) (except when near the end of a dwel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yload Of A Packet Shall Typically Be Greater Than Some Fixed Number Of Bytes: (min_payload) (except when fewer than min_payload bytes are remaining in the pack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umber Of Bytes In A Payload Can Be Reduced From max_payload To Allow More Efficient Usage Of The Time Near The End Of A D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Data Packet Needs To Be Transmitted, The Number Of Bytes In The Payload Of A New Fragment Is Determ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Time Remaining In The Current Dw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Number Of Bytes In The Packet That Have Not Yet Been Transmitted For The First Ti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The Payload Of A Fragment Has Been Established, That Fragment Will Remain Fixed Until The Fragment Is Successfully Delivered To The Immediate Dest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Access Point Relaying A Packet Will Be Allowed To Re-Fragment The Pack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s Must Transmit Only If There Is Enough Time Remaining In The Dwell To Allow The Transmission Plus The Acknowledgment If One Is D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 Fragment Requires Retransmission Near The End Of A Dwell And There Is Not Enough Time Left For The Fragment Plus The Ack: The Device Must Defer Until The Next D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 Near Dwell Bound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7880" y="3552840"/>
            <a:ext cx="6032520" cy="1612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07800" y="5803920"/>
            <a:ext cx="8459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ximum Frame Size = 200 Bytes, Minimum Frame Size = 25 Bytes, MSDU of 385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 Near Dwell Boundary: (anothe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7880" y="3780000"/>
            <a:ext cx="6032520" cy="154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9200" y="6108840"/>
            <a:ext cx="8459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ximum Frame Size = 200 Bytes, Minimum Frame Size = 25 Bytes, MSDU of 585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undation MAC doesn’t specify fragmenta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enhances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in presence of microwave o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with hidden stations within B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optimal hopping FH PH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or Eliminate Variation in Start of Time Bounded Services Super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ors believe MAC without fragmentation is a broke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ansmission of Window Due To Lost Acknowle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8840" y="3736800"/>
            <a:ext cx="62215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et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ata Frame Requires Sufficient Information To Allow Reassembly At Receiving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Type (data, acknowledgment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tination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 ID Number – fragments of MSDU sequentially numb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-Of-Packet indicator – indicates current fragment ID number corresponds to total frames in 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additional elemen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9640" y="3490920"/>
            <a:ext cx="3411360" cy="892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73080" y="6246720"/>
            <a:ext cx="2751120" cy="1693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720720" y="5153040"/>
            <a:ext cx="531648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knowledgmen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tmap Field Of Fragments Received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2240" y="4686120"/>
            <a:ext cx="5567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71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 ID # is a binary field – not bit-m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43040" y="1930320"/>
            <a:ext cx="57722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enhances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in presence of microwave o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with hidde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optimal hopping FH PH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or Eliminate Variation in Start of Time Bounded Services Super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nefits Of Fragmentation Offsets Minimal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Element Per Frame of 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Windowing Minimizes Additional Acknowled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 Easily Integrated Into Foundatio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To Control Channel Already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rames and Acknowledgment Frames Altered Sligh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 Issue 20.6 “Is there a need for fragmentation/reassembly at the MAC layer?” –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: Use the proposal given in this submission as a basis for implementation  in the draft standard? –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Fragmentation in MAC (issue 20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Proposal Given In doc: IEEE P802.11-94/37 as basis for inclusion i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line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of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Microwave Oven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lse Amplitude Modulate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 Hz Square Wave – 8.3 ms. ON, 8.3 ms.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Occupies 10 to 20 MHz of the band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sing and Falling Edges of Pulse ‘splatter’ Across the 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er Frequency of Oven Drifts By Up to 1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Oven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h DS and FH Systems E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s Effected If Desired Signal to Interfered Signal Ratio is too 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Frames Greater than 8.3 ms Guaranteed Not To Be Received Correctly (1100 Byte Ethernet Packet = 8.8 ms @ 1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680" y="2860560"/>
            <a:ext cx="6296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0280" y="2720880"/>
            <a:ext cx="63198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7800" y="3025800"/>
            <a:ext cx="6108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Better Performance With Hidden &amp; Sleep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S and FH Systems Vulnerable to Interference From Hidden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S/CTS Helps IF Stations Are Awake To Hear RTS/CTS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 System With No RTS/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3480" y="4840200"/>
            <a:ext cx="5183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