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533520"/>
            <a:ext cx="8153280" cy="563868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6308640" y="128520"/>
            <a:ext cx="2509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EEE P802.11 94/127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365040" y="6300720"/>
            <a:ext cx="126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6310440" y="6300720"/>
            <a:ext cx="2254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. Mahany, No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18288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acket Length Issues Based on RF Media Consider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565440" y="3252960"/>
            <a:ext cx="241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. Mah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and 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152388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oor Channe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Consensu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-D Standing Wave Pattern With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4 Featur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e Units Pass Through Standing Wave Features as a Function of Their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36640" y="3633840"/>
            <a:ext cx="4756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P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/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 fo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60680" y="4471920"/>
            <a:ext cx="658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4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7 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ustrial Vehic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60680" y="4853160"/>
            <a:ext cx="5670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.4 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st Wal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60680" y="5234040"/>
            <a:ext cx="461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3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.3 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m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60680" y="5614920"/>
            <a:ext cx="4438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4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7.1  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l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st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as Part of Diversity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s Anecdotal Rather than De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Channel, 250 KBPS M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Antenna at 60 inches height for Mobile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st Antenna Diversity  using RSSI for Stationary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structed Path, Office Environment, Near 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ransceivers, One Mobile, Ping Pong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ms, 8 ms Packets   [ 6 ms and 16 ms Round-Tri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bile Measurements  at Normal Walking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ary Measurement during High Pedestrian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st Result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98560" y="2033640"/>
            <a:ext cx="381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ary Results with Divers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219320" y="2743200"/>
            <a:ext cx="685800" cy="838440"/>
            <a:chOff x="1219320" y="2743200"/>
            <a:chExt cx="685800" cy="838440"/>
          </a:xfrm>
        </p:grpSpPr>
        <p:sp>
          <p:nvSpPr>
            <p:cNvPr id="108" name=""/>
            <p:cNvSpPr/>
            <p:nvPr/>
          </p:nvSpPr>
          <p:spPr>
            <a:xfrm>
              <a:off x="1219320" y="3048120"/>
              <a:ext cx="6858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71600" y="2895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52480" y="2895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371600" y="2743200"/>
              <a:ext cx="1522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219320" y="2743200"/>
              <a:ext cx="304560" cy="152280"/>
              <a:chOff x="1219320" y="2743200"/>
              <a:chExt cx="304560" cy="152280"/>
            </a:xfrm>
          </p:grpSpPr>
          <p:sp>
            <p:nvSpPr>
              <p:cNvPr id="113" name=""/>
              <p:cNvSpPr/>
              <p:nvPr/>
            </p:nvSpPr>
            <p:spPr>
              <a:xfrm flipH="1">
                <a:off x="1219320" y="27432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9320" y="27432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0200" y="2743200"/>
              <a:ext cx="304920" cy="152280"/>
              <a:chOff x="1600200" y="2743200"/>
              <a:chExt cx="304920" cy="152280"/>
            </a:xfrm>
          </p:grpSpPr>
          <p:sp>
            <p:nvSpPr>
              <p:cNvPr id="116" name=""/>
              <p:cNvSpPr/>
              <p:nvPr/>
            </p:nvSpPr>
            <p:spPr>
              <a:xfrm flipH="1">
                <a:off x="1600200" y="274320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00200" y="27432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1752480" y="2743200"/>
              <a:ext cx="15264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809880" y="2438280"/>
            <a:ext cx="0" cy="1371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281952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19520" y="28954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304812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324480" y="2743200"/>
            <a:ext cx="685800" cy="838440"/>
            <a:chOff x="6324480" y="2743200"/>
            <a:chExt cx="685800" cy="838440"/>
          </a:xfrm>
        </p:grpSpPr>
        <p:sp>
          <p:nvSpPr>
            <p:cNvPr id="124" name=""/>
            <p:cNvSpPr/>
            <p:nvPr/>
          </p:nvSpPr>
          <p:spPr>
            <a:xfrm>
              <a:off x="6324480" y="3048120"/>
              <a:ext cx="6858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77120" y="2895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0" y="2895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477120" y="2743200"/>
              <a:ext cx="1522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324480" y="2743200"/>
              <a:ext cx="304920" cy="152280"/>
              <a:chOff x="6324480" y="2743200"/>
              <a:chExt cx="304920" cy="152280"/>
            </a:xfrm>
          </p:grpSpPr>
          <p:sp>
            <p:nvSpPr>
              <p:cNvPr id="129" name=""/>
              <p:cNvSpPr/>
              <p:nvPr/>
            </p:nvSpPr>
            <p:spPr>
              <a:xfrm flipH="1">
                <a:off x="6324480" y="274320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324480" y="274320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705720" y="2743200"/>
              <a:ext cx="304560" cy="152280"/>
              <a:chOff x="6705720" y="2743200"/>
              <a:chExt cx="304560" cy="152280"/>
            </a:xfrm>
          </p:grpSpPr>
          <p:sp>
            <p:nvSpPr>
              <p:cNvPr id="132" name=""/>
              <p:cNvSpPr/>
              <p:nvPr/>
            </p:nvSpPr>
            <p:spPr>
              <a:xfrm flipH="1">
                <a:off x="6705720" y="27432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705720" y="27432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V="1">
              <a:off x="6858000" y="2743200"/>
              <a:ext cx="1522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572000" y="289548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876920" y="297180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124080"/>
            <a:ext cx="45720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18280" y="3710160"/>
            <a:ext cx="268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Pedestrian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546880" y="4091040"/>
            <a:ext cx="2330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 + 1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955960" y="3938760"/>
            <a:ext cx="163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ms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36576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8560" y="5318280"/>
            <a:ext cx="7230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tenna Switching Every 18 - 24 ms on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546880" y="4700520"/>
            <a:ext cx="2711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SSI Antenna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6 dB Hyster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st Result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74880" y="1477800"/>
            <a:ext cx="1962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bil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143000" y="5105520"/>
            <a:ext cx="685800" cy="838080"/>
            <a:chOff x="1143000" y="5105520"/>
            <a:chExt cx="685800" cy="838080"/>
          </a:xfrm>
        </p:grpSpPr>
        <p:sp>
          <p:nvSpPr>
            <p:cNvPr id="147" name=""/>
            <p:cNvSpPr/>
            <p:nvPr/>
          </p:nvSpPr>
          <p:spPr>
            <a:xfrm>
              <a:off x="1143000" y="5410080"/>
              <a:ext cx="6858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95280" y="52578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295280" y="5105520"/>
              <a:ext cx="15264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143000" y="5105520"/>
              <a:ext cx="304920" cy="152280"/>
              <a:chOff x="1143000" y="5105520"/>
              <a:chExt cx="304920" cy="152280"/>
            </a:xfrm>
          </p:grpSpPr>
          <p:sp>
            <p:nvSpPr>
              <p:cNvPr id="151" name=""/>
              <p:cNvSpPr/>
              <p:nvPr/>
            </p:nvSpPr>
            <p:spPr>
              <a:xfrm flipH="1">
                <a:off x="1143000" y="5105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143000" y="51055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14400" y="3276720"/>
            <a:ext cx="65530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133720" y="2057400"/>
            <a:ext cx="685800" cy="838440"/>
            <a:chOff x="2133720" y="2057400"/>
            <a:chExt cx="685800" cy="838440"/>
          </a:xfrm>
        </p:grpSpPr>
        <p:sp>
          <p:nvSpPr>
            <p:cNvPr id="155" name=""/>
            <p:cNvSpPr/>
            <p:nvPr/>
          </p:nvSpPr>
          <p:spPr>
            <a:xfrm>
              <a:off x="2133720" y="2362320"/>
              <a:ext cx="6858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86000" y="2209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286000" y="2057400"/>
              <a:ext cx="1522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2133720" y="2057400"/>
              <a:ext cx="304560" cy="152280"/>
              <a:chOff x="2133720" y="2057400"/>
              <a:chExt cx="304560" cy="152280"/>
            </a:xfrm>
          </p:grpSpPr>
          <p:sp>
            <p:nvSpPr>
              <p:cNvPr id="159" name=""/>
              <p:cNvSpPr/>
              <p:nvPr/>
            </p:nvSpPr>
            <p:spPr>
              <a:xfrm flipH="1">
                <a:off x="2133720" y="20574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33720" y="20574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3200400" y="259092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858000" y="2057400"/>
            <a:ext cx="685800" cy="838440"/>
            <a:chOff x="6858000" y="2057400"/>
            <a:chExt cx="685800" cy="838440"/>
          </a:xfrm>
        </p:grpSpPr>
        <p:sp>
          <p:nvSpPr>
            <p:cNvPr id="163" name=""/>
            <p:cNvSpPr/>
            <p:nvPr/>
          </p:nvSpPr>
          <p:spPr>
            <a:xfrm>
              <a:off x="6858000" y="2362320"/>
              <a:ext cx="6858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618f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10280" y="2209680"/>
              <a:ext cx="0" cy="15264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7010280" y="2057400"/>
              <a:ext cx="152640" cy="15228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858000" y="2057400"/>
              <a:ext cx="304920" cy="152280"/>
              <a:chOff x="6858000" y="2057400"/>
              <a:chExt cx="304920" cy="152280"/>
            </a:xfrm>
          </p:grpSpPr>
          <p:sp>
            <p:nvSpPr>
              <p:cNvPr id="167" name=""/>
              <p:cNvSpPr/>
              <p:nvPr/>
            </p:nvSpPr>
            <p:spPr>
              <a:xfrm flipH="1">
                <a:off x="6858000" y="2057400"/>
                <a:ext cx="30492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58000" y="2057400"/>
                <a:ext cx="152280" cy="152280"/>
              </a:xfrm>
              <a:prstGeom prst="line">
                <a:avLst/>
              </a:prstGeom>
              <a:ln w="12600">
                <a:solidFill>
                  <a:srgbClr val="618f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"/>
          <p:cNvSpPr txBox="1"/>
          <p:nvPr/>
        </p:nvSpPr>
        <p:spPr>
          <a:xfrm>
            <a:off x="746280" y="2185920"/>
            <a:ext cx="1327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2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375680" y="1957320"/>
            <a:ext cx="88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93640" y="3405240"/>
            <a:ext cx="612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ms Packets:  90% One 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5 % Two 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3640" y="4014720"/>
            <a:ext cx="6134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 ms Packets:  90% One 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5 % Two 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828800" y="457200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48769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600200" y="48769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184560" y="2109960"/>
            <a:ext cx="1835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th 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108240" y="2643120"/>
            <a:ext cx="250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mal Walking 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mpact of PHY Overhead, Media Access Mech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388620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2590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146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2590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590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43434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724200" y="4181400"/>
            <a:ext cx="131436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2590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590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2590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794040" y="2033640"/>
            <a:ext cx="93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666880" y="19810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19810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679840" y="2665440"/>
            <a:ext cx="66024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365640" y="2664000"/>
            <a:ext cx="67320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038480" y="2662200"/>
            <a:ext cx="91440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965840" y="2664000"/>
            <a:ext cx="67320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8120" y="3271680"/>
            <a:ext cx="152388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84600" y="3273480"/>
            <a:ext cx="67320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50840" y="4853160"/>
            <a:ext cx="6141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H: R+C+D+A = 73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 Media Access + PHY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50840" y="5157720"/>
            <a:ext cx="6281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S: R+C+D+A = 1056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 Media Access + PHY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17680" y="4471920"/>
            <a:ext cx="6269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 12 Octets + PHY overhead for RTS, CTS, + 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50840" y="5462640"/>
            <a:ext cx="5543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H: D+A = 33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 Media Access + PHY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50840" y="5767560"/>
            <a:ext cx="5556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S: D+A = 48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 Media Access + PHY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comme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419112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28954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28195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28954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28954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4648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0520" y="4486320"/>
            <a:ext cx="131436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28954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28195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943600" y="28954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28954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755800" y="1751040"/>
            <a:ext cx="66024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618ffd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618ffd"/>
                </a:solidFill>
                <a:latin typeface="Arial"/>
                <a:ea typeface="Arial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441600" y="1749600"/>
            <a:ext cx="67320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618ffd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618ffd"/>
                </a:solidFill>
                <a:latin typeface="Arial"/>
                <a:ea typeface="Arial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114800" y="1747800"/>
            <a:ext cx="91440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041800" y="1749600"/>
            <a:ext cx="67320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618ffd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618ffd"/>
                </a:solidFill>
                <a:latin typeface="Arial"/>
                <a:ea typeface="Arial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124080" y="3576600"/>
            <a:ext cx="152388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60920" y="3578400"/>
            <a:ext cx="67320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618ffd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618ffd"/>
                </a:solidFill>
                <a:latin typeface="Arial"/>
                <a:ea typeface="Arial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809880" y="2286000"/>
            <a:ext cx="762120" cy="12193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327560" y="2719440"/>
            <a:ext cx="1225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DU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ms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80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rsty View of Cha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12408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18288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17524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18288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18288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34290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76840" y="3267000"/>
            <a:ext cx="131436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18288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17524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8288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18288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18080" y="1652760"/>
            <a:ext cx="93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666880" y="18288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17524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1905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13160" y="2185920"/>
            <a:ext cx="1949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ptable 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4240" y="1424160"/>
            <a:ext cx="1251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63868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58672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0" y="5705640"/>
            <a:ext cx="131436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4343400"/>
            <a:ext cx="6115320" cy="933840"/>
          </a:xfrm>
          <a:custGeom>
            <a:avLst/>
            <a:gdLst/>
            <a:ahLst/>
            <a:rect l="0" t="0" r="r" b="b"/>
            <a:pathLst>
              <a:path fill="none" w="16987" h="2594">
                <a:moveTo>
                  <a:pt x="0" y="423"/>
                </a:moveTo>
                <a:lnTo>
                  <a:pt x="211" y="529"/>
                </a:lnTo>
                <a:lnTo>
                  <a:pt x="370" y="688"/>
                </a:lnTo>
                <a:lnTo>
                  <a:pt x="423" y="900"/>
                </a:lnTo>
                <a:lnTo>
                  <a:pt x="476" y="1059"/>
                </a:lnTo>
                <a:lnTo>
                  <a:pt x="529" y="1218"/>
                </a:lnTo>
                <a:lnTo>
                  <a:pt x="529" y="1376"/>
                </a:lnTo>
                <a:lnTo>
                  <a:pt x="634" y="1535"/>
                </a:lnTo>
                <a:lnTo>
                  <a:pt x="740" y="1747"/>
                </a:lnTo>
                <a:lnTo>
                  <a:pt x="793" y="1906"/>
                </a:lnTo>
                <a:lnTo>
                  <a:pt x="846" y="2065"/>
                </a:lnTo>
                <a:lnTo>
                  <a:pt x="899" y="2277"/>
                </a:lnTo>
                <a:lnTo>
                  <a:pt x="1058" y="2436"/>
                </a:lnTo>
                <a:lnTo>
                  <a:pt x="1217" y="2489"/>
                </a:lnTo>
                <a:lnTo>
                  <a:pt x="1269" y="2277"/>
                </a:lnTo>
                <a:lnTo>
                  <a:pt x="1269" y="2065"/>
                </a:lnTo>
                <a:lnTo>
                  <a:pt x="1428" y="2277"/>
                </a:lnTo>
                <a:lnTo>
                  <a:pt x="1534" y="2594"/>
                </a:lnTo>
                <a:lnTo>
                  <a:pt x="1746" y="2224"/>
                </a:lnTo>
                <a:lnTo>
                  <a:pt x="1852" y="1694"/>
                </a:lnTo>
                <a:lnTo>
                  <a:pt x="1904" y="1376"/>
                </a:lnTo>
                <a:lnTo>
                  <a:pt x="1957" y="1165"/>
                </a:lnTo>
                <a:lnTo>
                  <a:pt x="2063" y="1482"/>
                </a:lnTo>
                <a:lnTo>
                  <a:pt x="2116" y="2118"/>
                </a:lnTo>
                <a:lnTo>
                  <a:pt x="2222" y="1800"/>
                </a:lnTo>
                <a:lnTo>
                  <a:pt x="2222" y="1482"/>
                </a:lnTo>
                <a:lnTo>
                  <a:pt x="2275" y="1059"/>
                </a:lnTo>
                <a:lnTo>
                  <a:pt x="2328" y="847"/>
                </a:lnTo>
                <a:lnTo>
                  <a:pt x="2381" y="688"/>
                </a:lnTo>
                <a:lnTo>
                  <a:pt x="2381" y="370"/>
                </a:lnTo>
                <a:lnTo>
                  <a:pt x="2434" y="52"/>
                </a:lnTo>
                <a:lnTo>
                  <a:pt x="2592" y="0"/>
                </a:lnTo>
                <a:lnTo>
                  <a:pt x="2751" y="370"/>
                </a:lnTo>
                <a:lnTo>
                  <a:pt x="2910" y="370"/>
                </a:lnTo>
                <a:lnTo>
                  <a:pt x="3122" y="476"/>
                </a:lnTo>
                <a:lnTo>
                  <a:pt x="3545" y="370"/>
                </a:lnTo>
                <a:lnTo>
                  <a:pt x="3704" y="317"/>
                </a:lnTo>
                <a:lnTo>
                  <a:pt x="3862" y="264"/>
                </a:lnTo>
                <a:lnTo>
                  <a:pt x="4021" y="264"/>
                </a:lnTo>
                <a:lnTo>
                  <a:pt x="4180" y="264"/>
                </a:lnTo>
                <a:lnTo>
                  <a:pt x="4339" y="211"/>
                </a:lnTo>
                <a:lnTo>
                  <a:pt x="4497" y="211"/>
                </a:lnTo>
                <a:lnTo>
                  <a:pt x="4656" y="211"/>
                </a:lnTo>
                <a:lnTo>
                  <a:pt x="4815" y="158"/>
                </a:lnTo>
                <a:lnTo>
                  <a:pt x="4974" y="158"/>
                </a:lnTo>
                <a:lnTo>
                  <a:pt x="5185" y="105"/>
                </a:lnTo>
                <a:lnTo>
                  <a:pt x="5344" y="105"/>
                </a:lnTo>
                <a:lnTo>
                  <a:pt x="5503" y="105"/>
                </a:lnTo>
                <a:lnTo>
                  <a:pt x="5715" y="158"/>
                </a:lnTo>
                <a:lnTo>
                  <a:pt x="5873" y="211"/>
                </a:lnTo>
                <a:lnTo>
                  <a:pt x="6032" y="211"/>
                </a:lnTo>
                <a:lnTo>
                  <a:pt x="6191" y="211"/>
                </a:lnTo>
                <a:lnTo>
                  <a:pt x="6350" y="158"/>
                </a:lnTo>
                <a:lnTo>
                  <a:pt x="6508" y="158"/>
                </a:lnTo>
                <a:lnTo>
                  <a:pt x="6667" y="158"/>
                </a:lnTo>
                <a:lnTo>
                  <a:pt x="6826" y="211"/>
                </a:lnTo>
                <a:lnTo>
                  <a:pt x="6985" y="370"/>
                </a:lnTo>
                <a:lnTo>
                  <a:pt x="7143" y="423"/>
                </a:lnTo>
                <a:lnTo>
                  <a:pt x="7302" y="423"/>
                </a:lnTo>
                <a:lnTo>
                  <a:pt x="7408" y="582"/>
                </a:lnTo>
                <a:lnTo>
                  <a:pt x="7567" y="741"/>
                </a:lnTo>
                <a:lnTo>
                  <a:pt x="7620" y="900"/>
                </a:lnTo>
                <a:lnTo>
                  <a:pt x="7725" y="1059"/>
                </a:lnTo>
                <a:lnTo>
                  <a:pt x="7725" y="1376"/>
                </a:lnTo>
                <a:lnTo>
                  <a:pt x="7831" y="1588"/>
                </a:lnTo>
                <a:lnTo>
                  <a:pt x="7831" y="1906"/>
                </a:lnTo>
                <a:lnTo>
                  <a:pt x="7884" y="2224"/>
                </a:lnTo>
                <a:lnTo>
                  <a:pt x="7937" y="2383"/>
                </a:lnTo>
                <a:lnTo>
                  <a:pt x="8096" y="2383"/>
                </a:lnTo>
                <a:lnTo>
                  <a:pt x="8255" y="2330"/>
                </a:lnTo>
                <a:lnTo>
                  <a:pt x="8413" y="2383"/>
                </a:lnTo>
                <a:lnTo>
                  <a:pt x="8573" y="2383"/>
                </a:lnTo>
                <a:lnTo>
                  <a:pt x="8785" y="2330"/>
                </a:lnTo>
                <a:lnTo>
                  <a:pt x="8838" y="2171"/>
                </a:lnTo>
                <a:lnTo>
                  <a:pt x="8838" y="1959"/>
                </a:lnTo>
                <a:lnTo>
                  <a:pt x="8943" y="2118"/>
                </a:lnTo>
                <a:lnTo>
                  <a:pt x="9102" y="2171"/>
                </a:lnTo>
                <a:lnTo>
                  <a:pt x="9261" y="2224"/>
                </a:lnTo>
                <a:lnTo>
                  <a:pt x="9420" y="2277"/>
                </a:lnTo>
                <a:lnTo>
                  <a:pt x="9578" y="2118"/>
                </a:lnTo>
                <a:lnTo>
                  <a:pt x="9684" y="1906"/>
                </a:lnTo>
                <a:lnTo>
                  <a:pt x="9790" y="1694"/>
                </a:lnTo>
                <a:lnTo>
                  <a:pt x="9949" y="1641"/>
                </a:lnTo>
                <a:lnTo>
                  <a:pt x="10108" y="1641"/>
                </a:lnTo>
                <a:lnTo>
                  <a:pt x="10213" y="1800"/>
                </a:lnTo>
                <a:lnTo>
                  <a:pt x="10372" y="1800"/>
                </a:lnTo>
                <a:lnTo>
                  <a:pt x="10531" y="1694"/>
                </a:lnTo>
                <a:lnTo>
                  <a:pt x="10690" y="1588"/>
                </a:lnTo>
                <a:lnTo>
                  <a:pt x="10848" y="1588"/>
                </a:lnTo>
                <a:lnTo>
                  <a:pt x="11007" y="1694"/>
                </a:lnTo>
                <a:lnTo>
                  <a:pt x="11166" y="1800"/>
                </a:lnTo>
                <a:lnTo>
                  <a:pt x="11325" y="1906"/>
                </a:lnTo>
                <a:lnTo>
                  <a:pt x="11483" y="2012"/>
                </a:lnTo>
                <a:lnTo>
                  <a:pt x="11695" y="2118"/>
                </a:lnTo>
                <a:lnTo>
                  <a:pt x="12013" y="2171"/>
                </a:lnTo>
                <a:lnTo>
                  <a:pt x="12330" y="2489"/>
                </a:lnTo>
                <a:lnTo>
                  <a:pt x="12489" y="2594"/>
                </a:lnTo>
                <a:lnTo>
                  <a:pt x="12648" y="2542"/>
                </a:lnTo>
                <a:lnTo>
                  <a:pt x="12806" y="2489"/>
                </a:lnTo>
                <a:lnTo>
                  <a:pt x="12912" y="2330"/>
                </a:lnTo>
                <a:lnTo>
                  <a:pt x="12965" y="2171"/>
                </a:lnTo>
                <a:lnTo>
                  <a:pt x="13124" y="2065"/>
                </a:lnTo>
                <a:lnTo>
                  <a:pt x="13336" y="1906"/>
                </a:lnTo>
                <a:lnTo>
                  <a:pt x="13441" y="1747"/>
                </a:lnTo>
                <a:lnTo>
                  <a:pt x="13494" y="1588"/>
                </a:lnTo>
                <a:lnTo>
                  <a:pt x="13494" y="1429"/>
                </a:lnTo>
                <a:lnTo>
                  <a:pt x="13547" y="1271"/>
                </a:lnTo>
                <a:lnTo>
                  <a:pt x="13706" y="1165"/>
                </a:lnTo>
                <a:lnTo>
                  <a:pt x="13865" y="1112"/>
                </a:lnTo>
                <a:lnTo>
                  <a:pt x="14076" y="900"/>
                </a:lnTo>
                <a:lnTo>
                  <a:pt x="14182" y="741"/>
                </a:lnTo>
                <a:lnTo>
                  <a:pt x="14288" y="582"/>
                </a:lnTo>
                <a:lnTo>
                  <a:pt x="14394" y="423"/>
                </a:lnTo>
                <a:lnTo>
                  <a:pt x="14553" y="317"/>
                </a:lnTo>
                <a:lnTo>
                  <a:pt x="14711" y="317"/>
                </a:lnTo>
                <a:lnTo>
                  <a:pt x="15029" y="317"/>
                </a:lnTo>
                <a:lnTo>
                  <a:pt x="15346" y="264"/>
                </a:lnTo>
                <a:lnTo>
                  <a:pt x="15664" y="211"/>
                </a:lnTo>
                <a:lnTo>
                  <a:pt x="15981" y="211"/>
                </a:lnTo>
                <a:lnTo>
                  <a:pt x="16140" y="158"/>
                </a:lnTo>
                <a:lnTo>
                  <a:pt x="16299" y="105"/>
                </a:lnTo>
                <a:lnTo>
                  <a:pt x="16510" y="158"/>
                </a:lnTo>
                <a:lnTo>
                  <a:pt x="16669" y="211"/>
                </a:lnTo>
                <a:lnTo>
                  <a:pt x="16828" y="317"/>
                </a:lnTo>
                <a:lnTo>
                  <a:pt x="16987" y="317"/>
                </a:lnTo>
                <a:lnTo>
                  <a:pt x="16934" y="42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812960" y="1424160"/>
            <a:ext cx="1251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937040" y="5157720"/>
            <a:ext cx="1251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651040" y="4091040"/>
            <a:ext cx="1949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ptable 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7680" y="3946680"/>
            <a:ext cx="12175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41360" y="1889280"/>
            <a:ext cx="1928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icrowave O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gnized as Period Interferenc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ten Viewed as a Partial Band Ja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lib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05120" y="1852560"/>
            <a:ext cx="5324400" cy="3600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990720" y="25146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98560" y="2109960"/>
            <a:ext cx="1085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18 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98560" y="2567160"/>
            <a:ext cx="1162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93640" y="1424160"/>
            <a:ext cx="2254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rection to 94/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600200" y="182880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460 M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28800" y="1700280"/>
            <a:ext cx="53244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410 M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00160" y="1876320"/>
            <a:ext cx="51339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480 M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28800" y="1928880"/>
            <a:ext cx="5324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icrowave Energy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38400" y="2443320"/>
            <a:ext cx="5010120" cy="3333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889280" y="2033640"/>
            <a:ext cx="704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613560" y="2033640"/>
            <a:ext cx="831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79440" y="2490840"/>
            <a:ext cx="1022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27160" y="5157720"/>
            <a:ext cx="1022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375680" y="3405240"/>
            <a:ext cx="958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icrowave Energy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11160" y="1828800"/>
            <a:ext cx="611352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