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990720" y="533520"/>
            <a:ext cx="71629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March 1994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IEEE P802.11-94/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60958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984240" y="6173640"/>
            <a:ext cx="717696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ndation MAC Tutor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de:</a:t>
            </a:r>
            <a:fld id="{A9CBDA62-2F22-4900-B506-CC1368968504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0120" y="1457280"/>
            <a:ext cx="79437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Wireless M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76320" y="1701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undation MAC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utori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802.11 PHY sub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g En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il Be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m Diepst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RTS/CTS medium reserv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 Allocation Vector (NAV) follows “Duration” info in RTS and 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RTS / CTS is optional bu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u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 impleme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r on NAV and "CCA", also for the Contention Free ser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TS / CTS use is controlled by a NoRTS parameter per station. Can be usefull for long inbound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00080" y="1481040"/>
            <a:ext cx="53434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NoRTS paramet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TS/CTS is not benificial for short fr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NoRTS parameter indicates per station that frames shorter then the parameter will be transmitted without RTS/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s optional use on long inbound fr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75040" y="2440080"/>
            <a:ext cx="493704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RTS/CTS Performan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65120" y="1386000"/>
            <a:ext cx="6332400" cy="4344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429000" y="2057400"/>
            <a:ext cx="2643120" cy="185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422520" y="2025720"/>
            <a:ext cx="2819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60% Short, 40% Long Frames  @ 2 Mb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62000" y="3016080"/>
            <a:ext cx="7005600" cy="26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od mixed use (long inbound frames) effici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Backoff timer behaviou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78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ckoff timer elapses only when medium is F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 higher relative priority for stations that were already deffe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onential Contention window increase at every retransmi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76480" y="1692360"/>
            <a:ext cx="676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Required PHY Function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61920" y="2243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Continuous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 “Clear Channel Assessment” (CCA) signal indicating when medium is F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HY frequency channel selection under MAC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Important PHY paramet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6192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ollowing parameters have effect on th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throughp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erformance and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ccess del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CCA respons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Net Rx-Tx turnaround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Slot time=CCA response + Rx-Tx turnaround + medium delay (determines the collision wind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PHY preambl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Tx-Rx turnaround + medium delay determines SI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CCA sensitivity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Channel switching del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better to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decre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Rx-Tx turnaround time while increasing the PHY preamble length (this decreases the slot ti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CCA sensitivit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CA sensitivity determines “Hidden node” vulner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ference area is much larger then coverage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36600" y="1554120"/>
            <a:ext cx="48718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Effects of Tx-Rx turnaroun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33560" y="20876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oughput drops with 15-3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44760" y="1335240"/>
            <a:ext cx="6488280" cy="4416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57320" y="2085840"/>
            <a:ext cx="2914560" cy="0"/>
          </a:xfrm>
          <a:prstGeom prst="line">
            <a:avLst/>
          </a:prstGeom>
          <a:ln w="1522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Effect of Turnaround ti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04760" y="20588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oughput performance drops at equal c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55920" y="1365120"/>
            <a:ext cx="61516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Coordination Func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90720" y="1859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ention Free Service uses Point Coordination Function (PCF) on a DCF Foun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ync Data, Voice or mixed implementation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ention Free capability is a minimum burden for the Async service 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04840" y="1671480"/>
            <a:ext cx="51339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Overview / Agend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515960"/>
            <a:ext cx="7162920" cy="43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view / Basic Access mechan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CF access sche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mulation resul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unctions required from the PH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CF access scheme (optiona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 provis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unctions required from the PH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aming provis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nning provi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unctions required from the PH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chronization provis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nchronization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me forma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iz resul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m/Jo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oint Coordination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1601640"/>
            <a:ext cx="716292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erFrame to allow mixed "Contention" and "Contention Free" operation under PCF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V prevents "Contention" traffic until reset by the last PCF transfer or other contention 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th PCF and DCF Defer for each other causing SuperFrame Stretc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30480" y="1703520"/>
            <a:ext cx="66834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CF Burst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17589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F-Burst by Polling bit in CF-Down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mediate response by Station on a Po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to maintain NAV to protect Up-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ble length or no respons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et NAV” bit in last frame from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Ack Previous Frame" bit in H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50760" y="1488960"/>
            <a:ext cx="724392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Nex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3200" spc="-1" strike="noStrike">
                <a:solidFill>
                  <a:srgbClr val="00ae00"/>
                </a:solidFill>
                <a:latin typeface="Arial"/>
                <a:ea typeface="Arial"/>
              </a:rPr>
              <a:t>Power Conservatio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is it impor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ciple of op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rastructure and Ad-Hoc op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ynamic behavi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 required from the P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ower Manageme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76320" y="16016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i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ower Conservation Managem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very important to support mobility (battery lif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le receive state is dominating power consum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LAN’s assume Rx is always ready to rece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ic power conservation princi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urn transceiver off as much as 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re that traffic is temporarily buffered while stations are slee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lution should be application independent, and provide high throughput when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ower Management princip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61920" y="16732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application independent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transmitter need to buffer packets until remote receiver is Aw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tter announces for which station frames are buff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tter and receiver needs to be synchron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mitter needs to know when Rx is Aw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x needs to be Awake when relevant data is exp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 synchronization needed to allow extreme low Power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Basic oper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76320" y="15876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chronize all s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 in Infrastructure Networ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stributed among stations in Ad-Hoc networ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can be in different PM-modes and can dynamically switch PM-m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inuous active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A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mporary active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S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wer Save Mode (two flavour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mitters know the PM-mode of the receiv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bits in each frame hea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mitters will send "Traffic Information Map" (TIM) at regular intervals indicating buffer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033560" y="85248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Station Power Save stat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76320" y="15303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Transmit State: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mitter is turned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Awake St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is fully powered and capable to rece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Doze St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ceiver is not able to transmit or receive, and consumes very low power. TIM interval Timer and some other circuitry may still be act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using Power Save mode will cycle from Doze to Awake, only when relevant traffic is expected, or just before a transmission sta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ons can maintain in an awake state until a no activity timer expires (no Tx or Rx to station activity) (TA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M stations will be continuous Awa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ower Conservation mod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76320" y="16588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different Power Save Modes avail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SNP: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ower Save Non-Po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ffered traffic will immediately follow the DT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ons identified in the DTIM stay awake to accept traff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ons need to listen to every (D)TIM (in Beac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cast traffic will follow every DT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SP: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ower Save Po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ons do not have to listen to every TIM. This allows very long sleep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ons identified in the TIM need to retrieve the buffered frames by a Poll cy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allows very low power operation (months on batt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Dynamic behaviour suppor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3400" y="1730520"/>
            <a:ext cx="73198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can dynamically switch to TAM m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urn to PSM after “No-activity” time-out is signalled to remote through PM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5000" y="1676520"/>
            <a:ext cx="46972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Infrastructure mo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5259240"/>
            <a:ext cx="719136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chronization allows station awakening just before a (D)T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66720" y="1603440"/>
            <a:ext cx="78883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909720"/>
            <a:ext cx="71629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Wireless Network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9720" y="1839960"/>
            <a:ext cx="732456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Ad-Hoc Power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33560" y="15303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are synchronized using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distributed Beac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stations have a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common awake perio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that want to send will announce frames using a short ATIM frame in the common awake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ort frames will be send without a prior AT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SP mode is not suppo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that do not receive an ATIM during the common awake will go to sleep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s will stay awake to accept the actual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47600" y="78120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Required PHY func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76320" y="155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Power Manag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  <a:ea typeface="Arial"/>
              </a:rPr>
              <a:t>PHY Sleep/Awake under MAC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  <a:ea typeface="Arial"/>
              </a:rPr>
              <a:t>Fast wake-up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need to know when PHY is stable (Tx and R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  <a:ea typeface="Arial"/>
              </a:rPr>
              <a:t>CCA activation also in the middle of a frame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ponse time less critical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Support for 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may move from one BSS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must support fast BSS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witch to a new AP when the current AP is unacce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d the “best AP” to assoc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in the BSS of that A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“association”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d the desired B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in the desired B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How to find other s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716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networks send Beacons at known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use Scanning to fin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pecific BSS at initializ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better Access Point when “roam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iggered by deteriorating signal quality or other events like “No Beacon” time 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anning stations tune to channels other than the one used by their current B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ee what else is out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y are “off line” during s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go into PSP mode to ensure frames are buff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AC determines which channe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assive Scann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96840" y="1714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networks simply by list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s are sent at a known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anner listens to each cha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its at least Beacon Interval on empty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actical for PHYs with a few channels or with a short Beacon Inter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network found, save Network ID and Timestamp del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ly information required to “tune” to that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Active Scann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96840" y="15908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much faster than passive sc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each channel, scanner sends a Prob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est message sent to broadcast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tworkID specifies the network for which the scanner is look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it for a Probe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it for a bounded time 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detect energy, wait lo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Probe Responses are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than one AP on sam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 hoc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Scanning for AP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96840" y="1886040"/>
            <a:ext cx="720576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than one AP may be on the same cha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anner wants to hear all Probe Respon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e responses should be randomized in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 response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no activity on channel then Wait 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activity then Wait 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no response, then scan next cha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ed Probe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okes positive ACK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omatic collision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Scanning for Ad-Hoc Net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33560" y="1924200"/>
            <a:ext cx="7005600" cy="29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y station in the BSS may resp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ess Backoff before Probe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collision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der does Backoff with larger Contentio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station may respond before retrie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Initializing Ad-Hoc Network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90720" y="1816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33560" y="16048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can (BSSID = specific) for 5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If hear something then Join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se Start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Stay active (don’t go in power save mode) for T3 sec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oin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opt NetworkID and timing of that B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Ced 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d Beacons to establish BSS 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Scanning Conclu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96840" y="1714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anning required for many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ining a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izing an ad hoc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intaining a single ad hoc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ding a new AP for BSS tran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undation MAC uses a common technique that supports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ngle or multi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ssive or active scan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802.11 MAC Require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644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gle MAC to support multiple PHY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single and multi-channel PHY'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so PHY’s for future bands l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9 GHz PCS band (Voice and / or Data ba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ture 5.2 GH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ISM bands (915 MHz and 5.8 G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Infrastructure m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Ad-Hoc m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mo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aming” prov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Conservation Management prov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Required PHY Func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47880" y="17445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support Sc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  <a:ea typeface="Arial"/>
              </a:rPr>
              <a:t>MAC tells PHY “Go to channel x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Channel selection delay must be kn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  <a:ea typeface="Arial"/>
              </a:rPr>
              <a:t>PHY to provide a Signal Level/Quality indication to the MAC per fr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Nex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90560" y="1787400"/>
            <a:ext cx="7763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ming Synchronization function (TS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it used f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is it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acon to distribute Timing Synchron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 of TSF for Frequency Hopping PHY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90480" y="781200"/>
            <a:ext cx="779148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SF applica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96840" y="1486080"/>
            <a:ext cx="7505640" cy="421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s are sent at well known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station timers in BSS are synchron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s may contain TIM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can wake up just before expected Beac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erframe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F Timer used to predict start of Contention Free bu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 is not required in each super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p Timing for Frequency Hopping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F Timer used to time  Dwell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’ TSF Timers synchronized, so hop at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 is not required on each 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Synchronization Approac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93800" y="1714680"/>
            <a:ext cx="75564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stations maintain a local synchronization ti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ing Synchronization Function (T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eps timers in sy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ntralized in infrastructure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ed function for ad hoc networ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s provide timing reference for each B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required to hear every Beacon to stay in sy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s used to calibrate local c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exible Beacon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SS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lly Compatible with CSMA (Beacons can def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Beacon Gen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96840" y="3448080"/>
            <a:ext cx="7785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 transmission scheduled at Beacon Inter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ssion may be delayed by CSMA defer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sequent transmissions at expected Beacon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relative to last Beacon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stamp contains timer value at transmi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 sends Beacons in infrastructure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382840" y="1500120"/>
            <a:ext cx="41972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Ad-Hoc Beacon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90720" y="1887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90720" y="4971960"/>
            <a:ext cx="71629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d Beac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y station in BSS may send a Beacon (distribu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 generation is randomized i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04880" y="1608120"/>
            <a:ext cx="61531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More Ad-Hoc Beacon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90720" y="178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90720" y="1442880"/>
            <a:ext cx="7162920" cy="421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 Hoc Beacon Sender’s 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ke up before expected Beac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er to current transmission if 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ecute access backoff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en when network was i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ndomizes send attem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heard another Beacon cancel Beacon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se transmit Be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 collisions are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s are multicasts, so no re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station likely to succeed after 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SYNCed stations send Beac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imer Accurac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76320" y="1428840"/>
            <a:ext cx="7162920" cy="426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stamp included in every Beac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ding station’s TSF timer in micro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1 bit value and 1 bit SYNC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 sender 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stamp is sender’s timer at SFD transmission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 receiver 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ve local TSF timer when Beacon SFD recei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lidate received Beac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OK, compare saved timer with Beacon timest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erence is amount to adjust local station timer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uld adjust for propagation and transceiver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cise synchronization is poss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Frequency Hopping and TSF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57160" y="1486080"/>
            <a:ext cx="74296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s use their TSF timer to maintain hop sy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PHY dependency is Max. TSF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imum TSF value is total time for hop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TSF = NumHops * Dwell_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F timer value describes progress in hopping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ich hop and how long in that 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s independently time Dwell_Inter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station knows when to hop (M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p stretching could be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p timing fields not required in MAC h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well_Interval and Beacon_Interval independ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Synchronization Conclu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88840" y="1417680"/>
            <a:ext cx="7378560" cy="46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 synch. is required for many MA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osed a general mechanism that can be u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erframe Timing in Contention Fre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p synchronization in FHSS PH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work events are timed by station TSF ti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necessary to send frames to indicate network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can maintain sync while sleeping or out of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F is e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dic Beacon transmission calibrates ti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fields not required in all MAC fra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F is preci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crosecond accuracy is possib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Supported servi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78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ynchronous Data Ser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ort response time with high instantaneous throughput, suitable for Bursty traff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BSS isolation requ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ention Free Service (option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Bounded service (can be dimensioned for Voi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ion oriented (reserved bandwidt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s mixed Voice/Data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s variable bitrates (frame siz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ynchronous Contention Free Ser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s “centralised Control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s sufficient BSS iso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Required PHY func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synchronization suppo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  <a:ea typeface="Arial"/>
              </a:rPr>
              <a:t>PHY frequency channel selection under MAC control (Go to channel x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  <a:ea typeface="Arial"/>
              </a:rPr>
              <a:t>Fixed deterministic PHY del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variable buffering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Frame Forma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01720" y="1565280"/>
            <a:ext cx="724680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Foundation MAC Fra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55720" y="1538280"/>
            <a:ext cx="726768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HY Requirement summa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04760" y="1487520"/>
            <a:ext cx="7162920" cy="41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Continuous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 “Clear Channel Assessment” (CCA) signal indicating when medium is F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HY frequency channel selection under MAC control.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“Go to channel 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HY Sleep/Awake under MAC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Fast wake-up time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 need to know when PHY is stable (Tx and R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CCA activation also in the middle of a frame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ponse time less critical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HY to provide a Signal Level/Quality indication to the MAC per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Fixed deterministic PHY de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Quiz resul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90720" y="1758960"/>
            <a:ext cx="759132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free” appears tw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rm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S&lt;P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the buffered frames are sent immedi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&amp;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Mixed bitrate suppor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33560" y="1687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Aft>
                <a:spcPts val="145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needed for speed mig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4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215"/>
              </a:spcBef>
              <a:spcAft>
                <a:spcPts val="71"/>
              </a:spcAft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mary assum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all PHY's can receive all r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Y is capable to receive a Nominal rate and a number of fallback rates automat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er speed PHY's can support lower speed standards (multi-standard implementa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215"/>
              </a:spcBef>
              <a:spcAft>
                <a:spcPts val="71"/>
              </a:spcAft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xed Rate consequ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adcast traffic  at lowest common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Control" traffic (short frames) transmission at "Highest common capable rate" may be accep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Mixed bitrate suppor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allow easy migration to future PHY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pport fallback r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s not require ESS to change speed as a wh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nctionality required from the P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Tx-bitrate under MAC control on a per frame 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Automatic bitrate detection in Rx, with “received bitrate” indication to the M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08240" y="1801800"/>
            <a:ext cx="480528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Basic Access Protoco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6732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Distributed Access Protocol for efficient medium sharing without overlap restri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bust for inter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MA/CA + Ack for unicast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MAC level 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MA/CA for Broadcast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ized use of RTS / CTS to provide a “Virtual CCA” funtion to protect against “Hidden Node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Ad-Hoc operation seamlessly, so does not require any infra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-Hoc can overlap with Infra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CSMA/CA explain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1579680"/>
            <a:ext cx="7162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uce collision probability where mostly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fficient Backoff algorithm stable at high loa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nential Backoff for retransmi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 different fixed priority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allow immediate Ack and PCF coexist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no Ack received then retransmit frame after a random backoff (up to max. limi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71720" y="1539720"/>
            <a:ext cx="700236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CSMA/CA+Ack Protoc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973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er access based on CCA and NAV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 access when medium is sensed free longer then DIFS, otherwise defer and back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3880" y="1617840"/>
            <a:ext cx="55530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hroughput efficienc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icient and stable through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94000" y="1535040"/>
            <a:ext cx="606276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