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7924680" cy="6324480"/>
          </a:xfrm>
          <a:prstGeom prst="roundRect">
            <a:avLst/>
          </a:prstGeom>
          <a:noFill/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1203480" y="6545160"/>
            <a:ext cx="22953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EEE 802.11 Presentation Nov 199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6461280" y="6545160"/>
            <a:ext cx="13636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OC 94/248  rev 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4327560" y="6545160"/>
            <a:ext cx="66348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age </a:t>
            </a:r>
            <a:fld id="{2BB0E20A-FADC-4901-95A4-03BCD98388E1}" type="slidenum"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990720" y="10666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Extending B3 frame formats to include WDS suppor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990720" y="2286000"/>
            <a:ext cx="693432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evision 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David Bag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Bob O’H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Dave Robe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Advanced Micro De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One AMD Pl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Sunnyvale CA, 9408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B3 nota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B3 uses the following conce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A = source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A = Destinatio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VIA = the address of the (single) AP which is a member of a specific B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his name was changed to BSSID during the August mee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“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o bit”: indicates if a frame was “to” an 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“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From bit”: indicates if a frame was “from” an 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The connectivity categori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Infrastructur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Independent BSS (“Ad-Hoc”)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Wireless DS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ixed terminology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Infrastructure cas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ase 1: STA to STA, via DS; first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Example: Frame from S1 destined to S2, </a:t>
            </a:r>
            <a:r>
              <a:rPr b="1" lang="en-US" sz="18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entering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 DS via A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ase 2: STA to STA via DS; last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Example: Frame from S1 destined to S2, </a:t>
            </a:r>
            <a:r>
              <a:rPr b="1" lang="en-US" sz="18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exiting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 DS via A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ase 3: STA to AP; frame destined for 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Example: Frame from S3 destined to A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ase 4: AP to STA; frame originated by 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Example: Frame from AP3 destined to S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Independent BSS (“Ad-Hoc”) cas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ase 5: STA to STA dir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Example: Frame originated by S4 destined for S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Wireless DS cas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ase 6: AP to AP, distributing (a case 1 or 2 frame) via the 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same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(i.e. in-band) wireless medium as that used for either the 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first OR last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li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ixed terminology cas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“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Overlapping”, “within”, “when a member of”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re later, after we have examined the concepts that are being intermixed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Separate overloaded conce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nalysis of case 6 points out that we are still mixing concepts and overloading different concepts onto address fiel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Architectural “transit points”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Originator of a fr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erminator of a fr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ransmitter of a fr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ceiver of a fr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Architectural “transit points”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 term “source” has been used to refer to both the </a:t>
            </a:r>
            <a:r>
              <a:rPr b="1" i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Originator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and the </a:t>
            </a:r>
            <a:r>
              <a:rPr b="1" i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ransmitter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of a fr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 term “destination” has been used to refer to both the </a:t>
            </a:r>
            <a:r>
              <a:rPr b="1" i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estination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and the </a:t>
            </a:r>
            <a:r>
              <a:rPr b="1" i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ceiver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of a fr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onfusion occurs because we do not always mean the same thing by “source” and “destination” in all c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is is probably because our brains have been constrained by thinking about networks with zero levels of indir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 802.11 architecture is a 1 indirection level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Architectural “transit points”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In the Ad-hoc ca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Originator = Transmitter = “sourc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erminator  = Receiver = “destinatio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Infrastructure ca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he VIA concept in B3, is a recognition that in transiting an ESS, “receiver” does NOT always equal “terminator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ase 6, also points out that if you have a WDS, “originator” does not always equal “transmitter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his leads one to introduce the concept of “RA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Summary of proposed chang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Functiona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onnectivity combin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Performa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Header leng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Duplicate de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rame fil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is presentation will comment on each of these su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Let’s name these different address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Let [ variable ] == the value of “variable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[SA] = Maddr (of the STA which originated the fram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his is consistent with the term SA as used in other 802 standa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[DA] = Maddr (of the STA which is the final destination of the fram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his is consistent with the term DA as used in other 802 standa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[RA] = Maddr (of the STA which is intended to receive the frame off the 802.11 wireless mediu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[TA] = Maddr (of the STA which placed the frame onto the 802.11 wireless mediu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Frame direction wrt 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802.11 has also found it necessary to specify the direction of a frame with respect to the 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is is done by bits in the FC field of the frame hea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“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o bit” == Frame is 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entering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the DS from the wireless medium via an 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“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From bit” == Frame is 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exiting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the DS via an AP onto the wireless medi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Frame direction wrt 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 truth table for these bits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O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    FROM   Mea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False   False    “Direct, not via a D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False   True      “Frame outbound from D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rue     False    “Frame inbound to D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rue     True     “Frame wirelessly distribute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 concept is 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not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to / from an 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AP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 concept 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is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to / from the 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DS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We should correct the names of the bi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o AP” is changed to “To D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rom AP” is changed to “From D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2209680"/>
            <a:ext cx="6705720" cy="0"/>
          </a:xfrm>
          <a:prstGeom prst="line">
            <a:avLst/>
          </a:prstGeom>
          <a:ln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0" y="1828800"/>
            <a:ext cx="0" cy="2057400"/>
          </a:xfrm>
          <a:prstGeom prst="line">
            <a:avLst/>
          </a:prstGeom>
          <a:ln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1828800"/>
            <a:ext cx="0" cy="2057400"/>
          </a:xfrm>
          <a:prstGeom prst="line">
            <a:avLst/>
          </a:prstGeom>
          <a:ln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990720" y="68580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onsider cases concepts separated out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90720" y="18288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Before optimizing the addressing needed for each case, we must clearly understand which address is needed for each case and wh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Note: A claim that four addresses are needed in every message is </a:t>
            </a:r>
            <a:r>
              <a:rPr b="1" i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not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going to be m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Independent BSS (“Ad-Hoc”) cas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ase 5: STA to STA dir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Example: Frame originated by S4 destined for S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SA] = Maddr(S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DA] = Maddr(S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TA] = Maddr(S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RA] = Maddr(S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To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From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Infrastructure cas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ase 1: STA to STA, via DS; first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Example: Frame from S1 destined to S2, 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entering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DS via A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SA] = Maddr(S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DA] = Maddr(S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TA] = Maddr(S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RA] = Maddr(A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To] =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rame is inbound to 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From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Infrastructure cas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ase 2: STA to STA via DS; last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Example: Frame from S1 destined to S2, 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exiting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DS via A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SA] = Maddr(S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DA] = Maddr(S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TA] = Maddr(A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RA] = Maddr(S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To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From] =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rame is outbound from 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Infrastructure cas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ase 3: STA to AP; frame destined for 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Example: Frame from S3 destined to A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SA] = Maddr(S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DA] = Maddr(AP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TA] = Maddr(S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RA] = Maddr(AP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To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rame is NOT inbound to DS, it is destined to the A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From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rame is NOT outbound from 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Infrastructure cas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ase 4: AP to STA; frame originated by 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Example: Frame from AP3 destined to S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SA] = Maddr(AP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DA] = Maddr(S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TA] = Maddr(AP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RA] = Maddr(S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To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rame is NOT inbound to 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From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rame is NOT outbound from DS, it originated at the A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Wireless DS c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Guidance from August 94 meeting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Get functionality correct as highest prior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Efficiency improvements follow functionality in prior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Using this guideline, this paper analyzes functionality first, performance improvements sec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Wireless DS general c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14400" y="1371600"/>
            <a:ext cx="7162920" cy="4952880"/>
          </a:xfrm>
          <a:prstGeom prst="rect">
            <a:avLst/>
          </a:prstGeom>
          <a:noFill/>
          <a:ln w="12600">
            <a:solidFill>
              <a:srgbClr val="618ffd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3657600"/>
            <a:ext cx="914400" cy="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3657600"/>
            <a:ext cx="914400" cy="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114800" y="3657600"/>
            <a:ext cx="1981080" cy="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143000" y="5410080"/>
            <a:ext cx="60948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7010280" y="5410080"/>
            <a:ext cx="6094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828800" y="3352680"/>
            <a:ext cx="6858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429000" y="3352680"/>
            <a:ext cx="6858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095880" y="3429000"/>
            <a:ext cx="6858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447920" y="4038480"/>
            <a:ext cx="533160" cy="1371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629400" y="4038480"/>
            <a:ext cx="533520" cy="1371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752480" y="480060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as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7086600" y="44197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as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38280" y="2743200"/>
            <a:ext cx="533880" cy="609840"/>
          </a:xfrm>
          <a:custGeom>
            <a:avLst/>
            <a:gdLst/>
            <a:ahLst/>
            <a:rect l="0" t="0" r="r" b="b"/>
            <a:pathLst>
              <a:path fill="none" w="1483" h="1694">
                <a:moveTo>
                  <a:pt x="1483" y="0"/>
                </a:moveTo>
                <a:lnTo>
                  <a:pt x="1483" y="0"/>
                </a:lnTo>
                <a:cubicBezTo>
                  <a:pt x="1223" y="0"/>
                  <a:pt x="967" y="78"/>
                  <a:pt x="741" y="227"/>
                </a:cubicBezTo>
                <a:cubicBezTo>
                  <a:pt x="516" y="376"/>
                  <a:pt x="329" y="589"/>
                  <a:pt x="199" y="847"/>
                </a:cubicBezTo>
                <a:cubicBezTo>
                  <a:pt x="69" y="1105"/>
                  <a:pt x="0" y="1397"/>
                  <a:pt x="0" y="1694"/>
                </a:cubicBezTo>
              </a:path>
            </a:pathLst>
          </a:custGeom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71800" y="2743200"/>
            <a:ext cx="533880" cy="609840"/>
          </a:xfrm>
          <a:custGeom>
            <a:avLst/>
            <a:gdLst/>
            <a:ahLst/>
            <a:rect l="0" t="0" r="r" b="b"/>
            <a:pathLst>
              <a:path fill="none" w="1483" h="1694">
                <a:moveTo>
                  <a:pt x="1483" y="1694"/>
                </a:moveTo>
                <a:lnTo>
                  <a:pt x="1483" y="1694"/>
                </a:lnTo>
                <a:lnTo>
                  <a:pt x="1483" y="1694"/>
                </a:lnTo>
                <a:cubicBezTo>
                  <a:pt x="1483" y="1397"/>
                  <a:pt x="1414" y="1105"/>
                  <a:pt x="1284" y="847"/>
                </a:cubicBezTo>
                <a:cubicBezTo>
                  <a:pt x="1154" y="589"/>
                  <a:pt x="967" y="376"/>
                  <a:pt x="741" y="227"/>
                </a:cubicBezTo>
                <a:cubicBezTo>
                  <a:pt x="516" y="78"/>
                  <a:pt x="260" y="0"/>
                  <a:pt x="0" y="0"/>
                </a:cubicBezTo>
              </a:path>
            </a:pathLst>
          </a:custGeom>
          <a:ln w="12600">
            <a:solidFill>
              <a:srgbClr val="fc0128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62520" y="2743200"/>
            <a:ext cx="914760" cy="609840"/>
          </a:xfrm>
          <a:custGeom>
            <a:avLst/>
            <a:gdLst/>
            <a:ahLst/>
            <a:rect l="0" t="0" r="r" b="b"/>
            <a:pathLst>
              <a:path fill="none" w="2541" h="1694">
                <a:moveTo>
                  <a:pt x="2541" y="0"/>
                </a:moveTo>
                <a:lnTo>
                  <a:pt x="2541" y="0"/>
                </a:lnTo>
                <a:cubicBezTo>
                  <a:pt x="2095" y="0"/>
                  <a:pt x="1657" y="78"/>
                  <a:pt x="1270" y="227"/>
                </a:cubicBezTo>
                <a:cubicBezTo>
                  <a:pt x="884" y="376"/>
                  <a:pt x="563" y="589"/>
                  <a:pt x="340" y="847"/>
                </a:cubicBezTo>
                <a:cubicBezTo>
                  <a:pt x="117" y="1105"/>
                  <a:pt x="0" y="1397"/>
                  <a:pt x="0" y="1694"/>
                </a:cubicBezTo>
              </a:path>
            </a:pathLst>
          </a:custGeom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4120" y="2743200"/>
            <a:ext cx="838440" cy="686160"/>
          </a:xfrm>
          <a:custGeom>
            <a:avLst/>
            <a:gdLst/>
            <a:ahLst/>
            <a:rect l="0" t="0" r="r" b="b"/>
            <a:pathLst>
              <a:path fill="none" w="2329" h="1906">
                <a:moveTo>
                  <a:pt x="2329" y="1906"/>
                </a:moveTo>
                <a:lnTo>
                  <a:pt x="2329" y="1906"/>
                </a:lnTo>
                <a:lnTo>
                  <a:pt x="2329" y="1906"/>
                </a:lnTo>
                <a:cubicBezTo>
                  <a:pt x="2329" y="1571"/>
                  <a:pt x="2221" y="1243"/>
                  <a:pt x="2017" y="953"/>
                </a:cubicBezTo>
                <a:cubicBezTo>
                  <a:pt x="1813" y="663"/>
                  <a:pt x="1519" y="423"/>
                  <a:pt x="1164" y="255"/>
                </a:cubicBezTo>
                <a:cubicBezTo>
                  <a:pt x="810" y="88"/>
                  <a:pt x="409" y="0"/>
                  <a:pt x="0" y="0"/>
                </a:cubicBezTo>
              </a:path>
            </a:pathLst>
          </a:custGeom>
          <a:ln w="12600">
            <a:solidFill>
              <a:srgbClr val="fc0128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666880" y="2971800"/>
            <a:ext cx="6094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ase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362320" y="1447920"/>
            <a:ext cx="39625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63de8"/>
                </a:solidFill>
                <a:uFillTx/>
                <a:latin typeface="Arial"/>
                <a:ea typeface="Arial"/>
              </a:rPr>
              <a:t>Distribution System Me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4952880"/>
            <a:ext cx="28195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63de8"/>
                </a:solidFill>
                <a:uFillTx/>
                <a:latin typeface="Arial"/>
                <a:ea typeface="Arial"/>
              </a:rPr>
              <a:t>Wireless Me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752480" y="1828800"/>
            <a:ext cx="5334120" cy="685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ff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gical Distribution Service 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ssociation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29200" y="2743200"/>
            <a:ext cx="152280" cy="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48320" y="3048120"/>
            <a:ext cx="91440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ditional WDS lin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2057400" y="2209680"/>
            <a:ext cx="457200" cy="1295640"/>
          </a:xfrm>
          <a:prstGeom prst="line">
            <a:avLst/>
          </a:prstGeom>
          <a:ln w="12600">
            <a:solidFill>
              <a:srgbClr val="00ff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09880" y="2362320"/>
            <a:ext cx="0" cy="1143000"/>
          </a:xfrm>
          <a:prstGeom prst="line">
            <a:avLst/>
          </a:prstGeom>
          <a:ln w="12600">
            <a:solidFill>
              <a:srgbClr val="00ff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248520" y="2286000"/>
            <a:ext cx="228600" cy="1295280"/>
          </a:xfrm>
          <a:prstGeom prst="line">
            <a:avLst/>
          </a:prstGeom>
          <a:ln w="12600">
            <a:solidFill>
              <a:srgbClr val="00ff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Wireless DS c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ase 6: AP to AP, distributing a frame via the wireless medi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Example: Frame from S1 destined to S2, transiting a wireless DS between AP1 and AP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SA] = Maddr (S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DA] = Maddr (S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TA] = Maddr (A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RA] = Maddr (AP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To] =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rame IS inbound to DS from the wireless me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From] =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rame IS outbound from DS onto the wireless me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Wireless DS c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Note: with all four addresses, it is possible to handle an arbitrary number of WDS ho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is provides a general solution for wireless distrib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ixed terminology c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ny loose terms causing confu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Overlapp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withi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when a member of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in the same volume a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ssociated wit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etc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 key concept is 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Overlapping coverage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volu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Ixed mode case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 cases under discussion are those where a STA desires to both make use of the services of an ESS, and also be able to communicate directly with another 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re are 3 combinations which cover the permu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 key is to understand that the state of a STA (with respect to membership in an ESS) is 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orthogonal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to the communication method used for any particular fr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990720" y="1066680"/>
            <a:ext cx="7162920" cy="13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Let’s Consider the mixed mode cases wrt SA, DA, RA, TA, To, &amp; From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ixed mode case 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809880" y="1905120"/>
            <a:ext cx="106668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905120" y="3886200"/>
            <a:ext cx="9144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3809880"/>
            <a:ext cx="9907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95480" y="4191120"/>
            <a:ext cx="2667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352680" y="3733920"/>
            <a:ext cx="160020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ixed mode cases A, B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ixed mode case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1 is a member of a BSS which contains AP1 and is Associated with AP1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7 is 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not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a member of the same B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SA] = Maddr (S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DA] = Maddr (S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TA] = Maddr (S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RA] = Maddr (S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To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rame is NOT inbound to DS from the wireless me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From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rame is NOT outbound from DS onto the wireless me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ixed mode case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7 is a member of a BSS which contains AP1 and is Associated with AP1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1 is 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not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a member of the same B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SA] = Maddr (S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DA] = Maddr (S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TA] = Maddr (S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RA] = Maddr (S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To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rame is NOT inbound to DS from the wireless me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From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rame is NOT outbound from DS onto the wireless me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ixed mode case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1 is a member of a BSS which contains AP1 and S1 is Associated with AP1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7 is also a member of the BSS which contains AP1 and S7 is Associated with AP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SA] = Maddr (S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DA] = Maddr (S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TA] = Maddr (S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RA] = Maddr (S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To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rame is NOT inbound to DS from the wireless me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From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rame is NOT outbound from DS onto the wireless me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onnectivity cas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10 connectivity ca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5 cases from 2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5 additional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All three of the mixed mode cases are the sa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Wrt SA, DA, RA, TA, To &amp; From, all three mixed mode cases are identic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ll three mixed mode cases are also identical to case 5 (direct communic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B3 contains confusion when it talks about the address of the BSS, within a ESS of which S1 is a member, and overload this concept with BSS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o let’s examine the concept of BSSID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BSSID vs mixed mo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It is desirable to have a BSSID so that receiving STAs can filter incoming msgs based on BSS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In particular, there is interest in filtering Broadcast and Multicast ms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BSSID is substituting in our shared media environment for the concept of a “logically separate media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BSSID vs mixed mo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 key question: What is the BSSID that should be used for mixed mode cases A, B and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nswer: The BSS that contains both S1 and S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is 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may or may not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be the same BSS which contains AP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Lets look at each case closer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ixed mode case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143000" y="53352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43000" y="152388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981080" y="2057400"/>
            <a:ext cx="106668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057400" y="4038480"/>
            <a:ext cx="9144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791320" y="3962520"/>
            <a:ext cx="9907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048120" y="4343400"/>
            <a:ext cx="2666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809880" y="3886200"/>
            <a:ext cx="160020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ixed mode case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371600" y="1752480"/>
            <a:ext cx="2209680" cy="3276720"/>
          </a:xfrm>
          <a:prstGeom prst="roundRect">
            <a:avLst/>
          </a:prstGeom>
          <a:noFill/>
          <a:ln w="12600">
            <a:solidFill>
              <a:srgbClr val="618ffd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52480" y="3581280"/>
            <a:ext cx="5638680" cy="1523880"/>
          </a:xfrm>
          <a:prstGeom prst="roundRect">
            <a:avLst/>
          </a:prstGeom>
          <a:noFill/>
          <a:ln w="12600">
            <a:solidFill>
              <a:srgbClr val="00ae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429000" y="1905120"/>
            <a:ext cx="22860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618ffd"/>
                </a:solidFill>
                <a:latin typeface="Arial"/>
                <a:ea typeface="Arial"/>
              </a:rPr>
              <a:t>BSSID = Maddr(AP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267080" y="518148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ae00"/>
                </a:solidFill>
                <a:latin typeface="Arial"/>
                <a:ea typeface="Arial"/>
              </a:rPr>
              <a:t>BSSID = “Ad-Hoc A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ixed mode Case A BSS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For the frame going from S1 to S7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BSSID must = “Ad-Hoc 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is is the only piece of info common to both S1 and S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(Please have trust while we get thru the remaining cases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ixed mode case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143000" y="53352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143000" y="152388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791320" y="1981080"/>
            <a:ext cx="106668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057400" y="4038480"/>
            <a:ext cx="9144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791320" y="3962520"/>
            <a:ext cx="9907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048120" y="4343400"/>
            <a:ext cx="2666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505320" y="3886200"/>
            <a:ext cx="160020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ixed mode case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34120" y="1600200"/>
            <a:ext cx="1981080" cy="3276720"/>
          </a:xfrm>
          <a:prstGeom prst="roundRect">
            <a:avLst/>
          </a:prstGeom>
          <a:noFill/>
          <a:ln w="12600">
            <a:solidFill>
              <a:srgbClr val="618ffd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752480" y="3581280"/>
            <a:ext cx="5638680" cy="1523880"/>
          </a:xfrm>
          <a:prstGeom prst="roundRect">
            <a:avLst/>
          </a:prstGeom>
          <a:noFill/>
          <a:ln w="12600">
            <a:solidFill>
              <a:srgbClr val="00ae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124080" y="1905120"/>
            <a:ext cx="22860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618ffd"/>
                </a:solidFill>
                <a:latin typeface="Arial"/>
                <a:ea typeface="Arial"/>
              </a:rPr>
              <a:t>BSSID = Maddr(AP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505320" y="518148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ae00"/>
                </a:solidFill>
                <a:latin typeface="Arial"/>
                <a:ea typeface="Arial"/>
              </a:rPr>
              <a:t>BSSID = “Ad-Hoc B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ixed mode Case B BSS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For the frame going from S1 to S7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BSSID must = “Ad-Hoc B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is is the only BSSID known to S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is is the only piece of info common to both S1 and S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(Please have trust while we get thru the remaining cases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ixed mode case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43000" y="53352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143000" y="152388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886200" y="2514600"/>
            <a:ext cx="106668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2057400" y="4038480"/>
            <a:ext cx="9144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791320" y="3962520"/>
            <a:ext cx="9907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48120" y="4343400"/>
            <a:ext cx="2666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505320" y="3886200"/>
            <a:ext cx="160020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ixed mode case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371600" y="1752480"/>
            <a:ext cx="6324480" cy="3886200"/>
          </a:xfrm>
          <a:prstGeom prst="roundRect">
            <a:avLst/>
          </a:prstGeom>
          <a:noFill/>
          <a:ln w="12600">
            <a:solidFill>
              <a:srgbClr val="618ffd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752480" y="3581280"/>
            <a:ext cx="5638680" cy="1523880"/>
          </a:xfrm>
          <a:prstGeom prst="roundRect">
            <a:avLst/>
          </a:prstGeom>
          <a:noFill/>
          <a:ln w="12600">
            <a:solidFill>
              <a:srgbClr val="00ae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429000" y="1905120"/>
            <a:ext cx="22860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618ffd"/>
                </a:solidFill>
                <a:latin typeface="Arial"/>
                <a:ea typeface="Arial"/>
              </a:rPr>
              <a:t>BSSID = Maddr(AP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267080" y="518148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ae00"/>
                </a:solidFill>
                <a:latin typeface="Arial"/>
                <a:ea typeface="Arial"/>
              </a:rPr>
              <a:t>BSSID = “Ad-Hoc C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ixed mode Case C BSS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For the frame going from S1 to S7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re are two choices for BSS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d-Hoc C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addr(A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Either will get the msg from the source to the destination without causing any problems at an 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To] = [From] = False, so APs will not attempt to process the fr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Direct communication BSSID conclu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 BSSID must be that of 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a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BSS of which both the Source and Destination stations are me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his allows both choices for Case 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uch a BSS always exists for direct communication c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 choice of BSSID to use for mixed mode case C can be unspecified by 802.11 - either works from the MAC view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he choice of which to use and/or try first is not of significance to 802.11 MAC op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B3 Connectivity cas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936960" y="2855880"/>
            <a:ext cx="660240" cy="398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260440" y="2703600"/>
            <a:ext cx="660240" cy="398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689440" y="2703600"/>
            <a:ext cx="660240" cy="398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276200" y="4151160"/>
            <a:ext cx="495360" cy="398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762600" y="4075200"/>
            <a:ext cx="495360" cy="398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019400" y="4151160"/>
            <a:ext cx="495360" cy="398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343240" y="5599080"/>
            <a:ext cx="495360" cy="398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33720" y="1905120"/>
            <a:ext cx="4267080" cy="990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523880" y="3124080"/>
            <a:ext cx="990720" cy="9907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90920" y="2666880"/>
            <a:ext cx="33526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19920" y="3124080"/>
            <a:ext cx="914400" cy="914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619600" y="5599080"/>
            <a:ext cx="495360" cy="398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114800" y="327672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19720" y="327672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5791320"/>
            <a:ext cx="23619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371600" y="3352680"/>
            <a:ext cx="3808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629400" y="3200400"/>
            <a:ext cx="3808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48320" y="3581280"/>
            <a:ext cx="3808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505320" y="3581280"/>
            <a:ext cx="3808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962520" y="5334120"/>
            <a:ext cx="3808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962520" y="1600200"/>
            <a:ext cx="762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stribution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114800" y="2209680"/>
            <a:ext cx="3808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0" y="220968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From 94/v4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Infrastructure BSSID val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For BSSs which are part of an 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     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BSSID = Maddr(AP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Using ESSID to find BSS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In an ESS, a STA learns about local A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What it learns is { ESSID, Maddr(AP) } p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ontained in beacons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TAs wishing to join a particular administrative group, pick an AP by using the Maddr(AP) of an AP which belongs to the desired administrative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Using Ad-Hoc admin group to find BSSI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 BSSID of an IBSS = Maddr( the STA which initiated establishment of the B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 same mechanism used by a STA to find BSSID from ESSID is suffici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 STA wishing to join an IBSS simply selects a Maddr which corresponds with the desired administrative group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Independent BSSID val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onclusion: For Independent BSSs, BSSID = Maddr( the STA which initiated establishment of the BS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is supports as much differentiation between different IBSSs  as desi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us broadcast, multicast filtering by BSSID is provi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ixed mode interaction conclusio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t any given insta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 STA may be a member of zero or 1 ES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 STA may be a member of as many IBSSs as it desi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ince APs are STAs, this also applies to A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WDS compon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3600" spc="-1" strike="noStrike" u="sng">
                <a:solidFill>
                  <a:srgbClr val="001af0"/>
                </a:solidFill>
                <a:uFillTx/>
                <a:latin typeface="Arial"/>
                <a:ea typeface="Arial"/>
              </a:rPr>
              <a:t>Logically</a:t>
            </a:r>
            <a:r>
              <a:rPr b="1" i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, </a:t>
            </a: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IBSSs are used to build WDS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14400" y="3657600"/>
            <a:ext cx="914400" cy="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514600" y="3657600"/>
            <a:ext cx="914400" cy="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114800" y="3657600"/>
            <a:ext cx="1981080" cy="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143000" y="5410080"/>
            <a:ext cx="60948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010280" y="5410080"/>
            <a:ext cx="6094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828800" y="3352680"/>
            <a:ext cx="6858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429000" y="3352680"/>
            <a:ext cx="6858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095880" y="3429000"/>
            <a:ext cx="6858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1447920" y="4038480"/>
            <a:ext cx="533160" cy="1371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4038480"/>
            <a:ext cx="533520" cy="1371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752480" y="480060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as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7086600" y="44197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as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2743200"/>
            <a:ext cx="533880" cy="609840"/>
          </a:xfrm>
          <a:custGeom>
            <a:avLst/>
            <a:gdLst/>
            <a:ahLst/>
            <a:rect l="0" t="0" r="r" b="b"/>
            <a:pathLst>
              <a:path fill="none" w="1483" h="1694">
                <a:moveTo>
                  <a:pt x="1483" y="0"/>
                </a:moveTo>
                <a:lnTo>
                  <a:pt x="1483" y="0"/>
                </a:lnTo>
                <a:cubicBezTo>
                  <a:pt x="1223" y="0"/>
                  <a:pt x="967" y="78"/>
                  <a:pt x="741" y="227"/>
                </a:cubicBezTo>
                <a:cubicBezTo>
                  <a:pt x="516" y="376"/>
                  <a:pt x="329" y="589"/>
                  <a:pt x="199" y="847"/>
                </a:cubicBezTo>
                <a:cubicBezTo>
                  <a:pt x="69" y="1105"/>
                  <a:pt x="0" y="1397"/>
                  <a:pt x="0" y="1694"/>
                </a:cubicBezTo>
              </a:path>
            </a:pathLst>
          </a:custGeom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2743200"/>
            <a:ext cx="533880" cy="609840"/>
          </a:xfrm>
          <a:custGeom>
            <a:avLst/>
            <a:gdLst/>
            <a:ahLst/>
            <a:rect l="0" t="0" r="r" b="b"/>
            <a:pathLst>
              <a:path fill="none" w="1483" h="1694">
                <a:moveTo>
                  <a:pt x="1483" y="1694"/>
                </a:moveTo>
                <a:lnTo>
                  <a:pt x="1483" y="1694"/>
                </a:lnTo>
                <a:lnTo>
                  <a:pt x="1483" y="1694"/>
                </a:lnTo>
                <a:cubicBezTo>
                  <a:pt x="1483" y="1397"/>
                  <a:pt x="1414" y="1105"/>
                  <a:pt x="1284" y="847"/>
                </a:cubicBezTo>
                <a:cubicBezTo>
                  <a:pt x="1154" y="589"/>
                  <a:pt x="967" y="376"/>
                  <a:pt x="741" y="227"/>
                </a:cubicBezTo>
                <a:cubicBezTo>
                  <a:pt x="516" y="78"/>
                  <a:pt x="260" y="0"/>
                  <a:pt x="0" y="0"/>
                </a:cubicBezTo>
              </a:path>
            </a:pathLst>
          </a:custGeom>
          <a:ln w="12600">
            <a:solidFill>
              <a:srgbClr val="fc0128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962520" y="2743200"/>
            <a:ext cx="914760" cy="609840"/>
          </a:xfrm>
          <a:custGeom>
            <a:avLst/>
            <a:gdLst/>
            <a:ahLst/>
            <a:rect l="0" t="0" r="r" b="b"/>
            <a:pathLst>
              <a:path fill="none" w="2541" h="1694">
                <a:moveTo>
                  <a:pt x="2541" y="0"/>
                </a:moveTo>
                <a:lnTo>
                  <a:pt x="2541" y="0"/>
                </a:lnTo>
                <a:cubicBezTo>
                  <a:pt x="2095" y="0"/>
                  <a:pt x="1657" y="78"/>
                  <a:pt x="1270" y="227"/>
                </a:cubicBezTo>
                <a:cubicBezTo>
                  <a:pt x="884" y="376"/>
                  <a:pt x="563" y="589"/>
                  <a:pt x="340" y="847"/>
                </a:cubicBezTo>
                <a:cubicBezTo>
                  <a:pt x="117" y="1105"/>
                  <a:pt x="0" y="1397"/>
                  <a:pt x="0" y="1694"/>
                </a:cubicBezTo>
              </a:path>
            </a:pathLst>
          </a:custGeom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334120" y="2743200"/>
            <a:ext cx="838440" cy="686160"/>
          </a:xfrm>
          <a:custGeom>
            <a:avLst/>
            <a:gdLst/>
            <a:ahLst/>
            <a:rect l="0" t="0" r="r" b="b"/>
            <a:pathLst>
              <a:path fill="none" w="2329" h="1906">
                <a:moveTo>
                  <a:pt x="2329" y="1906"/>
                </a:moveTo>
                <a:lnTo>
                  <a:pt x="2329" y="1906"/>
                </a:lnTo>
                <a:lnTo>
                  <a:pt x="2329" y="1906"/>
                </a:lnTo>
                <a:cubicBezTo>
                  <a:pt x="2329" y="1571"/>
                  <a:pt x="2221" y="1243"/>
                  <a:pt x="2017" y="953"/>
                </a:cubicBezTo>
                <a:cubicBezTo>
                  <a:pt x="1813" y="663"/>
                  <a:pt x="1519" y="423"/>
                  <a:pt x="1164" y="255"/>
                </a:cubicBezTo>
                <a:cubicBezTo>
                  <a:pt x="810" y="88"/>
                  <a:pt x="409" y="0"/>
                  <a:pt x="0" y="0"/>
                </a:cubicBezTo>
              </a:path>
            </a:pathLst>
          </a:custGeom>
          <a:ln w="12600">
            <a:solidFill>
              <a:srgbClr val="fc0128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666880" y="2971800"/>
            <a:ext cx="6094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ase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2362320" y="14479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63de8"/>
                </a:solidFill>
                <a:uFillTx/>
                <a:latin typeface="Arial"/>
                <a:ea typeface="Arial"/>
              </a:rPr>
              <a:t>Distribution System Me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2971800" y="4952880"/>
            <a:ext cx="28195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63de8"/>
                </a:solidFill>
                <a:uFillTx/>
                <a:latin typeface="Arial"/>
                <a:ea typeface="Arial"/>
              </a:rPr>
              <a:t>Wireless Me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752480" y="1828800"/>
            <a:ext cx="5334120" cy="685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ff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gical Distribution Service 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ssociation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029200" y="2743200"/>
            <a:ext cx="152280" cy="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648320" y="3048120"/>
            <a:ext cx="91440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ditional WDS lin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676520" y="2666880"/>
            <a:ext cx="2514600" cy="1600200"/>
          </a:xfrm>
          <a:prstGeom prst="roundRect">
            <a:avLst/>
          </a:prstGeom>
          <a:noFill/>
          <a:ln w="38160">
            <a:solidFill>
              <a:srgbClr val="8901f3"/>
            </a:solidFill>
            <a:round/>
            <a:tailEnd len="med" type="triangle" w="med"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2057400" y="2209680"/>
            <a:ext cx="457200" cy="1295640"/>
          </a:xfrm>
          <a:prstGeom prst="line">
            <a:avLst/>
          </a:prstGeom>
          <a:ln w="12600">
            <a:solidFill>
              <a:srgbClr val="00ff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809880" y="2362320"/>
            <a:ext cx="0" cy="1143000"/>
          </a:xfrm>
          <a:prstGeom prst="line">
            <a:avLst/>
          </a:prstGeom>
          <a:ln w="12600">
            <a:solidFill>
              <a:srgbClr val="00ff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248520" y="2286000"/>
            <a:ext cx="228600" cy="1295280"/>
          </a:xfrm>
          <a:prstGeom prst="line">
            <a:avLst/>
          </a:prstGeom>
          <a:ln w="12600">
            <a:solidFill>
              <a:srgbClr val="00ff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429000" y="4343400"/>
            <a:ext cx="45720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8901f3"/>
                </a:solidFill>
                <a:latin typeface="Arial"/>
                <a:ea typeface="Arial"/>
              </a:rPr>
              <a:t>IB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3600" spc="-1" strike="noStrike" u="sng">
                <a:solidFill>
                  <a:srgbClr val="001af0"/>
                </a:solidFill>
                <a:uFillTx/>
                <a:latin typeface="Arial"/>
                <a:ea typeface="Arial"/>
              </a:rPr>
              <a:t>Logically</a:t>
            </a:r>
            <a:r>
              <a:rPr b="1" i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, </a:t>
            </a: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IBSSs are used to build WDS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wo APs must be in direct communication or they can not be used to wirelessly distribute a fr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Interestingly, the BSSID of the </a:t>
            </a:r>
            <a:r>
              <a:rPr b="1" i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logical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IBSS is 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not required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within the case 6 fr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See case 6 frame examples later in pap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Only a DS need know how APs are rel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(In order to figure out which APs to use to wirelessly distribute a fram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If were needed, the logically correct BSSID for a case 6 frame is the ID of the BSS which contains both AP1 </a:t>
            </a:r>
            <a:r>
              <a:rPr b="1" lang="en-US" sz="18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AND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 AP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Whether a DS actually does, or does not, set up the logical IBSSs is irrelevant to the 802.11 MA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obile STAs neither need to know, nor care, about these logical BS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Observations about WDS cas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ase 6 is only required for wirelessly distributed 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DATA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type fra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ontrol frames 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never transit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a 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TS, CTS, ACK,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nagement frames 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never transit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a 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hey are always between directly communicating 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STA to STA in a B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STA to AP in an 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Only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Data frames are ever Distributed and hence transit a 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Observations about WDS cas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ase 6 (WDS) is the 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only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case where all four logical addresses can actually have 4 distinct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In all case 6 “hops”, the 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logical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Distribution Service, is invok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equired in order to access the Association information to determine how to distribute the original frame from S1 to S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Whether this functionality is implemented within a physical AP is not relev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Additional c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990720" y="106668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ommittee discussion has been using loose terminology, resulting in less than optimum ana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tricter terminology and attention to notational detail are required to correctly understand all the c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refore, the first step in the analysis is to establish more precise terminolog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WDS Data frame suppor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We should enable support of W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Wirelessly distributed msgs are identified by  [To] = [From] =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WDS link msgs use a WDS Data hea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rovides support for WDS lin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Only a small amount of additional information is needed (above a normal Data header) for specific ms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One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Overhead cost is only paid for msgs that are actually wirelessly distrib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No other msgs have increased overhe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WDS Data hea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143000" y="2438280"/>
            <a:ext cx="2514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36 / B3 DATA 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657600" y="2438280"/>
            <a:ext cx="6858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i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0" y="2438280"/>
            <a:ext cx="33526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S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2819520" y="3352680"/>
            <a:ext cx="32767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esent IFF [To] = [From] = TRUE in FC 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114800" y="3048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1143000" y="22096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143000" y="220968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343400" y="22096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1600200" y="1905120"/>
            <a:ext cx="190512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DS Data 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Impacts on frame heade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Now that we have explored the previously overloaded concepts, lets look at what this means for frame header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Header Address field contents for each msg typ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ll 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SA field ] = TA = Maddr( transmitting STA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DA field ] = RA = Maddr( receiving STA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To DS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From DS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ll 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DA field ] = RA = Maddr( receiving STA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To DS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From DS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Header Address field contents for each msg typ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ll 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DA field ] = RA = Maddr( receiving STA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To DS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From DS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PO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ll 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SA field ] = TA = Maddr( transmitting STA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To DS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From DS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Header Address field contents for each msg typ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ATA &amp; M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as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BSSID field ] = Maddr (A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SA field ]  = Maddr (S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DA field ] = Maddr (S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To DS] =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From DS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Header Address field contents for each msg typ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ATA &amp; M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as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BSSID field ] = Maddr (A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SA field ] = Maddr (S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DA field ] = Maddr (S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To DS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From DS] =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Header Address field contents for each msg typ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ATA &amp; M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as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BSSID field ] = Maddr (AP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SA field ] = Maddr (S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DA field ] = Maddr (AP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To DS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From DS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Header Address field contents for each msg typ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ATA &amp; M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as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BSSID field ] = Maddr (AP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SA field ] = Maddr (AP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DA field ] = Maddr (S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To DS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From DS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Header Address field contents for each msg typ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ATA &amp; M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ases 5, A &amp; 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(case 5 example show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BSSID field ] = Maddr (ad-hoc initiating S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SA field ] = Maddr (S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DA field ] = Maddr (S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To DS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From DS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Terminology problem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TAn has been used to describe both a station and a station’s addr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Ps, and their address are described as AP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his obscures the fact that APs </a:t>
            </a:r>
            <a:r>
              <a:rPr b="1" lang="en-US" sz="18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ARE 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St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his obscures the fact that APs straddle two logically different  address spac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he two address spaces </a:t>
            </a:r>
            <a:r>
              <a:rPr b="1" lang="en-US" sz="18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could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 physically be the s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his lead to 94/v4’s case 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Header Address field contents for each msg typ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ATA &amp; M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ase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BSSID field ] = Maddr (AP1) or Maddr (ad-hoc initiating S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SA field ] = Maddr (S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DA field ] = Maddr (S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To DS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From DS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Header Address field contents for each msg typ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ATA (WDS DATA support fra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ase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(using 236/B3 field nam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BSSID field ] = Maddr (AP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Is actually RA 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SA field ] = Maddr (A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Is actually TA 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DA field ] = Maddr (S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Is actually DA 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Orig SA ] = Maddr (S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Is actually SA 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To DS ] =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From DS ] =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Header Address field contents for each msg typ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It is proposed that for the WDS Data header, the fields be renamed to accurately reflect their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 case 6 example would beco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ATA (WDS DATA support fra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ase 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RA ] = Maddr (AP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TA ] = Maddr (A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DA ] = Maddr (S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SA ] = Maddr (S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To DS ] =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From DS ] =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Header Address field contents for each msg typ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WDS DATA header field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371600" y="1828800"/>
            <a:ext cx="5181840" cy="380880"/>
            <a:chOff x="1371600" y="1828800"/>
            <a:chExt cx="5181840" cy="380880"/>
          </a:xfrm>
        </p:grpSpPr>
        <p:sp>
          <p:nvSpPr>
            <p:cNvPr id="307" name=""/>
            <p:cNvSpPr txBox="1"/>
            <p:nvPr/>
          </p:nvSpPr>
          <p:spPr>
            <a:xfrm>
              <a:off x="1371600" y="1828800"/>
              <a:ext cx="5335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 txBox="1"/>
            <p:nvPr/>
          </p:nvSpPr>
          <p:spPr>
            <a:xfrm>
              <a:off x="1905120" y="1828800"/>
              <a:ext cx="5335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 txBox="1"/>
            <p:nvPr/>
          </p:nvSpPr>
          <p:spPr>
            <a:xfrm>
              <a:off x="2438280" y="1828800"/>
              <a:ext cx="5335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 txBox="1"/>
            <p:nvPr/>
          </p:nvSpPr>
          <p:spPr>
            <a:xfrm>
              <a:off x="2971800" y="1828800"/>
              <a:ext cx="5335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 txBox="1"/>
            <p:nvPr/>
          </p:nvSpPr>
          <p:spPr>
            <a:xfrm>
              <a:off x="3505320" y="1828800"/>
              <a:ext cx="8380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q #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 txBox="1"/>
            <p:nvPr/>
          </p:nvSpPr>
          <p:spPr>
            <a:xfrm>
              <a:off x="4343400" y="1828800"/>
              <a:ext cx="91440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ag #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 txBox="1"/>
            <p:nvPr/>
          </p:nvSpPr>
          <p:spPr>
            <a:xfrm>
              <a:off x="5257800" y="1828800"/>
              <a:ext cx="7621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 txBox="1"/>
            <p:nvPr/>
          </p:nvSpPr>
          <p:spPr>
            <a:xfrm>
              <a:off x="6019920" y="1828800"/>
              <a:ext cx="5335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Extended B3 Hea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990720" y="106668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PO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ATA / M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WD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1676520" y="5867280"/>
            <a:ext cx="5486400" cy="380880"/>
            <a:chOff x="1676520" y="5867280"/>
            <a:chExt cx="5486400" cy="380880"/>
          </a:xfrm>
        </p:grpSpPr>
        <p:sp>
          <p:nvSpPr>
            <p:cNvPr id="318" name=""/>
            <p:cNvSpPr txBox="1"/>
            <p:nvPr/>
          </p:nvSpPr>
          <p:spPr>
            <a:xfrm>
              <a:off x="1676520" y="5867280"/>
              <a:ext cx="5335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 txBox="1"/>
            <p:nvPr/>
          </p:nvSpPr>
          <p:spPr>
            <a:xfrm>
              <a:off x="2209680" y="5867280"/>
              <a:ext cx="8380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3048120" y="5867280"/>
              <a:ext cx="4114800" cy="380880"/>
              <a:chOff x="3048120" y="5867280"/>
              <a:chExt cx="4114800" cy="380880"/>
            </a:xfrm>
          </p:grpSpPr>
          <p:sp>
            <p:nvSpPr>
              <p:cNvPr id="321" name=""/>
              <p:cNvSpPr txBox="1"/>
              <p:nvPr/>
            </p:nvSpPr>
            <p:spPr>
              <a:xfrm>
                <a:off x="3048120" y="5867280"/>
                <a:ext cx="53352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 txBox="1"/>
              <p:nvPr/>
            </p:nvSpPr>
            <p:spPr>
              <a:xfrm>
                <a:off x="3581280" y="5867280"/>
                <a:ext cx="53352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 txBox="1"/>
              <p:nvPr/>
            </p:nvSpPr>
            <p:spPr>
              <a:xfrm>
                <a:off x="4114800" y="5867280"/>
                <a:ext cx="83808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q #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 txBox="1"/>
              <p:nvPr/>
            </p:nvSpPr>
            <p:spPr>
              <a:xfrm>
                <a:off x="4952880" y="5867280"/>
                <a:ext cx="91440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rag #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 txBox="1"/>
              <p:nvPr/>
            </p:nvSpPr>
            <p:spPr>
              <a:xfrm>
                <a:off x="5867280" y="5867280"/>
                <a:ext cx="76212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u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 txBox="1"/>
              <p:nvPr/>
            </p:nvSpPr>
            <p:spPr>
              <a:xfrm>
                <a:off x="6629400" y="5867280"/>
                <a:ext cx="53352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7" name=""/>
          <p:cNvGrpSpPr/>
          <p:nvPr/>
        </p:nvGrpSpPr>
        <p:grpSpPr>
          <a:xfrm>
            <a:off x="1676520" y="4952880"/>
            <a:ext cx="4952880" cy="380880"/>
            <a:chOff x="1676520" y="4952880"/>
            <a:chExt cx="4952880" cy="380880"/>
          </a:xfrm>
        </p:grpSpPr>
        <p:sp>
          <p:nvSpPr>
            <p:cNvPr id="328" name=""/>
            <p:cNvSpPr txBox="1"/>
            <p:nvPr/>
          </p:nvSpPr>
          <p:spPr>
            <a:xfrm>
              <a:off x="1676520" y="4952880"/>
              <a:ext cx="5335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 txBox="1"/>
            <p:nvPr/>
          </p:nvSpPr>
          <p:spPr>
            <a:xfrm>
              <a:off x="2209680" y="4952880"/>
              <a:ext cx="8380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SS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 txBox="1"/>
            <p:nvPr/>
          </p:nvSpPr>
          <p:spPr>
            <a:xfrm>
              <a:off x="3048120" y="4952880"/>
              <a:ext cx="5335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 txBox="1"/>
            <p:nvPr/>
          </p:nvSpPr>
          <p:spPr>
            <a:xfrm>
              <a:off x="3581280" y="4952880"/>
              <a:ext cx="5335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 txBox="1"/>
            <p:nvPr/>
          </p:nvSpPr>
          <p:spPr>
            <a:xfrm>
              <a:off x="4114800" y="4952880"/>
              <a:ext cx="8380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q #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 txBox="1"/>
            <p:nvPr/>
          </p:nvSpPr>
          <p:spPr>
            <a:xfrm>
              <a:off x="4952880" y="4952880"/>
              <a:ext cx="91440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ag #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 txBox="1"/>
            <p:nvPr/>
          </p:nvSpPr>
          <p:spPr>
            <a:xfrm>
              <a:off x="5867280" y="4952880"/>
              <a:ext cx="7621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"/>
          <p:cNvSpPr txBox="1"/>
          <p:nvPr/>
        </p:nvSpPr>
        <p:spPr>
          <a:xfrm>
            <a:off x="3048120" y="3276720"/>
            <a:ext cx="53352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5867280" y="3276720"/>
            <a:ext cx="76212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1676520" y="1447920"/>
            <a:ext cx="4952880" cy="380880"/>
            <a:chOff x="1676520" y="1447920"/>
            <a:chExt cx="4952880" cy="380880"/>
          </a:xfrm>
        </p:grpSpPr>
        <p:grpSp>
          <p:nvGrpSpPr>
            <p:cNvPr id="338" name=""/>
            <p:cNvGrpSpPr/>
            <p:nvPr/>
          </p:nvGrpSpPr>
          <p:grpSpPr>
            <a:xfrm>
              <a:off x="1676520" y="1447920"/>
              <a:ext cx="4952880" cy="380880"/>
              <a:chOff x="1676520" y="1447920"/>
              <a:chExt cx="4952880" cy="380880"/>
            </a:xfrm>
          </p:grpSpPr>
          <p:sp>
            <p:nvSpPr>
              <p:cNvPr id="339" name=""/>
              <p:cNvSpPr txBox="1"/>
              <p:nvPr/>
            </p:nvSpPr>
            <p:spPr>
              <a:xfrm>
                <a:off x="1676520" y="1447920"/>
                <a:ext cx="53352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 txBox="1"/>
              <p:nvPr/>
            </p:nvSpPr>
            <p:spPr>
              <a:xfrm>
                <a:off x="3048120" y="1447920"/>
                <a:ext cx="53352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 txBox="1"/>
              <p:nvPr/>
            </p:nvSpPr>
            <p:spPr>
              <a:xfrm>
                <a:off x="3581280" y="1447920"/>
                <a:ext cx="53352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 txBox="1"/>
              <p:nvPr/>
            </p:nvSpPr>
            <p:spPr>
              <a:xfrm>
                <a:off x="5867280" y="1447920"/>
                <a:ext cx="76212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u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2209680" y="1828800"/>
              <a:ext cx="838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114800" y="1828800"/>
              <a:ext cx="17524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1676520" y="2362320"/>
            <a:ext cx="4952880" cy="380880"/>
            <a:chOff x="1676520" y="2362320"/>
            <a:chExt cx="4952880" cy="380880"/>
          </a:xfrm>
        </p:grpSpPr>
        <p:grpSp>
          <p:nvGrpSpPr>
            <p:cNvPr id="346" name=""/>
            <p:cNvGrpSpPr/>
            <p:nvPr/>
          </p:nvGrpSpPr>
          <p:grpSpPr>
            <a:xfrm>
              <a:off x="1676520" y="2362320"/>
              <a:ext cx="4952880" cy="380880"/>
              <a:chOff x="1676520" y="2362320"/>
              <a:chExt cx="4952880" cy="380880"/>
            </a:xfrm>
          </p:grpSpPr>
          <p:sp>
            <p:nvSpPr>
              <p:cNvPr id="347" name=""/>
              <p:cNvSpPr txBox="1"/>
              <p:nvPr/>
            </p:nvSpPr>
            <p:spPr>
              <a:xfrm>
                <a:off x="1676520" y="2362320"/>
                <a:ext cx="53352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 txBox="1"/>
              <p:nvPr/>
            </p:nvSpPr>
            <p:spPr>
              <a:xfrm>
                <a:off x="3048120" y="2362320"/>
                <a:ext cx="53352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 txBox="1"/>
              <p:nvPr/>
            </p:nvSpPr>
            <p:spPr>
              <a:xfrm>
                <a:off x="5867280" y="2362320"/>
                <a:ext cx="76212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u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2209680" y="2743200"/>
              <a:ext cx="8384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81280" y="2743200"/>
              <a:ext cx="22860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1676520" y="3276720"/>
            <a:ext cx="4190760" cy="380880"/>
            <a:chOff x="1676520" y="3276720"/>
            <a:chExt cx="4190760" cy="380880"/>
          </a:xfrm>
        </p:grpSpPr>
        <p:sp>
          <p:nvSpPr>
            <p:cNvPr id="353" name=""/>
            <p:cNvSpPr txBox="1"/>
            <p:nvPr/>
          </p:nvSpPr>
          <p:spPr>
            <a:xfrm>
              <a:off x="1676520" y="3276720"/>
              <a:ext cx="5335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209680" y="3657600"/>
              <a:ext cx="8384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581280" y="3657600"/>
              <a:ext cx="22860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1676520" y="4114800"/>
            <a:ext cx="2438280" cy="380880"/>
            <a:chOff x="1676520" y="4114800"/>
            <a:chExt cx="2438280" cy="380880"/>
          </a:xfrm>
        </p:grpSpPr>
        <p:sp>
          <p:nvSpPr>
            <p:cNvPr id="357" name=""/>
            <p:cNvSpPr txBox="1"/>
            <p:nvPr/>
          </p:nvSpPr>
          <p:spPr>
            <a:xfrm>
              <a:off x="1676520" y="4114800"/>
              <a:ext cx="5335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 txBox="1"/>
            <p:nvPr/>
          </p:nvSpPr>
          <p:spPr>
            <a:xfrm>
              <a:off x="2209680" y="4114800"/>
              <a:ext cx="8380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SS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 txBox="1"/>
            <p:nvPr/>
          </p:nvSpPr>
          <p:spPr>
            <a:xfrm>
              <a:off x="3581280" y="4114800"/>
              <a:ext cx="5335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048120" y="4495680"/>
              <a:ext cx="5331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onclusio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802.11 should adopt the proposed changes to extrend the B3 frame formats to enable support of Wiress Distribution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Terminology problem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 loose english concepts of “within a BSS”, “within an ESS”, “a member of a BSS”, “associated” and “in the same physical volume” have been used interchangeab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his has caused much confusion among me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here are several of these cases depending on how the loose terms are interpre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94/v4 identified 2 (v4 cases 7, 8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Let’s get more formal in terminolog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ddr(sta) == 802.11 MAC address of a 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his can only be a wireless medium address as that is the only address space used by 802.1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his notation is for 802.11 st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his covers both STAs and APs, since APs are addressable STAs within the 802.11 MAC address sp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Saddr(sta) == the DS address of an A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his is the address used by the DS to address the </a:t>
            </a:r>
            <a:r>
              <a:rPr b="1" lang="en-US" sz="18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DS side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 of an A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he details of the DS address space are dependent on the DS implementation and outside the scope of 802.1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he single DS implementation that 802.11 impacts is when a DS is implemented using an 802.11 wireless medi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