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00092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8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57560" y="334800"/>
            <a:ext cx="4545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296199E-FF64-45FA-93D8-0BC663E71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_Se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20574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Act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2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PAS = 2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Pass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16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 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MFC = DIFS + PDP +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non-DTBS supporting station the default Access Priority setting should be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w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0960" y="1676520"/>
            <a:ext cx="839304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umber_of_Pri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icates the number of different priority levels supported by the Phy. A “1” indicates that no priority mechanism is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AS_Du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s the duration of the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priority the following parameter sets are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DP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DP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AS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AS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x indicates the priority level (1 is high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MIB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usyFilt:  Specifies the “Busy medium” condition under which the Backoff algorithm will be exit, to defer untill the next PR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 can be derived per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4200" y="1681200"/>
            <a:ext cx="5737320" cy="5102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32440" y="487980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029200"/>
            <a:ext cx="1219680" cy="457560"/>
          </a:xfrm>
          <a:custGeom>
            <a:avLst/>
            <a:gdLst/>
            <a:ahLst/>
            <a:rect l="0" t="0" r="r" b="b"/>
            <a:pathLst>
              <a:path w="3388" h="1271">
                <a:moveTo>
                  <a:pt x="3388" y="423"/>
                </a:moveTo>
                <a:lnTo>
                  <a:pt x="3388" y="847"/>
                </a:lnTo>
                <a:lnTo>
                  <a:pt x="1129" y="847"/>
                </a:lnTo>
                <a:lnTo>
                  <a:pt x="1129" y="1271"/>
                </a:lnTo>
                <a:lnTo>
                  <a:pt x="0" y="635"/>
                </a:lnTo>
                <a:lnTo>
                  <a:pt x="1129" y="0"/>
                </a:lnTo>
                <a:lnTo>
                  <a:pt x="1129" y="423"/>
                </a:lnTo>
                <a:lnTo>
                  <a:pt x="3388" y="423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quirements on the 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w Class definition is needed to allow a Phy independent PAS signal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END_PAS, 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rameters can be the same as for the START_OF_ACTIVITY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 can choose to use the same modulation as used in the PLCP header, with the length determined by the aPAS_Duration MIB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odulation suitable for detection by the CCA detection mechanism can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!CCA detection mechanism should be suitable to signal the detection of a PAS signal mod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193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56480" y="366084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9160" y="1816200"/>
            <a:ext cx="6032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ervice map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ue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t least tw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 and Queuing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dditional Priority specif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is not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in a Multi-priority environment, the AP should not be given a seperat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 relative Priority settings should only be allowed for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AP_CWmin = STA-CWmin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mechanism presented to the combined MAC/PHY meeting on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mechanism was accepted in the MAC group in the September meeting (with a sligth modif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20B3 draft changes have been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AC will not only need to support the current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so the future Phy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ossibly higher speed extensions of the current Phy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echanism can serve different Phy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do not support a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can support a passive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can support an active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not all Phy standards need to support the coexistance mechanism for the optional DTBS service provisions.  7/37/15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dd: Each phy will specify if it supports this or not as part of its standard Dave/Leon 8/37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AC should implement the Access priority mechanism as described in this proposal as documented in document 94_258x. 7/35/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ervice suppor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l stations need to provide “DTBS-Coexistance” pro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Phy’s need to specify DTBS capabilit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tate Machine in the MAC can support multiple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s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ct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perational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iven PHY standard shall specify only one access priority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upport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oexistence mechanisms need to be implemented in every node to assure proper operation in the presence of stations that do implement th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upport levels can be classified in two different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coexistenc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ccess priority mechanism. A part of this needs to be included in all stations to assure coexistance with the DTBS service, even when it is not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nterface and priorit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definition of the LLC interface, and its control by means of the QoS parameter, and the translation of this to the priorit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n-DTBS capable stations a fixed priority mapping is to be assig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implementation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8672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minimum coexistance mechanism is to be included in al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1440" y="1697040"/>
            <a:ext cx="664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verage of t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posal will only cover the “Access Priority “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a MAC State Machine to support the full Access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minimum coexistance provision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s the MIB attribut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es AP versus Station relative priority characte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DTBS support specifications in particular the LLC interface and Service specifications are documented in doc 94/196, but are not covered by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Generic priority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37339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 contention resolution phase with a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Priority resolution Phas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“Medium Free Condition” is met at initial access attempt, then transmission can start immediately without any priority or contention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FC can be priority level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0920" y="1793880"/>
            <a:ext cx="8042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ic Priority resolution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800600"/>
            <a:ext cx="8458200" cy="16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can support both active and passive priority resolution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Basic (coexistance)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f “Busy Medium” is detected during PDP period, then defer untill the next Priority Resolution Window (PR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90840" y="1854360"/>
            <a:ext cx="669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0666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ingle State Machine support both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5715000"/>
            <a:ext cx="8381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d by the PDP and PAS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parameters are needed per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6040" y="1774800"/>
            <a:ext cx="6257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5791320"/>
            <a:ext cx="83930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is not shown i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does not contend with HP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865160"/>
            <a:ext cx="9448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