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000920" y="455760"/>
            <a:ext cx="226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258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57560" y="334800"/>
            <a:ext cx="4545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BS Standard specificatio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52D77C9F-7792-4E0E-B030-A8823A212F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TBS Standard Specification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: Wim Diepst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_Set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0960" y="20574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Active priority set" example for a 2 priority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2 slots,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0 slots, PAS = 2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Passive priority set" example for a 2 priority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16 slots,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0 slots,  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MFC = DIFS + PDP +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non-DTBS supporting station the default Access Priority setting should be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ow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B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0960" y="1676520"/>
            <a:ext cx="8393040" cy="43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umber_of_Prio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icates the number of different priority levels supported by the Phy. A “1” indicates that no priority mechanism is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AS_Du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s the duration of the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priority the following parameter sets are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DP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es the PDP duration in usec for priorit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AS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es the PAS duration in usec for priorit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x indicates the priority level (1 is highe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MIB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usyFilt:  Specifies the “Busy medium” condition under which the Backoff algorithm will be exit, to defer untill the next PR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FC can be derived per priorit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Transmitter State Mac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84200" y="1681200"/>
            <a:ext cx="5737320" cy="5102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32440" y="4879800"/>
            <a:ext cx="2981160" cy="8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Only needed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TB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029200"/>
            <a:ext cx="1219680" cy="457560"/>
          </a:xfrm>
          <a:custGeom>
            <a:avLst/>
            <a:gdLst/>
            <a:ahLst/>
            <a:rect l="0" t="0" r="r" b="b"/>
            <a:pathLst>
              <a:path w="3388" h="1271">
                <a:moveTo>
                  <a:pt x="3388" y="423"/>
                </a:moveTo>
                <a:lnTo>
                  <a:pt x="3388" y="847"/>
                </a:lnTo>
                <a:lnTo>
                  <a:pt x="1129" y="847"/>
                </a:lnTo>
                <a:lnTo>
                  <a:pt x="1129" y="1271"/>
                </a:lnTo>
                <a:lnTo>
                  <a:pt x="0" y="635"/>
                </a:lnTo>
                <a:lnTo>
                  <a:pt x="1129" y="0"/>
                </a:lnTo>
                <a:lnTo>
                  <a:pt x="1129" y="423"/>
                </a:lnTo>
                <a:lnTo>
                  <a:pt x="3388" y="423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quirements on the 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ew Class definition is needed to allow a Phy independent PAS signal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-DATA.request(SEND_PAS, pa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rameters can be the same as for the START_OF_ACTIVITY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hy can choose to use the same modulation as used in the PLCP header, with the length determined by the aPAS_Duration MIB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modulation suitable for detection by the CCA detection mechanism can be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!CCA detection mechanism should be suitable to signal the detection of a PAS signal mod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raft standard updat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2193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756480" y="3660840"/>
            <a:ext cx="2981160" cy="8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Only needed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TB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49160" y="1816200"/>
            <a:ext cx="6032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many prioriti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ervice map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ueing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t least tw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ierarchical independent priority levels needed to support the main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hronous serv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TBS (optiona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(QoS) should map to priority and Queuing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dditional Priority specifi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relative priorities possible within a service level using Contention Window size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 Priority difference between AP and station makes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traffic will be via th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AP would generate close to 50% of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separate hierarchical independent levels for AP is not opti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in a Multi-priority environment, the AP should not be given a seperate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er relative Priority settings should only be allowed for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ggest AP_CWmin = STA-CWmin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ossible Mo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not all Phy standards need to support the optional DTBS service prov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MAC should implement the Access priority mechanism as described in this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AP is to be given a higher relative Priority compared to a station by specify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_Cwmin = Station_Cwmin /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Service support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all stations need to provide “DTBS-Coexistance” pro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ll Phy’s need to specify DTBS capability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State Machine in the MAC can support multiple mech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assive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ctive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operational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given PHY standard shall specify only one access priority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Support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676520"/>
            <a:ext cx="8393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TBS service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coexistence mechanisms need to be implemented in every node to assure proper operation in the presence of stations that do implement th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support levels can be classified in two different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TBS coexistence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access priority mechanism. A part of this needs to be included in all stations to assure coexistance with the DTBS service, even when it is not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TBS Service interface and priorit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definition of the LLC interface, and its control by means of the QoS parameter, and the translation of this to the priority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non-DTBS capable stations a fixed priority mapping is to be assig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implementation op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86728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minimum coexistance mechanism is to be included in all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1440" y="1697040"/>
            <a:ext cx="6642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verage of this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posal will only cover the “Access Priority “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a MAC State Machine to support the full Access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the minimum coexistance provision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s the MIB attribut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es AP versus Station relative priority character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DTBS support specifications in particular the LLC interface and Service specifications are documented in doc 94/196, but are not covered by this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Generic priority mecha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37339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 contention resolution phase with a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“Priority resolution Phas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“Medium Free Condition” is met at initial access attempt, then transmission can start immediately without any priority or contention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FC can be priority level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80920" y="1793880"/>
            <a:ext cx="80424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ic Priority resolution mecha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4800600"/>
            <a:ext cx="8458200" cy="16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 can support both active and passive priority resolution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Arial"/>
              </a:rPr>
              <a:t>Basic (coexistance) 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f “Busy Medium” is detected during PDP period, then defer untill the next Priority Resolution Window (PR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90840" y="1854360"/>
            <a:ext cx="669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62120" y="106668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ingle State Machine support both mechanis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5715000"/>
            <a:ext cx="83818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d by the PDP and PAS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et of parameters are needed per pri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16040" y="1774800"/>
            <a:ext cx="6257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ctive Priority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5791320"/>
            <a:ext cx="839304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is not shown i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P traffic does not contend with HP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865160"/>
            <a:ext cx="94489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