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994440" y="6545160"/>
            <a:ext cx="890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AD02271E-2052-42A9-9EED-D66FA207634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alysis of B3 vs. 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t’s Unlikely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ve an 11-bit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random number means stations are highly unlikely to choose the same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 in 2048 chance of choosing any particula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that even if they do, it probably won’t happen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.e., probability is 1/(2048)^2 = ver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 Look At “Random”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 generated using an algorithm operating on a se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inear Congru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y are “random” at a macroscopic scale (spectral test, etc.) but not at a microscopic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me seed value always generates sam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ed value for next choice is the output of previous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 baseline="-25000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= F(R</a:t>
            </a:r>
            <a:r>
              <a:rPr b="1" lang="en-US" sz="1800" spc="-1" strike="noStrike" baseline="-25000">
                <a:solidFill>
                  <a:srgbClr val="00279f"/>
                </a:solidFill>
                <a:latin typeface="Arial"/>
                <a:ea typeface="Arial"/>
              </a:rPr>
              <a:t>n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NG results in a sequence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ample PR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3-bit linear congr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(n) = (5n + 3) mo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N(n) = F(RN(n-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duces the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0, 3, 2, 5, 4, 7, 6, 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, 0, 3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ast RNG generated is used as the seed to generate the next random number, also known as the state of th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tors that cycle through all possible states before repeating are called maximal length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 want this property for a MID for duplicate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NG/MID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iven a particular state value, the PRNG “picks” the next value in sequence with P=1.  It picks all other numbers from set with 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 that for the purposes of correlating frames in a dialog, we don’t care what the MID value is.  13 is just as good a 1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 also that a simple counter has the same property as above.  A PRNG is just a strange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we don’t care what the value of the PRNG output is, a counter is just as good as a P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The MID might as well be a simple coun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ions Can Become “In Sync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ven if stations start out (at powerup) with different positions in the “random” sequence, traffic patterns can cause them to reach the sam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ce they reach the same position, the probabily gets very high that they will 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station’s position will “crossover” the other stati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becomes much more likely the more stations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f outbound traffic patterns are similar, then stations will tend to stay in sync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t may take them a long to reach this point, but it will also take them a long time to get out of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troducing More Random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a larger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.g., use low order bits of larger seed as P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reaks maximal length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ting a new MID for Data/ACK than that used for RTS/CTS doesn’t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You’ll generate the same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You’ll use duplicate detection tags more quickly, lead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general, doing anything breaks duplicate det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andomness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n’t as random as you might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y are really no better than a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ce stations become sync’d, the probability is quite high that collisions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ability of stations becoming sync’d increases greatly with increase in number of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ying to change this breaks duplicate detec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ximal lenght property no longer exists which increases the probability of a duplicate detection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t’s Only A Problem With Frames Of Equal Size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90512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: It’s a problem with all frames tha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, frames of equal size are actually very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lem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roblem occurs when a transmitter waits for a reply and sees what it thinks is a vali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occurs if a false ACK or CTS is returned within a SIFS after the transmitte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ifferent start times are acceptable as long as stop times are within a SIF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CA Doesn’t Necessarily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488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3704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75080" y="2346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75480" y="4708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752480"/>
            <a:ext cx="548640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657600" cy="3809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295280"/>
            <a:ext cx="5029200" cy="44197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266688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4864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13160" y="1728720"/>
            <a:ext cx="426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P 1’s CCA can’t detect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o it may start a shorter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fter AP 2 has already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mmon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was a lot of concensus reached around B3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teration of NID to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C fiel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iform 32-bit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xtual ESSID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ability of STAs Choosing Same Size Is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sizes are not random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 measured the sizes of 1236 TCP/IP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were 25 different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f 1236 frames, 800 were 576 bytes (6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ssuming random choosing (false), then with 5 nodes the probability that any two choose 576-byte frames is 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following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ality is that frame sizes are not “chosen” randomly, which makes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 doing file transfer outbound will send all large frames (the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 doing file transfer inbound will send all short frames (network layer acknowledg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ability of Two Nodes Choosing 576-Byte 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1800" y="1409760"/>
            <a:ext cx="7234200" cy="491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203480" y="14241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r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60880" y="60721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# of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18280" y="2185920"/>
            <a:ext cx="2736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dividual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f Choosing a 576-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2193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n’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N is no better than sequence # for MID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collision is more probable than first glance might 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 can get in sync and stay in sync for quite a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lem can occur many times in su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sizes cluster and probability that two stations choose same frame size is high with only moderate number of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probabilities increase with larger number of nodes (and increase is non-linear, as in case of two stations choosing same size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a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guments Against 94/2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29000" y="1905120"/>
            <a:ext cx="22096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me say MID is more efficient than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MID results in dramatic reduction in frame header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rames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B3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ID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/CTS/Data/AC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48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/AC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4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-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Yes, but this is a meaningless measure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roughput 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only meaningful measurement is change i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ers don’t care how big the frame headers 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D created a spreadsheet to calculate throughput based on total dialog exchange parameters (PHY preamble, SIFS/DIFS time, realistic payload sizes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 even figured in the decrease in throughput caused by retrys caused by increase in frame error rate caused by more bits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spreadsheet was distributed to th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roughput Delt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Payload size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RTS/CTS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ID/B3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.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0.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75%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-byte payload represents 576-byte IP or IPX packet with 9-byte 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-byte payload represents 30-byte minimum size IPX packet with 9-byte 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’t do this!  But we already knew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rther Throughpu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argest deltas occur when payload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 expec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roughput is bad at this point any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s and IFS times dominate in an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ected throughput for B3 at 39-byte payload w/o RTS/CTS is only 284.5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a MID rather than B3 increases throughput to only 293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a MID isn’t going to increase user satisfaction an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mp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that MID results in easier state machin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eiver copies MID unconditionally to the CTS or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is is putting the cart before the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ID scheme doesn’t work reliab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verall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ID is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s proponents admit this but claim that the probability of failur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ey haven’t put forth the detailed analysis to sh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’ve shown that the probability can be quite high under reasonable loading conditions and statio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though B3 directed frames result in a small decrease in throughput (&lt;3%), B3 doesn’t rely on probabalistic arguement to show that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agreement Surrounds WDS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believe that WD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solutions: 94/248 vs. 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rgument could be characteriszed as: stablility vs.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Summary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directed addressing for all frames in a transmission “dialo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carries return address for CTS, Data carries return address for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 with B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lem results in wireless distribution system because 4 addresses are needed to be carried in a data frame: immediate transmitter, immediate receiver, original source, and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only specified that 3 addresses be carried in a data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ult was that second AP in forwarding sequence could not send ACK for Data frame to first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Summary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attempts to remedy situation by making CTS and ACK non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token (MID) is used to match a CTS with an RTS and an ACK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“randomly” picks a MID value from 11-bit space (2048 cho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is included with RTS and Data and returned with CTS and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uses the bits B3 used for sequence number, plus a couple more, and so is also used for MPDU duplicat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lem with 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roblem with the MID is the same problem MPDUID originally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stations in close proximity can choose the same MID value and frames in a dialog can become misco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can lead to errored frames not being retried and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ample of Mis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488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3704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75080" y="2346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75480" y="4708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752480"/>
            <a:ext cx="548640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666880"/>
            <a:ext cx="3657600" cy="3809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295280"/>
            <a:ext cx="5029200" cy="44197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00200" y="266688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864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274320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5040" y="1728720"/>
            <a:ext cx="1441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TS/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TA 1 f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ad C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94000" y="3938760"/>
            <a:ext cx="126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TS/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70400" y="1957320"/>
            <a:ext cx="24066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P1 hears STA 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esponse and th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t’s from S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946840" y="3710160"/>
            <a:ext cx="126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TS/A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Answers to Miscorrell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’s un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’s only a problem if the frames are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it’s not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