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21376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564EDF5B-554D-4937-9BA8-B35D285FB69C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9th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8954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y 8-11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alt Lake 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y 8, 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doc.: IEEE P802.11-95/19 for ve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resolve the remaining issues from the letter ballot on D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7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Monday    |   Tuesday  | Wednesday  |  Thursday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802.11    |PH!PH!PH!MAC|PH!PH!PH!MAC|PH!PH!PH!MAC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MAC / PHY  |DS!FH!IR!   |DS!FH!IR!   |DS!FH!IR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............|  !  !  !   |..!..!..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!  !  !   |    PHY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MAC|  !  !  !   |        !   |  !  !  !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H!PH!PH!MAC|   802.11   |PH!PH!PH!MAC|   802.11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DS!FH!IR!   | MAC / PHY  |DS!FH!IR!   |  Repor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!  !  !   | Interface  |  !  !  !   |  Outputs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!  !  !   |  !  !  !   |  !  !  !   | Next mtng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: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 Palm Beach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1-95/32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subject to quoru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AM, May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gistration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0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:1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4/2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uesday PM, Ma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en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y 11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May 19 and Jun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alt Lake City, 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lt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, I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, 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,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