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43040" y="838080"/>
            <a:ext cx="833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305840" y="455760"/>
            <a:ext cx="2149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EEE P802.11-95/86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095640" y="334800"/>
            <a:ext cx="3373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S Specification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43040" y="1600200"/>
            <a:ext cx="840096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366040" y="88416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D93DCF08-784F-4C15-9E55-51AB44D097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81040" y="531720"/>
            <a:ext cx="7826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ow to specify the IFS timing in the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:   Wim Diepstr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-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50960" y="1676520"/>
            <a:ext cx="8393040" cy="434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accept the specifications of SIFS, PIFS and DIFS, according to this document to b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FS = Rx_Delay+MAC_Delay+Tx_Delay (PHY specif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IFS = SIFS + Slot_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S = SIFS + 2 * Slot_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measured on the medium,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_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between a MAC decision to turn the transmitter on, untill all stations are aware that the medium is occu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xt to reflect this decision to be specified in section 5.2.13 (DCF Timing re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Conclusion-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03240" y="1600200"/>
            <a:ext cx="83930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specify in the standard the MIB parameters and the equations needed to allow the MAC to generate the necessary timing gaps (SIFS, PIFS, DIF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Y dependent MIB 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lot_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x_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x_Delay_D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Del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Delay_D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dependent MIB parame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_Delay-1; MAC_Delay-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s nee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ic Equ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SIFS = SIFS - Rx_Delay + Rx_Delay_Delta - Tx_Delay + Tx_Delay_Del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PIFS = TX_SIFS + Slot_Ti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X_DIFS= TX_IFS + 2*Slot_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AC Timing reference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different timing references for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 The end of an incomming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 The end of a previous 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any subsequent transmission, but requires to execute backoff, in which case it only affects slot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SIFS gaps in fragmented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 should be clear what signalling provides the MAC timing re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 The CCA ind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w is it derived by the PH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a valid recep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a reception with failing PLCP CRC chec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 The last bit transmit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Other related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k_Time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after which a MAC can decide whether an expected Ack has failed to retu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3?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ime following a RTS frame after which a MAC can decide whether subsequent Data has followed a sucessfull RTS / CTS ex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ry Lim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ck Timeout specifi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50960" y="6019920"/>
            <a:ext cx="846936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x Medium delay (for Ack response) = 5 us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 the medium delay assumed in Time S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84160" y="1623960"/>
            <a:ext cx="7748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xIFS’s specifications are PHY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xIFS’s can only be measured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 the specifications apply to time gaps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reference for these timings are the end of a frame on th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B parameters need to be specified to allow a single MAC to run on multiple PHY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ification should be such to allow time slotted impleme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etailed delay 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80920" y="1828800"/>
            <a:ext cx="83390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asic parame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98320" y="1752480"/>
            <a:ext cx="9002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it takes a MAC to decide to react on the frame received, and to turnaround the transceiver, until Transmit energy is put on the medium, OR the Tx/Rx turnaround, whichever is larg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_Tim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me between a MAC decision to turn the transmitter on, untill all stations are aware that the medium is occup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relates to the meaning of Slot_Time in the CSMA/CA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PIFS and DIFS are derived from the basic parameters SIFS and Slot_Time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IFS = SIFS + Slot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S = SIFS + 2* Slot_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lerance specification: (Assume nominal +/- Tole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edium and MAC xIFS rel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5715000"/>
            <a:ext cx="8305920" cy="91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lot Boundary definitions are different for MAC and PHY, but they are all referenced to the end of the last frame (end of last bit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5680" y="1655640"/>
            <a:ext cx="974412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What MAC evaluation delay i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0960" y="1676520"/>
            <a:ext cx="8393040" cy="467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 are two basic decision types for a M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: Interpret frame correctness before start transmi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: Sense CCA/NAV and Transmit if medium is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ype-1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to SIFS on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Ack to a Data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CTS to a RTS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Data following 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Data following Ack (fragmen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ction of Point Coordinator to received fr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s a minimum MAC delay to allow MAC level proc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ed at least CRC validation before Tx-goa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 need to fix a time for thi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ype-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es to PIFS/DIFS and transmissions after backof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 delay associated with this is assumed minimum, close to z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Need MIB specifications to support 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d Geigers approach in doc 95/039 is a good starting point, but we need to use events on the medium as a re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y nominal values in the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y MIB variables containing the implementation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IB needs to specify those parameters that allow a MAC to calcul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_SIF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_PIF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x_DIFS and subsequent s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Timing refere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50960" y="1905120"/>
            <a:ext cx="8393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two different timing references for th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: The end of an incomming fr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: The end of a previous transmi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any subsequent transmission, but requires to execute backoff, in which case it only affects slot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applies to SIFS gaps in fragmented Broadcast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X_SIFS timing in the MA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SIFS-1 = SIFS - Rx_Delay  - Tx_Delay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 as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SIFS-2 = SIFS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 as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762120" y="106668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IB parameters nee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50960" y="1676520"/>
            <a:ext cx="839304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dependent MIB paramet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lot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_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x_Delay_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Delay_De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dependent MIB para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_Delay-1; MAC_Delay-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ulting:  SIFS = Rx_Delay+MAC_Delay+Tx_Delay (on medi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time should be such that Tx/Rx_turnaround time is such that the next frame can be successfully recei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sic Equ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SIFS = SIFS - Rx_Delay + Rx_Delay_Delta - Tx_Delay + Tx_Delay_D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PIFS = TX_SIFS + Slot_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X_DIFS= TX_IFS + 2*Slot_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