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52280"/>
            <a:ext cx="8915400" cy="6400800"/>
          </a:xfrm>
          <a:prstGeom prst="round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90720" y="762120"/>
            <a:ext cx="7162560" cy="0"/>
          </a:xfrm>
          <a:prstGeom prst="line">
            <a:avLst/>
          </a:prstGeom>
          <a:ln w="25560">
            <a:solidFill>
              <a:srgbClr val="618f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0800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6213669D-DE20-4F55-BD33-4A99FB7C33DF}" type="slidenum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457200"/>
            <a:ext cx="7315200" cy="255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Session of meetings of</a:t>
            </a:r>
            <a:br>
              <a:rPr sz="36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EEE P802.11</a:t>
            </a:r>
            <a:br>
              <a:rPr sz="18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reless Local Area Networks</a:t>
            </a:r>
            <a:br>
              <a:rPr sz="3600"/>
            </a:br>
            <a:br>
              <a:rPr sz="1800"/>
            </a:b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Arial"/>
              </a:rPr>
              <a:t>Tentative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2280" y="2971800"/>
            <a:ext cx="8915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bject to changes by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uly 10-14,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session starts on Monday, July 10, 15:3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adjournment of the 802 ple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terim meeting of subgroups, Monday, July 10, 08: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ntative Meeting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80880" y="9144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at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th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Year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lace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yp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oca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ost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-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ui, H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8-3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haumbur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riot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-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ntreal, P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en Elizabeth Ho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 Jol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att Reg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-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therlan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1257480"/>
                <a:tab algn="l" pos="2000160"/>
                <a:tab algn="l" pos="4286160"/>
                <a:tab algn="l" pos="5257800"/>
                <a:tab algn="l" pos="6000840"/>
                <a:tab algn="l" pos="7086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-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ancouver  B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lena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tel Vancou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OBJECTIVES All Grou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00016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543120"/>
                <a:tab algn="l" pos="42861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draft D2.0 for letter ballot among working group for approval for Sponsor letter bal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view InterOperability Lab involv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ough Graphic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720"/>
            <a:ext cx="906768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Monday      |  Tuesday   |  Wednesday |   Thursday |Frida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Exc! MAC !  FH  |MAC!DS!FH!IR|MAC!DS!FH!IR|MAC!DS!FH!IR| 802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AM |Com!     !      |   !  !  !  |   !  !  !  |   !  !  !  |Plen-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  !      |   !  !  !  |   !  !  !  |   !........|   ary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!     !      |   !  !  !  |   !  !  !  |   !   PHY  |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  802        |MAC!  PHY   |Full 802.11 |Full 802.11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Plenary      |   !        |Resolve     |   Repor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PM |                |   !........|  outputs   |   Outputs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................|   !DS!FH!IR|Cross issues|  Next mtng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|   Full 802.11  |   !  !  !  |            |        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Eve-|                |            |Social      |   Exec.  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ning|                |            |     Event  |     Comm.  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|----|----------------|------------|------------|------------|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gend:   ......... = flexible adjournment/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3520" y="91440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:3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half an hour after plenary ad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r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oting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tendance list, Regi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gistics (breaks, lunch, copying, document distrib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roval of the minutes of previous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st Palm Beach mee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lt lake City meet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1-95/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ters arising from the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xecutiv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#1 Salt Lake City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tter ballot #2 Salt Lake City 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n Jose meeting 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 Lab sign-u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view of contrib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option of the Agend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-95/1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onday PM, July 10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 for sub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ednesday PM, July 12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9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ll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9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oss group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1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HY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1 DS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2 IR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43000" indent="-34308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4400640"/>
                <a:tab algn="l" pos="51433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.3 FH re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C re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3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jo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e Rough graphic outline for subgroup m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4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en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 list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4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genda adjus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5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HY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6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Unfinished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output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llot on Draft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ap of document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304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ursday PM, July 13, 19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99072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Objectives for nex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* Mailing Dates: July 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uture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457200"/>
                <a:tab algn="l" pos="857160"/>
                <a:tab algn="l" pos="1314360"/>
                <a:tab algn="l" pos="4857840"/>
                <a:tab algn="l" pos="5600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ther Intermediate Meetings requi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tabLst>
                <a:tab algn="l" pos="0"/>
                <a:tab algn="l" pos="399960"/>
                <a:tab algn="l" pos="857160"/>
                <a:tab algn="l" pos="1257480"/>
                <a:tab algn="l" pos="1714680"/>
                <a:tab algn="l" pos="5257800"/>
                <a:tab algn="l" pos="60008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8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o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:00 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