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304920"/>
            <a:ext cx="8839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477120"/>
            <a:ext cx="8839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136440" y="22320"/>
            <a:ext cx="984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uly 19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613560" y="22320"/>
            <a:ext cx="2448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: IEEE P802.11-95/137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60480" y="6523200"/>
            <a:ext cx="1039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4098960" y="6523200"/>
            <a:ext cx="77796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AD56262F-732E-4991-9F9A-3FEDC58880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6918480" y="6523200"/>
            <a:ext cx="1590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ck White, Motor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 in an Ad Hoc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ck 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ic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 of buffered frames for Power Save (PS) mode stations is done using an Ad Hoc Traffic Indication Message (ATI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IMs are sent during the ATIM Window following the beac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station are awake during the ATIM Win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 station receives an ATIM, it will remain awake for the entire Beacon Inter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 station does not receive an ATIM, it can go back to PS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ic Approach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3720" y="1428840"/>
            <a:ext cx="4851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 State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tation can monitor the Power Management bits within the frames generated by other stations in the network. A station that intends on using PS mode must indicate that in all frames transmit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tation can transmit the frame when received from the LLC and assume the destination station is in PS mode if an Ack is not recei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tation can use RTS/CTS to transmit a frame. If a CTS is not received, the destination station can be assumed to be in PS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tation can always assume all other stations are operating in PS Mode. In this case, the station will always transmit an ATIM in the ATIM Window before transmitting a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IM Window and Beacon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2193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hall wake up prior to Target Beacon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ngth of the ATIM window is defined in the Ad Hoc Parameter Set element in the Beacon. A station that receives a beacon will update its aATIM_Window MIB variable with the value contained in the beacon. A station that transmits a beacon will use the value of the aATIM_Window MIB variable for the ATIM Window parameter in the Ad Hoc Parameter Set e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receives/transmits a Beacon. The procedure for generating Beacons is defined in Section 8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a Beacon is received/transmitted, a station may transmit ATIMs for all buffered frames until the end of the ATIM Window using the DCF Access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 station has an ATIM to transmit and is unable to do so before the end of the ATIM Window, it must wait until the next ATIM Win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IM and Frame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tation will send an ATIM during the ATIM Window using the DCF Access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ly ATIMs shall be transmitted during the ATIM Window. ATIMs can only be transmitted during the ATIM Win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llowing the ATIM Window, the station will transmit the buffered frame/s using the DCF Access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tation transmitting the ATIM will remain awake for the entire Beacon Inter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ffered frames may be fragm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more than one frame is buffered for a given station, multiple frames can be transmitted using the DCF Access procedure. A frame will indicate if more frames are buffered via the Power Management b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eive Operation for Power Sa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shall wake up prior to Target Beacon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tation will remain awake for the duration of the ATIM Win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n ATIM addressed to the station is not received, the station may go back to Power Save mode at the end of the ATIM Win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the station receives an ATIM frame, then the station shall remain awake for the entire Beacon Interval to receive the subsequent Data frame/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Changes to the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 New Frame  - Ad Hoc Traffic Indication Message (ATI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 New Element, Ad Hoc Parameter Set, to Beacon and Probe Response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 ATIM_Window MIB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ve that the draft text for ad hoc power management in 95/137 be adopted and  added to the next version of the Draft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k White</dc:creator>
  <dc:description/>
  <dc:language>en-US</dc:language>
  <cp:lastModifiedBy>R22 Standards</cp:lastModifiedBy>
  <cp:revision>0</cp:revision>
  <dc:subject/>
  <dc:title>Power Management in an Ad Hoc Network</dc:title>
</cp:coreProperties>
</file>