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292800" y="555480"/>
            <a:ext cx="2516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–95/13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541680" y="555480"/>
            <a:ext cx="200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ration/ID En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116240" y="63324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5C0A56A2-1F5A-466D-AEB3-6F0467CE54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938920" y="6308640"/>
            <a:ext cx="2824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hael Fischer,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28480" y="63324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41520" y="555480"/>
            <a:ext cx="103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mproved encoding of Duration/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600200"/>
            <a:ext cx="7924680" cy="177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iciency of certain aspects of the Duration/ID field can be improved, with no loss of functionality, by adding usage–identification bits to thi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ed encoding uses the most–significant bits to indicate the type of information in th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28800" y="3505320"/>
            <a:ext cx="6095880" cy="2144520"/>
            <a:chOff x="1828800" y="3505320"/>
            <a:chExt cx="6095880" cy="2144520"/>
          </a:xfrm>
        </p:grpSpPr>
        <p:sp>
          <p:nvSpPr>
            <p:cNvPr id="50" name=""/>
            <p:cNvSpPr/>
            <p:nvPr/>
          </p:nvSpPr>
          <p:spPr>
            <a:xfrm>
              <a:off x="18288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46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42670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388620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8892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5750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260880" y="3639960"/>
              <a:ext cx="9129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S 13–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468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50532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2670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041560" y="40212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7242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51814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8800" y="56386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0415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0415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0415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7273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273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7273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56544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260880" y="49356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260880" y="53928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879640" y="40212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327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394240" y="3639960"/>
              <a:ext cx="725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251240" y="4021200"/>
              <a:ext cx="3638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ation (microseconds from end of this fram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251240" y="4478400"/>
              <a:ext cx="3579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ion free frames without a CID or an 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251240" y="4935600"/>
              <a:ext cx="2757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 ID (CID) for TBS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251240" y="5392800"/>
              <a:ext cx="2622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 ID (SID) in PS–Poll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enefits of this improve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isting Duration/ID field is unambiguous to the pair of communicat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during the contention–free period, the Duration/ID field may be ambiguous to other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is en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that miss the CF–End frame can clear their NAVs upon detection of DCF traffic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CF traffic has a Duration/ID value &gt;32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V update is simpler since stations do not have to decode frame type/subtype to know if this field contain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(slight) risk is eliminated  that a station might set its NAV too high by misinterpreting a CID a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period integrity is improved because newly active stations can passively detect a CF–period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wbacks to this improved 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rawbacks are appa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s as long as 32767 microseconds can be repres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ngest duration that needs to be represented (assuming the PHY could handle a full–length MSDU with WEP without fragmentation) is about 20K micro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connec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connections with the available bandwidth of the wireless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sta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stations associated with a single acces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number of power–managed stations that can receive traffic advisories using the defined TIM en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odified encoding for the Duration/ID field proposed in document 95/139 be adopted and the modified text on Duration/ID encoding in 95/139 be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2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:  The subject matter of Motion #2 is fully independent of the encoding used for duration values.  Motion #2 can be adopted whether or not Motion #1 is ado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new text from document 95/139 that specifies how duration values are calculated for the various frame types &amp; subtypes be adopted and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Improved encoding of Duration/ID field</dc:title>
</cp:coreProperties>
</file>