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92800" y="555480"/>
            <a:ext cx="251604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Doc: IEEE P802.11–95/150A</a:t>
            </a:r>
            <a:endParaRPr b="0" lang="en-US" sz="1400" spc="-1" strike="noStrike">
              <a:solidFill>
                <a:srgbClr val="000000"/>
              </a:solidFill>
              <a:latin typeface="Arial"/>
            </a:endParaRPr>
          </a:p>
        </p:txBody>
      </p:sp>
      <p:sp>
        <p:nvSpPr>
          <p:cNvPr id="2" name=""/>
          <p:cNvSpPr txBox="1"/>
          <p:nvPr/>
        </p:nvSpPr>
        <p:spPr>
          <a:xfrm>
            <a:off x="3008160" y="555480"/>
            <a:ext cx="2417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elivery–Only PCF Subset</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8344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DF042D48-B317-400E-B739-17957A04ECD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Allowing a Delivery–Only PCF</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existing PCF definition does not require a point coordinator to honor requests to place stations on the polling list.  It is therefore permissible for a point coordinator to use contention free periods solely for delivery of From–DS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 are cases, such as APs where most frame traffic is between client stations and servers on the distribution system, where most of the efficiency benefits of contention free frame transfers occur using the CF period solely for frame delivery.</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type of CF operation can be indicated in the capability bit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u="sng">
                <a:solidFill>
                  <a:srgbClr val="000000"/>
                </a:solidFill>
                <a:uFillTx/>
                <a:latin typeface="Arial"/>
                <a:ea typeface="Arial"/>
              </a:rPr>
              <a:t>Bi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Request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Beacons &amp; Responses</a:t>
            </a:r>
            <a:endParaRPr b="0" lang="en-US" sz="2000" spc="-1" strike="noStrike">
              <a:solidFill>
                <a:srgbClr val="000000"/>
              </a:solidFill>
              <a:latin typeface="Arial"/>
            </a:endParaRPr>
          </a:p>
          <a:p>
            <a:pPr marL="285840" indent="-285840">
              <a:lnSpc>
                <a:spcPct val="90000"/>
              </a:lnSpc>
              <a:spcBef>
                <a:spcPts val="720"/>
              </a:spcBef>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is CF–Awar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 has PC in operation</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asks to be poll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C maintains a polling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 on Delivery–Only PCF</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at the text changes to explicitly allow, and to indicate the capabilities of, a delivery–only PCF, as contained in document 95/150, be adopted and placed into the draft stand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Allowing a Delivery–Only PCF</dc:title>
</cp:coreProperties>
</file>