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6858000" cy="9144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762120"/>
            <a:ext cx="5410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81120" y="426960"/>
            <a:ext cx="2338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rams for document 95/014r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62120" y="8305920"/>
            <a:ext cx="5410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695160" y="8352000"/>
            <a:ext cx="15890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 State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4370400" y="8352000"/>
            <a:ext cx="18939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. Fischer,  Digital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2954160" y="8352000"/>
            <a:ext cx="4968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 txBox="1"/>
          <p:nvPr/>
        </p:nvSpPr>
        <p:spPr>
          <a:xfrm>
            <a:off x="3413160" y="8352000"/>
            <a:ext cx="3366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fld id="{BEC3109F-C63A-46B3-8C1B-3AFDC8D2709B}" type="slidenum"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>
            <a:off x="4100400" y="426960"/>
            <a:ext cx="21700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: IEEE P802.11–95/014Ar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1066680" y="4191120"/>
            <a:ext cx="4876920" cy="152280"/>
            <a:chOff x="1066680" y="4191120"/>
            <a:chExt cx="4876920" cy="152280"/>
          </a:xfrm>
        </p:grpSpPr>
        <p:sp>
          <p:nvSpPr>
            <p:cNvPr id="47" name=""/>
            <p:cNvSpPr/>
            <p:nvPr/>
          </p:nvSpPr>
          <p:spPr>
            <a:xfrm>
              <a:off x="1066680" y="4267080"/>
              <a:ext cx="4876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4191120" y="4191120"/>
              <a:ext cx="0" cy="152280"/>
            </a:xfrm>
            <a:prstGeom prst="line">
              <a:avLst/>
            </a:prstGeom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69120" bIns="69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 txBox="1"/>
          <p:nvPr/>
        </p:nvSpPr>
        <p:spPr>
          <a:xfrm>
            <a:off x="776160" y="1922400"/>
            <a:ext cx="582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 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903840" y="1922400"/>
            <a:ext cx="5763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1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 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039680" y="2554200"/>
            <a:ext cx="511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X0:1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2540160"/>
            <a:ext cx="31244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901880" y="2325600"/>
            <a:ext cx="16891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s causing state tran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808280" y="2554200"/>
            <a:ext cx="1871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s associated with state tran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3149640"/>
            <a:ext cx="3124440" cy="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036800" y="316404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X0:1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619280" y="2935440"/>
            <a:ext cx="2255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s causing OPTIONAL state tran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587600" y="3164040"/>
            <a:ext cx="24638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s associated with OPTIONAL state transition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732120" y="377352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X1:0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3759120"/>
            <a:ext cx="312444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249200" y="3544920"/>
            <a:ext cx="28432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s causing state transition without associated ac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762120" y="914400"/>
            <a:ext cx="54100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te Machine N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191120" y="266688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791320" y="2666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191120" y="30481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189320" y="270684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X1:1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25920" y="2325600"/>
            <a:ext cx="1011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s caus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ition to sel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84600" y="2706840"/>
            <a:ext cx="11937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s associated wi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ition to sel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2311560"/>
            <a:ext cx="0" cy="21081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191120" y="2311560"/>
            <a:ext cx="0" cy="21081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484960" y="428148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X2:1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498680" y="3925800"/>
            <a:ext cx="2043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 of transition arrow from X2 to X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crosses, but does not enter, X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311560"/>
            <a:ext cx="0" cy="21081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649840" y="1922400"/>
            <a:ext cx="590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 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358128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189320" y="362124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X1:2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78200" y="3240000"/>
            <a:ext cx="1011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s caus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 tran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54440" y="3621240"/>
            <a:ext cx="1054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s associa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state tran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 txBox="1"/>
          <p:nvPr/>
        </p:nvSpPr>
        <p:spPr>
          <a:xfrm>
            <a:off x="4781520" y="2376360"/>
            <a:ext cx="17305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CFPcnt := 0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_CFDR := aCFP_Max_Duration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(T_CFDR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NAV(aCFP_Max_Dura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960480" y="6993000"/>
            <a:ext cx="32227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_TSF := Max((T_TSF * !F_Assoc),(mrTs + mOffset)), mSndBcn :=0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Traffic := mrTIM[0] | mrTIM[mSID], LoadNAV(mrCF_dur_rem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p(T_Awake), F_Awake := !F_PSM | (mTraffic != 0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update beacon, DTIM, CFP and F_CFavail  settings from mrMSDU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903240" y="3214800"/>
            <a:ext cx="161784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et PHY to next channel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.CCARESET, LoadNAV(0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art(T_Pr2), Clear(F_Pr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5013360" y="5729400"/>
            <a:ext cx="13701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t(T_Awake, F_Awak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572000" y="1295280"/>
            <a:ext cx="0" cy="68580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6477120" y="14479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H="1">
            <a:off x="4572000" y="213372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45000" y="1461960"/>
            <a:ext cx="194004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ndBcn := !F_Assoc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TIMcnt +=1, F_DTIM := F_Assoc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DTIM = aDTIM_Interval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CFPcnt += F_CFavail, Clear(F_BCN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CFP :=(mCFPcnt=aCFP_Interval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914400" y="137160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477120" y="23623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572000" y="236232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4572000" y="297180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4638600" y="2147760"/>
            <a:ext cx="18511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CFP &amp; F_CFavail &amp; (T_CFDR = 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572000" y="320040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4572000" y="35812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5275440" y="2986200"/>
            <a:ext cx="5731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DT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6477120" y="3809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4572000" y="434340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 flipH="1">
            <a:off x="4572000" y="480060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4556160" y="4129200"/>
            <a:ext cx="20160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SndBcn = 1) &amp; (!F_Mbusy) &amp; (NAV=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4686120" y="4357800"/>
            <a:ext cx="180036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ndBcn := 2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BcnDly := T_BCN – ( aSlot_Time 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(aCW_Min * Random() )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4511520" y="5500800"/>
            <a:ext cx="21049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PSM &amp; (T_Awake=L_Awake) &amp; F_Asso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4773600" y="3824280"/>
            <a:ext cx="1700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et PHY to next channel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.CCARESET, Clear(F_Dwell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5214960" y="3595680"/>
            <a:ext cx="5461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Dwe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4533840" y="1461960"/>
            <a:ext cx="533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:1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1838160" y="1157400"/>
            <a:ext cx="15066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cting_as_AP_Status = 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901800" y="1386000"/>
            <a:ext cx="482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0:1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604800" y="906480"/>
            <a:ext cx="622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a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4572000" y="144792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5305320" y="1233360"/>
            <a:ext cx="511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BC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4165560" y="906480"/>
            <a:ext cx="816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 Id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477120" y="32004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4572000" y="38098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flipH="1">
            <a:off x="4572000" y="411480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477120" y="4343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477120" y="5715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4572000" y="571500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4533840" y="5729400"/>
            <a:ext cx="533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:1g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>
            <a:off x="4572000" y="594360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914400" y="1752480"/>
            <a:ext cx="0" cy="304920"/>
          </a:xfrm>
          <a:prstGeom prst="line">
            <a:avLst/>
          </a:prstGeom>
          <a:ln w="255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914400" y="129528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5218200" y="7862760"/>
            <a:ext cx="960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ard mrMSD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4606920" y="7558200"/>
            <a:ext cx="1916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Indicate(mrMSDU, mrLng, mrDir,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mrType = (any other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477120" y="7848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572000" y="784872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4530600" y="6491160"/>
            <a:ext cx="539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:1h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 flipH="1">
            <a:off x="4572000" y="807732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4530600" y="6033960"/>
            <a:ext cx="191628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Indicate(mrMSDU, mrLng, mrDir,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(mrType = Beacon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(mrAddr2 != aCurrent_BSS_I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4530600" y="7862760"/>
            <a:ext cx="539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:1k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5013360" y="6491160"/>
            <a:ext cx="14079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NAV( mrCF_dur_rem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update list of known APs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717480" y="3649680"/>
            <a:ext cx="13064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3 – Authent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1058760" y="4662360"/>
            <a:ext cx="35272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Indicate(mrMSDU, , , ) &amp; mrType = { Authentication | Deauthentication }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2701800" y="4205160"/>
            <a:ext cx="1611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uthentication frame process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946080" y="5424480"/>
            <a:ext cx="31417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uth resp seq complete) | (auth req compete/ad–hoc) | (deauth proc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990720" y="6781680"/>
            <a:ext cx="35812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990720" y="6553080"/>
            <a:ext cx="3581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990720" y="6553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1038240" y="6338880"/>
            <a:ext cx="34178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Indicate(mrMSDU, , , ) &amp; (mrType = Probe Request) &amp; (mSndBcn = 3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4059360" y="6110280"/>
            <a:ext cx="568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:1m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 txBox="1"/>
          <p:nvPr/>
        </p:nvSpPr>
        <p:spPr>
          <a:xfrm>
            <a:off x="963720" y="6567480"/>
            <a:ext cx="31082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e(Probe Resp,mMSDU,mrAddr2), Enqueue(mMSDU,TXq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4572000" y="647712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 flipH="1">
            <a:off x="4572000" y="685800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477120" y="6477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1474920" y="5653080"/>
            <a:ext cx="2387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update service state based on sequence and result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955800" y="1386000"/>
            <a:ext cx="366876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(F_AP, F_PC, F_Assoc, CF_Avail), Restart(T_TSF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_BCN := aBeacon_Interval, Restart(T_BCN), L_Dwell := aDwell_Time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art(T_Dwell), L_Slot := aSlot_Time, Restart(T_Slot), mCFPcnt := 0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(F_CFP), Reset(T_CFDR), mDTIMcnt :=0, Clear(F_DTIM), SeqNum :=0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PSM :=aPower_Save_Mode, Set(F_Awake), L_Awake := &lt; awake time &gt;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can_State := SCAN, aCurrent_BSS_ID := 0, (reset service state &amp; associa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4529160" y="2376360"/>
            <a:ext cx="539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:1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4535640" y="3214800"/>
            <a:ext cx="528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:1c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4529160" y="3824280"/>
            <a:ext cx="539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:1d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4533840" y="4357800"/>
            <a:ext cx="528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:1e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4572000" y="502920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 flipH="1">
            <a:off x="4572000" y="548640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4621320" y="4815000"/>
            <a:ext cx="18860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SndBcn = 2) &amp; (T_BCN = mBcnDl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 txBox="1"/>
          <p:nvPr/>
        </p:nvSpPr>
        <p:spPr>
          <a:xfrm>
            <a:off x="4608360" y="5043600"/>
            <a:ext cx="187488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ndBcn := 3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e(Beacon, mMSDU, mLength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queue(mMSDU, TXq, hea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477120" y="5029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4538520" y="504360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:1f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990720" y="7543800"/>
            <a:ext cx="3124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990720" y="7010280"/>
            <a:ext cx="3581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990720" y="7010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719280" y="6796080"/>
            <a:ext cx="39038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Indicate(mrMSDU, , ,mrTs) &amp; (mrType=Beacon) &amp; (mrAddr2=aCurent_BSS_I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4073400" y="7024680"/>
            <a:ext cx="539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:1p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990720" y="8001000"/>
            <a:ext cx="35812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990720" y="7772400"/>
            <a:ext cx="3581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990720" y="7772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4781520" y="6872400"/>
            <a:ext cx="12636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Traffic = 1) &amp; F_P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4078440" y="7786800"/>
            <a:ext cx="528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:1r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4548240" y="7101000"/>
            <a:ext cx="193212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e(PS–Poll, mMSDU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rrent_BSS_ID,mSID), mTraffic :=0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queue(mMSDU, TXq, hea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2666880" y="2438280"/>
            <a:ext cx="0" cy="17528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 flipH="1">
            <a:off x="2666880" y="251460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 flipH="1">
            <a:off x="914400" y="259092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2443320" y="2201760"/>
            <a:ext cx="7556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2 – Sc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4100400" y="2529000"/>
            <a:ext cx="482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:2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3336840" y="2300400"/>
            <a:ext cx="11001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can_State = SC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2759040" y="2529000"/>
            <a:ext cx="1341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(F_Pr1), Set(F_Pr2)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2171520" y="2604960"/>
            <a:ext cx="533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2:2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835200" y="2224080"/>
            <a:ext cx="18399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Indicate(mrMSDU, , ,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(mrType ={ Beacon | Probe Resp }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909720" y="2604960"/>
            <a:ext cx="15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update list of known APs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ecord capability &amp; PHY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914400" y="2590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914400" y="289548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914400" y="320040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2173320" y="3214800"/>
            <a:ext cx="528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2:2c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914400" y="3200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914400" y="365760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1017720" y="2909880"/>
            <a:ext cx="13190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Pr1 ^ F_Pr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(more channels to sca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2666880" y="3124080"/>
            <a:ext cx="1752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2625840" y="3138480"/>
            <a:ext cx="539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2:2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441972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2666880" y="3581280"/>
            <a:ext cx="175284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2711520" y="2700360"/>
            <a:ext cx="142416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Scan_Mode = ACTIVE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F_Mbusy &amp; (NAV = 0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_IFS &gt;= aDIFS) &amp; F_Pr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 flipH="1">
            <a:off x="2666880" y="3886200"/>
            <a:ext cx="1752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 txBox="1"/>
          <p:nvPr/>
        </p:nvSpPr>
        <p:spPr>
          <a:xfrm>
            <a:off x="2625840" y="3900600"/>
            <a:ext cx="539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2:2d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3043080" y="3900600"/>
            <a:ext cx="14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p(T_Pr1),Restart(T_Pr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4419720" y="3886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2666880" y="4114800"/>
            <a:ext cx="175284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2894040" y="3595680"/>
            <a:ext cx="13795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Scan_Mode = ACTIV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F_Mbusy &amp; (T_Pr1 != 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914400" y="3886200"/>
            <a:ext cx="0" cy="19051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 flipH="1">
            <a:off x="914400" y="403848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2714760" y="3138480"/>
            <a:ext cx="173664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e(Probe Reques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SDU), Enqueue(mMSDU,TXq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art(T_Probe1),Clear(F_Pr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1023840" y="3824280"/>
            <a:ext cx="16128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esponder selected @ mrAddr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2197080" y="4052880"/>
            <a:ext cx="482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2:3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1278000" y="4433760"/>
            <a:ext cx="33336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e(Authentication, mMSDU, mrAddr2), Enqueue(mMSDU, TXq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 txBox="1"/>
          <p:nvPr/>
        </p:nvSpPr>
        <p:spPr>
          <a:xfrm>
            <a:off x="1163520" y="4052880"/>
            <a:ext cx="10270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can_State := nu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914400" y="441972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876240" y="4433760"/>
            <a:ext cx="533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3:1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914400" y="487692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 txBox="1"/>
          <p:nvPr/>
        </p:nvSpPr>
        <p:spPr>
          <a:xfrm>
            <a:off x="4102200" y="4890960"/>
            <a:ext cx="482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:3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914400" y="563868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 txBox="1"/>
          <p:nvPr/>
        </p:nvSpPr>
        <p:spPr>
          <a:xfrm>
            <a:off x="873000" y="5195880"/>
            <a:ext cx="539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3:1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 txBox="1"/>
          <p:nvPr/>
        </p:nvSpPr>
        <p:spPr>
          <a:xfrm>
            <a:off x="4886280" y="3214800"/>
            <a:ext cx="16574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TIMcnt:=0,Clear(F_DTIM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art(T_Awake), Set(F_Awak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4541760" y="710100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:1j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4572000" y="708660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 flipH="1">
            <a:off x="4572000" y="754380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6477120" y="7086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 txBox="1"/>
          <p:nvPr/>
        </p:nvSpPr>
        <p:spPr>
          <a:xfrm>
            <a:off x="1052640" y="7558200"/>
            <a:ext cx="30830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Indicate(mrMSDU, , , ) &amp; (mrType =Disassociation) &amp; F_Asso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1009800" y="7786800"/>
            <a:ext cx="27129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(F_Assoc), set service state =2, aScan_State := SC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 flipV="1">
            <a:off x="4114800" y="74674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4114800" y="7467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990720" y="6324480"/>
            <a:ext cx="35812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 txBox="1"/>
          <p:nvPr/>
        </p:nvSpPr>
        <p:spPr>
          <a:xfrm>
            <a:off x="1279440" y="6110280"/>
            <a:ext cx="2781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Assoc := (mrStatus = 0), (if successful set service state =3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 txBox="1"/>
          <p:nvPr/>
        </p:nvSpPr>
        <p:spPr>
          <a:xfrm>
            <a:off x="1403280" y="5195880"/>
            <a:ext cx="31417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e(Assoc Req, mMSDU, mLength), Enqueue(mMSDU, TXq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 txBox="1"/>
          <p:nvPr/>
        </p:nvSpPr>
        <p:spPr>
          <a:xfrm>
            <a:off x="1206360" y="5881680"/>
            <a:ext cx="29257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Indicate(mrMSDU, , , ) &amp; (mrType = Association Respon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1365120" y="4967280"/>
            <a:ext cx="24559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uth resp seq successful/infrastructure) &amp; !F_Asso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914400" y="518148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878040" y="5653080"/>
            <a:ext cx="528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3:1c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990720" y="6095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990720" y="6095880"/>
            <a:ext cx="3581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4073400" y="6567480"/>
            <a:ext cx="539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:1n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"/>
          <p:cNvSpPr txBox="1"/>
          <p:nvPr/>
        </p:nvSpPr>
        <p:spPr>
          <a:xfrm>
            <a:off x="4772160" y="2522520"/>
            <a:ext cx="169560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CFPcnt := 0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_CFDR := aCFP_Max_Duration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(T_CFDR), UpdatePollList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4859280" y="5348160"/>
            <a:ext cx="1527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ndBcn := 0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queue(mMSDU, TXq, hea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4826160" y="5958000"/>
            <a:ext cx="1590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(F_DTIM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p(T_Awake), mPSawake := 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 txBox="1"/>
          <p:nvPr/>
        </p:nvSpPr>
        <p:spPr>
          <a:xfrm>
            <a:off x="1182600" y="1386000"/>
            <a:ext cx="333864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(F_AP), F_PC := (aCF_Max_Duration != 0), Restart(T_TSF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_BCN := aBeacon_Interval, Restart(T_BCN), L_Dwell := aDwellTime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art(T_Dwell), L_Slot := aSlot_Time, Restart(T_Slot), mCFPcnt := 0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(F_CFP, F_DTIM), Reset(T_CFDR), mDTIMcnt := 0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Num := 0, Set(F_PSawake), (clear power save and association info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CFavail := F_PC, (inform distribution system that this BSS is present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6400800" y="12952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 flipH="1">
            <a:off x="4572000" y="2209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4533840" y="1309680"/>
            <a:ext cx="1874880" cy="9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ndBcn := 1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TIMcnt += 1, F_DTIM :=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DTIM = aDTIM_Interval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CFPcnt +=1,F_CFP:=(T_CFDR !=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(mCFPcnt = aCFP_Interval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e(Beacon, mMSDU, mLength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tTIM(mMSDU, mLength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914400" y="137160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6400800" y="3200400"/>
            <a:ext cx="0" cy="380880"/>
          </a:xfrm>
          <a:prstGeom prst="line">
            <a:avLst/>
          </a:prstGeom>
          <a:ln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4572000" y="2514600"/>
            <a:ext cx="1828800" cy="0"/>
          </a:xfrm>
          <a:prstGeom prst="line">
            <a:avLst/>
          </a:prstGeom>
          <a:ln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 flipH="1">
            <a:off x="4572000" y="2971800"/>
            <a:ext cx="1828800" cy="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4730760" y="2300400"/>
            <a:ext cx="16668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CFP &amp; F_PC &amp; (T_CFDR = 0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4572000" y="38862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 flipH="1">
            <a:off x="4572000" y="45720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 txBox="1"/>
          <p:nvPr/>
        </p:nvSpPr>
        <p:spPr>
          <a:xfrm>
            <a:off x="4854600" y="3672000"/>
            <a:ext cx="14158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DTIM &amp; (mPSawake = 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 txBox="1"/>
          <p:nvPr/>
        </p:nvSpPr>
        <p:spPr>
          <a:xfrm>
            <a:off x="4672080" y="3900600"/>
            <a:ext cx="174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TIMcnt := 0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tDTIM(mMSDU, mLength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vePSframes(mc, head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_Awake := &lt; station awake time &gt;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(T_Awake), mPSawake :=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400800" y="48006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4572000" y="53341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 flipH="1">
            <a:off x="4572000" y="57150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5180040" y="5119560"/>
            <a:ext cx="7668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ndBcn =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 txBox="1"/>
          <p:nvPr/>
        </p:nvSpPr>
        <p:spPr>
          <a:xfrm>
            <a:off x="4729320" y="5729400"/>
            <a:ext cx="1671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PSawake = 1) &amp; (T_Awake = 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 txBox="1"/>
          <p:nvPr/>
        </p:nvSpPr>
        <p:spPr>
          <a:xfrm>
            <a:off x="4773600" y="4815000"/>
            <a:ext cx="1700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et PHY to next channel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.CCARESET, Clear(F_Dwell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5214960" y="4586400"/>
            <a:ext cx="5461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Dwe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4559400" y="1309680"/>
            <a:ext cx="6350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1:11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1843200" y="1157400"/>
            <a:ext cx="1495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cting_as_AP_Status = 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876240" y="1386000"/>
            <a:ext cx="533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0:11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 txBox="1"/>
          <p:nvPr/>
        </p:nvSpPr>
        <p:spPr>
          <a:xfrm>
            <a:off x="604800" y="906480"/>
            <a:ext cx="622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a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4572000" y="12952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 txBox="1"/>
          <p:nvPr/>
        </p:nvSpPr>
        <p:spPr>
          <a:xfrm>
            <a:off x="4836960" y="1081080"/>
            <a:ext cx="12970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BCN &amp; (mSndBcn = 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 txBox="1"/>
          <p:nvPr/>
        </p:nvSpPr>
        <p:spPr>
          <a:xfrm>
            <a:off x="4316400" y="906480"/>
            <a:ext cx="9716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11 – AP Id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4556160" y="2529000"/>
            <a:ext cx="641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1:11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6400800" y="38862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4556160" y="3900600"/>
            <a:ext cx="641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1:11d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4572000" y="48006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 txBox="1"/>
          <p:nvPr/>
        </p:nvSpPr>
        <p:spPr>
          <a:xfrm>
            <a:off x="4560840" y="4815000"/>
            <a:ext cx="630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1:11e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 flipH="1">
            <a:off x="4572000" y="51055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4565520" y="5348160"/>
            <a:ext cx="619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1:11f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6400800" y="5334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6400800" y="59436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4572000" y="59436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 txBox="1"/>
          <p:nvPr/>
        </p:nvSpPr>
        <p:spPr>
          <a:xfrm>
            <a:off x="4559400" y="5958000"/>
            <a:ext cx="6350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1:11g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 flipH="1">
            <a:off x="4572000" y="62485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914400" y="1828800"/>
            <a:ext cx="0" cy="304920"/>
          </a:xfrm>
          <a:prstGeom prst="line">
            <a:avLst/>
          </a:prstGeom>
          <a:ln w="255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914400" y="129528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 txBox="1"/>
          <p:nvPr/>
        </p:nvSpPr>
        <p:spPr>
          <a:xfrm>
            <a:off x="704880" y="2735280"/>
            <a:ext cx="11793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12 – Assoc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 txBox="1"/>
          <p:nvPr/>
        </p:nvSpPr>
        <p:spPr>
          <a:xfrm>
            <a:off x="5218200" y="7862760"/>
            <a:ext cx="960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ard mrMSD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 txBox="1"/>
          <p:nvPr/>
        </p:nvSpPr>
        <p:spPr>
          <a:xfrm>
            <a:off x="4606920" y="7558200"/>
            <a:ext cx="1916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Indicate(mrMSDU, mrLng, mrDir,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(mrType = any other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6400800" y="7848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4572000" y="78487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 txBox="1"/>
          <p:nvPr/>
        </p:nvSpPr>
        <p:spPr>
          <a:xfrm>
            <a:off x="4567320" y="7253280"/>
            <a:ext cx="619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1:11j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 flipH="1">
            <a:off x="4572000" y="80773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914400" y="342900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914400" y="312408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4530600" y="6948360"/>
            <a:ext cx="1916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Indicate(mrMSDU, mrLng, mrDir,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(mrType = Beac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4556160" y="7862760"/>
            <a:ext cx="641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1:11k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 txBox="1"/>
          <p:nvPr/>
        </p:nvSpPr>
        <p:spPr>
          <a:xfrm>
            <a:off x="4606920" y="6338880"/>
            <a:ext cx="1916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Indicate(mrMSDU, mrLng, mrDir,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(mrType = PS–Poll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 txBox="1"/>
          <p:nvPr/>
        </p:nvSpPr>
        <p:spPr>
          <a:xfrm>
            <a:off x="5089680" y="7253280"/>
            <a:ext cx="14079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NAV( mrCF_dur_rem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5132520" y="6643800"/>
            <a:ext cx="13240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vePSframes(mrAddr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3949560" y="3138480"/>
            <a:ext cx="6350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1:12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 txBox="1"/>
          <p:nvPr/>
        </p:nvSpPr>
        <p:spPr>
          <a:xfrm>
            <a:off x="1096920" y="2909880"/>
            <a:ext cx="3449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Indicate(mrMSDU, mrLng, mrDir, ) &amp; (mrType = Association Request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914400" y="2971800"/>
            <a:ext cx="0" cy="35812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914400" y="419112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914400" y="449568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973080" y="3976560"/>
            <a:ext cx="3546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Indicate(mrMSDU, mrLng, mrDir, ) &amp; (mrType = Reassociation Request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1378080" y="5805360"/>
            <a:ext cx="31939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Indicate(mrMSDU, mrLng, mrDir, ) &amp; (mrType = Disassocia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685800" y="6697800"/>
            <a:ext cx="13701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13 – Authent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914400" y="6934320"/>
            <a:ext cx="0" cy="12189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914400" y="701028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914400" y="731520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2178000" y="6719760"/>
            <a:ext cx="2359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Indicate(mrMSDU, mrLng, mrDir, ) &amp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mrType = { Authentication | Deauthentication }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 txBox="1"/>
          <p:nvPr/>
        </p:nvSpPr>
        <p:spPr>
          <a:xfrm>
            <a:off x="1209600" y="3443400"/>
            <a:ext cx="33814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e(Association Response, mMSDU, mrAddr2,mrSID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queue(mMSDU, TXq), (update association info for mrAddr2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f successful, inform distribution system and set service state =3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f successful &amp; PSM set up to buffer and indicate traffic by assigned SI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 txBox="1"/>
          <p:nvPr/>
        </p:nvSpPr>
        <p:spPr>
          <a:xfrm>
            <a:off x="901800" y="3443400"/>
            <a:ext cx="6350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2:11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 txBox="1"/>
          <p:nvPr/>
        </p:nvSpPr>
        <p:spPr>
          <a:xfrm>
            <a:off x="1984320" y="3214800"/>
            <a:ext cx="1522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ssociation request process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3946680" y="4205160"/>
            <a:ext cx="641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1:12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1940040" y="4281480"/>
            <a:ext cx="1611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eassociation request process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1130400" y="4510080"/>
            <a:ext cx="338760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e(Reassociation Response, mMSDU, mrAddr2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queue(mMSDU, TXq), (update association info for mrAddr2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f successful, inform distribution system about reassociation of mrAddr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 txBox="1"/>
          <p:nvPr/>
        </p:nvSpPr>
        <p:spPr>
          <a:xfrm>
            <a:off x="898560" y="4510080"/>
            <a:ext cx="641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2:11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 txBox="1"/>
          <p:nvPr/>
        </p:nvSpPr>
        <p:spPr>
          <a:xfrm>
            <a:off x="1214280" y="4967280"/>
            <a:ext cx="32130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otification from distribution system about association/reassocia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914400" y="548640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914400" y="518148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3951360" y="5195880"/>
            <a:ext cx="630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1:12c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1598760" y="5272200"/>
            <a:ext cx="2295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otification from distribution system process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 txBox="1"/>
          <p:nvPr/>
        </p:nvSpPr>
        <p:spPr>
          <a:xfrm>
            <a:off x="1525680" y="6338880"/>
            <a:ext cx="30528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emove association for mrAddr2, set service state =2, inform DS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f PSM reclaim buffers and stop buffering and indicating traffic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6400800" y="6629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4572000" y="6629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 flipH="1">
            <a:off x="4572000" y="68580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 txBox="1"/>
          <p:nvPr/>
        </p:nvSpPr>
        <p:spPr>
          <a:xfrm>
            <a:off x="4556160" y="6643800"/>
            <a:ext cx="641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1:11h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 txBox="1"/>
          <p:nvPr/>
        </p:nvSpPr>
        <p:spPr>
          <a:xfrm>
            <a:off x="903240" y="5500800"/>
            <a:ext cx="630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2:11c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1565280" y="5500800"/>
            <a:ext cx="26668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update association information &amp; reply to DS as need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914400" y="601992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914400" y="632448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2095560" y="6110280"/>
            <a:ext cx="1298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isassociation process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 txBox="1"/>
          <p:nvPr/>
        </p:nvSpPr>
        <p:spPr>
          <a:xfrm>
            <a:off x="898560" y="6338880"/>
            <a:ext cx="641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2:11d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3975120" y="7024680"/>
            <a:ext cx="5842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1:13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901800" y="7329600"/>
            <a:ext cx="6350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3:11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1863720" y="7101000"/>
            <a:ext cx="1611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uthentication frame process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1512720" y="7329600"/>
            <a:ext cx="30765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e(Authentication,mMSDU,mrAddr2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queue(mMSDU,TXq), (if successful, set service state =2, else =1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914400" y="792468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898560" y="7939080"/>
            <a:ext cx="641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3:11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 txBox="1"/>
          <p:nvPr/>
        </p:nvSpPr>
        <p:spPr>
          <a:xfrm>
            <a:off x="1812960" y="7710480"/>
            <a:ext cx="17128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authentication frame process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914400" y="266688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914400" y="243828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914400" y="2438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1370160" y="2224080"/>
            <a:ext cx="32130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Indicate(mrMSDU, mrLng, mrDir, ) &amp; (mrType = Probe Request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3932280" y="2452680"/>
            <a:ext cx="6699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1:11m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 txBox="1"/>
          <p:nvPr/>
        </p:nvSpPr>
        <p:spPr>
          <a:xfrm>
            <a:off x="887400" y="2452680"/>
            <a:ext cx="31082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e(Probe Resp,mMSDU,mrAddr2), Enqueue(mMSDU,TXq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4572000" y="72388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 flipH="1">
            <a:off x="4572000" y="74674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6400800" y="7238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2139840" y="7939080"/>
            <a:ext cx="10573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et service state =1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 txBox="1"/>
          <p:nvPr/>
        </p:nvSpPr>
        <p:spPr>
          <a:xfrm>
            <a:off x="4683240" y="3290760"/>
            <a:ext cx="17524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vePSframes(cfp, head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tCFparms(mMSDU, mLength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 txBox="1"/>
          <p:nvPr/>
        </p:nvSpPr>
        <p:spPr>
          <a:xfrm>
            <a:off x="4791240" y="2986200"/>
            <a:ext cx="17002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CFP &amp; F_PC &amp; (T_CFDR != 0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4572000" y="3200400"/>
            <a:ext cx="1828800" cy="0"/>
          </a:xfrm>
          <a:prstGeom prst="line">
            <a:avLst/>
          </a:prstGeom>
          <a:ln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 flipH="1">
            <a:off x="4572000" y="3581280"/>
            <a:ext cx="1828800" cy="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6400800" y="2514600"/>
            <a:ext cx="0" cy="457200"/>
          </a:xfrm>
          <a:prstGeom prst="line">
            <a:avLst/>
          </a:prstGeom>
          <a:ln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4560840" y="3214800"/>
            <a:ext cx="630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1:11c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 txBox="1"/>
          <p:nvPr/>
        </p:nvSpPr>
        <p:spPr>
          <a:xfrm>
            <a:off x="3946680" y="6033960"/>
            <a:ext cx="641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1:12d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4572000" y="1143000"/>
            <a:ext cx="0" cy="70102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"/>
          <p:cNvSpPr txBox="1"/>
          <p:nvPr/>
        </p:nvSpPr>
        <p:spPr>
          <a:xfrm>
            <a:off x="793800" y="906480"/>
            <a:ext cx="395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0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 txBox="1"/>
          <p:nvPr/>
        </p:nvSpPr>
        <p:spPr>
          <a:xfrm>
            <a:off x="1979640" y="906480"/>
            <a:ext cx="1225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1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Transmi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3990960" y="906480"/>
            <a:ext cx="85716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2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t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 Bod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990720" y="1295280"/>
            <a:ext cx="0" cy="44960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 txBox="1"/>
          <p:nvPr/>
        </p:nvSpPr>
        <p:spPr>
          <a:xfrm>
            <a:off x="990720" y="1690560"/>
            <a:ext cx="455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T0:1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 txBox="1"/>
          <p:nvPr/>
        </p:nvSpPr>
        <p:spPr>
          <a:xfrm>
            <a:off x="2565360" y="1766880"/>
            <a:ext cx="506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T1:2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 txBox="1"/>
          <p:nvPr/>
        </p:nvSpPr>
        <p:spPr>
          <a:xfrm>
            <a:off x="2792520" y="1386000"/>
            <a:ext cx="1430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F_WEP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_WEP &amp; (tType != Data)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 flipH="1">
            <a:off x="2590920" y="53341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990720" y="16765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 txBox="1"/>
          <p:nvPr/>
        </p:nvSpPr>
        <p:spPr>
          <a:xfrm>
            <a:off x="1103400" y="1461960"/>
            <a:ext cx="14540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Request(tMPDU, tLength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 txBox="1"/>
          <p:nvPr/>
        </p:nvSpPr>
        <p:spPr>
          <a:xfrm>
            <a:off x="1330200" y="1690560"/>
            <a:ext cx="11523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(F_TxDone),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ctet :=0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rc := 0hFFFFFFFF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lly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2590920" y="17524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441972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6248520" y="20574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 flipH="1">
            <a:off x="4419720" y="27432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4419720" y="2071800"/>
            <a:ext cx="455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T2:2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4762440" y="2071800"/>
            <a:ext cx="14479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_DATA.request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MDPU[tOctet] ),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C(tCrc, tMPDU[tOctet] ),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ctet +=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4933800" y="1843200"/>
            <a:ext cx="1106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_DATA.confir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2004840" y="4487760"/>
            <a:ext cx="1176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5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 Transmi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2590920" y="4876920"/>
            <a:ext cx="0" cy="9144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 txBox="1"/>
          <p:nvPr/>
        </p:nvSpPr>
        <p:spPr>
          <a:xfrm>
            <a:off x="3962520" y="5348160"/>
            <a:ext cx="455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T4:5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2670120" y="5119560"/>
            <a:ext cx="16732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_DATA.confirm &amp; tOctet = 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2778120" y="5348160"/>
            <a:ext cx="1152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_TXEND.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 flipH="1">
            <a:off x="990720" y="518148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 txBox="1"/>
          <p:nvPr/>
        </p:nvSpPr>
        <p:spPr>
          <a:xfrm>
            <a:off x="2133720" y="5195880"/>
            <a:ext cx="455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T5:0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1276200" y="4967280"/>
            <a:ext cx="1106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_DATA.confir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1243080" y="5195880"/>
            <a:ext cx="870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(F_TxDone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art(T_IF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 txBox="1"/>
          <p:nvPr/>
        </p:nvSpPr>
        <p:spPr>
          <a:xfrm>
            <a:off x="5108400" y="3824280"/>
            <a:ext cx="9079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ctet = tLeng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 txBox="1"/>
          <p:nvPr/>
        </p:nvSpPr>
        <p:spPr>
          <a:xfrm>
            <a:off x="3922560" y="4487760"/>
            <a:ext cx="9986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4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t CR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4419720" y="4876920"/>
            <a:ext cx="0" cy="9144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 flipH="1">
            <a:off x="4419720" y="49528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 flipH="1">
            <a:off x="4419720" y="40384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248520" y="40384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4419720" y="52578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6248520" y="5257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 flipH="1">
            <a:off x="4419720" y="5638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 txBox="1"/>
          <p:nvPr/>
        </p:nvSpPr>
        <p:spPr>
          <a:xfrm>
            <a:off x="4419720" y="5272200"/>
            <a:ext cx="455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T4:4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 txBox="1"/>
          <p:nvPr/>
        </p:nvSpPr>
        <p:spPr>
          <a:xfrm>
            <a:off x="4811760" y="5272200"/>
            <a:ext cx="13525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_DATA.request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Crc[tOctet] ), tOctet +=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 txBox="1"/>
          <p:nvPr/>
        </p:nvSpPr>
        <p:spPr>
          <a:xfrm>
            <a:off x="4933800" y="5043600"/>
            <a:ext cx="1106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_DATA.confir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 txBox="1"/>
          <p:nvPr/>
        </p:nvSpPr>
        <p:spPr>
          <a:xfrm>
            <a:off x="4419720" y="4052880"/>
            <a:ext cx="455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T2:4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4768920" y="4052880"/>
            <a:ext cx="14349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ctet := 0,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rc := tCrc ^ 0hFFFFFFF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 txBox="1"/>
          <p:nvPr/>
        </p:nvSpPr>
        <p:spPr>
          <a:xfrm>
            <a:off x="1920960" y="2887560"/>
            <a:ext cx="1338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3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t Timestam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2590920" y="3276720"/>
            <a:ext cx="0" cy="1066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 flipH="1">
            <a:off x="1143000" y="3505320"/>
            <a:ext cx="1446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1143000" y="35053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1143000" y="4114800"/>
            <a:ext cx="14461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 txBox="1"/>
          <p:nvPr/>
        </p:nvSpPr>
        <p:spPr>
          <a:xfrm>
            <a:off x="2155680" y="3519360"/>
            <a:ext cx="455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T3:3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1093680" y="3519360"/>
            <a:ext cx="1469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_DATA.request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Ts[(tOctet–24)] ),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C(tCrc, tTs[(tOctet–24)] ),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ctet +=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 txBox="1"/>
          <p:nvPr/>
        </p:nvSpPr>
        <p:spPr>
          <a:xfrm>
            <a:off x="1200240" y="3290760"/>
            <a:ext cx="1106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_DATA.confir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 flipH="1">
            <a:off x="2590920" y="36576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 flipH="1">
            <a:off x="2590920" y="41911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 txBox="1"/>
          <p:nvPr/>
        </p:nvSpPr>
        <p:spPr>
          <a:xfrm>
            <a:off x="2778120" y="3214800"/>
            <a:ext cx="160812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ctet = 24  &amp;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FrameType = ProbeResponse  |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FrameType = Beac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 txBox="1"/>
          <p:nvPr/>
        </p:nvSpPr>
        <p:spPr>
          <a:xfrm>
            <a:off x="2762280" y="3672000"/>
            <a:ext cx="11811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Ts := T_TSF + tOffs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 txBox="1"/>
          <p:nvPr/>
        </p:nvSpPr>
        <p:spPr>
          <a:xfrm>
            <a:off x="3962520" y="3672000"/>
            <a:ext cx="455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T2:3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 txBox="1"/>
          <p:nvPr/>
        </p:nvSpPr>
        <p:spPr>
          <a:xfrm>
            <a:off x="3097080" y="3976560"/>
            <a:ext cx="6652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ctet = 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 txBox="1"/>
          <p:nvPr/>
        </p:nvSpPr>
        <p:spPr>
          <a:xfrm>
            <a:off x="2590920" y="4205160"/>
            <a:ext cx="455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T3:2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2590920" y="2438280"/>
            <a:ext cx="1828800" cy="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 txBox="1"/>
          <p:nvPr/>
        </p:nvSpPr>
        <p:spPr>
          <a:xfrm>
            <a:off x="3035160" y="2452680"/>
            <a:ext cx="14000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rypt(tMPDU, tLength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PLCPlength := tLength + 4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_TXSTART.request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xVector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 txBox="1"/>
          <p:nvPr/>
        </p:nvSpPr>
        <p:spPr>
          <a:xfrm>
            <a:off x="3035160" y="1766880"/>
            <a:ext cx="140004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PLCPlength := tLength + 4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_TXSTART.request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xVector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2590920" y="1295280"/>
            <a:ext cx="0" cy="12956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4419720" y="1447920"/>
            <a:ext cx="0" cy="28954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 txBox="1"/>
          <p:nvPr/>
        </p:nvSpPr>
        <p:spPr>
          <a:xfrm>
            <a:off x="2779560" y="2224080"/>
            <a:ext cx="1303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WEP &amp; (tType = Dat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 txBox="1"/>
          <p:nvPr/>
        </p:nvSpPr>
        <p:spPr>
          <a:xfrm>
            <a:off x="2565360" y="2452680"/>
            <a:ext cx="506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T1:2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"/>
          <p:cNvSpPr txBox="1"/>
          <p:nvPr/>
        </p:nvSpPr>
        <p:spPr>
          <a:xfrm>
            <a:off x="4543560" y="5475240"/>
            <a:ext cx="1420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CFP &amp; ThisBSS(rMPDU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(rDuration &lt; 0h800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 txBox="1"/>
          <p:nvPr/>
        </p:nvSpPr>
        <p:spPr>
          <a:xfrm>
            <a:off x="681120" y="906480"/>
            <a:ext cx="622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0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a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 txBox="1"/>
          <p:nvPr/>
        </p:nvSpPr>
        <p:spPr>
          <a:xfrm>
            <a:off x="2013120" y="906480"/>
            <a:ext cx="395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1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 txBox="1"/>
          <p:nvPr/>
        </p:nvSpPr>
        <p:spPr>
          <a:xfrm>
            <a:off x="2870280" y="906480"/>
            <a:ext cx="11192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2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ity Detec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 txBox="1"/>
          <p:nvPr/>
        </p:nvSpPr>
        <p:spPr>
          <a:xfrm>
            <a:off x="4152960" y="906480"/>
            <a:ext cx="9921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3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 Fr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 txBox="1"/>
          <p:nvPr/>
        </p:nvSpPr>
        <p:spPr>
          <a:xfrm>
            <a:off x="5699160" y="906480"/>
            <a:ext cx="64296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4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id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990720" y="1295280"/>
            <a:ext cx="0" cy="10670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2209680" y="1295280"/>
            <a:ext cx="0" cy="39625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990720" y="14479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 txBox="1"/>
          <p:nvPr/>
        </p:nvSpPr>
        <p:spPr>
          <a:xfrm>
            <a:off x="988920" y="146196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0:1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 txBox="1"/>
          <p:nvPr/>
        </p:nvSpPr>
        <p:spPr>
          <a:xfrm>
            <a:off x="1008000" y="1995480"/>
            <a:ext cx="11890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F_Awake &amp; !F_DT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990720" y="220968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 txBox="1"/>
          <p:nvPr/>
        </p:nvSpPr>
        <p:spPr>
          <a:xfrm>
            <a:off x="1751040" y="222408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1:0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 txBox="1"/>
          <p:nvPr/>
        </p:nvSpPr>
        <p:spPr>
          <a:xfrm>
            <a:off x="995400" y="1233360"/>
            <a:ext cx="1058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Awake | F_DT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3429000" y="129528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2209680" y="15238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3429000" y="16765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4648320" y="1295280"/>
            <a:ext cx="0" cy="1981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4648320" y="30481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6019920" y="1447920"/>
            <a:ext cx="0" cy="3352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 txBox="1"/>
          <p:nvPr/>
        </p:nvSpPr>
        <p:spPr>
          <a:xfrm>
            <a:off x="2208240" y="153828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1:2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 txBox="1"/>
          <p:nvPr/>
        </p:nvSpPr>
        <p:spPr>
          <a:xfrm>
            <a:off x="1006560" y="1461960"/>
            <a:ext cx="121428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(F_Mbusy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art(T_Busy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_CCARST.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2209680" y="21337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 txBox="1"/>
          <p:nvPr/>
        </p:nvSpPr>
        <p:spPr>
          <a:xfrm>
            <a:off x="2970360" y="214776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2:1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 txBox="1"/>
          <p:nvPr/>
        </p:nvSpPr>
        <p:spPr>
          <a:xfrm>
            <a:off x="2211480" y="2147760"/>
            <a:ext cx="93204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t(T_Busy),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(F_Mbusy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art(T_IF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2160720" y="1309680"/>
            <a:ext cx="13208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_CCA.indicate(Bus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 txBox="1"/>
          <p:nvPr/>
        </p:nvSpPr>
        <p:spPr>
          <a:xfrm>
            <a:off x="3427560" y="169056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2:3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 txBox="1"/>
          <p:nvPr/>
        </p:nvSpPr>
        <p:spPr>
          <a:xfrm>
            <a:off x="4160880" y="313848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3:1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 txBox="1"/>
          <p:nvPr/>
        </p:nvSpPr>
        <p:spPr>
          <a:xfrm>
            <a:off x="3508200" y="1690560"/>
            <a:ext cx="11397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ctet := 0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Crc := 0hFFFFFFF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4648320" y="21337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5791320" y="2133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 flipH="1">
            <a:off x="4648320" y="25909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 txBox="1"/>
          <p:nvPr/>
        </p:nvSpPr>
        <p:spPr>
          <a:xfrm>
            <a:off x="4618080" y="214776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3:3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 txBox="1"/>
          <p:nvPr/>
        </p:nvSpPr>
        <p:spPr>
          <a:xfrm>
            <a:off x="4705200" y="1843200"/>
            <a:ext cx="11066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_DATA.indic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MPDU[rOctet]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 txBox="1"/>
          <p:nvPr/>
        </p:nvSpPr>
        <p:spPr>
          <a:xfrm>
            <a:off x="4851360" y="2147760"/>
            <a:ext cx="96840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C(rCrc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MPDU[rOctet] 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ctet +=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 txBox="1"/>
          <p:nvPr/>
        </p:nvSpPr>
        <p:spPr>
          <a:xfrm>
            <a:off x="4743360" y="2757600"/>
            <a:ext cx="11811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_RXEND.indicate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xError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 txBox="1"/>
          <p:nvPr/>
        </p:nvSpPr>
        <p:spPr>
          <a:xfrm>
            <a:off x="4646520" y="306216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3:4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6019920" y="5334120"/>
            <a:ext cx="0" cy="25146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 flipH="1">
            <a:off x="2209680" y="3581280"/>
            <a:ext cx="3810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 flipH="1">
            <a:off x="4419720" y="632448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2971800" y="548640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 txBox="1"/>
          <p:nvPr/>
        </p:nvSpPr>
        <p:spPr>
          <a:xfrm>
            <a:off x="3386160" y="1309680"/>
            <a:ext cx="1305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_RXSTART.indicate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xVector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 txBox="1"/>
          <p:nvPr/>
        </p:nvSpPr>
        <p:spPr>
          <a:xfrm>
            <a:off x="2790720" y="2909880"/>
            <a:ext cx="1276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_CCA.indicate(Idl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 txBox="1"/>
          <p:nvPr/>
        </p:nvSpPr>
        <p:spPr>
          <a:xfrm>
            <a:off x="2182680" y="1919160"/>
            <a:ext cx="1276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_CCA.indicate(Idl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 flipH="1">
            <a:off x="1066680" y="3048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1066680" y="30481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1066680" y="3657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1751040" y="306216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1:1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 txBox="1"/>
          <p:nvPr/>
        </p:nvSpPr>
        <p:spPr>
          <a:xfrm>
            <a:off x="2533680" y="1538280"/>
            <a:ext cx="9064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(F_Mbusy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art(T_Bus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963720" y="2712960"/>
            <a:ext cx="12762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_CCA.indicate(Idl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(T_Busy &gt; aDIF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992160" y="3062160"/>
            <a:ext cx="95724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t(T_Busy),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ear(F_Mbusy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art(T_IF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4648320" y="14479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5791320" y="1447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 flipH="1">
            <a:off x="4648320" y="1752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 txBox="1"/>
          <p:nvPr/>
        </p:nvSpPr>
        <p:spPr>
          <a:xfrm>
            <a:off x="4621320" y="1461960"/>
            <a:ext cx="511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3:3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 txBox="1"/>
          <p:nvPr/>
        </p:nvSpPr>
        <p:spPr>
          <a:xfrm>
            <a:off x="5072040" y="1233360"/>
            <a:ext cx="676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ctet = 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 txBox="1"/>
          <p:nvPr/>
        </p:nvSpPr>
        <p:spPr>
          <a:xfrm>
            <a:off x="5019840" y="1461960"/>
            <a:ext cx="7840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s := T_TS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2209680" y="3124080"/>
            <a:ext cx="243864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 txBox="1"/>
          <p:nvPr/>
        </p:nvSpPr>
        <p:spPr>
          <a:xfrm>
            <a:off x="5578560" y="4944960"/>
            <a:ext cx="8859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 NA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 txBox="1"/>
          <p:nvPr/>
        </p:nvSpPr>
        <p:spPr>
          <a:xfrm>
            <a:off x="3894120" y="4335480"/>
            <a:ext cx="1055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ode Addr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 txBox="1"/>
          <p:nvPr/>
        </p:nvSpPr>
        <p:spPr>
          <a:xfrm>
            <a:off x="1747800" y="6087960"/>
            <a:ext cx="6206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y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2427120" y="5097600"/>
            <a:ext cx="1090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ter Duplic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 txBox="1"/>
          <p:nvPr/>
        </p:nvSpPr>
        <p:spPr>
          <a:xfrm>
            <a:off x="2287440" y="3138480"/>
            <a:ext cx="19908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t(T_Busy), Clear(F_Mbusy), Tally()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art(T_IF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 flipH="1">
            <a:off x="2209680" y="4038480"/>
            <a:ext cx="3810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 txBox="1"/>
          <p:nvPr/>
        </p:nvSpPr>
        <p:spPr>
          <a:xfrm>
            <a:off x="4164120" y="2681280"/>
            <a:ext cx="511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3:1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 txBox="1"/>
          <p:nvPr/>
        </p:nvSpPr>
        <p:spPr>
          <a:xfrm>
            <a:off x="3048120" y="2452680"/>
            <a:ext cx="1522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ctet &gt; aMax_Frame_Leng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2209680" y="2666880"/>
            <a:ext cx="243864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 txBox="1"/>
          <p:nvPr/>
        </p:nvSpPr>
        <p:spPr>
          <a:xfrm>
            <a:off x="2973240" y="2681280"/>
            <a:ext cx="1166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t(T_Busy), Tally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 txBox="1"/>
          <p:nvPr/>
        </p:nvSpPr>
        <p:spPr>
          <a:xfrm>
            <a:off x="3627360" y="3367080"/>
            <a:ext cx="23479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xError != No_Error) | (rOctet != rPLCPlength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 txBox="1"/>
          <p:nvPr/>
        </p:nvSpPr>
        <p:spPr>
          <a:xfrm>
            <a:off x="5535720" y="3595680"/>
            <a:ext cx="511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4:1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 txBox="1"/>
          <p:nvPr/>
        </p:nvSpPr>
        <p:spPr>
          <a:xfrm>
            <a:off x="3125880" y="3595680"/>
            <a:ext cx="1166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t(T_Busy), Tally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 txBox="1"/>
          <p:nvPr/>
        </p:nvSpPr>
        <p:spPr>
          <a:xfrm>
            <a:off x="5532480" y="405288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4:1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 txBox="1"/>
          <p:nvPr/>
        </p:nvSpPr>
        <p:spPr>
          <a:xfrm>
            <a:off x="2406600" y="3824280"/>
            <a:ext cx="3573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xError = No_Error) &amp; ( (rCrc != 0hC704DD7B) | (rProtocol_Version != 0)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 txBox="1"/>
          <p:nvPr/>
        </p:nvSpPr>
        <p:spPr>
          <a:xfrm>
            <a:off x="3125880" y="4052880"/>
            <a:ext cx="22748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t(T_Busy), UpdNAV( * see notes * ), Tally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 flipH="1">
            <a:off x="5486400" y="4648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5486400" y="46483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5486400" y="54100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 txBox="1"/>
          <p:nvPr/>
        </p:nvSpPr>
        <p:spPr>
          <a:xfrm>
            <a:off x="5560920" y="466236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4:5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 txBox="1"/>
          <p:nvPr/>
        </p:nvSpPr>
        <p:spPr>
          <a:xfrm>
            <a:off x="4815000" y="4281480"/>
            <a:ext cx="12524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Crc =0hC704DD7B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xError= No_Error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 flipH="1">
            <a:off x="4419720" y="769608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 flipH="1">
            <a:off x="4419720" y="68580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 flipH="1">
            <a:off x="2057400" y="678168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 flipH="1">
            <a:off x="2971800" y="57150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 flipH="1">
            <a:off x="2209680" y="4876920"/>
            <a:ext cx="2210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 flipH="1">
            <a:off x="762120" y="5791320"/>
            <a:ext cx="22096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 txBox="1"/>
          <p:nvPr/>
        </p:nvSpPr>
        <p:spPr>
          <a:xfrm>
            <a:off x="5532480" y="633888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5:6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 txBox="1"/>
          <p:nvPr/>
        </p:nvSpPr>
        <p:spPr>
          <a:xfrm>
            <a:off x="4822920" y="6110280"/>
            <a:ext cx="10429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Duration &lt; 0h8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 txBox="1"/>
          <p:nvPr/>
        </p:nvSpPr>
        <p:spPr>
          <a:xfrm>
            <a:off x="4505400" y="6338880"/>
            <a:ext cx="10987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NAV(rDura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 txBox="1"/>
          <p:nvPr/>
        </p:nvSpPr>
        <p:spPr>
          <a:xfrm>
            <a:off x="4513320" y="7481880"/>
            <a:ext cx="11239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Duration &gt;= 0hC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 txBox="1"/>
          <p:nvPr/>
        </p:nvSpPr>
        <p:spPr>
          <a:xfrm>
            <a:off x="4487760" y="7710480"/>
            <a:ext cx="1149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NAV(rDurPsPoll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 txBox="1"/>
          <p:nvPr/>
        </p:nvSpPr>
        <p:spPr>
          <a:xfrm>
            <a:off x="5537160" y="7710480"/>
            <a:ext cx="506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5:6e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 txBox="1"/>
          <p:nvPr/>
        </p:nvSpPr>
        <p:spPr>
          <a:xfrm>
            <a:off x="5537160" y="6872400"/>
            <a:ext cx="506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5:6c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 txBox="1"/>
          <p:nvPr/>
        </p:nvSpPr>
        <p:spPr>
          <a:xfrm>
            <a:off x="4486320" y="6567480"/>
            <a:ext cx="1611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F_CFP &amp; ThisBSS(rMPDU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0h8000&lt;= rDuration &lt;0hC00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 txBox="1"/>
          <p:nvPr/>
        </p:nvSpPr>
        <p:spPr>
          <a:xfrm>
            <a:off x="2028960" y="7024680"/>
            <a:ext cx="24145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(rAddr1 = Broadcast_Address) |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Addr1 = {aGroup_Addresses} )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Promiscuous_Status = true) 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hisBSS(rMPDU) &amp; (rAddr3 !=aMAC_Address)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 txBox="1"/>
          <p:nvPr/>
        </p:nvSpPr>
        <p:spPr>
          <a:xfrm>
            <a:off x="3024360" y="6567480"/>
            <a:ext cx="8748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ype = Bea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 txBox="1"/>
          <p:nvPr/>
        </p:nvSpPr>
        <p:spPr>
          <a:xfrm>
            <a:off x="3049560" y="5424480"/>
            <a:ext cx="13874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ToDS = 0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Addr1=aMAC_Addres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 txBox="1"/>
          <p:nvPr/>
        </p:nvSpPr>
        <p:spPr>
          <a:xfrm>
            <a:off x="3073320" y="5958000"/>
            <a:ext cx="13874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ToDS = 1) &amp; F_AP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Addr1=aMAC_Addres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 txBox="1"/>
          <p:nvPr/>
        </p:nvSpPr>
        <p:spPr>
          <a:xfrm>
            <a:off x="2963880" y="4662360"/>
            <a:ext cx="8413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alid add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 txBox="1"/>
          <p:nvPr/>
        </p:nvSpPr>
        <p:spPr>
          <a:xfrm>
            <a:off x="3954600" y="487836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6:1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973240" y="4890960"/>
            <a:ext cx="8222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t(T_Bus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 txBox="1"/>
          <p:nvPr/>
        </p:nvSpPr>
        <p:spPr>
          <a:xfrm>
            <a:off x="3935520" y="5729400"/>
            <a:ext cx="511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6:7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 flipH="1">
            <a:off x="2057400" y="762012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 txBox="1"/>
          <p:nvPr/>
        </p:nvSpPr>
        <p:spPr>
          <a:xfrm>
            <a:off x="3252960" y="5729400"/>
            <a:ext cx="5698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Dir :=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 txBox="1"/>
          <p:nvPr/>
        </p:nvSpPr>
        <p:spPr>
          <a:xfrm>
            <a:off x="2363760" y="7596360"/>
            <a:ext cx="5698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Dir := 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3932280" y="626256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6:7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 flipH="1">
            <a:off x="2971800" y="624852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 txBox="1"/>
          <p:nvPr/>
        </p:nvSpPr>
        <p:spPr>
          <a:xfrm>
            <a:off x="3252960" y="6262560"/>
            <a:ext cx="5698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Dir :=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 txBox="1"/>
          <p:nvPr/>
        </p:nvSpPr>
        <p:spPr>
          <a:xfrm>
            <a:off x="3932280" y="759636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6:8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3933720" y="6796080"/>
            <a:ext cx="511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6:8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 flipH="1">
            <a:off x="2438280" y="63244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 txBox="1"/>
          <p:nvPr/>
        </p:nvSpPr>
        <p:spPr>
          <a:xfrm>
            <a:off x="1722600" y="5576760"/>
            <a:ext cx="1190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pFilter(rMPDU) = 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 txBox="1"/>
          <p:nvPr/>
        </p:nvSpPr>
        <p:spPr>
          <a:xfrm>
            <a:off x="2513160" y="580536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7:9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 txBox="1"/>
          <p:nvPr/>
        </p:nvSpPr>
        <p:spPr>
          <a:xfrm>
            <a:off x="2317680" y="6033960"/>
            <a:ext cx="7603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pFil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MPDU)=1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 flipV="1">
            <a:off x="2438280" y="6324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 flipH="1">
            <a:off x="2057400" y="6629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762120" y="4419720"/>
            <a:ext cx="14475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762120" y="5105520"/>
            <a:ext cx="14475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513160" y="633888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7:8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 txBox="1"/>
          <p:nvPr/>
        </p:nvSpPr>
        <p:spPr>
          <a:xfrm>
            <a:off x="1244520" y="6948360"/>
            <a:ext cx="620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WEP = 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 txBox="1"/>
          <p:nvPr/>
        </p:nvSpPr>
        <p:spPr>
          <a:xfrm>
            <a:off x="925560" y="7253280"/>
            <a:ext cx="115560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WEP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WEP=1) &amp; (Decry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MPDU,rOctet) = 1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 flipH="1">
            <a:off x="762120" y="7696080"/>
            <a:ext cx="1295280" cy="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 flipH="1">
            <a:off x="762120" y="670572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836640" y="6033960"/>
            <a:ext cx="97632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WEP = 1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F_WEP)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(rWEP=1) &amp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crypt(rMPDU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ctet) = 0)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82760" y="3726000"/>
            <a:ext cx="5652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762120" y="4267080"/>
            <a:ext cx="0" cy="35816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 flipH="1">
            <a:off x="762120" y="716292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 txBox="1"/>
          <p:nvPr/>
        </p:nvSpPr>
        <p:spPr>
          <a:xfrm>
            <a:off x="1573200" y="6719760"/>
            <a:ext cx="511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8:9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 txBox="1"/>
          <p:nvPr/>
        </p:nvSpPr>
        <p:spPr>
          <a:xfrm>
            <a:off x="1569960" y="717696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8:9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1574640" y="7710480"/>
            <a:ext cx="506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8:9c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 txBox="1"/>
          <p:nvPr/>
        </p:nvSpPr>
        <p:spPr>
          <a:xfrm>
            <a:off x="735120" y="4433760"/>
            <a:ext cx="511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9:1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2057400" y="6477120"/>
            <a:ext cx="0" cy="13716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 txBox="1"/>
          <p:nvPr/>
        </p:nvSpPr>
        <p:spPr>
          <a:xfrm>
            <a:off x="1092240" y="4433760"/>
            <a:ext cx="11397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t(T_Tbusy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xIndicate(rMPDU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Octet–4), rDir, rTs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lly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 txBox="1"/>
          <p:nvPr/>
        </p:nvSpPr>
        <p:spPr>
          <a:xfrm>
            <a:off x="2192400" y="6796080"/>
            <a:ext cx="1779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Dir :=  0, UpdNAV(rCF_Dur_Re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 txBox="1"/>
          <p:nvPr/>
        </p:nvSpPr>
        <p:spPr>
          <a:xfrm>
            <a:off x="941400" y="6719760"/>
            <a:ext cx="620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Dir := –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 txBox="1"/>
          <p:nvPr/>
        </p:nvSpPr>
        <p:spPr>
          <a:xfrm>
            <a:off x="1779480" y="5805360"/>
            <a:ext cx="620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Dir := –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 txBox="1"/>
          <p:nvPr/>
        </p:nvSpPr>
        <p:spPr>
          <a:xfrm>
            <a:off x="1017720" y="4205160"/>
            <a:ext cx="620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Dir != –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 txBox="1"/>
          <p:nvPr/>
        </p:nvSpPr>
        <p:spPr>
          <a:xfrm>
            <a:off x="731880" y="511956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9:1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 txBox="1"/>
          <p:nvPr/>
        </p:nvSpPr>
        <p:spPr>
          <a:xfrm>
            <a:off x="1035000" y="4890960"/>
            <a:ext cx="5857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Dir = –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 txBox="1"/>
          <p:nvPr/>
        </p:nvSpPr>
        <p:spPr>
          <a:xfrm>
            <a:off x="1162080" y="5119560"/>
            <a:ext cx="98280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t(T_Tbusy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xError(rAddr2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lly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 flipH="1">
            <a:off x="4419720" y="50292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 flipH="1">
            <a:off x="4419720" y="54100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5334120" y="5029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 txBox="1"/>
          <p:nvPr/>
        </p:nvSpPr>
        <p:spPr>
          <a:xfrm>
            <a:off x="4417920" y="504360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6:6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 txBox="1"/>
          <p:nvPr/>
        </p:nvSpPr>
        <p:spPr>
          <a:xfrm>
            <a:off x="4371840" y="4713120"/>
            <a:ext cx="1152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Type={any CFack}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(ThisBSS(rMPDU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 txBox="1"/>
          <p:nvPr/>
        </p:nvSpPr>
        <p:spPr>
          <a:xfrm>
            <a:off x="4581360" y="5195880"/>
            <a:ext cx="7873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(F_CFac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4419720" y="4724280"/>
            <a:ext cx="0" cy="3124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 flipH="1">
            <a:off x="4419720" y="57913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 txBox="1"/>
          <p:nvPr/>
        </p:nvSpPr>
        <p:spPr>
          <a:xfrm>
            <a:off x="4505400" y="5805360"/>
            <a:ext cx="11635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NAV(rDuration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(F_CFP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 txBox="1"/>
          <p:nvPr/>
        </p:nvSpPr>
        <p:spPr>
          <a:xfrm>
            <a:off x="5535720" y="5805360"/>
            <a:ext cx="511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5:6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 txBox="1"/>
          <p:nvPr/>
        </p:nvSpPr>
        <p:spPr>
          <a:xfrm>
            <a:off x="4429080" y="6872400"/>
            <a:ext cx="13190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(F_CFP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NAV(aCF_Max_Dur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4545000" y="7176960"/>
            <a:ext cx="1492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h8000&lt;= rDuration &lt;0hC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 flipH="1">
            <a:off x="4419720" y="73915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 txBox="1"/>
          <p:nvPr/>
        </p:nvSpPr>
        <p:spPr>
          <a:xfrm>
            <a:off x="5532480" y="740556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5:6d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"/>
          <p:cNvSpPr txBox="1"/>
          <p:nvPr/>
        </p:nvSpPr>
        <p:spPr>
          <a:xfrm>
            <a:off x="762120" y="914400"/>
            <a:ext cx="54100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y Popular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1" name=""/>
          <p:cNvGrpSpPr/>
          <p:nvPr/>
        </p:nvGrpSpPr>
        <p:grpSpPr>
          <a:xfrm>
            <a:off x="1523880" y="2209680"/>
            <a:ext cx="1828800" cy="1828800"/>
            <a:chOff x="1523880" y="2209680"/>
            <a:chExt cx="1828800" cy="1828800"/>
          </a:xfrm>
        </p:grpSpPr>
        <p:sp>
          <p:nvSpPr>
            <p:cNvPr id="1192" name=""/>
            <p:cNvSpPr/>
            <p:nvPr/>
          </p:nvSpPr>
          <p:spPr>
            <a:xfrm>
              <a:off x="1523880" y="2209680"/>
              <a:ext cx="1828800" cy="18288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398680" y="3456720"/>
              <a:ext cx="557640" cy="166320"/>
            </a:xfrm>
            <a:custGeom>
              <a:avLst/>
              <a:gdLst/>
              <a:ahLst/>
              <a:rect l="0" t="0" r="r" b="b"/>
              <a:pathLst>
                <a:path fill="none" w="1549" h="462">
                  <a:moveTo>
                    <a:pt x="0" y="462"/>
                  </a:moveTo>
                  <a:lnTo>
                    <a:pt x="0" y="462"/>
                  </a:lnTo>
                  <a:cubicBezTo>
                    <a:pt x="272" y="462"/>
                    <a:pt x="539" y="441"/>
                    <a:pt x="775" y="400"/>
                  </a:cubicBezTo>
                  <a:cubicBezTo>
                    <a:pt x="1010" y="360"/>
                    <a:pt x="1206" y="301"/>
                    <a:pt x="1341" y="231"/>
                  </a:cubicBezTo>
                  <a:cubicBezTo>
                    <a:pt x="1477" y="161"/>
                    <a:pt x="1549" y="81"/>
                    <a:pt x="1549" y="0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841400" y="3456720"/>
              <a:ext cx="557640" cy="166320"/>
            </a:xfrm>
            <a:custGeom>
              <a:avLst/>
              <a:gdLst/>
              <a:ahLst/>
              <a:rect l="0" t="0" r="r" b="b"/>
              <a:pathLst>
                <a:path fill="none" w="1549" h="462">
                  <a:moveTo>
                    <a:pt x="0" y="0"/>
                  </a:moveTo>
                  <a:lnTo>
                    <a:pt x="0" y="0"/>
                  </a:lnTo>
                  <a:cubicBezTo>
                    <a:pt x="0" y="81"/>
                    <a:pt x="72" y="161"/>
                    <a:pt x="208" y="231"/>
                  </a:cubicBezTo>
                  <a:cubicBezTo>
                    <a:pt x="343" y="301"/>
                    <a:pt x="539" y="360"/>
                    <a:pt x="775" y="400"/>
                  </a:cubicBezTo>
                  <a:cubicBezTo>
                    <a:pt x="1010" y="441"/>
                    <a:pt x="1277" y="462"/>
                    <a:pt x="1549" y="462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041560" y="2874960"/>
              <a:ext cx="158760" cy="123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597040" y="2874960"/>
              <a:ext cx="158760" cy="123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359080" y="3124080"/>
              <a:ext cx="159120" cy="125640"/>
            </a:xfrm>
            <a:custGeom>
              <a:avLst/>
              <a:gdLst/>
              <a:ahLst/>
              <a:rect l="0" t="0" r="r" b="b"/>
              <a:pathLst>
                <a:path w="442" h="349">
                  <a:moveTo>
                    <a:pt x="0" y="0"/>
                  </a:moveTo>
                  <a:lnTo>
                    <a:pt x="133" y="349"/>
                  </a:lnTo>
                  <a:lnTo>
                    <a:pt x="309" y="349"/>
                  </a:lnTo>
                  <a:lnTo>
                    <a:pt x="44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8" name=""/>
          <p:cNvGrpSpPr/>
          <p:nvPr/>
        </p:nvGrpSpPr>
        <p:grpSpPr>
          <a:xfrm>
            <a:off x="4343400" y="2209680"/>
            <a:ext cx="1828800" cy="1828800"/>
            <a:chOff x="4343400" y="2209680"/>
            <a:chExt cx="1828800" cy="1828800"/>
          </a:xfrm>
        </p:grpSpPr>
        <p:sp>
          <p:nvSpPr>
            <p:cNvPr id="1199" name=""/>
            <p:cNvSpPr/>
            <p:nvPr/>
          </p:nvSpPr>
          <p:spPr>
            <a:xfrm>
              <a:off x="4343400" y="2209680"/>
              <a:ext cx="1828800" cy="18288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5218200" y="3456720"/>
              <a:ext cx="557640" cy="166320"/>
            </a:xfrm>
            <a:custGeom>
              <a:avLst/>
              <a:gdLst/>
              <a:ahLst/>
              <a:rect l="0" t="0" r="r" b="b"/>
              <a:pathLst>
                <a:path fill="none" w="1549" h="462">
                  <a:moveTo>
                    <a:pt x="0" y="462"/>
                  </a:moveTo>
                  <a:lnTo>
                    <a:pt x="0" y="462"/>
                  </a:lnTo>
                  <a:cubicBezTo>
                    <a:pt x="272" y="462"/>
                    <a:pt x="539" y="441"/>
                    <a:pt x="775" y="400"/>
                  </a:cubicBezTo>
                  <a:cubicBezTo>
                    <a:pt x="1010" y="360"/>
                    <a:pt x="1206" y="301"/>
                    <a:pt x="1341" y="231"/>
                  </a:cubicBezTo>
                  <a:cubicBezTo>
                    <a:pt x="1477" y="161"/>
                    <a:pt x="1549" y="81"/>
                    <a:pt x="1549" y="0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660920" y="3456720"/>
              <a:ext cx="557640" cy="166320"/>
            </a:xfrm>
            <a:custGeom>
              <a:avLst/>
              <a:gdLst/>
              <a:ahLst/>
              <a:rect l="0" t="0" r="r" b="b"/>
              <a:pathLst>
                <a:path fill="none" w="1549" h="462">
                  <a:moveTo>
                    <a:pt x="0" y="0"/>
                  </a:moveTo>
                  <a:lnTo>
                    <a:pt x="0" y="0"/>
                  </a:lnTo>
                  <a:cubicBezTo>
                    <a:pt x="0" y="81"/>
                    <a:pt x="72" y="161"/>
                    <a:pt x="208" y="231"/>
                  </a:cubicBezTo>
                  <a:cubicBezTo>
                    <a:pt x="343" y="301"/>
                    <a:pt x="539" y="360"/>
                    <a:pt x="775" y="400"/>
                  </a:cubicBezTo>
                  <a:cubicBezTo>
                    <a:pt x="1010" y="441"/>
                    <a:pt x="1277" y="462"/>
                    <a:pt x="1549" y="462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861080" y="2874960"/>
              <a:ext cx="158760" cy="123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416560" y="2874960"/>
              <a:ext cx="158760" cy="123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178600" y="3124080"/>
              <a:ext cx="159120" cy="125640"/>
            </a:xfrm>
            <a:custGeom>
              <a:avLst/>
              <a:gdLst/>
              <a:ahLst/>
              <a:rect l="0" t="0" r="r" b="b"/>
              <a:pathLst>
                <a:path w="442" h="349">
                  <a:moveTo>
                    <a:pt x="0" y="0"/>
                  </a:moveTo>
                  <a:lnTo>
                    <a:pt x="133" y="349"/>
                  </a:lnTo>
                  <a:lnTo>
                    <a:pt x="309" y="349"/>
                  </a:lnTo>
                  <a:lnTo>
                    <a:pt x="44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5" name=""/>
          <p:cNvSpPr/>
          <p:nvPr/>
        </p:nvSpPr>
        <p:spPr>
          <a:xfrm>
            <a:off x="3352680" y="30481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6" name=""/>
          <p:cNvGrpSpPr/>
          <p:nvPr/>
        </p:nvGrpSpPr>
        <p:grpSpPr>
          <a:xfrm>
            <a:off x="2971800" y="4952880"/>
            <a:ext cx="1828800" cy="1828800"/>
            <a:chOff x="2971800" y="4952880"/>
            <a:chExt cx="1828800" cy="1828800"/>
          </a:xfrm>
        </p:grpSpPr>
        <p:sp>
          <p:nvSpPr>
            <p:cNvPr id="1207" name=""/>
            <p:cNvSpPr/>
            <p:nvPr/>
          </p:nvSpPr>
          <p:spPr>
            <a:xfrm>
              <a:off x="2971800" y="4952880"/>
              <a:ext cx="1828800" cy="18288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846600" y="6197760"/>
              <a:ext cx="557640" cy="166320"/>
            </a:xfrm>
            <a:custGeom>
              <a:avLst/>
              <a:gdLst/>
              <a:ahLst/>
              <a:rect l="0" t="0" r="r" b="b"/>
              <a:pathLst>
                <a:path fill="none" w="1549" h="462">
                  <a:moveTo>
                    <a:pt x="1549" y="462"/>
                  </a:moveTo>
                  <a:lnTo>
                    <a:pt x="1549" y="462"/>
                  </a:lnTo>
                  <a:lnTo>
                    <a:pt x="1549" y="462"/>
                  </a:lnTo>
                  <a:cubicBezTo>
                    <a:pt x="1549" y="381"/>
                    <a:pt x="1477" y="301"/>
                    <a:pt x="1341" y="231"/>
                  </a:cubicBezTo>
                  <a:cubicBezTo>
                    <a:pt x="1206" y="161"/>
                    <a:pt x="1010" y="102"/>
                    <a:pt x="774" y="62"/>
                  </a:cubicBezTo>
                  <a:cubicBezTo>
                    <a:pt x="539" y="21"/>
                    <a:pt x="272" y="0"/>
                    <a:pt x="0" y="0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3289320" y="6197760"/>
              <a:ext cx="557640" cy="166320"/>
            </a:xfrm>
            <a:custGeom>
              <a:avLst/>
              <a:gdLst/>
              <a:ahLst/>
              <a:rect l="0" t="0" r="r" b="b"/>
              <a:pathLst>
                <a:path fill="none" w="1549" h="462">
                  <a:moveTo>
                    <a:pt x="1549" y="0"/>
                  </a:moveTo>
                  <a:lnTo>
                    <a:pt x="1549" y="0"/>
                  </a:lnTo>
                  <a:cubicBezTo>
                    <a:pt x="1277" y="0"/>
                    <a:pt x="1010" y="21"/>
                    <a:pt x="774" y="62"/>
                  </a:cubicBezTo>
                  <a:cubicBezTo>
                    <a:pt x="539" y="102"/>
                    <a:pt x="343" y="161"/>
                    <a:pt x="208" y="231"/>
                  </a:cubicBezTo>
                  <a:cubicBezTo>
                    <a:pt x="72" y="301"/>
                    <a:pt x="0" y="381"/>
                    <a:pt x="0" y="462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3489480" y="5618160"/>
              <a:ext cx="158760" cy="123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044960" y="5618160"/>
              <a:ext cx="158760" cy="123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3807000" y="5867280"/>
              <a:ext cx="159120" cy="125640"/>
            </a:xfrm>
            <a:custGeom>
              <a:avLst/>
              <a:gdLst/>
              <a:ahLst/>
              <a:rect l="0" t="0" r="r" b="b"/>
              <a:pathLst>
                <a:path w="442" h="349">
                  <a:moveTo>
                    <a:pt x="0" y="0"/>
                  </a:moveTo>
                  <a:lnTo>
                    <a:pt x="133" y="349"/>
                  </a:lnTo>
                  <a:lnTo>
                    <a:pt x="309" y="349"/>
                  </a:lnTo>
                  <a:lnTo>
                    <a:pt x="44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3" name=""/>
          <p:cNvSpPr/>
          <p:nvPr/>
        </p:nvSpPr>
        <p:spPr>
          <a:xfrm flipH="1">
            <a:off x="4267080" y="3962520"/>
            <a:ext cx="609840" cy="1143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 flipH="1">
            <a:off x="2133720" y="57913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 flipV="1">
            <a:off x="2133720" y="47242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2133720" y="47242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3276720" y="4724280"/>
            <a:ext cx="228600" cy="381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 txBox="1"/>
          <p:nvPr/>
        </p:nvSpPr>
        <p:spPr>
          <a:xfrm>
            <a:off x="2836800" y="7132680"/>
            <a:ext cx="1793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t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nl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smiley fac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914400" y="914400"/>
            <a:ext cx="1523880" cy="35053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066680" y="1905120"/>
            <a:ext cx="1219320" cy="685800"/>
            <a:chOff x="1066680" y="1905120"/>
            <a:chExt cx="1219320" cy="685800"/>
          </a:xfrm>
        </p:grpSpPr>
        <p:sp>
          <p:nvSpPr>
            <p:cNvPr id="81" name=""/>
            <p:cNvSpPr/>
            <p:nvPr/>
          </p:nvSpPr>
          <p:spPr>
            <a:xfrm>
              <a:off x="1066680" y="1905120"/>
              <a:ext cx="1219320" cy="685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 txBox="1"/>
            <p:nvPr/>
          </p:nvSpPr>
          <p:spPr>
            <a:xfrm>
              <a:off x="1157400" y="1973160"/>
              <a:ext cx="1038240" cy="549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stribution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ices (DS)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te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2590920" y="1905120"/>
            <a:ext cx="1219320" cy="685800"/>
            <a:chOff x="2590920" y="1905120"/>
            <a:chExt cx="1219320" cy="685800"/>
          </a:xfrm>
        </p:grpSpPr>
        <p:sp>
          <p:nvSpPr>
            <p:cNvPr id="84" name=""/>
            <p:cNvSpPr/>
            <p:nvPr/>
          </p:nvSpPr>
          <p:spPr>
            <a:xfrm>
              <a:off x="2590920" y="1905120"/>
              <a:ext cx="1219320" cy="685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 txBox="1"/>
            <p:nvPr/>
          </p:nvSpPr>
          <p:spPr>
            <a:xfrm>
              <a:off x="2681280" y="1973160"/>
              <a:ext cx="1038240" cy="549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C Data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ice  (MD)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te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081320" y="1905120"/>
            <a:ext cx="1284120" cy="685800"/>
            <a:chOff x="4081320" y="1905120"/>
            <a:chExt cx="1284120" cy="685800"/>
          </a:xfrm>
        </p:grpSpPr>
        <p:sp>
          <p:nvSpPr>
            <p:cNvPr id="87" name=""/>
            <p:cNvSpPr/>
            <p:nvPr/>
          </p:nvSpPr>
          <p:spPr>
            <a:xfrm>
              <a:off x="4114800" y="1905120"/>
              <a:ext cx="1219320" cy="685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 txBox="1"/>
            <p:nvPr/>
          </p:nvSpPr>
          <p:spPr>
            <a:xfrm>
              <a:off x="4081320" y="1973160"/>
              <a:ext cx="1284120" cy="549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C Management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ice (MM)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te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1828800" y="4572000"/>
            <a:ext cx="1219320" cy="685800"/>
            <a:chOff x="1828800" y="4572000"/>
            <a:chExt cx="1219320" cy="685800"/>
          </a:xfrm>
        </p:grpSpPr>
        <p:sp>
          <p:nvSpPr>
            <p:cNvPr id="90" name=""/>
            <p:cNvSpPr/>
            <p:nvPr/>
          </p:nvSpPr>
          <p:spPr>
            <a:xfrm>
              <a:off x="1828800" y="4572000"/>
              <a:ext cx="1219320" cy="685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 txBox="1"/>
            <p:nvPr/>
          </p:nvSpPr>
          <p:spPr>
            <a:xfrm>
              <a:off x="1835280" y="4716360"/>
              <a:ext cx="12063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C Control  (C)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te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4114800" y="3657600"/>
            <a:ext cx="1219320" cy="685800"/>
            <a:chOff x="4114800" y="3657600"/>
            <a:chExt cx="1219320" cy="685800"/>
          </a:xfrm>
        </p:grpSpPr>
        <p:sp>
          <p:nvSpPr>
            <p:cNvPr id="93" name=""/>
            <p:cNvSpPr/>
            <p:nvPr/>
          </p:nvSpPr>
          <p:spPr>
            <a:xfrm>
              <a:off x="4114800" y="3657600"/>
              <a:ext cx="1219320" cy="685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132440" y="3726000"/>
              <a:ext cx="1185840" cy="549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agement (M)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te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219320" y="5715000"/>
            <a:ext cx="1219320" cy="685800"/>
            <a:chOff x="1219320" y="5715000"/>
            <a:chExt cx="1219320" cy="685800"/>
          </a:xfrm>
        </p:grpSpPr>
        <p:sp>
          <p:nvSpPr>
            <p:cNvPr id="96" name=""/>
            <p:cNvSpPr/>
            <p:nvPr/>
          </p:nvSpPr>
          <p:spPr>
            <a:xfrm>
              <a:off x="1219320" y="5715000"/>
              <a:ext cx="1219320" cy="685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 txBox="1"/>
            <p:nvPr/>
          </p:nvSpPr>
          <p:spPr>
            <a:xfrm>
              <a:off x="1289160" y="5859360"/>
              <a:ext cx="10796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nsmitter (T)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te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666880" y="5715000"/>
            <a:ext cx="1219320" cy="685800"/>
            <a:chOff x="2666880" y="5715000"/>
            <a:chExt cx="1219320" cy="685800"/>
          </a:xfrm>
        </p:grpSpPr>
        <p:sp>
          <p:nvSpPr>
            <p:cNvPr id="99" name=""/>
            <p:cNvSpPr/>
            <p:nvPr/>
          </p:nvSpPr>
          <p:spPr>
            <a:xfrm>
              <a:off x="2666880" y="5715000"/>
              <a:ext cx="1219320" cy="685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 txBox="1"/>
            <p:nvPr/>
          </p:nvSpPr>
          <p:spPr>
            <a:xfrm>
              <a:off x="2757600" y="5859360"/>
              <a:ext cx="10382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eiver (R)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te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514600" y="3573360"/>
            <a:ext cx="762480" cy="396720"/>
            <a:chOff x="2514600" y="3573360"/>
            <a:chExt cx="762480" cy="396720"/>
          </a:xfrm>
        </p:grpSpPr>
        <p:sp>
          <p:nvSpPr>
            <p:cNvPr id="102" name=""/>
            <p:cNvSpPr/>
            <p:nvPr/>
          </p:nvSpPr>
          <p:spPr>
            <a:xfrm>
              <a:off x="2514600" y="3581280"/>
              <a:ext cx="762480" cy="381240"/>
            </a:xfrm>
            <a:custGeom>
              <a:avLst/>
              <a:gdLst/>
              <a:ahLst/>
              <a:rect l="0" t="0" r="r" b="b"/>
              <a:pathLst>
                <a:path w="2118" h="1059">
                  <a:moveTo>
                    <a:pt x="0" y="317"/>
                  </a:moveTo>
                  <a:lnTo>
                    <a:pt x="0" y="741"/>
                  </a:lnTo>
                  <a:lnTo>
                    <a:pt x="636" y="1059"/>
                  </a:lnTo>
                  <a:lnTo>
                    <a:pt x="1482" y="1059"/>
                  </a:lnTo>
                  <a:lnTo>
                    <a:pt x="2118" y="741"/>
                  </a:lnTo>
                  <a:lnTo>
                    <a:pt x="2118" y="317"/>
                  </a:lnTo>
                  <a:lnTo>
                    <a:pt x="1482" y="0"/>
                  </a:lnTo>
                  <a:lnTo>
                    <a:pt x="636" y="0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 txBox="1"/>
            <p:nvPr/>
          </p:nvSpPr>
          <p:spPr>
            <a:xfrm>
              <a:off x="2529000" y="3573360"/>
              <a:ext cx="73512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nsmit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ue(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3276720" y="2963880"/>
            <a:ext cx="762480" cy="396720"/>
            <a:chOff x="3276720" y="2963880"/>
            <a:chExt cx="762480" cy="396720"/>
          </a:xfrm>
        </p:grpSpPr>
        <p:sp>
          <p:nvSpPr>
            <p:cNvPr id="105" name=""/>
            <p:cNvSpPr/>
            <p:nvPr/>
          </p:nvSpPr>
          <p:spPr>
            <a:xfrm>
              <a:off x="3276720" y="2971800"/>
              <a:ext cx="762480" cy="381240"/>
            </a:xfrm>
            <a:custGeom>
              <a:avLst/>
              <a:gdLst/>
              <a:ahLst/>
              <a:rect l="0" t="0" r="r" b="b"/>
              <a:pathLst>
                <a:path w="2118" h="1059">
                  <a:moveTo>
                    <a:pt x="0" y="317"/>
                  </a:moveTo>
                  <a:lnTo>
                    <a:pt x="0" y="741"/>
                  </a:lnTo>
                  <a:lnTo>
                    <a:pt x="636" y="1059"/>
                  </a:lnTo>
                  <a:lnTo>
                    <a:pt x="1482" y="1059"/>
                  </a:lnTo>
                  <a:lnTo>
                    <a:pt x="2118" y="741"/>
                  </a:lnTo>
                  <a:lnTo>
                    <a:pt x="2118" y="317"/>
                  </a:lnTo>
                  <a:lnTo>
                    <a:pt x="1482" y="0"/>
                  </a:lnTo>
                  <a:lnTo>
                    <a:pt x="636" y="0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>
              <a:off x="3290760" y="2963880"/>
              <a:ext cx="73512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eive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ue(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066680" y="3954600"/>
            <a:ext cx="762480" cy="396720"/>
            <a:chOff x="1066680" y="3954600"/>
            <a:chExt cx="762480" cy="396720"/>
          </a:xfrm>
        </p:grpSpPr>
        <p:sp>
          <p:nvSpPr>
            <p:cNvPr id="108" name=""/>
            <p:cNvSpPr/>
            <p:nvPr/>
          </p:nvSpPr>
          <p:spPr>
            <a:xfrm>
              <a:off x="1066680" y="3962520"/>
              <a:ext cx="762480" cy="381240"/>
            </a:xfrm>
            <a:custGeom>
              <a:avLst/>
              <a:gdLst/>
              <a:ahLst/>
              <a:rect l="0" t="0" r="r" b="b"/>
              <a:pathLst>
                <a:path w="2118" h="1059">
                  <a:moveTo>
                    <a:pt x="0" y="317"/>
                  </a:moveTo>
                  <a:lnTo>
                    <a:pt x="0" y="741"/>
                  </a:lnTo>
                  <a:lnTo>
                    <a:pt x="636" y="1059"/>
                  </a:lnTo>
                  <a:lnTo>
                    <a:pt x="1482" y="1059"/>
                  </a:lnTo>
                  <a:lnTo>
                    <a:pt x="2118" y="741"/>
                  </a:lnTo>
                  <a:lnTo>
                    <a:pt x="2118" y="317"/>
                  </a:lnTo>
                  <a:lnTo>
                    <a:pt x="1482" y="0"/>
                  </a:lnTo>
                  <a:lnTo>
                    <a:pt x="636" y="0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>
              <a:off x="1109520" y="3954600"/>
              <a:ext cx="677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omDS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u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600200" y="3268800"/>
            <a:ext cx="762480" cy="396720"/>
            <a:chOff x="1600200" y="3268800"/>
            <a:chExt cx="762480" cy="396720"/>
          </a:xfrm>
        </p:grpSpPr>
        <p:sp>
          <p:nvSpPr>
            <p:cNvPr id="111" name=""/>
            <p:cNvSpPr/>
            <p:nvPr/>
          </p:nvSpPr>
          <p:spPr>
            <a:xfrm>
              <a:off x="1600200" y="3276720"/>
              <a:ext cx="762480" cy="381240"/>
            </a:xfrm>
            <a:custGeom>
              <a:avLst/>
              <a:gdLst/>
              <a:ahLst/>
              <a:rect l="0" t="0" r="r" b="b"/>
              <a:pathLst>
                <a:path w="2118" h="1059">
                  <a:moveTo>
                    <a:pt x="0" y="317"/>
                  </a:moveTo>
                  <a:lnTo>
                    <a:pt x="0" y="741"/>
                  </a:lnTo>
                  <a:lnTo>
                    <a:pt x="636" y="1059"/>
                  </a:lnTo>
                  <a:lnTo>
                    <a:pt x="1482" y="1059"/>
                  </a:lnTo>
                  <a:lnTo>
                    <a:pt x="2118" y="741"/>
                  </a:lnTo>
                  <a:lnTo>
                    <a:pt x="2118" y="317"/>
                  </a:lnTo>
                  <a:lnTo>
                    <a:pt x="1482" y="0"/>
                  </a:lnTo>
                  <a:lnTo>
                    <a:pt x="636" y="0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 txBox="1"/>
            <p:nvPr/>
          </p:nvSpPr>
          <p:spPr>
            <a:xfrm>
              <a:off x="1692360" y="3268800"/>
              <a:ext cx="57960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DS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u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4245120" y="982800"/>
            <a:ext cx="960480" cy="396720"/>
            <a:chOff x="4245120" y="982800"/>
            <a:chExt cx="960480" cy="396720"/>
          </a:xfrm>
        </p:grpSpPr>
        <p:sp>
          <p:nvSpPr>
            <p:cNvPr id="114" name=""/>
            <p:cNvSpPr/>
            <p:nvPr/>
          </p:nvSpPr>
          <p:spPr>
            <a:xfrm>
              <a:off x="4267080" y="1371600"/>
              <a:ext cx="9144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 txBox="1"/>
            <p:nvPr/>
          </p:nvSpPr>
          <p:spPr>
            <a:xfrm>
              <a:off x="4245120" y="982800"/>
              <a:ext cx="9604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blayer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age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V="1">
            <a:off x="4876920" y="13716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5334120" y="2133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4120" y="2286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743200" y="982800"/>
            <a:ext cx="914400" cy="396720"/>
            <a:chOff x="2743200" y="982800"/>
            <a:chExt cx="914400" cy="396720"/>
          </a:xfrm>
        </p:grpSpPr>
        <p:sp>
          <p:nvSpPr>
            <p:cNvPr id="120" name=""/>
            <p:cNvSpPr/>
            <p:nvPr/>
          </p:nvSpPr>
          <p:spPr>
            <a:xfrm>
              <a:off x="2743200" y="1371600"/>
              <a:ext cx="9144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>
              <a:off x="2840040" y="982800"/>
              <a:ext cx="72072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LC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blay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3048120" y="13716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52680" y="13716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13716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828800" y="13716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119480" y="5029200"/>
            <a:ext cx="896760" cy="465120"/>
            <a:chOff x="4119480" y="5029200"/>
            <a:chExt cx="896760" cy="465120"/>
          </a:xfrm>
        </p:grpSpPr>
        <p:sp>
          <p:nvSpPr>
            <p:cNvPr id="127" name=""/>
            <p:cNvSpPr/>
            <p:nvPr/>
          </p:nvSpPr>
          <p:spPr>
            <a:xfrm>
              <a:off x="4181400" y="5029200"/>
              <a:ext cx="770400" cy="457560"/>
            </a:xfrm>
            <a:custGeom>
              <a:avLst/>
              <a:gdLst/>
              <a:ahLst/>
              <a:rect l="0" t="0" r="r" b="b"/>
              <a:pathLst>
                <a:path w="2140" h="1271">
                  <a:moveTo>
                    <a:pt x="0" y="380"/>
                  </a:moveTo>
                  <a:lnTo>
                    <a:pt x="0" y="890"/>
                  </a:lnTo>
                  <a:lnTo>
                    <a:pt x="642" y="1271"/>
                  </a:lnTo>
                  <a:lnTo>
                    <a:pt x="1498" y="1271"/>
                  </a:lnTo>
                  <a:lnTo>
                    <a:pt x="2140" y="890"/>
                  </a:lnTo>
                  <a:lnTo>
                    <a:pt x="2140" y="380"/>
                  </a:lnTo>
                  <a:lnTo>
                    <a:pt x="1498" y="0"/>
                  </a:lnTo>
                  <a:lnTo>
                    <a:pt x="642" y="0"/>
                  </a:lnTo>
                  <a:lnTo>
                    <a:pt x="0" y="38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 txBox="1"/>
            <p:nvPr/>
          </p:nvSpPr>
          <p:spPr>
            <a:xfrm>
              <a:off x="4119480" y="5097600"/>
              <a:ext cx="8967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wer Save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ue(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 flipV="1">
            <a:off x="3657600" y="25909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95480" y="25909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743200" y="2590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362320" y="34290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276720" y="38098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59092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876920" y="259092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1981080" y="36576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981080" y="25909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47920" y="259092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447920" y="43434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47920" y="48006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46483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3657600" y="3352680"/>
            <a:ext cx="0" cy="129564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95480" y="39625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600200" y="25909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312408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481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267080" y="4343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419720" y="4343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057400" y="5257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2286000" y="52578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819520" y="5257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817640" y="6850080"/>
            <a:ext cx="1243080" cy="244440"/>
            <a:chOff x="1817640" y="6850080"/>
            <a:chExt cx="1243080" cy="244440"/>
          </a:xfrm>
        </p:grpSpPr>
        <p:sp>
          <p:nvSpPr>
            <p:cNvPr id="153" name=""/>
            <p:cNvSpPr/>
            <p:nvPr/>
          </p:nvSpPr>
          <p:spPr>
            <a:xfrm>
              <a:off x="1905120" y="6858000"/>
              <a:ext cx="10666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>
              <a:off x="1817640" y="6850080"/>
              <a:ext cx="12430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HY Data Servi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2057400" y="6400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286000" y="64008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25780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819520" y="6400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476600" y="6850080"/>
            <a:ext cx="1257480" cy="244440"/>
            <a:chOff x="4476600" y="6850080"/>
            <a:chExt cx="1257480" cy="244440"/>
          </a:xfrm>
        </p:grpSpPr>
        <p:sp>
          <p:nvSpPr>
            <p:cNvPr id="160" name=""/>
            <p:cNvSpPr/>
            <p:nvPr/>
          </p:nvSpPr>
          <p:spPr>
            <a:xfrm>
              <a:off x="4572000" y="6858000"/>
              <a:ext cx="10666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 txBox="1"/>
            <p:nvPr/>
          </p:nvSpPr>
          <p:spPr>
            <a:xfrm>
              <a:off x="4476600" y="6850080"/>
              <a:ext cx="12574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HY Manage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5029200" y="4343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5181480" y="4343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724280" y="43434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0" y="13716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5692680" y="2049480"/>
            <a:ext cx="960480" cy="396720"/>
            <a:chOff x="5692680" y="2049480"/>
            <a:chExt cx="960480" cy="396720"/>
          </a:xfrm>
        </p:grpSpPr>
        <p:sp>
          <p:nvSpPr>
            <p:cNvPr id="167" name=""/>
            <p:cNvSpPr txBox="1"/>
            <p:nvPr/>
          </p:nvSpPr>
          <p:spPr>
            <a:xfrm>
              <a:off x="5692680" y="2049480"/>
              <a:ext cx="9604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tion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age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15000" y="205740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2133720" y="411480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2133720" y="3657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903240" y="2712960"/>
            <a:ext cx="484200" cy="639720"/>
            <a:chOff x="903240" y="2712960"/>
            <a:chExt cx="484200" cy="639720"/>
          </a:xfrm>
        </p:grpSpPr>
        <p:sp>
          <p:nvSpPr>
            <p:cNvPr id="172" name=""/>
            <p:cNvSpPr/>
            <p:nvPr/>
          </p:nvSpPr>
          <p:spPr>
            <a:xfrm>
              <a:off x="990720" y="2743200"/>
              <a:ext cx="30492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 txBox="1"/>
            <p:nvPr/>
          </p:nvSpPr>
          <p:spPr>
            <a:xfrm>
              <a:off x="903240" y="2712960"/>
              <a:ext cx="484200" cy="63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nly</a:t>
              </a:r>
              <a:br>
                <a:rPr sz="1200"/>
              </a:b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n</a:t>
              </a:r>
              <a:br>
                <a:rPr sz="1200"/>
              </a:b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P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3048120" y="51814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047600" y="990720"/>
            <a:ext cx="1284120" cy="401400"/>
            <a:chOff x="1047600" y="990720"/>
            <a:chExt cx="1284120" cy="401400"/>
          </a:xfrm>
        </p:grpSpPr>
        <p:sp>
          <p:nvSpPr>
            <p:cNvPr id="176" name=""/>
            <p:cNvSpPr/>
            <p:nvPr/>
          </p:nvSpPr>
          <p:spPr>
            <a:xfrm>
              <a:off x="1066680" y="990720"/>
              <a:ext cx="12193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1047600" y="995400"/>
              <a:ext cx="1284120" cy="396720"/>
              <a:chOff x="1047600" y="995400"/>
              <a:chExt cx="1284120" cy="396720"/>
            </a:xfrm>
          </p:grpSpPr>
          <p:sp>
            <p:nvSpPr>
              <p:cNvPr id="178" name=""/>
              <p:cNvSpPr/>
              <p:nvPr/>
            </p:nvSpPr>
            <p:spPr>
              <a:xfrm>
                <a:off x="1231920" y="1384200"/>
                <a:ext cx="914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 txBox="1"/>
              <p:nvPr/>
            </p:nvSpPr>
            <p:spPr>
              <a:xfrm>
                <a:off x="1047600" y="995400"/>
                <a:ext cx="1284120" cy="396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ired Distribution</a:t>
                </a:r>
                <a:br>
                  <a:rPr sz="1000"/>
                </a:b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ystem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0" name=""/>
          <p:cNvSpPr/>
          <p:nvPr/>
        </p:nvSpPr>
        <p:spPr>
          <a:xfrm flipH="1">
            <a:off x="3048120" y="49528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914400" y="914400"/>
            <a:ext cx="1523880" cy="32767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1047600" y="990720"/>
            <a:ext cx="1284120" cy="401400"/>
            <a:chOff x="1047600" y="990720"/>
            <a:chExt cx="1284120" cy="401400"/>
          </a:xfrm>
        </p:grpSpPr>
        <p:sp>
          <p:nvSpPr>
            <p:cNvPr id="183" name=""/>
            <p:cNvSpPr/>
            <p:nvPr/>
          </p:nvSpPr>
          <p:spPr>
            <a:xfrm>
              <a:off x="1066680" y="990720"/>
              <a:ext cx="12193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1047600" y="995400"/>
              <a:ext cx="1284120" cy="396720"/>
              <a:chOff x="1047600" y="995400"/>
              <a:chExt cx="1284120" cy="396720"/>
            </a:xfrm>
          </p:grpSpPr>
          <p:sp>
            <p:nvSpPr>
              <p:cNvPr id="185" name=""/>
              <p:cNvSpPr/>
              <p:nvPr/>
            </p:nvSpPr>
            <p:spPr>
              <a:xfrm>
                <a:off x="1231920" y="1384200"/>
                <a:ext cx="914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 txBox="1"/>
              <p:nvPr/>
            </p:nvSpPr>
            <p:spPr>
              <a:xfrm>
                <a:off x="1047600" y="995400"/>
                <a:ext cx="1284120" cy="396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ired Distribution</a:t>
                </a:r>
                <a:br>
                  <a:rPr sz="1000"/>
                </a:b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ystem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7" name=""/>
          <p:cNvGrpSpPr/>
          <p:nvPr/>
        </p:nvGrpSpPr>
        <p:grpSpPr>
          <a:xfrm>
            <a:off x="1066680" y="1905120"/>
            <a:ext cx="1219320" cy="685800"/>
            <a:chOff x="1066680" y="1905120"/>
            <a:chExt cx="1219320" cy="685800"/>
          </a:xfrm>
        </p:grpSpPr>
        <p:sp>
          <p:nvSpPr>
            <p:cNvPr id="188" name=""/>
            <p:cNvSpPr/>
            <p:nvPr/>
          </p:nvSpPr>
          <p:spPr>
            <a:xfrm>
              <a:off x="1066680" y="1905120"/>
              <a:ext cx="1219320" cy="685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>
              <a:off x="1157400" y="1973160"/>
              <a:ext cx="1038240" cy="549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stribution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ices (DS)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te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2590920" y="1905120"/>
            <a:ext cx="1219320" cy="685800"/>
            <a:chOff x="2590920" y="1905120"/>
            <a:chExt cx="1219320" cy="685800"/>
          </a:xfrm>
        </p:grpSpPr>
        <p:sp>
          <p:nvSpPr>
            <p:cNvPr id="191" name=""/>
            <p:cNvSpPr/>
            <p:nvPr/>
          </p:nvSpPr>
          <p:spPr>
            <a:xfrm>
              <a:off x="2590920" y="1905120"/>
              <a:ext cx="1219320" cy="685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 txBox="1"/>
            <p:nvPr/>
          </p:nvSpPr>
          <p:spPr>
            <a:xfrm>
              <a:off x="2681280" y="1973160"/>
              <a:ext cx="1038240" cy="549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C Data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ice  (MD)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te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2514600" y="3497400"/>
            <a:ext cx="762480" cy="396720"/>
            <a:chOff x="2514600" y="3497400"/>
            <a:chExt cx="762480" cy="396720"/>
          </a:xfrm>
        </p:grpSpPr>
        <p:sp>
          <p:nvSpPr>
            <p:cNvPr id="194" name=""/>
            <p:cNvSpPr/>
            <p:nvPr/>
          </p:nvSpPr>
          <p:spPr>
            <a:xfrm>
              <a:off x="2514600" y="3505320"/>
              <a:ext cx="762480" cy="381240"/>
            </a:xfrm>
            <a:custGeom>
              <a:avLst/>
              <a:gdLst/>
              <a:ahLst/>
              <a:rect l="0" t="0" r="r" b="b"/>
              <a:pathLst>
                <a:path w="2118" h="1059">
                  <a:moveTo>
                    <a:pt x="0" y="317"/>
                  </a:moveTo>
                  <a:lnTo>
                    <a:pt x="0" y="741"/>
                  </a:lnTo>
                  <a:lnTo>
                    <a:pt x="636" y="1059"/>
                  </a:lnTo>
                  <a:lnTo>
                    <a:pt x="1482" y="1059"/>
                  </a:lnTo>
                  <a:lnTo>
                    <a:pt x="2118" y="741"/>
                  </a:lnTo>
                  <a:lnTo>
                    <a:pt x="2118" y="317"/>
                  </a:lnTo>
                  <a:lnTo>
                    <a:pt x="1482" y="0"/>
                  </a:lnTo>
                  <a:lnTo>
                    <a:pt x="636" y="0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 txBox="1"/>
            <p:nvPr/>
          </p:nvSpPr>
          <p:spPr>
            <a:xfrm>
              <a:off x="2529000" y="3497400"/>
              <a:ext cx="73512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nsmit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ue(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200400" y="2887560"/>
            <a:ext cx="762480" cy="396720"/>
            <a:chOff x="3200400" y="2887560"/>
            <a:chExt cx="762480" cy="396720"/>
          </a:xfrm>
        </p:grpSpPr>
        <p:sp>
          <p:nvSpPr>
            <p:cNvPr id="197" name=""/>
            <p:cNvSpPr/>
            <p:nvPr/>
          </p:nvSpPr>
          <p:spPr>
            <a:xfrm>
              <a:off x="3200400" y="2895480"/>
              <a:ext cx="762480" cy="381240"/>
            </a:xfrm>
            <a:custGeom>
              <a:avLst/>
              <a:gdLst/>
              <a:ahLst/>
              <a:rect l="0" t="0" r="r" b="b"/>
              <a:pathLst>
                <a:path w="2118" h="1059">
                  <a:moveTo>
                    <a:pt x="0" y="317"/>
                  </a:moveTo>
                  <a:lnTo>
                    <a:pt x="0" y="741"/>
                  </a:lnTo>
                  <a:lnTo>
                    <a:pt x="636" y="1059"/>
                  </a:lnTo>
                  <a:lnTo>
                    <a:pt x="1482" y="1059"/>
                  </a:lnTo>
                  <a:lnTo>
                    <a:pt x="2118" y="741"/>
                  </a:lnTo>
                  <a:lnTo>
                    <a:pt x="2118" y="317"/>
                  </a:lnTo>
                  <a:lnTo>
                    <a:pt x="1482" y="0"/>
                  </a:lnTo>
                  <a:lnTo>
                    <a:pt x="636" y="0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 txBox="1"/>
            <p:nvPr/>
          </p:nvSpPr>
          <p:spPr>
            <a:xfrm>
              <a:off x="3214800" y="2887560"/>
              <a:ext cx="73512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eive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ue(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1066680" y="3726000"/>
            <a:ext cx="762480" cy="396720"/>
            <a:chOff x="1066680" y="3726000"/>
            <a:chExt cx="762480" cy="396720"/>
          </a:xfrm>
        </p:grpSpPr>
        <p:sp>
          <p:nvSpPr>
            <p:cNvPr id="200" name=""/>
            <p:cNvSpPr/>
            <p:nvPr/>
          </p:nvSpPr>
          <p:spPr>
            <a:xfrm>
              <a:off x="1066680" y="3733920"/>
              <a:ext cx="762480" cy="381240"/>
            </a:xfrm>
            <a:custGeom>
              <a:avLst/>
              <a:gdLst/>
              <a:ahLst/>
              <a:rect l="0" t="0" r="r" b="b"/>
              <a:pathLst>
                <a:path w="2118" h="1059">
                  <a:moveTo>
                    <a:pt x="0" y="317"/>
                  </a:moveTo>
                  <a:lnTo>
                    <a:pt x="0" y="741"/>
                  </a:lnTo>
                  <a:lnTo>
                    <a:pt x="636" y="1059"/>
                  </a:lnTo>
                  <a:lnTo>
                    <a:pt x="1482" y="1059"/>
                  </a:lnTo>
                  <a:lnTo>
                    <a:pt x="2118" y="741"/>
                  </a:lnTo>
                  <a:lnTo>
                    <a:pt x="2118" y="317"/>
                  </a:lnTo>
                  <a:lnTo>
                    <a:pt x="1482" y="0"/>
                  </a:lnTo>
                  <a:lnTo>
                    <a:pt x="636" y="0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 txBox="1"/>
            <p:nvPr/>
          </p:nvSpPr>
          <p:spPr>
            <a:xfrm>
              <a:off x="1109520" y="3726000"/>
              <a:ext cx="677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omDS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u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00200" y="3192480"/>
            <a:ext cx="762480" cy="396720"/>
            <a:chOff x="1600200" y="3192480"/>
            <a:chExt cx="762480" cy="396720"/>
          </a:xfrm>
        </p:grpSpPr>
        <p:sp>
          <p:nvSpPr>
            <p:cNvPr id="203" name=""/>
            <p:cNvSpPr/>
            <p:nvPr/>
          </p:nvSpPr>
          <p:spPr>
            <a:xfrm>
              <a:off x="1600200" y="3200400"/>
              <a:ext cx="762480" cy="381240"/>
            </a:xfrm>
            <a:custGeom>
              <a:avLst/>
              <a:gdLst/>
              <a:ahLst/>
              <a:rect l="0" t="0" r="r" b="b"/>
              <a:pathLst>
                <a:path w="2118" h="1059">
                  <a:moveTo>
                    <a:pt x="0" y="317"/>
                  </a:moveTo>
                  <a:lnTo>
                    <a:pt x="0" y="741"/>
                  </a:lnTo>
                  <a:lnTo>
                    <a:pt x="636" y="1059"/>
                  </a:lnTo>
                  <a:lnTo>
                    <a:pt x="1482" y="1059"/>
                  </a:lnTo>
                  <a:lnTo>
                    <a:pt x="2118" y="741"/>
                  </a:lnTo>
                  <a:lnTo>
                    <a:pt x="2118" y="317"/>
                  </a:lnTo>
                  <a:lnTo>
                    <a:pt x="1482" y="0"/>
                  </a:lnTo>
                  <a:lnTo>
                    <a:pt x="636" y="0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 txBox="1"/>
            <p:nvPr/>
          </p:nvSpPr>
          <p:spPr>
            <a:xfrm>
              <a:off x="1692360" y="3192480"/>
              <a:ext cx="57960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DS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u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 flipV="1">
            <a:off x="4876920" y="1371600"/>
            <a:ext cx="0" cy="53352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5334120" y="2133720"/>
            <a:ext cx="380880" cy="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34120" y="2286000"/>
            <a:ext cx="380880" cy="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2743200" y="982800"/>
            <a:ext cx="914400" cy="396720"/>
            <a:chOff x="2743200" y="982800"/>
            <a:chExt cx="914400" cy="396720"/>
          </a:xfrm>
        </p:grpSpPr>
        <p:sp>
          <p:nvSpPr>
            <p:cNvPr id="209" name=""/>
            <p:cNvSpPr/>
            <p:nvPr/>
          </p:nvSpPr>
          <p:spPr>
            <a:xfrm>
              <a:off x="2743200" y="1371600"/>
              <a:ext cx="9144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 txBox="1"/>
            <p:nvPr/>
          </p:nvSpPr>
          <p:spPr>
            <a:xfrm>
              <a:off x="2840040" y="982800"/>
              <a:ext cx="72072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LC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blay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048120" y="13716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3352680" y="13716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523880" y="13716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1828800" y="13716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516480" y="4724280"/>
            <a:ext cx="896760" cy="465120"/>
            <a:chOff x="3516480" y="4724280"/>
            <a:chExt cx="896760" cy="465120"/>
          </a:xfrm>
        </p:grpSpPr>
        <p:sp>
          <p:nvSpPr>
            <p:cNvPr id="216" name=""/>
            <p:cNvSpPr/>
            <p:nvPr/>
          </p:nvSpPr>
          <p:spPr>
            <a:xfrm>
              <a:off x="3581280" y="4724280"/>
              <a:ext cx="762480" cy="457560"/>
            </a:xfrm>
            <a:custGeom>
              <a:avLst/>
              <a:gdLst/>
              <a:ahLst/>
              <a:rect l="0" t="0" r="r" b="b"/>
              <a:pathLst>
                <a:path w="2118" h="1271">
                  <a:moveTo>
                    <a:pt x="0" y="380"/>
                  </a:moveTo>
                  <a:lnTo>
                    <a:pt x="0" y="890"/>
                  </a:lnTo>
                  <a:lnTo>
                    <a:pt x="636" y="1271"/>
                  </a:lnTo>
                  <a:lnTo>
                    <a:pt x="1482" y="1271"/>
                  </a:lnTo>
                  <a:lnTo>
                    <a:pt x="2118" y="890"/>
                  </a:lnTo>
                  <a:lnTo>
                    <a:pt x="2118" y="380"/>
                  </a:lnTo>
                  <a:lnTo>
                    <a:pt x="1482" y="0"/>
                  </a:lnTo>
                  <a:lnTo>
                    <a:pt x="636" y="0"/>
                  </a:lnTo>
                  <a:lnTo>
                    <a:pt x="0" y="38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 txBox="1"/>
            <p:nvPr/>
          </p:nvSpPr>
          <p:spPr>
            <a:xfrm>
              <a:off x="3516480" y="4792680"/>
              <a:ext cx="8967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wer Save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ue(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3581280" y="2590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895480" y="25909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743200" y="25909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2362320" y="33526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3276720" y="37339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0" y="2590920"/>
            <a:ext cx="0" cy="91440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4876920" y="2590920"/>
            <a:ext cx="0" cy="91440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1981080" y="358128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1981080" y="25909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447920" y="25909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4114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447920" y="44956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048120" y="43434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3581280" y="327672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895480" y="3886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00200" y="2590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00200" y="30481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48120" y="449568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4267080" y="4191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419720" y="4191120"/>
            <a:ext cx="0" cy="457200"/>
          </a:xfrm>
          <a:prstGeom prst="line">
            <a:avLst/>
          </a:prstGeom>
          <a:ln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3048120" y="4648320"/>
            <a:ext cx="1371600" cy="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48120" y="48769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057400" y="49528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2209680" y="4952880"/>
            <a:ext cx="0" cy="45720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2819520" y="49528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057400" y="609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2209680" y="6095880"/>
            <a:ext cx="0" cy="38124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2819520" y="609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029200" y="4191120"/>
            <a:ext cx="0" cy="228600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5181480" y="4191120"/>
            <a:ext cx="0" cy="228600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4648320" y="41911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4343400" y="5029200"/>
            <a:ext cx="457200" cy="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800600" y="4191120"/>
            <a:ext cx="0" cy="838080"/>
          </a:xfrm>
          <a:prstGeom prst="line">
            <a:avLst/>
          </a:prstGeom>
          <a:ln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343400" y="4876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0" y="1371600"/>
            <a:ext cx="0" cy="53352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903240" y="2712960"/>
            <a:ext cx="484200" cy="639720"/>
            <a:chOff x="903240" y="2712960"/>
            <a:chExt cx="484200" cy="639720"/>
          </a:xfrm>
        </p:grpSpPr>
        <p:sp>
          <p:nvSpPr>
            <p:cNvPr id="254" name=""/>
            <p:cNvSpPr/>
            <p:nvPr/>
          </p:nvSpPr>
          <p:spPr>
            <a:xfrm>
              <a:off x="990720" y="2743200"/>
              <a:ext cx="30492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 txBox="1"/>
            <p:nvPr/>
          </p:nvSpPr>
          <p:spPr>
            <a:xfrm>
              <a:off x="903240" y="2712960"/>
              <a:ext cx="484200" cy="63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nly</a:t>
              </a:r>
              <a:br>
                <a:rPr sz="1200"/>
              </a:b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n</a:t>
              </a:r>
              <a:br>
                <a:rPr sz="1200"/>
              </a:b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P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4476600" y="6469200"/>
            <a:ext cx="1257480" cy="244440"/>
            <a:chOff x="4476600" y="6469200"/>
            <a:chExt cx="1257480" cy="244440"/>
          </a:xfrm>
        </p:grpSpPr>
        <p:sp>
          <p:nvSpPr>
            <p:cNvPr id="257" name=""/>
            <p:cNvSpPr/>
            <p:nvPr/>
          </p:nvSpPr>
          <p:spPr>
            <a:xfrm>
              <a:off x="4572000" y="6477120"/>
              <a:ext cx="10666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 txBox="1"/>
            <p:nvPr/>
          </p:nvSpPr>
          <p:spPr>
            <a:xfrm>
              <a:off x="4476600" y="6469200"/>
              <a:ext cx="12574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HY Manage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4114800" y="3505320"/>
            <a:ext cx="1219320" cy="685800"/>
            <a:chOff x="4114800" y="3505320"/>
            <a:chExt cx="1219320" cy="685800"/>
          </a:xfrm>
        </p:grpSpPr>
        <p:sp>
          <p:nvSpPr>
            <p:cNvPr id="260" name=""/>
            <p:cNvSpPr/>
            <p:nvPr/>
          </p:nvSpPr>
          <p:spPr>
            <a:xfrm>
              <a:off x="4114800" y="3505320"/>
              <a:ext cx="1219320" cy="685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 txBox="1"/>
            <p:nvPr/>
          </p:nvSpPr>
          <p:spPr>
            <a:xfrm>
              <a:off x="4132440" y="3573360"/>
              <a:ext cx="1185840" cy="549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agement (M)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te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1828800" y="4267080"/>
            <a:ext cx="1219320" cy="685800"/>
            <a:chOff x="1828800" y="4267080"/>
            <a:chExt cx="1219320" cy="685800"/>
          </a:xfrm>
        </p:grpSpPr>
        <p:sp>
          <p:nvSpPr>
            <p:cNvPr id="263" name=""/>
            <p:cNvSpPr/>
            <p:nvPr/>
          </p:nvSpPr>
          <p:spPr>
            <a:xfrm>
              <a:off x="1828800" y="4267080"/>
              <a:ext cx="1219320" cy="685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 txBox="1"/>
            <p:nvPr/>
          </p:nvSpPr>
          <p:spPr>
            <a:xfrm>
              <a:off x="1835280" y="4411800"/>
              <a:ext cx="12063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C Control  (C)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te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4081320" y="1905120"/>
            <a:ext cx="1284120" cy="685800"/>
            <a:chOff x="4081320" y="1905120"/>
            <a:chExt cx="1284120" cy="685800"/>
          </a:xfrm>
        </p:grpSpPr>
        <p:sp>
          <p:nvSpPr>
            <p:cNvPr id="266" name=""/>
            <p:cNvSpPr/>
            <p:nvPr/>
          </p:nvSpPr>
          <p:spPr>
            <a:xfrm>
              <a:off x="4114800" y="1905120"/>
              <a:ext cx="1219320" cy="685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 txBox="1"/>
            <p:nvPr/>
          </p:nvSpPr>
          <p:spPr>
            <a:xfrm>
              <a:off x="4081320" y="1973160"/>
              <a:ext cx="1284120" cy="549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C Management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ice (MM)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te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4245120" y="982800"/>
            <a:ext cx="960480" cy="396720"/>
            <a:chOff x="4245120" y="982800"/>
            <a:chExt cx="960480" cy="396720"/>
          </a:xfrm>
        </p:grpSpPr>
        <p:sp>
          <p:nvSpPr>
            <p:cNvPr id="269" name=""/>
            <p:cNvSpPr/>
            <p:nvPr/>
          </p:nvSpPr>
          <p:spPr>
            <a:xfrm>
              <a:off x="4267080" y="1371600"/>
              <a:ext cx="9144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 txBox="1"/>
            <p:nvPr/>
          </p:nvSpPr>
          <p:spPr>
            <a:xfrm>
              <a:off x="4245120" y="982800"/>
              <a:ext cx="9604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blayer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age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1893960" y="6469200"/>
            <a:ext cx="1243080" cy="244440"/>
            <a:chOff x="1893960" y="6469200"/>
            <a:chExt cx="1243080" cy="244440"/>
          </a:xfrm>
        </p:grpSpPr>
        <p:sp>
          <p:nvSpPr>
            <p:cNvPr id="272" name=""/>
            <p:cNvSpPr/>
            <p:nvPr/>
          </p:nvSpPr>
          <p:spPr>
            <a:xfrm>
              <a:off x="1905120" y="6477120"/>
              <a:ext cx="12189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 txBox="1"/>
            <p:nvPr/>
          </p:nvSpPr>
          <p:spPr>
            <a:xfrm>
              <a:off x="1893960" y="6469200"/>
              <a:ext cx="12430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HY Data Servi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2666880" y="5410080"/>
            <a:ext cx="1219320" cy="685800"/>
            <a:chOff x="2666880" y="5410080"/>
            <a:chExt cx="1219320" cy="685800"/>
          </a:xfrm>
        </p:grpSpPr>
        <p:sp>
          <p:nvSpPr>
            <p:cNvPr id="275" name=""/>
            <p:cNvSpPr/>
            <p:nvPr/>
          </p:nvSpPr>
          <p:spPr>
            <a:xfrm>
              <a:off x="2666880" y="5410080"/>
              <a:ext cx="1219320" cy="685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 txBox="1"/>
            <p:nvPr/>
          </p:nvSpPr>
          <p:spPr>
            <a:xfrm>
              <a:off x="2757600" y="5554800"/>
              <a:ext cx="10382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eiver (R)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te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1143000" y="5410080"/>
            <a:ext cx="1219320" cy="685800"/>
            <a:chOff x="1143000" y="5410080"/>
            <a:chExt cx="1219320" cy="685800"/>
          </a:xfrm>
        </p:grpSpPr>
        <p:sp>
          <p:nvSpPr>
            <p:cNvPr id="278" name=""/>
            <p:cNvSpPr/>
            <p:nvPr/>
          </p:nvSpPr>
          <p:spPr>
            <a:xfrm>
              <a:off x="1143000" y="5410080"/>
              <a:ext cx="1219320" cy="685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 txBox="1"/>
            <p:nvPr/>
          </p:nvSpPr>
          <p:spPr>
            <a:xfrm>
              <a:off x="1212840" y="5554800"/>
              <a:ext cx="10796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nsmitter (T)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te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5692680" y="2049480"/>
            <a:ext cx="960480" cy="396720"/>
            <a:chOff x="5692680" y="2049480"/>
            <a:chExt cx="960480" cy="396720"/>
          </a:xfrm>
        </p:grpSpPr>
        <p:sp>
          <p:nvSpPr>
            <p:cNvPr id="281" name=""/>
            <p:cNvSpPr txBox="1"/>
            <p:nvPr/>
          </p:nvSpPr>
          <p:spPr>
            <a:xfrm>
              <a:off x="5692680" y="2049480"/>
              <a:ext cx="9604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tion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age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715000" y="205740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2590920" y="4952880"/>
            <a:ext cx="0" cy="152424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828800" y="396252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838080" y="906480"/>
            <a:ext cx="4586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0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2798640" y="906480"/>
            <a:ext cx="1111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1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idate 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5261040" y="906480"/>
            <a:ext cx="75564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ipi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066680" y="1295280"/>
            <a:ext cx="0" cy="52578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1092240" y="1461960"/>
            <a:ext cx="5572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D0:1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301920" y="1690560"/>
            <a:ext cx="5572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D1:2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066680" y="144792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1413000" y="1004760"/>
            <a:ext cx="129384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_UNITDATA.request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ull, mdDA, mdData,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Route, mdPri, mdSC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38680" y="1467000"/>
            <a:ext cx="0" cy="4628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352680" y="167652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066680" y="236232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1173240" y="1766880"/>
            <a:ext cx="20844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ength(mdData) &gt; aMax_Frame_Length) |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dRoute != null) |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dPri != {contention | contention_free} )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dSC != {asynchronous | time_bounded}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2743200" y="2376360"/>
            <a:ext cx="6080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D1:0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1631880" y="2376360"/>
            <a:ext cx="852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ard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4724280"/>
            <a:ext cx="281952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301920" y="4738680"/>
            <a:ext cx="5572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D4:0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886200" y="4572000"/>
            <a:ext cx="0" cy="14479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886200" y="350532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129200" y="1461960"/>
            <a:ext cx="7462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est val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1623960" y="4738680"/>
            <a:ext cx="13240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queue(mdMSDU, TXq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430440" y="4030560"/>
            <a:ext cx="91764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queue f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886200" y="487692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191120" y="4510080"/>
            <a:ext cx="13842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ccessState(mdDA) = 1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sState(mdDA) != 1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5029200" y="4890960"/>
            <a:ext cx="6080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D2:4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066680" y="58672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1066680" y="640080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1092240" y="5881680"/>
            <a:ext cx="5572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D0:5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1701720" y="5881680"/>
            <a:ext cx="13240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queue(mdMSDU, RXq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57150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2990880" y="5173560"/>
            <a:ext cx="7272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5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p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1401840" y="6415200"/>
            <a:ext cx="131616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_UNITDATA.indicate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dSA, mdDA, mdData,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ll, mdPri, mdSC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2768760" y="6415200"/>
            <a:ext cx="5572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D5:0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1960560" y="5653080"/>
            <a:ext cx="5000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RX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556080" y="2583000"/>
            <a:ext cx="6634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3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que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886200" y="3276720"/>
            <a:ext cx="0" cy="5331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066680" y="3657600"/>
            <a:ext cx="281952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738600" y="1690560"/>
            <a:ext cx="16794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ach MAC header to cre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MSDU which includ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FromDS := 0, mdType := Data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Addr2 := aMAC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5130720" y="3519360"/>
            <a:ext cx="5572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D2:3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301920" y="3672000"/>
            <a:ext cx="5572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D3:0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576440" y="3672000"/>
            <a:ext cx="14320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queue(mdMSDU, ToDSq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066680" y="3048120"/>
            <a:ext cx="2286000" cy="0"/>
          </a:xfrm>
          <a:prstGeom prst="line">
            <a:avLst/>
          </a:prstGeom>
          <a:ln w="12600">
            <a:solidFill>
              <a:srgbClr val="7f7f7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2741760" y="3062160"/>
            <a:ext cx="6127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D1:0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631880" y="3062160"/>
            <a:ext cx="852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ard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295280" y="2681280"/>
            <a:ext cx="1989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dPri = contention_free &amp; !F_CFavail)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dSC = time_bound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253040" y="3062160"/>
            <a:ext cx="141588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AP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(AccessState(mdDA) != 1)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State(mdDA) = 1)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86200" y="594360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5027760" y="5958000"/>
            <a:ext cx="6127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D2:4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176720" y="5500800"/>
            <a:ext cx="141588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F_AP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(AccessState(mdDA) != 1)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sState(mdDA) = 1)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1295280"/>
            <a:ext cx="0" cy="19051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121280" y="3519360"/>
            <a:ext cx="150012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ToDS := 1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Addr3 := mdDA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Addr1 := Current_BSS_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121280" y="4890960"/>
            <a:ext cx="150012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ToDS := 0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Addr1 := mdDA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Addr3 := Current_BSS_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121280" y="5958000"/>
            <a:ext cx="150012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ToDS := 1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Addr3 := mdDA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Addr1 := Current_BSS_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762120" y="914400"/>
            <a:ext cx="54100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C Management Service State Machine goes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"/>
          <p:cNvGrpSpPr/>
          <p:nvPr/>
        </p:nvGrpSpPr>
        <p:grpSpPr>
          <a:xfrm>
            <a:off x="2438280" y="4952880"/>
            <a:ext cx="3505320" cy="152640"/>
            <a:chOff x="2438280" y="4952880"/>
            <a:chExt cx="3505320" cy="152640"/>
          </a:xfrm>
        </p:grpSpPr>
        <p:sp>
          <p:nvSpPr>
            <p:cNvPr id="339" name=""/>
            <p:cNvSpPr/>
            <p:nvPr/>
          </p:nvSpPr>
          <p:spPr>
            <a:xfrm>
              <a:off x="2438280" y="5029200"/>
              <a:ext cx="3505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410080" y="4952880"/>
              <a:ext cx="0" cy="15264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429000" y="4952880"/>
              <a:ext cx="0" cy="152640"/>
            </a:xfrm>
            <a:prstGeom prst="line">
              <a:avLst/>
            </a:prstGeom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69480" bIns="69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2438280" y="4419720"/>
            <a:ext cx="1981440" cy="152280"/>
            <a:chOff x="2438280" y="4419720"/>
            <a:chExt cx="1981440" cy="152280"/>
          </a:xfrm>
        </p:grpSpPr>
        <p:sp>
          <p:nvSpPr>
            <p:cNvPr id="343" name=""/>
            <p:cNvSpPr/>
            <p:nvPr/>
          </p:nvSpPr>
          <p:spPr>
            <a:xfrm>
              <a:off x="2438280" y="4495680"/>
              <a:ext cx="198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429000" y="4419720"/>
              <a:ext cx="0" cy="152280"/>
            </a:xfrm>
            <a:prstGeom prst="line">
              <a:avLst/>
            </a:prstGeom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69120" bIns="69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"/>
          <p:cNvSpPr/>
          <p:nvPr/>
        </p:nvSpPr>
        <p:spPr>
          <a:xfrm flipH="1">
            <a:off x="990720" y="1676520"/>
            <a:ext cx="24382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74840" y="830160"/>
            <a:ext cx="103356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1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e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d D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958680" y="275760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DS1:3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5511960" y="830160"/>
            <a:ext cx="8650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2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e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ToDS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454720" y="260496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DS2:3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958680" y="527220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DS1:4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224160" y="830160"/>
            <a:ext cx="409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0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2940120" y="169056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DS0:1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429000" y="152388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046400" y="1538280"/>
            <a:ext cx="1355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queue(dsMSDU,ToDSq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230480" y="1461960"/>
            <a:ext cx="16621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DU available from wired D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397320" y="153828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DS0:2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348080" y="1309680"/>
            <a:ext cx="6015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ToDS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220760" y="1690560"/>
            <a:ext cx="16747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tain DSM reception in dsMSD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2146320" y="2041560"/>
            <a:ext cx="582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3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020600" y="2529000"/>
            <a:ext cx="13129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cast | unicast to LL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438280" y="2438280"/>
            <a:ext cx="0" cy="12956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90720" y="2743200"/>
            <a:ext cx="14475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544760" y="2757600"/>
            <a:ext cx="876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que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sMSDU,RXq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2163600" y="3946680"/>
            <a:ext cx="547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4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B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419720" y="3276720"/>
            <a:ext cx="0" cy="13716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927600" y="2879640"/>
            <a:ext cx="981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5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Wired D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438280" y="4343400"/>
            <a:ext cx="0" cy="1981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113360" y="5318280"/>
            <a:ext cx="611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W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990720" y="6553080"/>
            <a:ext cx="3429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424160" y="5043600"/>
            <a:ext cx="8110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cast to B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419720" y="35812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990720" y="5257800"/>
            <a:ext cx="14475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419720" y="640080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371600" y="358128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371600" y="358128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1371600" y="48006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38280" y="31240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3429000" y="3809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438280" y="548640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438280" y="6172200"/>
            <a:ext cx="19814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419720" y="426708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410080" y="4267080"/>
            <a:ext cx="0" cy="1752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4419720" y="60199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3429000" y="58672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2647800" y="2909880"/>
            <a:ext cx="495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2406600" y="313848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DS3:0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916440" y="2376360"/>
            <a:ext cx="13129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cast | unicast to LL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3944880" y="2604960"/>
            <a:ext cx="12589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queue(dsMSDU,RXq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714840" y="3595680"/>
            <a:ext cx="495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930480" y="382428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DS5:0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930480" y="588168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DS6:0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2724120" y="5272200"/>
            <a:ext cx="495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2406600" y="550080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DS4:0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471920" y="4815000"/>
            <a:ext cx="8110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cast to B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5454720" y="504360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DS2:4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830760" y="5043600"/>
            <a:ext cx="14860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queue(dsMSDU,FromDSq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1949400" y="359568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DS3:4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538280" y="3367080"/>
            <a:ext cx="5842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1353960" y="3595680"/>
            <a:ext cx="64764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que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sMSDU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DSq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2571840" y="5881680"/>
            <a:ext cx="6494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D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2565360" y="4205160"/>
            <a:ext cx="816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from D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2406600" y="451008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DS4:5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2406600" y="618660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DS4:6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3471840" y="4510080"/>
            <a:ext cx="816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 dsMSD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wired D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749840" y="3290760"/>
            <a:ext cx="1017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cast to wi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ion syst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5454720" y="359568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DS2:5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649680" y="5653080"/>
            <a:ext cx="4730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done}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387680" y="428148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DS5:6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813200" y="4052880"/>
            <a:ext cx="5842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782960" y="4281480"/>
            <a:ext cx="64764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que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sMSDU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DSq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2916360" y="6186600"/>
            <a:ext cx="14860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queue(dsMSDU,FromDSq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5454720" y="641520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DS2:6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1474920" y="6338880"/>
            <a:ext cx="8618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cast to W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675320" y="6186600"/>
            <a:ext cx="8618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cast to W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958680" y="656748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DS1:6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1468440" y="6567480"/>
            <a:ext cx="14860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queue(dsMSDU,FromDSq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630680" y="6415200"/>
            <a:ext cx="11016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que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sMSDU,FromDSq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38520" y="3595680"/>
            <a:ext cx="816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 dsMSD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wired D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943600" y="137160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990720" y="137160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419720" y="571500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1506600" y="5272200"/>
            <a:ext cx="64764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que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sMSDU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DSq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2438280" y="2514600"/>
            <a:ext cx="3505320" cy="152280"/>
            <a:chOff x="2438280" y="2514600"/>
            <a:chExt cx="3505320" cy="152280"/>
          </a:xfrm>
        </p:grpSpPr>
        <p:sp>
          <p:nvSpPr>
            <p:cNvPr id="424" name=""/>
            <p:cNvSpPr/>
            <p:nvPr/>
          </p:nvSpPr>
          <p:spPr>
            <a:xfrm>
              <a:off x="2438280" y="2590920"/>
              <a:ext cx="3505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3429000" y="2514600"/>
              <a:ext cx="0" cy="152280"/>
            </a:xfrm>
            <a:prstGeom prst="line">
              <a:avLst/>
            </a:prstGeom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69120" bIns="69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3429000" y="1219320"/>
            <a:ext cx="0" cy="48006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3505320" y="7696080"/>
            <a:ext cx="2666880" cy="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5075280" y="1995480"/>
            <a:ext cx="636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St := –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5030640" y="1766880"/>
            <a:ext cx="1144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_Poll &amp; (TxSt != 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1150920" y="6338880"/>
            <a:ext cx="166212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ST := –1 – (2 * cCFnext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Num += 1, cCFnext := 0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tryCnt := 0, cFragNum := 0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gment(cMSDU, cMPDU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ragNum, cFragLng, cFragLast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1405080" y="2529000"/>
            <a:ext cx="13525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GenACK(crAddr1, 0), 1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681120" y="982800"/>
            <a:ext cx="622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0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a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371600" y="25146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371600" y="2514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1371600" y="289548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495680" y="2286000"/>
            <a:ext cx="0" cy="14479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5800680" y="958680"/>
            <a:ext cx="7272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p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056120" y="1897200"/>
            <a:ext cx="8859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590400" y="2811600"/>
            <a:ext cx="8017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4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are T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2622600" y="982800"/>
            <a:ext cx="395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990720" y="13716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990720" y="15238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988920" y="153828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0:1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99072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2360520" y="207180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:0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1528920" y="1309680"/>
            <a:ext cx="1058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Awake | F_DT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1027080" y="1843200"/>
            <a:ext cx="17604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F_Awake &amp; !F_DTIM &amp; (TxSt = 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495680" y="281952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819520" y="26668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213000" y="2681280"/>
            <a:ext cx="12733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GenACK(crMPDU), 1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2792520" y="2681280"/>
            <a:ext cx="511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:2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08640" y="2604960"/>
            <a:ext cx="1655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State(crAddr2,crType) =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494240" y="283356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2:3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1271520" y="2300400"/>
            <a:ext cx="1573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xError(crAddr1) &amp; (TxSt &gt; 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2335320" y="2529000"/>
            <a:ext cx="511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:1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2819520" y="4191120"/>
            <a:ext cx="33526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444920" y="3316320"/>
            <a:ext cx="163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State(crAddr2,crType) =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4494240" y="351936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2:1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2916360" y="3976560"/>
            <a:ext cx="33148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rType =RTS) &amp; (NAV =0) &amp; !F_Mbusy &amp; (T_IFS =aSIFS) &amp; !F_CFP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5688000" y="4205160"/>
            <a:ext cx="511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3:1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603600" y="4205160"/>
            <a:ext cx="17128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Request(GenCTS(crMPDU), 1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2819520" y="7315200"/>
            <a:ext cx="33526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5684760" y="473868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3:1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2819520" y="4724280"/>
            <a:ext cx="33526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3262320" y="4484520"/>
            <a:ext cx="24811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rType = {Management | Data} ) &amp; (crFragLast = 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529080" y="4713120"/>
            <a:ext cx="1951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emble(crMSDU, crMPDU, crLength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5689440" y="5272200"/>
            <a:ext cx="506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3:1c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2819520" y="5257800"/>
            <a:ext cx="33526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2949480" y="5018040"/>
            <a:ext cx="3111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(crType = Management) &amp; (crFragLast = 1) ) | (crType = PS–Poll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3440160" y="5246640"/>
            <a:ext cx="21304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emble(crMSDU, crMPDU, crLength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Indicate(crMSDU, crLength, crDir, crT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5684760" y="588168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3:1d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2819520" y="5867280"/>
            <a:ext cx="33526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3035160" y="5627520"/>
            <a:ext cx="29368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(crType = Data) &amp; (crFragLast = 1) ) &amp; (crToDS = 1) &amp; F_A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3516480" y="5881680"/>
            <a:ext cx="1976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emble(crMSDU, crMPDU, crLength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queue(crMSDU, ToDSq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2819520" y="6477120"/>
            <a:ext cx="33526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3228840" y="6237360"/>
            <a:ext cx="2552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(crType = Data) &amp; (crFragLast = 1) ) &amp; (crToDS = 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5688000" y="7329600"/>
            <a:ext cx="511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3:1g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5052960" y="2833560"/>
            <a:ext cx="9460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(F_Back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2813040" y="1843200"/>
            <a:ext cx="169380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xSt &gt;= 0) &amp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xIndicate(crMPDU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Length, crDir, crT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(crDir = 1) &amp; (crType =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management | data | PS–Poll} 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_IFS = aSIFS) &amp; !F_CF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2843280" y="2986200"/>
            <a:ext cx="15699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xSt &gt;= 0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xIndicate(crMPDU, crLength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Dir, crTs) &amp; ( (crDir = 0)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rType = control) ) &amp; !F_CF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819520" y="35812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2789280" y="359568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:2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2819520" y="7010280"/>
            <a:ext cx="33526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2905200" y="6770520"/>
            <a:ext cx="32004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rType={CF–End | CF–End+Ack} ) &amp; (crAddr2=aCurrent_BSS_I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3130560" y="6999120"/>
            <a:ext cx="15271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NAV(0), Clear(F_CFP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5695920" y="7024680"/>
            <a:ext cx="4935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3:1f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676760" y="7151760"/>
            <a:ext cx="8730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other fram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495680" y="35053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867280" y="3505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2819520" y="388620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990720" y="48006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990720" y="35053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1274760" y="3798720"/>
            <a:ext cx="14270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FrDSq &amp; ( (cCFnext = 1)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!F_CFP &amp; (TxSt = 0) )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1198440" y="4167360"/>
            <a:ext cx="12938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queue(cMSDU,FrDSq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2335320" y="3519360"/>
            <a:ext cx="511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:4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1246320" y="3525840"/>
            <a:ext cx="11970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queue(cMSDU,TXq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2332080" y="412920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:4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990720" y="41148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990720" y="53341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1120680" y="4484520"/>
            <a:ext cx="1739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(cAddr1 = multicast) &amp; !F_DTI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(PsMode(cAddr1) = 1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1527120" y="4815000"/>
            <a:ext cx="11811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queue(cMSDU,PSq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963720" y="4815000"/>
            <a:ext cx="511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4:1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960480" y="534816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4:1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1233360" y="5094360"/>
            <a:ext cx="13590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F_CFpoll &amp; (cCFnext = 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630360" y="7089840"/>
            <a:ext cx="215892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 C1 continues, subsequ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itions enabled when TxSt != 0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St = { 1 | 2 } for DCF transf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St = { –1 | –2 } for CF–Poll respon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St = { –3 | –4 } for Point Coordina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2819520" y="1600200"/>
            <a:ext cx="3352680" cy="0"/>
          </a:xfrm>
          <a:prstGeom prst="line">
            <a:avLst/>
          </a:prstGeom>
          <a:ln w="12600">
            <a:solidFill>
              <a:srgbClr val="7f7f7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819520" y="7467480"/>
            <a:ext cx="0" cy="381240"/>
          </a:xfrm>
          <a:prstGeom prst="line">
            <a:avLst/>
          </a:prstGeom>
          <a:ln w="255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2817720" y="161460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:3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3333600" y="1157400"/>
            <a:ext cx="222408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CFaware &amp; !F_P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xIndicate(crMPDU, crLength, crDir, crTs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rDir = 1) &amp; (crType = { any with CF–Poll }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060800" y="1614600"/>
            <a:ext cx="8002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(F_CFpoll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1150920" y="5348160"/>
            <a:ext cx="166212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W := aCW_Min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ST := 1, SeqNum += 1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tryCnt := 0, cFragNum := 0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gment(cMSDU, cMPDU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ragNum, cFragLng, cFragLast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1765440" y="1538280"/>
            <a:ext cx="5857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St := 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902120" y="3519360"/>
            <a:ext cx="9460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(F_Back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990720" y="6324480"/>
            <a:ext cx="1828800" cy="0"/>
          </a:xfrm>
          <a:prstGeom prst="line">
            <a:avLst/>
          </a:prstGeom>
          <a:ln w="12600">
            <a:solidFill>
              <a:srgbClr val="7f7f7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965160" y="6338880"/>
            <a:ext cx="506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4:1c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1279440" y="6084720"/>
            <a:ext cx="12636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CFpoll | (cCFnext = 1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1008000" y="3189240"/>
            <a:ext cx="18162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TXq &amp; ( F_CFpoll | (cCFnext = 1)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!F_CFP &amp; (TxSt = 0) )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5105520" y="1981080"/>
            <a:ext cx="1066680" cy="0"/>
          </a:xfrm>
          <a:prstGeom prst="line">
            <a:avLst/>
          </a:prstGeom>
          <a:ln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105520" y="1981080"/>
            <a:ext cx="0" cy="381240"/>
          </a:xfrm>
          <a:prstGeom prst="line">
            <a:avLst/>
          </a:prstGeom>
          <a:ln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105520" y="2362320"/>
            <a:ext cx="1066680" cy="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5713560" y="199548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3:3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172200" y="1523880"/>
            <a:ext cx="0" cy="63248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819520" y="1371600"/>
            <a:ext cx="0" cy="6095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990720" y="3200400"/>
            <a:ext cx="0" cy="32767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3067200" y="7537320"/>
            <a:ext cx="43164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fr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668760" y="7684920"/>
            <a:ext cx="2130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process frame received during CF period 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5689440" y="6491160"/>
            <a:ext cx="506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3:1e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2846520" y="6491160"/>
            <a:ext cx="29941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emble(crMSDU,crMPDU,crLength),Enqueue(crMSDU,RXq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1066680" y="4738680"/>
            <a:ext cx="1081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MPDU, cFragLng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2347920" y="7024680"/>
            <a:ext cx="247500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(TxSt = –1) | ( (TxSt = 1) &amp; (FragNum &gt; 0) 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_IFS &gt;= aSIFS) &amp; (cAddr1 = individual_addres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(Duration(cFragLng, A) &lt;= T_Dwell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1117440" y="6993000"/>
            <a:ext cx="1216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MPDU, cFragLength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981000" y="5450040"/>
            <a:ext cx="13921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ragNum += 1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gment(cMSDU,cMPDU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ragNum, cFragLng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ragLast), Tally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2022480" y="906480"/>
            <a:ext cx="8049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, Id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tinu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720720" y="1233360"/>
            <a:ext cx="130320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(TxSt = 1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(NAV != 0) | F_Mbusy)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(TxSt = 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85800" y="167652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654120" y="1690560"/>
            <a:ext cx="178128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St := 1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_Backoff := (Int(cCW 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dom() ) * aSlot_Time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(F_Backoff), Start(T_Backoff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otal_Backoff_Time += T_Backoff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W := Min((cCW * 2), aCW_Max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1949400" y="169056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:1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85800" y="259092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800600" y="3962520"/>
            <a:ext cx="0" cy="39621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2438280" y="251460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438280" y="190512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2511360" y="191916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:5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800600" y="1600200"/>
            <a:ext cx="0" cy="16765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338720" y="1211400"/>
            <a:ext cx="925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 for 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2543040" y="1233360"/>
            <a:ext cx="192564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xSt = 1) &amp; F_Backoff &amp; (NAV = 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!F_Mbusy &amp; (T_IFS &gt;= aDIFS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ddr1 = individual_address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FragLng &gt;= aRTS_Threshold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uration(cFragLng, A, R) &lt;= T_Dwell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2940120" y="1919160"/>
            <a:ext cx="16686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Request(GenRTS(cMPDU), 16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324480" y="2057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800600" y="205740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4800600" y="236232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5378400" y="1843200"/>
            <a:ext cx="674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F_TxD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4797360" y="207180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5:5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5330880" y="2071800"/>
            <a:ext cx="906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art(T_Resp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2700360" y="2147760"/>
            <a:ext cx="16128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_Resp &gt;= aCTS_Timeout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RetryCnt &lt; aCTS_Retry_Max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314960" y="2529000"/>
            <a:ext cx="511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5:1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2773440" y="2529000"/>
            <a:ext cx="13111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St := 2, cRetryCnt +=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478400" y="3421080"/>
            <a:ext cx="6462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 f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914400" y="3962520"/>
            <a:ext cx="0" cy="39621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565200" y="3421080"/>
            <a:ext cx="6984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ca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438280" y="411480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2409840" y="4129200"/>
            <a:ext cx="511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:6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2433600" y="3443400"/>
            <a:ext cx="214632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xSt = 1) &amp; (FragNum =0) &amp; (NAV =0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Backoff &amp; !F_Mbusy &amp; (T_IFS &gt;= aDIF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(cAddr1 = individual_address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FragLng &lt; aRTS_Threshold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uration(cFragLng, A) &lt;= T_Dwell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2819520" y="4129200"/>
            <a:ext cx="1911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try := (cRetryCnt &gt; 0), cMore :=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TXq, TxRequest(cMPDU, cFragLng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800600" y="304812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4800600" y="441972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324480" y="304812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4807080" y="2725560"/>
            <a:ext cx="16714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xIndicate(crMSDU, , , 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rType =CTS) &amp; (T_IFS =aSIF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4797360" y="306216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5:6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5203800" y="3062160"/>
            <a:ext cx="11066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ore := F_TXq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MPDU, cFragLng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tryCnt := 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324480" y="5029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800600" y="502920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4800600" y="533412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5302080" y="4815000"/>
            <a:ext cx="674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F_TxD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797360" y="504360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6:6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5407200" y="5043600"/>
            <a:ext cx="906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art(T_Resp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2438280" y="312408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2671920" y="2757600"/>
            <a:ext cx="16714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_Resp &gt;= aCTS_Timeout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RetryCnt &gt;= aCTS_Retry_Max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4311720" y="313848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5:1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2965320" y="3138480"/>
            <a:ext cx="9302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St := 0, Tally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2438280" y="487692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2685960" y="4510080"/>
            <a:ext cx="16416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_Resp &gt;= aACK_Timeout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RetryCnt &lt; aACK_Retry_Max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314960" y="4890960"/>
            <a:ext cx="511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6:1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2584440" y="4890960"/>
            <a:ext cx="16891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St := (2 * TxSt), cRetryCnt +=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2438280" y="548640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2658960" y="5119560"/>
            <a:ext cx="16984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_Resp &gt;= aACK_Timeout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RetryCnt &gt;= aACK_Retry_Max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311720" y="550080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6:1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3041640" y="5500800"/>
            <a:ext cx="9302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St := 0, Tally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866880" y="3900600"/>
            <a:ext cx="162576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xSt = 1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F_Mbusy &amp; (NAV =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(T_IFS &gt;= aDIFS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ddr1=group_address)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FragNum = 0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uration(cFragLng)&lt;=T_Dwell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914400" y="47242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903240" y="5164200"/>
            <a:ext cx="1449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TxDone &amp; (cFragLast = 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1120680" y="7373880"/>
            <a:ext cx="8571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TxDone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FragLast = 1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2558880" y="5697360"/>
            <a:ext cx="2295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FragLast = 0) &amp; ( F_CFack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RxIndicate(crMPDU, , , ) &amp; (crType = ACK)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2438280" y="601992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1952640" y="4738680"/>
            <a:ext cx="511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:7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914400" y="54100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885960" y="5424480"/>
            <a:ext cx="511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7:1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866880" y="6186600"/>
            <a:ext cx="162576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xSt = 1) &amp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_IFS = aSIFS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ddr1=group_address)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FragNum &gt; 0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uration(cFragLng)&lt;=T_Dwell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914400" y="693432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1949400" y="694836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:7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914400" y="76960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882720" y="771048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7:1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1452600" y="7748640"/>
            <a:ext cx="9302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St := 1, Tally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2463840" y="6059520"/>
            <a:ext cx="208908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ragNum += 1, Fragment(cMSDU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PDU, cFragNum, cFragLng, cFragLast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St := 0, Tally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4316400" y="6033960"/>
            <a:ext cx="506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6:1c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85800" y="16765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438280" y="1295280"/>
            <a:ext cx="0" cy="228600"/>
          </a:xfrm>
          <a:prstGeom prst="line">
            <a:avLst/>
          </a:prstGeom>
          <a:ln w="255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2487600" y="7481880"/>
            <a:ext cx="229716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ype := (cType | F_CFpoll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ore :=F_ TXq, cRetry :=(cRetryCnt &gt; 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Request(cMPDU,cFragLng), Clear(F_CFpoll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2536920" y="6459480"/>
            <a:ext cx="2295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FragLast = 1) &amp; ( F_CFack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RxIndicate(crMPDU, , , ) &amp; (crType = ACK)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438280" y="678168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43080" y="6796080"/>
            <a:ext cx="9302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St := 0, Tally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4311720" y="679608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6:1d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2438280" y="746748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2406600" y="748188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:6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895320" y="2909880"/>
            <a:ext cx="10033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St := 2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W := aCW_M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85800" y="289548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765000" y="2681280"/>
            <a:ext cx="1133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xST &lt; 0) &amp; !F_CF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85800" y="2895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85800" y="327672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1954080" y="2909880"/>
            <a:ext cx="506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:1c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438280" y="7772400"/>
            <a:ext cx="0" cy="228600"/>
          </a:xfrm>
          <a:prstGeom prst="line">
            <a:avLst/>
          </a:prstGeom>
          <a:ln w="255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438280" y="1523880"/>
            <a:ext cx="0" cy="62485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 txBox="1"/>
          <p:nvPr/>
        </p:nvSpPr>
        <p:spPr>
          <a:xfrm>
            <a:off x="1025640" y="4967280"/>
            <a:ext cx="233676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try :=(cRetryCnt &gt; 0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ype := (cType | PollList(cAddr1) | F_CFack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Request(cMPDU,cFragLng), Clear(F_CFack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1552680" y="1690560"/>
            <a:ext cx="1247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St := –3, cCFnext :=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 flipH="1">
            <a:off x="914400" y="1676520"/>
            <a:ext cx="2362320" cy="0"/>
          </a:xfrm>
          <a:prstGeom prst="line">
            <a:avLst/>
          </a:prstGeom>
          <a:ln w="12600">
            <a:solidFill>
              <a:srgbClr val="7f7f7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963720" y="1690560"/>
            <a:ext cx="511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:10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839880" y="1919160"/>
            <a:ext cx="243360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PC &amp; F_CFP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(TxSt = 0) &amp; ( (NAV != 0) | F_Mbusy ) )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(TxSt = –3) &amp; (Duration(cFragLng,A) &gt; T_Dwell)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968400" y="2427120"/>
            <a:ext cx="20970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(F_Backoff), T_Backoff :=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nt(aCW_Min * Random() ) * aSlot_Time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otal_Backoff_Time += T_Backoff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(T_Backoff), TxSt := Min(TxSt, –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1028880" y="1309680"/>
            <a:ext cx="2057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PC &amp; F_CFP &amp; (TxSt = 0) &amp; (NAV = 0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!F_Mbusy &amp; (T_IFS &gt;= aPIF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2567160" y="906480"/>
            <a:ext cx="1419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are CF Multica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530520" y="3214800"/>
            <a:ext cx="1549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Request(cMPDU, cFragLng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338640" y="2757600"/>
            <a:ext cx="231948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TxDone &amp; (T_IFS &gt;= aSIFS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uration(cFragLng) &lt;= {T_Dwell &amp; T_CFDR}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(cAddr1 != individual addres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268800" y="1538280"/>
            <a:ext cx="24415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queue(cMSDU, TXq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ragNum := 0, SeqNum += 1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gment(cMSDU, cMPDU, cFragNum, cFragLng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ragLast), cCFnext := cFragL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3732120" y="1309680"/>
            <a:ext cx="12240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CFnext = 1) &amp; F_TX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flipH="1">
            <a:off x="3276720" y="3200400"/>
            <a:ext cx="25905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3273480" y="1538280"/>
            <a:ext cx="6127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0:11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5280120" y="3214800"/>
            <a:ext cx="5619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1:10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3405240" y="3976560"/>
            <a:ext cx="14191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ddr1 = individual add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1712880" y="3519360"/>
            <a:ext cx="4049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TxDone &amp; (T_IFS &gt;= aSIFS) &amp; ( (Duration(Length(cMPDU)) &lt;= T_CFDR) | !F_TXq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914400" y="1295280"/>
            <a:ext cx="0" cy="304920"/>
          </a:xfrm>
          <a:prstGeom prst="line">
            <a:avLst/>
          </a:prstGeom>
          <a:ln w="255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650880" y="906480"/>
            <a:ext cx="8049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, Id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tinu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2120760" y="3747960"/>
            <a:ext cx="3149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Request(GenCFend(), 16), Clear(F_CFP), cCFnext := 0, TxSt := 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5343480" y="906480"/>
            <a:ext cx="1047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 Multica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276720" y="1523880"/>
            <a:ext cx="25905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914400" y="3048120"/>
            <a:ext cx="2133720" cy="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960480" y="237636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:1d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276720" y="1295280"/>
            <a:ext cx="0" cy="21337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914400" y="2362320"/>
            <a:ext cx="2133720" cy="0"/>
          </a:xfrm>
          <a:prstGeom prst="line">
            <a:avLst/>
          </a:prstGeom>
          <a:ln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048120" y="2362320"/>
            <a:ext cx="0" cy="685800"/>
          </a:xfrm>
          <a:prstGeom prst="line">
            <a:avLst/>
          </a:prstGeom>
          <a:ln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914400" y="3733920"/>
            <a:ext cx="4952880" cy="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276720" y="2362320"/>
            <a:ext cx="25905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3270240" y="2376360"/>
            <a:ext cx="619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0:11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3987720" y="2147760"/>
            <a:ext cx="711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Fnext = 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3273480" y="2408400"/>
            <a:ext cx="2592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ragNum+= 1,Fragment(cMSDU,cMPDU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ragNum,cFragLng,cFragLast), cCFnext :=cFragL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914400" y="4191120"/>
            <a:ext cx="4952880" cy="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5280120" y="3747960"/>
            <a:ext cx="5619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1:1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5276880" y="4205160"/>
            <a:ext cx="568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1:1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2392200" y="4205160"/>
            <a:ext cx="29131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Fnext := 0, cRetryCnt := 0, Set(F_Backoff), Clear(F_CFac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3017880" y="4411800"/>
            <a:ext cx="1128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 for CF–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914400" y="4952880"/>
            <a:ext cx="2666880" cy="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861840" y="4967280"/>
            <a:ext cx="5619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:12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925560" y="4510080"/>
            <a:ext cx="239220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xSt = –3) &amp; (cCFnext = 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(T_IFS &gt;= aSIFS) &amp; F_Backoff &amp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uration(cFragLng,A) &lt;= {T_Dwell &amp; T_CFDR}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579132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581280" y="4876920"/>
            <a:ext cx="2210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3581280" y="5181480"/>
            <a:ext cx="2210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4235400" y="4662360"/>
            <a:ext cx="674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F_TxD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3578400" y="4890960"/>
            <a:ext cx="6127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2:12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4111560" y="4890960"/>
            <a:ext cx="906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art(T_Resp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581280" y="6553080"/>
            <a:ext cx="2286000" cy="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3529080" y="6567480"/>
            <a:ext cx="5619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2:3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5810400" y="6394320"/>
            <a:ext cx="43164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3605040" y="6186600"/>
            <a:ext cx="22273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xIndicate(crMPDU, crLength, crDir, crTs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_CFack | (crType = ACK) ) &amp; (FragLast = 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914400" y="3276720"/>
            <a:ext cx="2133720" cy="0"/>
          </a:xfrm>
          <a:prstGeom prst="line">
            <a:avLst/>
          </a:prstGeom>
          <a:ln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1089000" y="3062160"/>
            <a:ext cx="2087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xSt = –2) &amp; F_PC &amp; F_CFP &amp; F_Backof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1730520" y="3290760"/>
            <a:ext cx="5857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St := 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 flipH="1">
            <a:off x="914400" y="3505320"/>
            <a:ext cx="2133720" cy="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3048120" y="3276720"/>
            <a:ext cx="0" cy="228600"/>
          </a:xfrm>
          <a:prstGeom prst="line">
            <a:avLst/>
          </a:prstGeom>
          <a:ln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965160" y="3290760"/>
            <a:ext cx="506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:1e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905040" y="5424480"/>
            <a:ext cx="2614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_Resp &gt;= aPIFS) &amp; (cRetryCnt &lt; aACK_Retry_Max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876240" y="5653080"/>
            <a:ext cx="218772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_Backoff :=(Int(aCW_Min*Random()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aSlot_Time), aTotal_Backoff_Time +=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_Backoff, Start(T_Backoff), cRetryCnt +=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952560" y="6110280"/>
            <a:ext cx="2673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_Resp &gt;= aPIFS) &amp; (cRetryCnt &gt;= aACK_Retry_Max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3987720" y="6593040"/>
            <a:ext cx="208908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ragNum += 1, Fragment(cMSDU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PDU, cFragNum, cFragLng, cFragLast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(F_CFack), Tally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914400" y="5638680"/>
            <a:ext cx="2666880" cy="0"/>
          </a:xfrm>
          <a:prstGeom prst="line">
            <a:avLst/>
          </a:prstGeom>
          <a:ln w="12600">
            <a:solidFill>
              <a:srgbClr val="7f7f7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3071880" y="5653080"/>
            <a:ext cx="5619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2:1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914400" y="6324480"/>
            <a:ext cx="2666880" cy="0"/>
          </a:xfrm>
          <a:prstGeom prst="line">
            <a:avLst/>
          </a:prstGeom>
          <a:ln w="12600">
            <a:solidFill>
              <a:srgbClr val="7f7f7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3068640" y="6338880"/>
            <a:ext cx="568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2:1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973080" y="6338880"/>
            <a:ext cx="1789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Fnext := 1, cRetryCnt := 0, Tally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581280" y="7391520"/>
            <a:ext cx="2286000" cy="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3525840" y="7405560"/>
            <a:ext cx="568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2:3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5810400" y="7232760"/>
            <a:ext cx="43164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3605040" y="7024680"/>
            <a:ext cx="22273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xIndicate(crMPDU, crLength, crDir, crTs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_CFack | (crType = ACK) ) &amp; (FragLast = 1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4064040" y="7431120"/>
            <a:ext cx="1482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ragNum := 0, cCFnext := 1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(F_CFack), Tally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866880" y="6567480"/>
            <a:ext cx="266544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xSt = –3) &amp; !F_TXq &amp; !F_RXq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_IFS &gt;= aSIFS) &amp; (Duration(aMax_Frame_Length, 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= {T_Dwell &amp; T_CFDR} 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914400" y="7010280"/>
            <a:ext cx="2666880" cy="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858960" y="7024680"/>
            <a:ext cx="568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:12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3630600" y="5272200"/>
            <a:ext cx="233028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!F_TXq &amp; !F_RXq &amp; !PollList() )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!F_TXa &amp; !F_RXq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uration(aMax_Frame_Length,A) &gt; T_CFDR)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5791320" y="5715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581280" y="5715000"/>
            <a:ext cx="2210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3581280" y="6019920"/>
            <a:ext cx="2210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3575160" y="5729400"/>
            <a:ext cx="619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2:12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4381560" y="5729400"/>
            <a:ext cx="636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St := –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901800" y="7405560"/>
            <a:ext cx="23004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sSt = –4) | (Duration(cFragLng,A) &gt; T_CFDR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3200400" y="7620120"/>
            <a:ext cx="0" cy="380880"/>
          </a:xfrm>
          <a:prstGeom prst="line">
            <a:avLst/>
          </a:prstGeom>
          <a:ln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914400" y="7620120"/>
            <a:ext cx="2286000" cy="0"/>
          </a:xfrm>
          <a:prstGeom prst="line">
            <a:avLst/>
          </a:prstGeom>
          <a:ln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914400" y="8001000"/>
            <a:ext cx="2286000" cy="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581280" y="4800600"/>
            <a:ext cx="0" cy="3352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914400" y="1600200"/>
            <a:ext cx="0" cy="6553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1312920" y="7634160"/>
            <a:ext cx="1868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Request(GenCFend(F_CFack), 16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(F_CFP), cCFnext := 0, TxSt := 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895320" y="7634160"/>
            <a:ext cx="4935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:1f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1181160" y="7024680"/>
            <a:ext cx="24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tryCnt := aACK_Retry_Max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Request(GenCFpoll(PollList(next),F_CFack), 24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5867280" y="1295280"/>
            <a:ext cx="0" cy="30481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