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81120" y="426960"/>
            <a:ext cx="2338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agrams for document 95/014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83059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95160" y="8352000"/>
            <a:ext cx="15890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State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370400" y="8352000"/>
            <a:ext cx="18939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. Fischer, 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2954160" y="8352000"/>
            <a:ext cx="496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413160" y="8352000"/>
            <a:ext cx="3366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F42099E4-1CEF-4C7C-B00B-F606ED46F30E}" type="slidenum"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4100400" y="426960"/>
            <a:ext cx="21700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: IEEE P802.11–95/014A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066680" y="4191120"/>
            <a:ext cx="4876920" cy="152280"/>
            <a:chOff x="1066680" y="4191120"/>
            <a:chExt cx="4876920" cy="152280"/>
          </a:xfrm>
        </p:grpSpPr>
        <p:sp>
          <p:nvSpPr>
            <p:cNvPr id="47" name=""/>
            <p:cNvSpPr/>
            <p:nvPr/>
          </p:nvSpPr>
          <p:spPr>
            <a:xfrm>
              <a:off x="1066680" y="4267080"/>
              <a:ext cx="4876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4191120" y="41911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 txBox="1"/>
          <p:nvPr/>
        </p:nvSpPr>
        <p:spPr>
          <a:xfrm>
            <a:off x="776160" y="192240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903840" y="1922400"/>
            <a:ext cx="576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39680" y="2554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254016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01880" y="232560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808280" y="2554200"/>
            <a:ext cx="1871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3149640"/>
            <a:ext cx="312444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36800" y="316404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0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19280" y="2935440"/>
            <a:ext cx="22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OPTIONAL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587600" y="3164040"/>
            <a:ext cx="246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 OPTIONAL state transi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32120" y="377352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37591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249200" y="3544920"/>
            <a:ext cx="284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 state transition without associated 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te Machine N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26668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91320" y="2666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19112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189320" y="27068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25920" y="23256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84600" y="2706840"/>
            <a:ext cx="1193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 w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 to sel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9112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484960" y="4281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98680" y="3925800"/>
            <a:ext cx="2043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transition arrow from X2 to X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crosses, but does not enter, X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311560"/>
            <a:ext cx="0" cy="21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649840" y="1922400"/>
            <a:ext cx="590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3581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89320" y="362124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X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78200" y="3240000"/>
            <a:ext cx="10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s caus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54440" y="3621240"/>
            <a:ext cx="1054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s associa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state tran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4781520" y="2376360"/>
            <a:ext cx="1730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NAV(aCFP_Max_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60480" y="6993000"/>
            <a:ext cx="3222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TSF := Max((T_TSF * !F_Assoc),(mrTs + mOffset)), mSndBcn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Traffic := mrTIM[0] | mrTIM[mSID], LoadNAV(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F_Awake := !F_PSM | (mTraffic !=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beacon, DTIM, CFP and F_CFavail  settings from mrMS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903240" y="3214800"/>
            <a:ext cx="1617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LoadNAV(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2), 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5013360" y="5729400"/>
            <a:ext cx="137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Awake, 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572000" y="1295280"/>
            <a:ext cx="0" cy="6858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477120" y="1447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572000" y="2133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45000" y="1461960"/>
            <a:ext cx="19400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!F_Asso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1, F_DTIM := F_Assoc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 F_CFavail, Clear(F_BC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:=(mCFPcnt=aCFP_Interva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362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362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4572000" y="2971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4638600" y="2147760"/>
            <a:ext cx="185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CFavail &amp; (T_CFDR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572000" y="3200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4572000" y="35812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5275440" y="2986200"/>
            <a:ext cx="57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7712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572000" y="4343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4572000" y="4800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556160" y="4129200"/>
            <a:ext cx="2016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1) &amp; (!F_Mbusy) &amp; (NAV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6120" y="4357800"/>
            <a:ext cx="18003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nDly := T_BCN – ( aSlot_Time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(aCW_Min * Random(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11520" y="5500800"/>
            <a:ext cx="2104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&amp; (T_Awake=L_Awake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4773600" y="382428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5214960" y="359568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4533840" y="1461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1838160" y="1157400"/>
            <a:ext cx="1506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Fal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901800" y="1386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4572000" y="1447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5305320" y="1233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4165560" y="906480"/>
            <a:ext cx="816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477120" y="3200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572000" y="38098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4572000" y="4114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47712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477120" y="5715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72000" y="5715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33840" y="57294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4572000" y="5943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914400" y="17524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914400" y="12952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mrType = (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7712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572000" y="78487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30600" y="64911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572000" y="80773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4530600" y="6033960"/>
            <a:ext cx="1916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Addr2 != 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530600" y="78627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5013360" y="6491160"/>
            <a:ext cx="1407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717480" y="3649680"/>
            <a:ext cx="1306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1058760" y="4662360"/>
            <a:ext cx="352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mrType = { Authentication | Deauthentication 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2701800" y="420516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946080" y="54244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complete) | (auth req compete/ad–hoc) | (deauth pro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67816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990720" y="65530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90720" y="6553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038240" y="6338880"/>
            <a:ext cx="3417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Probe Request) &amp; (mSndBcn = 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4059360" y="61102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963720" y="65674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72000" y="6477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4572000" y="68580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477120" y="6477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 txBox="1"/>
          <p:nvPr/>
        </p:nvSpPr>
        <p:spPr>
          <a:xfrm>
            <a:off x="1474920" y="5653080"/>
            <a:ext cx="2387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service state based on sequence and resul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955800" y="1386000"/>
            <a:ext cx="3668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P, F_PC, F_Assoc, CF_Avail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_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Reset(T_CFDR), mDTIMcnt :=0, Clear(F_DTIM), SeqNum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SM :=aPower_Save_Mode, Set(F_Awake), L_Awake := &lt;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SCAN, aCurrent_BSS_ID := 0, (reset service state &amp; 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29160" y="237636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453564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4529160" y="38242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4533840" y="4357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4572000" y="50292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572000" y="54864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4621320" y="4815000"/>
            <a:ext cx="1886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ndBcn = 2) &amp; (T_BCN = mBcnDl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4608360" y="5043600"/>
            <a:ext cx="1874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3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47712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45385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990720" y="754380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990720" y="70102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90720" y="7010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719280" y="6796080"/>
            <a:ext cx="390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mrTs) &amp; (mrType=Beacon) &amp; (mrAddr2=aCu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4073400" y="70246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p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990720" y="80010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990720" y="777240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990720" y="7772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781520" y="687240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Traffic = 1) &amp; F_P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078440" y="7786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r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48240" y="7101000"/>
            <a:ext cx="1932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S–Poll, m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rrent_BSS_ID,mSID), mTraffic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666880" y="2438280"/>
            <a:ext cx="0" cy="1752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2666880" y="2514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9144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443320" y="2201760"/>
            <a:ext cx="755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2 – Sc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4100400" y="252900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336840" y="2300400"/>
            <a:ext cx="1100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759040" y="2529000"/>
            <a:ext cx="134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Pr1), Set(F_Pr2)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171520" y="26049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835200" y="2224080"/>
            <a:ext cx="1839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{ Beacon | Probe Resp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909720" y="2604960"/>
            <a:ext cx="15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list of known AP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cord capability &amp; PHY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91440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144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914400" y="32004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173320" y="321480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914400" y="3657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1017720" y="290988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r1 ^ F_Pr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ore channels to sca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666880" y="31240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625840" y="3138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41972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666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2711520" y="2700360"/>
            <a:ext cx="1424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DIFS) &amp; F_Pr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>
            <a:off x="2666880" y="38862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2625840" y="390060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043080" y="3900600"/>
            <a:ext cx="14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Pr1),Restart(T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3886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666880" y="41148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2894040" y="3595680"/>
            <a:ext cx="1379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can_Mode = ACTIV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F_Mbusy &amp; (T_Pr1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914400" y="388620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914400" y="4038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2714760" y="3138480"/>
            <a:ext cx="1736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ques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DU), Enqueue(mMSDU,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Probe1),Clear(F_P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1023840" y="3824280"/>
            <a:ext cx="1612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sponder selected @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2197080" y="405288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278000" y="4433760"/>
            <a:ext cx="333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 mMSDU, mrAddr2), Enqueue(m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1163520" y="4052880"/>
            <a:ext cx="102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can_State := nu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4419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876240" y="443376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914400" y="4876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4102200" y="4890960"/>
            <a:ext cx="48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914400" y="5638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873000" y="51958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4886280" y="3214800"/>
            <a:ext cx="165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:=0,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Awake), Set(F_Awak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4541760" y="71010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4572000" y="70866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4572000" y="754380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477120" y="7086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1052640" y="7558200"/>
            <a:ext cx="308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Disassociation) &amp; 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009800" y="7786800"/>
            <a:ext cx="2712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Assoc), set service state =2, aScan_State := SC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4114800" y="7467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7467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990720" y="63244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1279440" y="6110280"/>
            <a:ext cx="278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ssoc := (mrStatus = 0), (if successful set service state =3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403280" y="5195880"/>
            <a:ext cx="3141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 Req, mMSDU, mLength), Enqueue(mMSDU, 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 txBox="1"/>
          <p:nvPr/>
        </p:nvSpPr>
        <p:spPr>
          <a:xfrm>
            <a:off x="1206360" y="5881680"/>
            <a:ext cx="292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, , ) &amp; (mrType = Association Respon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1365120" y="4967280"/>
            <a:ext cx="2455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 resp seq successful/infrastructure) &amp; !F_Asso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878040" y="5653080"/>
            <a:ext cx="528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90720" y="6095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990720" y="6095880"/>
            <a:ext cx="3581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073400" y="6567480"/>
            <a:ext cx="53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:1n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4772160" y="2522520"/>
            <a:ext cx="169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CFDR := aCFP_Max_Dura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CFDR), UpdatePollList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4859280" y="5348160"/>
            <a:ext cx="1527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, hea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826160" y="5958000"/>
            <a:ext cx="1590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DTIM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p(T_Awake), mPSawake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1182600" y="1386000"/>
            <a:ext cx="333864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AP), F_PC := (aCF_Max_Duration != 0), Restart(T_TS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_BCN := aBeacon_Interval, Restart(T_BCN), L_Dwell := aDwellTime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Dwell), L_Slot := aSlot_Time, Restart(T_Slot), mCFP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, F_DTIM), Reset(T_CFDR), 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:= 0, Set(F_PSawake), (clear power save and association info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vail := F_PC, (inform distribution system that this BSS is presen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400800" y="12952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4572000" y="2209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4533840" y="1309680"/>
            <a:ext cx="187488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+= 1, F_DTIM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TIM = aDTIM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CFPcnt +=1,F_CFP:=(T_CFDR !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mCFPcnt = aCFP_Interva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Beacon, 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TIM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914400" y="13716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400800" y="320040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4572000" y="25146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 flipH="1">
            <a:off x="4572000" y="29718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730760" y="2300400"/>
            <a:ext cx="16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572000" y="3886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4572000" y="4572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4854600" y="3672000"/>
            <a:ext cx="1415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TIM &amp; (mPS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672080" y="3900600"/>
            <a:ext cx="174960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IMcn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DTIM(mMSDU, m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c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Awake := &lt; station awake time &gt;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Awake), mPSawake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400800" y="4800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H="1">
            <a:off x="4572000" y="5715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5180040" y="5119560"/>
            <a:ext cx="766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dBcn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4729320" y="5729400"/>
            <a:ext cx="167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PSawake = 1) &amp; (T_Awake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4773600" y="4815000"/>
            <a:ext cx="170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PHY to next channe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.CCARESET, Clear(F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5214960" y="4586400"/>
            <a:ext cx="546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Dwe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59400" y="13096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843200" y="1157400"/>
            <a:ext cx="1495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cting_as_AP_Status = Tr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876240" y="1386000"/>
            <a:ext cx="533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0:1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60480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572000" y="12952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4836960" y="1081080"/>
            <a:ext cx="1297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CN &amp; (mSndBcn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316400" y="906480"/>
            <a:ext cx="9716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1 – AP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56160" y="25290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400800" y="3886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4556160" y="39006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57200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60840" y="48150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4572000" y="5105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4565520" y="53481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6400800" y="5334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640080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4572000" y="5943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4559400" y="59580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H="1">
            <a:off x="4572000" y="62485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914400" y="182880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914400" y="12952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704880" y="2735280"/>
            <a:ext cx="1179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2 – Assoc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5218200" y="7862760"/>
            <a:ext cx="96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mr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4606920" y="755820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any othe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400800" y="7848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0" y="78487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4567320" y="725328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j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4572000" y="807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914400" y="3429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914400" y="31240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530600" y="694836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556160" y="78627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k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 txBox="1"/>
          <p:nvPr/>
        </p:nvSpPr>
        <p:spPr>
          <a:xfrm>
            <a:off x="4606920" y="6338880"/>
            <a:ext cx="1916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m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5089680" y="7253280"/>
            <a:ext cx="1407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 mrCF_dur_rem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5132520" y="664380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949560" y="313848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1096920" y="2909880"/>
            <a:ext cx="3449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2971800"/>
            <a:ext cx="0" cy="3581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914400" y="41911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14400" y="4495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973080" y="3976560"/>
            <a:ext cx="3546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Reassociation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1378080" y="5805360"/>
            <a:ext cx="319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Dis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685800" y="6697800"/>
            <a:ext cx="13701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3 – Authent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914400" y="6934320"/>
            <a:ext cx="0" cy="1218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914400" y="7010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914400" y="73152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178000" y="6719760"/>
            <a:ext cx="2359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rType = { Authentication | Deauthentication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1209600" y="3443400"/>
            <a:ext cx="3381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ssociation Response, mMSDU, mrAddr2,mrSI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nd set service state =3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 &amp; PSM set up to buffer and indicate traffic by assigned S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901800" y="34434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1984320" y="321480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946680" y="42051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1940040" y="428148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association request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1130400" y="4510080"/>
            <a:ext cx="3387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Reassociation Response, mMSDU,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 TXq), (update association info for 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successful, inform distribution system about reassociation of mrAddr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898560" y="4510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1214280" y="49672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about association/reassoci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914400" y="54864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914400" y="5181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951360" y="519588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1598760" y="5272200"/>
            <a:ext cx="22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otification from distribution system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1525680" y="6338880"/>
            <a:ext cx="305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emove association for mrAddr2, set service state =2, inform D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f PSM reclaim buffers and stop buffering and indicating traffi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400800" y="6629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4572000" y="6629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>
            <a:off x="4572000" y="68580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4556160" y="664380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h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3240" y="5500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1565280" y="5500800"/>
            <a:ext cx="266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pdate association information &amp; reply to DS as nee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914400" y="60199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914400" y="63244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2095560" y="6110280"/>
            <a:ext cx="1298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isassociation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898560" y="63388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2:1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975120" y="70246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901800" y="7329600"/>
            <a:ext cx="635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1863720" y="7101000"/>
            <a:ext cx="16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1512720" y="7329600"/>
            <a:ext cx="307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Authentication,mMSDU,m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MSDU,TXq), (if successful, set service state =2, els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14400" y="79246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898560" y="793908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3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1812960" y="771048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authentication frame process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26668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914400" y="243828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91440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1370160" y="2224080"/>
            <a:ext cx="321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mrMSDU, mrLng, mrDir, ) &amp; (mrType = Probe Reque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932280" y="2452680"/>
            <a:ext cx="669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m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887400" y="2452680"/>
            <a:ext cx="3108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(Probe Resp,mMSDU,mrAddr2), Enqueue(m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572000" y="7238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4572000" y="7467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400800" y="7238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2139840" y="7939080"/>
            <a:ext cx="105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t service state =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4683240" y="3290760"/>
            <a:ext cx="1752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PSframes(cfp, head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CFparms(mMSDU, m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4791240" y="2986200"/>
            <a:ext cx="17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F_PC &amp; (T_CFDR !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572000" y="320040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572000" y="3581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6400800" y="251460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4560840" y="3214800"/>
            <a:ext cx="630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946680" y="6033960"/>
            <a:ext cx="641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11:12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4572000" y="1143000"/>
            <a:ext cx="0" cy="7010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9380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979640" y="906480"/>
            <a:ext cx="1225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990960" y="906480"/>
            <a:ext cx="8571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Bo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990720" y="1295280"/>
            <a:ext cx="0" cy="4496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990720" y="16905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2565360" y="1766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2792520" y="1386000"/>
            <a:ext cx="1430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WEP &amp; (tType != Data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25909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990720" y="1676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1103400" y="1461960"/>
            <a:ext cx="1454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tMPDU, t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1330200" y="1690560"/>
            <a:ext cx="11523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TxDone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0hFFFFFF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2590920" y="1752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419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248520" y="20574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>
            <a:off x="4419720" y="27432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4419720" y="20718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4762440" y="2071800"/>
            <a:ext cx="14479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MDP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MPDU[tOctet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4933800" y="18432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2004840" y="4487760"/>
            <a:ext cx="1176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 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5909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962520" y="5348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2670120" y="5119560"/>
            <a:ext cx="1673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 &amp; tOctet = 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2778120" y="5348160"/>
            <a:ext cx="1152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END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990720" y="5181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 txBox="1"/>
          <p:nvPr/>
        </p:nvSpPr>
        <p:spPr>
          <a:xfrm>
            <a:off x="2133720" y="5195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1276200" y="496728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1243080" y="5195880"/>
            <a:ext cx="870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TxDon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5108400" y="3824280"/>
            <a:ext cx="90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t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 txBox="1"/>
          <p:nvPr/>
        </p:nvSpPr>
        <p:spPr>
          <a:xfrm>
            <a:off x="3922560" y="4487760"/>
            <a:ext cx="99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CR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4419720" y="48769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 flipH="1">
            <a:off x="4419720" y="4952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 flipH="1">
            <a:off x="4419720" y="40384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248520" y="4038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4419720" y="5257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6248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4419720" y="5638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 txBox="1"/>
          <p:nvPr/>
        </p:nvSpPr>
        <p:spPr>
          <a:xfrm>
            <a:off x="4419720" y="52722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4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 txBox="1"/>
          <p:nvPr/>
        </p:nvSpPr>
        <p:spPr>
          <a:xfrm>
            <a:off x="4811760" y="52722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Crc[tOctet] ), 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4933800" y="504360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 txBox="1"/>
          <p:nvPr/>
        </p:nvSpPr>
        <p:spPr>
          <a:xfrm>
            <a:off x="4419720" y="405288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4768920" y="4052880"/>
            <a:ext cx="1434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:= 0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rc := tCrc ^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 txBox="1"/>
          <p:nvPr/>
        </p:nvSpPr>
        <p:spPr>
          <a:xfrm>
            <a:off x="1920960" y="2887560"/>
            <a:ext cx="1338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 Timestam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590920" y="32767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1143000" y="350532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1143000" y="3505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143000" y="4114800"/>
            <a:ext cx="14461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 txBox="1"/>
          <p:nvPr/>
        </p:nvSpPr>
        <p:spPr>
          <a:xfrm>
            <a:off x="2155680" y="35193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1093680" y="3519360"/>
            <a:ext cx="1469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tCrc, tTs[(tOctet–24)] 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1200240" y="3290760"/>
            <a:ext cx="1106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confi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2590920" y="3657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2590920" y="4191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 txBox="1"/>
          <p:nvPr/>
        </p:nvSpPr>
        <p:spPr>
          <a:xfrm>
            <a:off x="2778120" y="3214800"/>
            <a:ext cx="1608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24  &amp;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FrameType = ProbeResponse 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FrameType = Beac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 txBox="1"/>
          <p:nvPr/>
        </p:nvSpPr>
        <p:spPr>
          <a:xfrm>
            <a:off x="2762280" y="3672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Ts := T_TSF + tOffs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3962520" y="367200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97080" y="3976560"/>
            <a:ext cx="665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ctet = 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 txBox="1"/>
          <p:nvPr/>
        </p:nvSpPr>
        <p:spPr>
          <a:xfrm>
            <a:off x="2590920" y="4205160"/>
            <a:ext cx="4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3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590920" y="24382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3035160" y="2452680"/>
            <a:ext cx="14000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rypt(tMPDU, t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 txBox="1"/>
          <p:nvPr/>
        </p:nvSpPr>
        <p:spPr>
          <a:xfrm>
            <a:off x="3035160" y="1766880"/>
            <a:ext cx="1400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PLCPlength := tLength + 4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TXSTART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2590920" y="1295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4419720" y="144792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 txBox="1"/>
          <p:nvPr/>
        </p:nvSpPr>
        <p:spPr>
          <a:xfrm>
            <a:off x="2779560" y="2224080"/>
            <a:ext cx="130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 (tType = Dat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 txBox="1"/>
          <p:nvPr/>
        </p:nvSpPr>
        <p:spPr>
          <a:xfrm>
            <a:off x="2565360" y="24526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 txBox="1"/>
          <p:nvPr/>
        </p:nvSpPr>
        <p:spPr>
          <a:xfrm>
            <a:off x="4543560" y="5475240"/>
            <a:ext cx="1420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 &amp; 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rDuration &lt; 0h8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 txBox="1"/>
          <p:nvPr/>
        </p:nvSpPr>
        <p:spPr>
          <a:xfrm>
            <a:off x="681120" y="90648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 txBox="1"/>
          <p:nvPr/>
        </p:nvSpPr>
        <p:spPr>
          <a:xfrm>
            <a:off x="2013120" y="90648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 txBox="1"/>
          <p:nvPr/>
        </p:nvSpPr>
        <p:spPr>
          <a:xfrm>
            <a:off x="2870280" y="906480"/>
            <a:ext cx="11192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ity De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152960" y="906480"/>
            <a:ext cx="992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 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 txBox="1"/>
          <p:nvPr/>
        </p:nvSpPr>
        <p:spPr>
          <a:xfrm>
            <a:off x="5699160" y="906480"/>
            <a:ext cx="6429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990720" y="1295280"/>
            <a:ext cx="0" cy="10670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2209680" y="12952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990720" y="14479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 txBox="1"/>
          <p:nvPr/>
        </p:nvSpPr>
        <p:spPr>
          <a:xfrm>
            <a:off x="988920" y="14619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1008000" y="1995480"/>
            <a:ext cx="1189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990720" y="2209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 txBox="1"/>
          <p:nvPr/>
        </p:nvSpPr>
        <p:spPr>
          <a:xfrm>
            <a:off x="1751040" y="22240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 txBox="1"/>
          <p:nvPr/>
        </p:nvSpPr>
        <p:spPr>
          <a:xfrm>
            <a:off x="995400" y="123336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429000" y="129528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209680" y="15238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3429000" y="16765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648320" y="1295280"/>
            <a:ext cx="0" cy="1981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4832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019920" y="144792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220824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1006560" y="1461960"/>
            <a:ext cx="1214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RST.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2209680" y="213372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 txBox="1"/>
          <p:nvPr/>
        </p:nvSpPr>
        <p:spPr>
          <a:xfrm>
            <a:off x="2970360" y="21477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2211480" y="2147760"/>
            <a:ext cx="9320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2160720" y="1309680"/>
            <a:ext cx="1320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3427560" y="1690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416088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508200" y="1690560"/>
            <a:ext cx="11397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c := 0hFFFFFF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4648320" y="21337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57913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H="1">
            <a:off x="4648320" y="2590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4618080" y="21477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4705200" y="1843200"/>
            <a:ext cx="1106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DATA.indic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[rOctet]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851360" y="2147760"/>
            <a:ext cx="9684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C(rCrc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PDU[rOctet] 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4743360" y="2757600"/>
            <a:ext cx="1181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END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464652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6019920" y="5334120"/>
            <a:ext cx="0" cy="2514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2209680" y="35812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H="1">
            <a:off x="4419720" y="63244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971800" y="54864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386160" y="1309680"/>
            <a:ext cx="1305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RXSTART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Vect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 txBox="1"/>
          <p:nvPr/>
        </p:nvSpPr>
        <p:spPr>
          <a:xfrm>
            <a:off x="2790720" y="290988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2182680" y="1919160"/>
            <a:ext cx="1276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1066680" y="3048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106668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066680" y="36576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175104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1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 txBox="1"/>
          <p:nvPr/>
        </p:nvSpPr>
        <p:spPr>
          <a:xfrm>
            <a:off x="2533680" y="1538280"/>
            <a:ext cx="906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963720" y="2712960"/>
            <a:ext cx="127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_CCA.indicate(Id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_Busy &gt;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992160" y="3062160"/>
            <a:ext cx="9572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lear(F_M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4648320" y="14479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5791320" y="1447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464832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 txBox="1"/>
          <p:nvPr/>
        </p:nvSpPr>
        <p:spPr>
          <a:xfrm>
            <a:off x="4621320" y="1461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5072040" y="1233360"/>
            <a:ext cx="676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= 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5019840" y="1461960"/>
            <a:ext cx="78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s := T_TS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22096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5578560" y="494496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 NA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3894120" y="4335480"/>
            <a:ext cx="1055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e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 txBox="1"/>
          <p:nvPr/>
        </p:nvSpPr>
        <p:spPr>
          <a:xfrm>
            <a:off x="1747800" y="6087960"/>
            <a:ext cx="620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y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 txBox="1"/>
          <p:nvPr/>
        </p:nvSpPr>
        <p:spPr>
          <a:xfrm>
            <a:off x="2427120" y="5097600"/>
            <a:ext cx="1090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 Duplic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2287440" y="3138480"/>
            <a:ext cx="1990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Clear(F_Mbusy), Tally()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2209680" y="4038480"/>
            <a:ext cx="38102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1641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 txBox="1"/>
          <p:nvPr/>
        </p:nvSpPr>
        <p:spPr>
          <a:xfrm>
            <a:off x="3048120" y="2452680"/>
            <a:ext cx="1522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 &gt; aMax_Frame_Leng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209680" y="26668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2973240" y="26812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 txBox="1"/>
          <p:nvPr/>
        </p:nvSpPr>
        <p:spPr>
          <a:xfrm>
            <a:off x="3627360" y="3367080"/>
            <a:ext cx="2347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!= No_Error) | (rOctet != rPLCP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5535720" y="3595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3125880" y="3595680"/>
            <a:ext cx="1166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 txBox="1"/>
          <p:nvPr/>
        </p:nvSpPr>
        <p:spPr>
          <a:xfrm>
            <a:off x="5532480" y="4052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 txBox="1"/>
          <p:nvPr/>
        </p:nvSpPr>
        <p:spPr>
          <a:xfrm>
            <a:off x="2406600" y="3824280"/>
            <a:ext cx="35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 = No_Error) &amp; ( (rCrc != 0hC704DD7B) | (rProtocol_Version !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3125880" y="4052880"/>
            <a:ext cx="2274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, UpdNAV( * see notes * 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548640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486400" y="4648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486400" y="5410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5560920" y="4662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 txBox="1"/>
          <p:nvPr/>
        </p:nvSpPr>
        <p:spPr>
          <a:xfrm>
            <a:off x="4815000" y="4281480"/>
            <a:ext cx="1252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Crc =0hC704DD7B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xError= No_Erro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>
            <a:off x="4419720" y="7696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4419720" y="68580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H="1">
            <a:off x="205740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971800" y="57150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22096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762120" y="57913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5532480" y="6338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 txBox="1"/>
          <p:nvPr/>
        </p:nvSpPr>
        <p:spPr>
          <a:xfrm>
            <a:off x="4822920" y="6110280"/>
            <a:ext cx="104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lt; 0h8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 txBox="1"/>
          <p:nvPr/>
        </p:nvSpPr>
        <p:spPr>
          <a:xfrm>
            <a:off x="4505400" y="6338880"/>
            <a:ext cx="1098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a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 txBox="1"/>
          <p:nvPr/>
        </p:nvSpPr>
        <p:spPr>
          <a:xfrm>
            <a:off x="4513320" y="7481880"/>
            <a:ext cx="1123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uration &gt;= 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4487760" y="7710480"/>
            <a:ext cx="11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rDurPs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 txBox="1"/>
          <p:nvPr/>
        </p:nvSpPr>
        <p:spPr>
          <a:xfrm>
            <a:off x="553716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 txBox="1"/>
          <p:nvPr/>
        </p:nvSpPr>
        <p:spPr>
          <a:xfrm>
            <a:off x="5537160" y="68724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4486320" y="6567480"/>
            <a:ext cx="1611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 &amp; ThisBSS(rMPDU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0h8000&lt;= rDuration &lt;0hC0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2028960" y="7024680"/>
            <a:ext cx="2414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Addr1 = Broadcast_Address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 = {aGroup_Addresses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romiscuous_Status = true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isBSS(rMPDU) &amp; (rAddr3 !=aMAC_Address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3024360" y="6567480"/>
            <a:ext cx="8748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ype = Bea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 txBox="1"/>
          <p:nvPr/>
        </p:nvSpPr>
        <p:spPr>
          <a:xfrm>
            <a:off x="3049560" y="542448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3073320" y="5958000"/>
            <a:ext cx="1387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oDS = 1) &amp; 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Addr1=aMAC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2963880" y="4662360"/>
            <a:ext cx="841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alid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 txBox="1"/>
          <p:nvPr/>
        </p:nvSpPr>
        <p:spPr>
          <a:xfrm>
            <a:off x="3954600" y="4878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973240" y="4890960"/>
            <a:ext cx="822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Busy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 txBox="1"/>
          <p:nvPr/>
        </p:nvSpPr>
        <p:spPr>
          <a:xfrm>
            <a:off x="3935520" y="57294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 flipH="1">
            <a:off x="2057400" y="7620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 txBox="1"/>
          <p:nvPr/>
        </p:nvSpPr>
        <p:spPr>
          <a:xfrm>
            <a:off x="3252960" y="572940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2363760" y="75963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3932280" y="6262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 flipH="1">
            <a:off x="2971800" y="624852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 txBox="1"/>
          <p:nvPr/>
        </p:nvSpPr>
        <p:spPr>
          <a:xfrm>
            <a:off x="3252960" y="6262560"/>
            <a:ext cx="569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 txBox="1"/>
          <p:nvPr/>
        </p:nvSpPr>
        <p:spPr>
          <a:xfrm>
            <a:off x="3932280" y="759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3933720" y="67960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8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438280" y="6324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1722600" y="5576760"/>
            <a:ext cx="1190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(rMPDU)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 txBox="1"/>
          <p:nvPr/>
        </p:nvSpPr>
        <p:spPr>
          <a:xfrm>
            <a:off x="2513160" y="5805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9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 txBox="1"/>
          <p:nvPr/>
        </p:nvSpPr>
        <p:spPr>
          <a:xfrm>
            <a:off x="2317680" y="6033960"/>
            <a:ext cx="760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pFil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)=1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2438280" y="6324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2057400" y="6629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762120" y="44197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762120" y="51055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513160" y="63388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7:8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44520" y="6948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WEP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 txBox="1"/>
          <p:nvPr/>
        </p:nvSpPr>
        <p:spPr>
          <a:xfrm>
            <a:off x="925560" y="7253280"/>
            <a:ext cx="1155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WE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=1) &amp; (Decry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MPDU,rOctet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62120" y="7696080"/>
            <a:ext cx="12952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762120" y="6705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836640" y="6033960"/>
            <a:ext cx="97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WEP = 1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WEP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rWEP=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crypt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tet) = 0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82760" y="3726000"/>
            <a:ext cx="565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762120" y="4267080"/>
            <a:ext cx="0" cy="358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 flipH="1">
            <a:off x="762120" y="71629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 txBox="1"/>
          <p:nvPr/>
        </p:nvSpPr>
        <p:spPr>
          <a:xfrm>
            <a:off x="1573200" y="6719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 txBox="1"/>
          <p:nvPr/>
        </p:nvSpPr>
        <p:spPr>
          <a:xfrm>
            <a:off x="1569960" y="7176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574640" y="77104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8:9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735120" y="44337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2057400" y="64771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1092240" y="4433760"/>
            <a:ext cx="11397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ctet–4), rDir, rTs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2192400" y="6796080"/>
            <a:ext cx="177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 0, UpdNAV(rCF_Dur_Re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941400" y="67197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779480" y="58053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 txBox="1"/>
          <p:nvPr/>
        </p:nvSpPr>
        <p:spPr>
          <a:xfrm>
            <a:off x="1017720" y="4205160"/>
            <a:ext cx="62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!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731880" y="5119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9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1035000" y="48909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ir 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1162080" y="5119560"/>
            <a:ext cx="9828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et(T_Tbusy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rAddr2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4419720" y="5029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441972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53341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441792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4371840" y="4713120"/>
            <a:ext cx="115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Type={any CFack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hisBSS(rMPDU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4581360" y="5195880"/>
            <a:ext cx="7873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419720" y="4724280"/>
            <a:ext cx="0" cy="31244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4419720" y="57913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 txBox="1"/>
          <p:nvPr/>
        </p:nvSpPr>
        <p:spPr>
          <a:xfrm>
            <a:off x="4505400" y="5805360"/>
            <a:ext cx="116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NAV(rDuration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 txBox="1"/>
          <p:nvPr/>
        </p:nvSpPr>
        <p:spPr>
          <a:xfrm>
            <a:off x="5535720" y="5805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4429080" y="687240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NAV(aCF_Max_Du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45000" y="7176960"/>
            <a:ext cx="1492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h8000&lt;= rDuration &lt;0hC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4419720" y="73915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5532480" y="7405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5:6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y Popular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523880" y="2209680"/>
            <a:ext cx="1828800" cy="1828800"/>
            <a:chOff x="1523880" y="2209680"/>
            <a:chExt cx="1828800" cy="1828800"/>
          </a:xfrm>
        </p:grpSpPr>
        <p:sp>
          <p:nvSpPr>
            <p:cNvPr id="1192" name=""/>
            <p:cNvSpPr/>
            <p:nvPr/>
          </p:nvSpPr>
          <p:spPr>
            <a:xfrm>
              <a:off x="152388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9868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414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41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59704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35908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4343400" y="2209680"/>
            <a:ext cx="1828800" cy="1828800"/>
            <a:chOff x="4343400" y="2209680"/>
            <a:chExt cx="1828800" cy="1828800"/>
          </a:xfrm>
        </p:grpSpPr>
        <p:sp>
          <p:nvSpPr>
            <p:cNvPr id="1199" name=""/>
            <p:cNvSpPr/>
            <p:nvPr/>
          </p:nvSpPr>
          <p:spPr>
            <a:xfrm>
              <a:off x="4343400" y="22096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21820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462"/>
                  </a:moveTo>
                  <a:lnTo>
                    <a:pt x="0" y="462"/>
                  </a:lnTo>
                  <a:cubicBezTo>
                    <a:pt x="272" y="462"/>
                    <a:pt x="539" y="441"/>
                    <a:pt x="775" y="400"/>
                  </a:cubicBezTo>
                  <a:cubicBezTo>
                    <a:pt x="1010" y="360"/>
                    <a:pt x="1206" y="301"/>
                    <a:pt x="1341" y="231"/>
                  </a:cubicBezTo>
                  <a:cubicBezTo>
                    <a:pt x="1477" y="161"/>
                    <a:pt x="1549" y="81"/>
                    <a:pt x="1549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660920" y="345672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0" y="0"/>
                  </a:moveTo>
                  <a:lnTo>
                    <a:pt x="0" y="0"/>
                  </a:lnTo>
                  <a:cubicBezTo>
                    <a:pt x="0" y="81"/>
                    <a:pt x="72" y="161"/>
                    <a:pt x="208" y="231"/>
                  </a:cubicBezTo>
                  <a:cubicBezTo>
                    <a:pt x="343" y="301"/>
                    <a:pt x="539" y="360"/>
                    <a:pt x="775" y="400"/>
                  </a:cubicBezTo>
                  <a:cubicBezTo>
                    <a:pt x="1010" y="441"/>
                    <a:pt x="1277" y="462"/>
                    <a:pt x="1549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6108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416560" y="28749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178600" y="31240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"/>
          <p:cNvSpPr/>
          <p:nvPr/>
        </p:nvSpPr>
        <p:spPr>
          <a:xfrm>
            <a:off x="3352680" y="3048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6" name=""/>
          <p:cNvGrpSpPr/>
          <p:nvPr/>
        </p:nvGrpSpPr>
        <p:grpSpPr>
          <a:xfrm>
            <a:off x="2971800" y="4952880"/>
            <a:ext cx="1828800" cy="1828800"/>
            <a:chOff x="2971800" y="4952880"/>
            <a:chExt cx="1828800" cy="1828800"/>
          </a:xfrm>
        </p:grpSpPr>
        <p:sp>
          <p:nvSpPr>
            <p:cNvPr id="1207" name=""/>
            <p:cNvSpPr/>
            <p:nvPr/>
          </p:nvSpPr>
          <p:spPr>
            <a:xfrm>
              <a:off x="2971800" y="4952880"/>
              <a:ext cx="1828800" cy="18288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4660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462"/>
                  </a:moveTo>
                  <a:lnTo>
                    <a:pt x="1549" y="462"/>
                  </a:lnTo>
                  <a:lnTo>
                    <a:pt x="1549" y="462"/>
                  </a:lnTo>
                  <a:cubicBezTo>
                    <a:pt x="1549" y="381"/>
                    <a:pt x="1477" y="301"/>
                    <a:pt x="1341" y="231"/>
                  </a:cubicBezTo>
                  <a:cubicBezTo>
                    <a:pt x="1206" y="161"/>
                    <a:pt x="1010" y="102"/>
                    <a:pt x="774" y="62"/>
                  </a:cubicBezTo>
                  <a:cubicBezTo>
                    <a:pt x="539" y="21"/>
                    <a:pt x="272" y="0"/>
                    <a:pt x="0" y="0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89320" y="6197760"/>
              <a:ext cx="557640" cy="166320"/>
            </a:xfrm>
            <a:custGeom>
              <a:avLst/>
              <a:gdLst/>
              <a:ahLst/>
              <a:rect l="0" t="0" r="r" b="b"/>
              <a:pathLst>
                <a:path fill="none" w="1549" h="462">
                  <a:moveTo>
                    <a:pt x="1549" y="0"/>
                  </a:moveTo>
                  <a:lnTo>
                    <a:pt x="1549" y="0"/>
                  </a:lnTo>
                  <a:cubicBezTo>
                    <a:pt x="1277" y="0"/>
                    <a:pt x="1010" y="21"/>
                    <a:pt x="774" y="62"/>
                  </a:cubicBezTo>
                  <a:cubicBezTo>
                    <a:pt x="539" y="102"/>
                    <a:pt x="343" y="161"/>
                    <a:pt x="208" y="231"/>
                  </a:cubicBezTo>
                  <a:cubicBezTo>
                    <a:pt x="72" y="301"/>
                    <a:pt x="0" y="381"/>
                    <a:pt x="0" y="462"/>
                  </a:cubicBez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48948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044960" y="5618160"/>
              <a:ext cx="158760" cy="123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807000" y="5867280"/>
              <a:ext cx="159120" cy="125640"/>
            </a:xfrm>
            <a:custGeom>
              <a:avLst/>
              <a:gdLst/>
              <a:ahLst/>
              <a:rect l="0" t="0" r="r" b="b"/>
              <a:pathLst>
                <a:path w="442" h="349">
                  <a:moveTo>
                    <a:pt x="0" y="0"/>
                  </a:moveTo>
                  <a:lnTo>
                    <a:pt x="133" y="349"/>
                  </a:lnTo>
                  <a:lnTo>
                    <a:pt x="309" y="349"/>
                  </a:lnTo>
                  <a:lnTo>
                    <a:pt x="44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"/>
          <p:cNvSpPr/>
          <p:nvPr/>
        </p:nvSpPr>
        <p:spPr>
          <a:xfrm flipH="1">
            <a:off x="4267080" y="3962520"/>
            <a:ext cx="60984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 flipH="1">
            <a:off x="2133720" y="5791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21337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33720" y="4724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3276720" y="4724280"/>
            <a:ext cx="22860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2836800" y="7132680"/>
            <a:ext cx="179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nl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smiley fac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914400" y="914400"/>
            <a:ext cx="1523880" cy="35053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81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84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87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828800" y="4572000"/>
            <a:ext cx="1219320" cy="685800"/>
            <a:chOff x="1828800" y="4572000"/>
            <a:chExt cx="1219320" cy="685800"/>
          </a:xfrm>
        </p:grpSpPr>
        <p:sp>
          <p:nvSpPr>
            <p:cNvPr id="90" name=""/>
            <p:cNvSpPr/>
            <p:nvPr/>
          </p:nvSpPr>
          <p:spPr>
            <a:xfrm>
              <a:off x="1828800" y="4572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1835280" y="471636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4114800" y="3657600"/>
            <a:ext cx="1219320" cy="685800"/>
            <a:chOff x="4114800" y="3657600"/>
            <a:chExt cx="1219320" cy="685800"/>
          </a:xfrm>
        </p:grpSpPr>
        <p:sp>
          <p:nvSpPr>
            <p:cNvPr id="93" name=""/>
            <p:cNvSpPr/>
            <p:nvPr/>
          </p:nvSpPr>
          <p:spPr>
            <a:xfrm>
              <a:off x="4114800" y="36576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132440" y="372600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19320" y="5715000"/>
            <a:ext cx="1219320" cy="685800"/>
            <a:chOff x="1219320" y="5715000"/>
            <a:chExt cx="1219320" cy="685800"/>
          </a:xfrm>
        </p:grpSpPr>
        <p:sp>
          <p:nvSpPr>
            <p:cNvPr id="96" name=""/>
            <p:cNvSpPr/>
            <p:nvPr/>
          </p:nvSpPr>
          <p:spPr>
            <a:xfrm>
              <a:off x="121932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1289160" y="585936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666880" y="5715000"/>
            <a:ext cx="1219320" cy="685800"/>
            <a:chOff x="2666880" y="5715000"/>
            <a:chExt cx="1219320" cy="685800"/>
          </a:xfrm>
        </p:grpSpPr>
        <p:sp>
          <p:nvSpPr>
            <p:cNvPr id="99" name=""/>
            <p:cNvSpPr/>
            <p:nvPr/>
          </p:nvSpPr>
          <p:spPr>
            <a:xfrm>
              <a:off x="2666880" y="571500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2757600" y="585936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514600" y="3573360"/>
            <a:ext cx="762480" cy="396720"/>
            <a:chOff x="2514600" y="3573360"/>
            <a:chExt cx="762480" cy="396720"/>
          </a:xfrm>
        </p:grpSpPr>
        <p:sp>
          <p:nvSpPr>
            <p:cNvPr id="102" name=""/>
            <p:cNvSpPr/>
            <p:nvPr/>
          </p:nvSpPr>
          <p:spPr>
            <a:xfrm>
              <a:off x="2514600" y="35812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2529000" y="35733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276720" y="2963880"/>
            <a:ext cx="762480" cy="396720"/>
            <a:chOff x="3276720" y="2963880"/>
            <a:chExt cx="762480" cy="396720"/>
          </a:xfrm>
        </p:grpSpPr>
        <p:sp>
          <p:nvSpPr>
            <p:cNvPr id="105" name=""/>
            <p:cNvSpPr/>
            <p:nvPr/>
          </p:nvSpPr>
          <p:spPr>
            <a:xfrm>
              <a:off x="3276720" y="29718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290760" y="296388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066680" y="3954600"/>
            <a:ext cx="762480" cy="396720"/>
            <a:chOff x="1066680" y="3954600"/>
            <a:chExt cx="762480" cy="396720"/>
          </a:xfrm>
        </p:grpSpPr>
        <p:sp>
          <p:nvSpPr>
            <p:cNvPr id="108" name=""/>
            <p:cNvSpPr/>
            <p:nvPr/>
          </p:nvSpPr>
          <p:spPr>
            <a:xfrm>
              <a:off x="1066680" y="39625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109520" y="39546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00200" y="3268800"/>
            <a:ext cx="762480" cy="396720"/>
            <a:chOff x="1600200" y="3268800"/>
            <a:chExt cx="762480" cy="396720"/>
          </a:xfrm>
        </p:grpSpPr>
        <p:sp>
          <p:nvSpPr>
            <p:cNvPr id="111" name=""/>
            <p:cNvSpPr/>
            <p:nvPr/>
          </p:nvSpPr>
          <p:spPr>
            <a:xfrm>
              <a:off x="1600200" y="32767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92360" y="326880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114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120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19480" y="5029200"/>
            <a:ext cx="896760" cy="465120"/>
            <a:chOff x="4119480" y="5029200"/>
            <a:chExt cx="896760" cy="465120"/>
          </a:xfrm>
        </p:grpSpPr>
        <p:sp>
          <p:nvSpPr>
            <p:cNvPr id="127" name=""/>
            <p:cNvSpPr/>
            <p:nvPr/>
          </p:nvSpPr>
          <p:spPr>
            <a:xfrm>
              <a:off x="4181400" y="5029200"/>
              <a:ext cx="770400" cy="457560"/>
            </a:xfrm>
            <a:custGeom>
              <a:avLst/>
              <a:gdLst/>
              <a:ahLst/>
              <a:rect l="0" t="0" r="r" b="b"/>
              <a:pathLst>
                <a:path w="2140" h="1271">
                  <a:moveTo>
                    <a:pt x="0" y="380"/>
                  </a:moveTo>
                  <a:lnTo>
                    <a:pt x="0" y="890"/>
                  </a:lnTo>
                  <a:lnTo>
                    <a:pt x="642" y="1271"/>
                  </a:lnTo>
                  <a:lnTo>
                    <a:pt x="1498" y="1271"/>
                  </a:lnTo>
                  <a:lnTo>
                    <a:pt x="2140" y="890"/>
                  </a:lnTo>
                  <a:lnTo>
                    <a:pt x="2140" y="380"/>
                  </a:lnTo>
                  <a:lnTo>
                    <a:pt x="1498" y="0"/>
                  </a:lnTo>
                  <a:lnTo>
                    <a:pt x="642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4119480" y="509760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V="1">
            <a:off x="365760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2590920"/>
            <a:ext cx="0" cy="99036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909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362320" y="34290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276720" y="38098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876920" y="2590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198108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981080" y="25909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25909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4343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8006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3352680"/>
            <a:ext cx="0" cy="129564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95480" y="39625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124080"/>
            <a:ext cx="167652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48006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26708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228600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819520" y="5257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817640" y="6850080"/>
            <a:ext cx="1243080" cy="244440"/>
            <a:chOff x="1817640" y="6850080"/>
            <a:chExt cx="1243080" cy="244440"/>
          </a:xfrm>
        </p:grpSpPr>
        <p:sp>
          <p:nvSpPr>
            <p:cNvPr id="153" name=""/>
            <p:cNvSpPr/>
            <p:nvPr/>
          </p:nvSpPr>
          <p:spPr>
            <a:xfrm>
              <a:off x="190512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1817640" y="685008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5740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6400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2578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19520" y="6400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476600" y="6850080"/>
            <a:ext cx="1257480" cy="244440"/>
            <a:chOff x="4476600" y="6850080"/>
            <a:chExt cx="1257480" cy="244440"/>
          </a:xfrm>
        </p:grpSpPr>
        <p:sp>
          <p:nvSpPr>
            <p:cNvPr id="160" name=""/>
            <p:cNvSpPr/>
            <p:nvPr/>
          </p:nvSpPr>
          <p:spPr>
            <a:xfrm>
              <a:off x="4572000" y="685800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4476600" y="685008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02920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181480" y="434340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724280" y="43434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167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133720" y="41148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133720" y="3657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172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048120" y="5181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76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78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0" name=""/>
          <p:cNvSpPr/>
          <p:nvPr/>
        </p:nvSpPr>
        <p:spPr>
          <a:xfrm flipH="1">
            <a:off x="3048120" y="4952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14400" y="914400"/>
            <a:ext cx="1523880" cy="32767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047600" y="990720"/>
            <a:ext cx="1284120" cy="401400"/>
            <a:chOff x="1047600" y="990720"/>
            <a:chExt cx="1284120" cy="401400"/>
          </a:xfrm>
        </p:grpSpPr>
        <p:sp>
          <p:nvSpPr>
            <p:cNvPr id="183" name=""/>
            <p:cNvSpPr/>
            <p:nvPr/>
          </p:nvSpPr>
          <p:spPr>
            <a:xfrm>
              <a:off x="1066680" y="990720"/>
              <a:ext cx="1219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1047600" y="995400"/>
              <a:ext cx="1284120" cy="396720"/>
              <a:chOff x="1047600" y="995400"/>
              <a:chExt cx="1284120" cy="396720"/>
            </a:xfrm>
          </p:grpSpPr>
          <p:sp>
            <p:nvSpPr>
              <p:cNvPr id="185" name=""/>
              <p:cNvSpPr/>
              <p:nvPr/>
            </p:nvSpPr>
            <p:spPr>
              <a:xfrm>
                <a:off x="1231920" y="1384200"/>
                <a:ext cx="9144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1047600" y="995400"/>
                <a:ext cx="1284120" cy="39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red Distribution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yste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1066680" y="1905120"/>
            <a:ext cx="1219320" cy="685800"/>
            <a:chOff x="1066680" y="1905120"/>
            <a:chExt cx="1219320" cy="685800"/>
          </a:xfrm>
        </p:grpSpPr>
        <p:sp>
          <p:nvSpPr>
            <p:cNvPr id="188" name=""/>
            <p:cNvSpPr/>
            <p:nvPr/>
          </p:nvSpPr>
          <p:spPr>
            <a:xfrm>
              <a:off x="106668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115740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stribu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 (DS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590920" y="1905120"/>
            <a:ext cx="1219320" cy="685800"/>
            <a:chOff x="2590920" y="1905120"/>
            <a:chExt cx="1219320" cy="685800"/>
          </a:xfrm>
        </p:grpSpPr>
        <p:sp>
          <p:nvSpPr>
            <p:cNvPr id="191" name=""/>
            <p:cNvSpPr/>
            <p:nvPr/>
          </p:nvSpPr>
          <p:spPr>
            <a:xfrm>
              <a:off x="259092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2681280" y="1973160"/>
              <a:ext cx="10382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Data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 (MD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514600" y="3497400"/>
            <a:ext cx="762480" cy="396720"/>
            <a:chOff x="2514600" y="3497400"/>
            <a:chExt cx="762480" cy="396720"/>
          </a:xfrm>
        </p:grpSpPr>
        <p:sp>
          <p:nvSpPr>
            <p:cNvPr id="194" name=""/>
            <p:cNvSpPr/>
            <p:nvPr/>
          </p:nvSpPr>
          <p:spPr>
            <a:xfrm>
              <a:off x="2514600" y="35053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529000" y="349740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00400" y="2887560"/>
            <a:ext cx="762480" cy="396720"/>
            <a:chOff x="3200400" y="2887560"/>
            <a:chExt cx="762480" cy="396720"/>
          </a:xfrm>
        </p:grpSpPr>
        <p:sp>
          <p:nvSpPr>
            <p:cNvPr id="197" name=""/>
            <p:cNvSpPr/>
            <p:nvPr/>
          </p:nvSpPr>
          <p:spPr>
            <a:xfrm>
              <a:off x="3200400" y="289548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14800" y="2887560"/>
              <a:ext cx="7351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66680" y="3726000"/>
            <a:ext cx="762480" cy="396720"/>
            <a:chOff x="1066680" y="3726000"/>
            <a:chExt cx="762480" cy="396720"/>
          </a:xfrm>
        </p:grpSpPr>
        <p:sp>
          <p:nvSpPr>
            <p:cNvPr id="200" name=""/>
            <p:cNvSpPr/>
            <p:nvPr/>
          </p:nvSpPr>
          <p:spPr>
            <a:xfrm>
              <a:off x="1066680" y="373392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109520" y="3726000"/>
              <a:ext cx="677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om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00200" y="3192480"/>
            <a:ext cx="762480" cy="396720"/>
            <a:chOff x="1600200" y="3192480"/>
            <a:chExt cx="762480" cy="396720"/>
          </a:xfrm>
        </p:grpSpPr>
        <p:sp>
          <p:nvSpPr>
            <p:cNvPr id="203" name=""/>
            <p:cNvSpPr/>
            <p:nvPr/>
          </p:nvSpPr>
          <p:spPr>
            <a:xfrm>
              <a:off x="1600200" y="3200400"/>
              <a:ext cx="762480" cy="381240"/>
            </a:xfrm>
            <a:custGeom>
              <a:avLst/>
              <a:gdLst/>
              <a:ahLst/>
              <a:rect l="0" t="0" r="r" b="b"/>
              <a:pathLst>
                <a:path w="2118" h="1059">
                  <a:moveTo>
                    <a:pt x="0" y="317"/>
                  </a:moveTo>
                  <a:lnTo>
                    <a:pt x="0" y="741"/>
                  </a:lnTo>
                  <a:lnTo>
                    <a:pt x="636" y="1059"/>
                  </a:lnTo>
                  <a:lnTo>
                    <a:pt x="1482" y="1059"/>
                  </a:lnTo>
                  <a:lnTo>
                    <a:pt x="2118" y="741"/>
                  </a:lnTo>
                  <a:lnTo>
                    <a:pt x="2118" y="317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1692360" y="3192480"/>
              <a:ext cx="5796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S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flipV="1">
            <a:off x="487692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4120" y="213372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743200" y="982800"/>
            <a:ext cx="914400" cy="396720"/>
            <a:chOff x="2743200" y="982800"/>
            <a:chExt cx="914400" cy="396720"/>
          </a:xfrm>
        </p:grpSpPr>
        <p:sp>
          <p:nvSpPr>
            <p:cNvPr id="209" name=""/>
            <p:cNvSpPr/>
            <p:nvPr/>
          </p:nvSpPr>
          <p:spPr>
            <a:xfrm>
              <a:off x="274320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840040" y="982800"/>
              <a:ext cx="7207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LC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33526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2388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82880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516480" y="4724280"/>
            <a:ext cx="896760" cy="465120"/>
            <a:chOff x="3516480" y="4724280"/>
            <a:chExt cx="896760" cy="465120"/>
          </a:xfrm>
        </p:grpSpPr>
        <p:sp>
          <p:nvSpPr>
            <p:cNvPr id="216" name=""/>
            <p:cNvSpPr/>
            <p:nvPr/>
          </p:nvSpPr>
          <p:spPr>
            <a:xfrm>
              <a:off x="3581280" y="4724280"/>
              <a:ext cx="762480" cy="457560"/>
            </a:xfrm>
            <a:custGeom>
              <a:avLst/>
              <a:gdLst/>
              <a:ahLst/>
              <a:rect l="0" t="0" r="r" b="b"/>
              <a:pathLst>
                <a:path w="2118" h="1271">
                  <a:moveTo>
                    <a:pt x="0" y="380"/>
                  </a:moveTo>
                  <a:lnTo>
                    <a:pt x="0" y="890"/>
                  </a:lnTo>
                  <a:lnTo>
                    <a:pt x="636" y="1271"/>
                  </a:lnTo>
                  <a:lnTo>
                    <a:pt x="1482" y="1271"/>
                  </a:lnTo>
                  <a:lnTo>
                    <a:pt x="2118" y="890"/>
                  </a:lnTo>
                  <a:lnTo>
                    <a:pt x="2118" y="380"/>
                  </a:lnTo>
                  <a:lnTo>
                    <a:pt x="1482" y="0"/>
                  </a:lnTo>
                  <a:lnTo>
                    <a:pt x="636" y="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3516480" y="4792680"/>
              <a:ext cx="8967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wer Sav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Queue(s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95480" y="2590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2590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2362320" y="3352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276720" y="3733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4876920" y="2590920"/>
            <a:ext cx="0" cy="9144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981080" y="3581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1981080" y="2590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447920" y="2590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114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4343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581280" y="32767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89548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304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48120" y="449568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267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419112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3048120" y="4648320"/>
            <a:ext cx="13716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876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09680" y="4952880"/>
            <a:ext cx="0" cy="4572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819520" y="4952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09680" y="60958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819520" y="609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181480" y="4191120"/>
            <a:ext cx="0" cy="228600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648320" y="4191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4191120"/>
            <a:ext cx="0" cy="8380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43400" y="4876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1371600"/>
            <a:ext cx="0" cy="53352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903240" y="2712960"/>
            <a:ext cx="484200" cy="639720"/>
            <a:chOff x="903240" y="2712960"/>
            <a:chExt cx="484200" cy="639720"/>
          </a:xfrm>
        </p:grpSpPr>
        <p:sp>
          <p:nvSpPr>
            <p:cNvPr id="254" name=""/>
            <p:cNvSpPr/>
            <p:nvPr/>
          </p:nvSpPr>
          <p:spPr>
            <a:xfrm>
              <a:off x="990720" y="2743200"/>
              <a:ext cx="30492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903240" y="2712960"/>
              <a:ext cx="484200" cy="639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nly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on</a:t>
              </a:r>
              <a:br>
                <a:rPr sz="1200"/>
              </a:b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A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4476600" y="6469200"/>
            <a:ext cx="1257480" cy="244440"/>
            <a:chOff x="4476600" y="6469200"/>
            <a:chExt cx="1257480" cy="244440"/>
          </a:xfrm>
        </p:grpSpPr>
        <p:sp>
          <p:nvSpPr>
            <p:cNvPr id="257" name=""/>
            <p:cNvSpPr/>
            <p:nvPr/>
          </p:nvSpPr>
          <p:spPr>
            <a:xfrm>
              <a:off x="4572000" y="6477120"/>
              <a:ext cx="1066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476600" y="6469200"/>
              <a:ext cx="1257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114800" y="3505320"/>
            <a:ext cx="1219320" cy="685800"/>
            <a:chOff x="4114800" y="3505320"/>
            <a:chExt cx="1219320" cy="685800"/>
          </a:xfrm>
        </p:grpSpPr>
        <p:sp>
          <p:nvSpPr>
            <p:cNvPr id="260" name=""/>
            <p:cNvSpPr/>
            <p:nvPr/>
          </p:nvSpPr>
          <p:spPr>
            <a:xfrm>
              <a:off x="4114800" y="35053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4132440" y="3573360"/>
              <a:ext cx="118584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 (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28800" y="4267080"/>
            <a:ext cx="1219320" cy="685800"/>
            <a:chOff x="1828800" y="4267080"/>
            <a:chExt cx="1219320" cy="685800"/>
          </a:xfrm>
        </p:grpSpPr>
        <p:sp>
          <p:nvSpPr>
            <p:cNvPr id="263" name=""/>
            <p:cNvSpPr/>
            <p:nvPr/>
          </p:nvSpPr>
          <p:spPr>
            <a:xfrm>
              <a:off x="1828800" y="4267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835280" y="4411800"/>
              <a:ext cx="120636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Control  (C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081320" y="1905120"/>
            <a:ext cx="1284120" cy="685800"/>
            <a:chOff x="4081320" y="1905120"/>
            <a:chExt cx="1284120" cy="685800"/>
          </a:xfrm>
        </p:grpSpPr>
        <p:sp>
          <p:nvSpPr>
            <p:cNvPr id="266" name=""/>
            <p:cNvSpPr/>
            <p:nvPr/>
          </p:nvSpPr>
          <p:spPr>
            <a:xfrm>
              <a:off x="4114800" y="190512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081320" y="1973160"/>
              <a:ext cx="1284120" cy="549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C Management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(MM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245120" y="982800"/>
            <a:ext cx="960480" cy="396720"/>
            <a:chOff x="4245120" y="982800"/>
            <a:chExt cx="960480" cy="396720"/>
          </a:xfrm>
        </p:grpSpPr>
        <p:sp>
          <p:nvSpPr>
            <p:cNvPr id="269" name=""/>
            <p:cNvSpPr/>
            <p:nvPr/>
          </p:nvSpPr>
          <p:spPr>
            <a:xfrm>
              <a:off x="4267080" y="137160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245120" y="98280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ublayer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893960" y="6469200"/>
            <a:ext cx="1243080" cy="244440"/>
            <a:chOff x="1893960" y="6469200"/>
            <a:chExt cx="1243080" cy="244440"/>
          </a:xfrm>
        </p:grpSpPr>
        <p:sp>
          <p:nvSpPr>
            <p:cNvPr id="272" name=""/>
            <p:cNvSpPr/>
            <p:nvPr/>
          </p:nvSpPr>
          <p:spPr>
            <a:xfrm>
              <a:off x="1905120" y="647712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1893960" y="6469200"/>
              <a:ext cx="12430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HY Data Serv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666880" y="5410080"/>
            <a:ext cx="1219320" cy="685800"/>
            <a:chOff x="2666880" y="5410080"/>
            <a:chExt cx="1219320" cy="685800"/>
          </a:xfrm>
        </p:grpSpPr>
        <p:sp>
          <p:nvSpPr>
            <p:cNvPr id="275" name=""/>
            <p:cNvSpPr/>
            <p:nvPr/>
          </p:nvSpPr>
          <p:spPr>
            <a:xfrm>
              <a:off x="266688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2757600" y="5554800"/>
              <a:ext cx="10382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r (R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43000" y="5410080"/>
            <a:ext cx="1219320" cy="685800"/>
            <a:chOff x="1143000" y="5410080"/>
            <a:chExt cx="1219320" cy="685800"/>
          </a:xfrm>
        </p:grpSpPr>
        <p:sp>
          <p:nvSpPr>
            <p:cNvPr id="278" name=""/>
            <p:cNvSpPr/>
            <p:nvPr/>
          </p:nvSpPr>
          <p:spPr>
            <a:xfrm>
              <a:off x="1143000" y="5410080"/>
              <a:ext cx="1219320" cy="68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1212840" y="5554800"/>
              <a:ext cx="107964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mitter (T)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e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5692680" y="2049480"/>
            <a:ext cx="960480" cy="396720"/>
            <a:chOff x="5692680" y="2049480"/>
            <a:chExt cx="960480" cy="396720"/>
          </a:xfrm>
        </p:grpSpPr>
        <p:sp>
          <p:nvSpPr>
            <p:cNvPr id="281" name=""/>
            <p:cNvSpPr txBox="1"/>
            <p:nvPr/>
          </p:nvSpPr>
          <p:spPr>
            <a:xfrm>
              <a:off x="5692680" y="2049480"/>
              <a:ext cx="9604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nage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15000" y="20574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90920" y="4952880"/>
            <a:ext cx="0" cy="152424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3962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38080" y="906480"/>
            <a:ext cx="458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2798640" y="906480"/>
            <a:ext cx="1111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idate 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261040" y="906480"/>
            <a:ext cx="755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ip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295280"/>
            <a:ext cx="0" cy="525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092240" y="14619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301920" y="16905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14479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413000" y="1004760"/>
            <a:ext cx="12938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request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ull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Route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1467000"/>
            <a:ext cx="0" cy="4628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16765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66680" y="2362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173240" y="1766880"/>
            <a:ext cx="2084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ength(mdData) &gt; aMax_Frame_Length) |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Route != null) |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!= {contention | contention_free}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!= {asynchronous | time_bounded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43200" y="23763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631880" y="23763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472428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301920" y="4738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4572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86200" y="35053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129200" y="1461960"/>
            <a:ext cx="746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quest val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1623960" y="4738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430440" y="4030560"/>
            <a:ext cx="91764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191120" y="4510080"/>
            <a:ext cx="1384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ccessState(mdDA)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!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29200" y="4890960"/>
            <a:ext cx="608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5867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1066680" y="64008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92240" y="588168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0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701720" y="5881680"/>
            <a:ext cx="1324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mdMSDU, 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57150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990880" y="517356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401840" y="6415200"/>
            <a:ext cx="1316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_UNITDATA.indicate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A, mdDA, mdData,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ll, mdPri, mdSC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768760" y="64152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960560" y="5653080"/>
            <a:ext cx="500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R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56080" y="2583000"/>
            <a:ext cx="663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3276720"/>
            <a:ext cx="0" cy="533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365760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738600" y="1690560"/>
            <a:ext cx="167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MAC header to cre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MSDU which inclu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FromDS := 0, mdType := Dat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2 := aMAC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130720" y="351936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301920" y="3672000"/>
            <a:ext cx="557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576440" y="3672000"/>
            <a:ext cx="1432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md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3048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741760" y="30621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1:0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631880" y="3062160"/>
            <a:ext cx="852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295280" y="2681280"/>
            <a:ext cx="19890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Pri = contention_free &amp; !F_CFavail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dSC = time_bound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53040" y="306216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86200" y="59436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27760" y="595800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D2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176720" y="5500800"/>
            <a:ext cx="14158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AccessState(mdDA) !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sState(mdDA) = 1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1295280"/>
            <a:ext cx="0" cy="1905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121280" y="35193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121280" y="489096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121280" y="5958000"/>
            <a:ext cx="15001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ToDS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3 := mdDA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Addr1 := Current_BSS_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762120" y="914400"/>
            <a:ext cx="54100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Management Service State Machine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2438280" y="4952880"/>
            <a:ext cx="3505320" cy="152640"/>
            <a:chOff x="2438280" y="4952880"/>
            <a:chExt cx="3505320" cy="152640"/>
          </a:xfrm>
        </p:grpSpPr>
        <p:sp>
          <p:nvSpPr>
            <p:cNvPr id="339" name=""/>
            <p:cNvSpPr/>
            <p:nvPr/>
          </p:nvSpPr>
          <p:spPr>
            <a:xfrm>
              <a:off x="2438280" y="502920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4952880"/>
              <a:ext cx="0" cy="152640"/>
            </a:xfrm>
            <a:prstGeom prst="line">
              <a:avLst/>
            </a:prstGeom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429000" y="4952880"/>
              <a:ext cx="0" cy="15264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480" bIns="69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2438280" y="4419720"/>
            <a:ext cx="1981440" cy="152280"/>
            <a:chOff x="2438280" y="4419720"/>
            <a:chExt cx="1981440" cy="152280"/>
          </a:xfrm>
        </p:grpSpPr>
        <p:sp>
          <p:nvSpPr>
            <p:cNvPr id="343" name=""/>
            <p:cNvSpPr/>
            <p:nvPr/>
          </p:nvSpPr>
          <p:spPr>
            <a:xfrm>
              <a:off x="2438280" y="4495680"/>
              <a:ext cx="1981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29000" y="441972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H="1">
            <a:off x="990720" y="167652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74840" y="830160"/>
            <a:ext cx="103356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958680" y="2757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511960" y="830160"/>
            <a:ext cx="8650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e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oDS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454720" y="26049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958680" y="5272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24160" y="830160"/>
            <a:ext cx="409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294012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429000" y="152388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046400" y="1538280"/>
            <a:ext cx="1355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dsMSDU,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30480" y="1461960"/>
            <a:ext cx="1662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DU available from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397320" y="1538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0: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348080" y="1309680"/>
            <a:ext cx="601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oDS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220760" y="1690560"/>
            <a:ext cx="1674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ain DSM reception in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146320" y="2041560"/>
            <a:ext cx="582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3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20600" y="252900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438280" y="2438280"/>
            <a:ext cx="0" cy="1295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27432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544760" y="2757600"/>
            <a:ext cx="876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163600" y="3946680"/>
            <a:ext cx="54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19720" y="32767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927600" y="2879640"/>
            <a:ext cx="981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5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ired D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38280" y="43434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113360" y="5318280"/>
            <a:ext cx="611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W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990720" y="65530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424160" y="50436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19720" y="3581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990720" y="525780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64008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71600" y="3581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371600" y="3581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1371600" y="48006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38280" y="3124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429000" y="3809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38280" y="54864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38280" y="61722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419720" y="42670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410080" y="4267080"/>
            <a:ext cx="0" cy="17528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60199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3429000" y="58672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647800" y="29098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240660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916440" y="2376360"/>
            <a:ext cx="1312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 | unicast to LL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944880" y="2604960"/>
            <a:ext cx="12589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714840" y="359568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930480" y="38242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393048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6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2724120" y="5272200"/>
            <a:ext cx="495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40660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471920" y="4815000"/>
            <a:ext cx="811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B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54720" y="5043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30760" y="5043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94940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3: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538280" y="33670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353960" y="35956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2571840" y="5881680"/>
            <a:ext cx="649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2565360" y="420516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from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406600" y="4510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406600" y="61866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4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471840" y="45100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749840" y="3290760"/>
            <a:ext cx="1017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i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tion syst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45472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649680" y="5653080"/>
            <a:ext cx="4730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done}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387680" y="4281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813200" y="4052880"/>
            <a:ext cx="584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782960" y="428148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2916360" y="618660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454720" y="6415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2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474920" y="633888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675320" y="6186600"/>
            <a:ext cx="861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to W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958680" y="6567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S1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468440" y="6567480"/>
            <a:ext cx="148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630680" y="6415200"/>
            <a:ext cx="110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38520" y="3595680"/>
            <a:ext cx="816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dsMSD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wired D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94360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90720" y="1371600"/>
            <a:ext cx="0" cy="5334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19720" y="57150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506600" y="5272200"/>
            <a:ext cx="6476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s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2438280" y="2514600"/>
            <a:ext cx="3505320" cy="152280"/>
            <a:chOff x="2438280" y="2514600"/>
            <a:chExt cx="3505320" cy="152280"/>
          </a:xfrm>
        </p:grpSpPr>
        <p:sp>
          <p:nvSpPr>
            <p:cNvPr id="424" name=""/>
            <p:cNvSpPr/>
            <p:nvPr/>
          </p:nvSpPr>
          <p:spPr>
            <a:xfrm>
              <a:off x="2438280" y="2590920"/>
              <a:ext cx="3505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429000" y="2514600"/>
              <a:ext cx="0" cy="152280"/>
            </a:xfrm>
            <a:prstGeom prst="line">
              <a:avLst/>
            </a:prstGeom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9120" bIns="69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3429000" y="121932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505320" y="76960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5075280" y="199548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30640" y="1766880"/>
            <a:ext cx="1144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_Poll &amp; (TxSt !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150920" y="633888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1 – (2 * cCFnex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Num += 1, cCFnext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405080" y="2529000"/>
            <a:ext cx="1352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Addr1, 0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81120" y="982800"/>
            <a:ext cx="6224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c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371600" y="25146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7160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371600" y="289548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95680" y="2286000"/>
            <a:ext cx="0" cy="1447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5800680" y="958680"/>
            <a:ext cx="727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056120" y="1897200"/>
            <a:ext cx="885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90400" y="2811600"/>
            <a:ext cx="801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4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622600" y="982800"/>
            <a:ext cx="395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990720" y="13716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1523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988920" y="15382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0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99072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236052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528920" y="1309680"/>
            <a:ext cx="1058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Awake | F_DTI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27080" y="1843200"/>
            <a:ext cx="176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Awake &amp; !F_DTIM &amp; (Tx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2819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819520" y="26668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213000" y="2681280"/>
            <a:ext cx="127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GenACK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2792520" y="26812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08640" y="2604960"/>
            <a:ext cx="1655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494240" y="28335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271520" y="2300400"/>
            <a:ext cx="1573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Error(crAddr1) &amp; (TxS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233532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819520" y="4191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444920" y="3316320"/>
            <a:ext cx="163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State(crAddr2,crType) =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494240" y="35193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2: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916360" y="3976560"/>
            <a:ext cx="3314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RTS) &amp; (NAV =0) &amp; !F_Mbusy &amp; (T_IFS =aSIFS) &amp; !F_CFP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5688000" y="42051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603600" y="4205160"/>
            <a:ext cx="1712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TS(crMPDU), 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819520" y="73152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684760" y="4738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819520" y="4724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3262320" y="4484520"/>
            <a:ext cx="248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{Management | Data} ) &amp; (cr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529080" y="4713120"/>
            <a:ext cx="195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689440" y="527220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819520" y="525780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2949480" y="5018040"/>
            <a:ext cx="3111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Management) &amp; (crFragLast = 1) ) | (crType = PS–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440160" y="5246640"/>
            <a:ext cx="2130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Indicate(crMSDU, 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684760" y="5881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2819520" y="5867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035160" y="5627520"/>
            <a:ext cx="29368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1) &amp; F_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516480" y="5881680"/>
            <a:ext cx="1976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 crMPDU, crLength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rMSDU, To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19520" y="64771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28840" y="6237360"/>
            <a:ext cx="2552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rType = Data) &amp; (crFragLast = 1) ) &amp; (crToDS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688000" y="73296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g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5052960" y="28335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2813040" y="1843200"/>
            <a:ext cx="169380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Length, crDir, crT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rDir = 1) &amp; (crType 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anagement | data | PS–Poll}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2843280" y="2986200"/>
            <a:ext cx="15699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gt;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Dir, crTs) &amp; ( (crDir = 0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 control) 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819520" y="3581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2789280" y="35956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819520" y="701028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05200" y="6770520"/>
            <a:ext cx="32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={CF–End | CF–End+Ack} ) &amp; (crAddr2=aCurrent_BSS_I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130560" y="6999120"/>
            <a:ext cx="1527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NAV(0), Clear(F_CF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5695920" y="702468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76760" y="7151760"/>
            <a:ext cx="873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ther fra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495680" y="3505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728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2819520" y="3886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990720" y="48006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990720" y="3505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274760" y="3798720"/>
            <a:ext cx="142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FrDSq &amp; (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198440" y="4167360"/>
            <a:ext cx="12938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FrD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2335320" y="35193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1246320" y="3525840"/>
            <a:ext cx="1197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T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2332080" y="41292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4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90720" y="41148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990720" y="53341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120680" y="4484520"/>
            <a:ext cx="1739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cAddr1 = multicast) &amp; !F_DTI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PsMode(cAddr1)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527120" y="4815000"/>
            <a:ext cx="11811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queue(cMSDU,PS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63720" y="4815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960480" y="53481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233360" y="5094360"/>
            <a:ext cx="1359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CFpoll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30360" y="7089840"/>
            <a:ext cx="2158920" cy="77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 C1 continues, subsequ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ons enabled when TxSt != 0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1 | 2 } for DCF trans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1 | –2 } for CF–Poll respon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= { –3 | –4 } for Point Coordina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H="1">
            <a:off x="2819520" y="1600200"/>
            <a:ext cx="33526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19520" y="7467480"/>
            <a:ext cx="0" cy="38124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2817720" y="1614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333600" y="1157400"/>
            <a:ext cx="2224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aware &amp; !F_P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Dir = 1) &amp; (crType = { any with CF–Poll 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4060800" y="1614600"/>
            <a:ext cx="8002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1150920" y="5348160"/>
            <a:ext cx="16621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, cFragNum := 0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 cFragLast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765440" y="153828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902120" y="3519360"/>
            <a:ext cx="9460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990720" y="6324480"/>
            <a:ext cx="182880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65160" y="6338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4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279440" y="6084720"/>
            <a:ext cx="1263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CFpoll | (cCFnex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1008000" y="3189240"/>
            <a:ext cx="18162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 &amp; ( F_CFpoll | (cCFnext = 1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CFP &amp; (TxSt = 0) 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5105520" y="198108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105520" y="1981080"/>
            <a:ext cx="0" cy="38124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05520" y="2362320"/>
            <a:ext cx="10666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713560" y="199548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3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1523880"/>
            <a:ext cx="0" cy="63248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19520" y="1371600"/>
            <a:ext cx="0" cy="6095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3200400"/>
            <a:ext cx="0" cy="3276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067200" y="7537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fr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668760" y="7684920"/>
            <a:ext cx="2130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process frame received during CF period 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5689440" y="64911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3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2846520" y="6491160"/>
            <a:ext cx="2994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mble(crMSDU,crMPDU,crLength),Enqueue(crMSDU,RXq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1066680" y="4738680"/>
            <a:ext cx="1081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2347920" y="7024680"/>
            <a:ext cx="24750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–1) | ( (TxSt = 1) &amp; (FragNum &gt; 0)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cAddr1 = individual_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117440" y="6993000"/>
            <a:ext cx="12160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ength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981000" y="5450040"/>
            <a:ext cx="13921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 cFragLng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0224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720720" y="1233360"/>
            <a:ext cx="1303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NAV != 0) | F_Mbusy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 (TxSt = 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" y="16765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54120" y="1690560"/>
            <a:ext cx="178128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 (Int(cCW *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Start(T_Backoff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Min((cCW * 2), aCW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949400" y="16905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5800" y="2590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8006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2438280" y="25146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38280" y="19051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511360" y="1919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800600" y="1600200"/>
            <a:ext cx="0" cy="1676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338720" y="1211400"/>
            <a:ext cx="925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2543040" y="1233360"/>
            <a:ext cx="192564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F_Backoff &amp; (NAV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gt;=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, R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2940120" y="1919160"/>
            <a:ext cx="16686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RTS(cMPDU), 16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324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800600" y="20574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4800600" y="2362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5378400" y="18432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797360" y="20718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5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30880" y="20718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2700360" y="2147760"/>
            <a:ext cx="1612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4314960" y="25290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2773440" y="2529000"/>
            <a:ext cx="131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478400" y="3421080"/>
            <a:ext cx="6462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14400" y="3962520"/>
            <a:ext cx="0" cy="3962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565200" y="3421080"/>
            <a:ext cx="698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438280" y="41148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409840" y="412920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33600" y="3443400"/>
            <a:ext cx="214632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(FragNum =0) &amp; (NAV =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Backoff &amp; !F_Mbusy &amp; (T_IFS &gt;= aD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= individual_addres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ng &lt; aRTS_Threshold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 A) &lt;= 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2819520" y="4129200"/>
            <a:ext cx="1911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 (cRetryCnt &gt; 0), cMore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q, 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800600" y="3048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4800600" y="44197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807080" y="272556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SDU, , , 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Type =CTS) &amp; (T_IFS =aS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797360" y="306216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5203800" y="3062160"/>
            <a:ext cx="11066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 F_TXq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MPDU, cFragLng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324480" y="5029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800600" y="50292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4800600" y="53341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302080" y="481500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797360" y="5043600"/>
            <a:ext cx="460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5407200" y="504360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2438280" y="31240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671920" y="2757600"/>
            <a:ext cx="1671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CTS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CTS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311720" y="3138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5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965320" y="31384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2438280" y="4876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2685960" y="4510080"/>
            <a:ext cx="16416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314960" y="48909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2584440" y="4890960"/>
            <a:ext cx="168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(2 * TxSt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438280" y="548640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658960" y="5119560"/>
            <a:ext cx="16984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ACK_Timeout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311720" y="550080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041640" y="550080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866880" y="3900600"/>
            <a:ext cx="162576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Mbusy &amp; (NAV =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D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=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914400" y="47242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903240" y="5164200"/>
            <a:ext cx="14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c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120680" y="7373880"/>
            <a:ext cx="8571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558880" y="569736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0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24382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1952640" y="47386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914400" y="5410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885960" y="542448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866880" y="6186600"/>
            <a:ext cx="1625760" cy="7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1)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ddr1=group_address)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Num &gt; 0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&lt;=T_Dwe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914400" y="69343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949400" y="6948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7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914400" y="7696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82720" y="77104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7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52600" y="774864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1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2463840" y="605952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316400" y="60339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85800" y="1676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38280" y="129528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87600" y="7481880"/>
            <a:ext cx="22971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F_CFpoll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ore :=F_ TXq, cRetry :=(cRetryCnt &gt;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poll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36920" y="6459480"/>
            <a:ext cx="2295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FragLast = 1) &amp; ( F_CFack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RxIndicate(crMPDU, , , ) &amp; (crType = ACK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438280" y="67816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43080" y="6796080"/>
            <a:ext cx="9302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311720" y="67960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6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2438280" y="74674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2406600" y="748188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6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895320" y="2909880"/>
            <a:ext cx="1003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2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W := aCW_M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85800" y="2895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65000" y="2681280"/>
            <a:ext cx="1133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&lt; 0) &amp; !F_CF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85800" y="2895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85800" y="32767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954080" y="290988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c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438280" y="7772400"/>
            <a:ext cx="0" cy="22860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438280" y="1523880"/>
            <a:ext cx="0" cy="62485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1025640" y="4967280"/>
            <a:ext cx="233676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 :=(cRetryCnt &gt; 0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ype := (cType | PollList(cAddr1) | F_CFack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cFragLng), Clear(F_CFack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552680" y="1690560"/>
            <a:ext cx="12477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3, cCFnext :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914400" y="1676520"/>
            <a:ext cx="236232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963720" y="1690560"/>
            <a:ext cx="511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839880" y="1919160"/>
            <a:ext cx="24336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(TxSt = 0) &amp; ( (NAV != 0) | F_Mbusy 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(TxSt = –3) &amp; (Duration(cFragLng,A) &gt; T_Dwell)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968400" y="2427120"/>
            <a:ext cx="20970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Backoff), T_Backoff :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(aCW_Min * Random() ) * aSlot_Time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otal_Backoff_Time += T_Backoff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(T_Backoff), TxSt := Min(TxSt, –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28880" y="1309680"/>
            <a:ext cx="2057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PC &amp; F_CFP &amp; (TxSt = 0) &amp; (NAV = 0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!F_Mbusy &amp; (T_IFS &gt;= aPIF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2567160" y="906480"/>
            <a:ext cx="14191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are CF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530520" y="3214800"/>
            <a:ext cx="1549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cMPDU, cFragLng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338640" y="2757600"/>
            <a:ext cx="23194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) &lt;= {T_Dwell &amp; T_CFDR}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cAddr1 != individual addres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68800" y="1538280"/>
            <a:ext cx="24415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queue(cMSDU, TXq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SeqNum +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gment(cMSDU, cMPDU, cFragNum, cFragLng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Last), cCFnext := 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732120" y="1309680"/>
            <a:ext cx="12240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CFnext = 1) &amp; F_TXq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276720" y="320040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273480" y="153828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5280120" y="321480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405240" y="3976560"/>
            <a:ext cx="1419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ddr1 = individual add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712880" y="3519360"/>
            <a:ext cx="40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_TxDone &amp; (T_IFS &gt;= aSIFS) &amp; ( (Duration(Length(cMPDU)) &lt;= T_CFDR) | !F_TXq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914400" y="1295280"/>
            <a:ext cx="0" cy="304920"/>
          </a:xfrm>
          <a:prstGeom prst="line">
            <a:avLst/>
          </a:prstGeom>
          <a:ln w="255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650880" y="906480"/>
            <a:ext cx="8049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, Id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ntinu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120760" y="3747960"/>
            <a:ext cx="3149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), 16), 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5343480" y="906480"/>
            <a:ext cx="1047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Multica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76720" y="152388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914400" y="30481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960480" y="2376360"/>
            <a:ext cx="517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d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276720" y="1295280"/>
            <a:ext cx="0" cy="21337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914400" y="2362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048120" y="2362320"/>
            <a:ext cx="0" cy="6858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914400" y="37339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76720" y="23623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270240" y="237636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0:1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3987720" y="2147760"/>
            <a:ext cx="711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3273480" y="2408400"/>
            <a:ext cx="2592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+= 1,Fragment(cMSDU,cMP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,cFragLng,cFragLast), cCFnext :=cFragLa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H="1">
            <a:off x="914400" y="4191120"/>
            <a:ext cx="4952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5280120" y="374796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5276880" y="42051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1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392200" y="4205160"/>
            <a:ext cx="2913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0, cRetryCnt := 0, Set(F_Backoff), Clear(F_CFac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3017880" y="4411800"/>
            <a:ext cx="1128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 for CF–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914400" y="49528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861840" y="49672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925560" y="4510080"/>
            <a:ext cx="239220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(cCFnex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amp; (T_IFS &gt;= aSIFS) &amp; F_Backoff &amp;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cFragLng,A) &lt;= {T_Dwell &amp; T_CFDR}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791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81280" y="4876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581280" y="518148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235400" y="4662360"/>
            <a:ext cx="674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F_TxD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3578400" y="4890960"/>
            <a:ext cx="612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4111560" y="4890960"/>
            <a:ext cx="90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art(T_Res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581280" y="655308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529080" y="65674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5810400" y="639432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3605040" y="618660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914400" y="32767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089000" y="3062160"/>
            <a:ext cx="2087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2) &amp; F_PC &amp; F_CFP &amp; F_Backof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1730520" y="3290760"/>
            <a:ext cx="5857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914400" y="3505320"/>
            <a:ext cx="213372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048120" y="3276720"/>
            <a:ext cx="0" cy="22860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965160" y="3290760"/>
            <a:ext cx="5065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e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05040" y="5424480"/>
            <a:ext cx="26146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lt;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876240" y="5653080"/>
            <a:ext cx="218772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 :=(Int(aCW_Min*Random(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aSlot_Time), aTotal_Backoff_Time +=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Backoff, Start(T_Backoff), cRetryCnt +=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952560" y="6110280"/>
            <a:ext cx="2673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Resp &gt;= aPIFS) &amp; (cRetryCnt &gt;= aACK_Retry_Max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3987720" y="6593040"/>
            <a:ext cx="20890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+= 1, Fragment(cMSDU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PDU, cFragNum, cFragLng, cFragLast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914400" y="56386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71880" y="5653080"/>
            <a:ext cx="5619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a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914400" y="63244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3068640" y="63388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973080" y="6338880"/>
            <a:ext cx="178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CFnext := 1, cRetryCnt := 0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73915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525840" y="740556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3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5810400" y="7232760"/>
            <a:ext cx="43164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  <a:tailEnd len="med" type="triangle" w="med"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3605040" y="7024680"/>
            <a:ext cx="2227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xIndicate(crMPDU, crLength, crDir, crTs)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_CFack | (crType = ACK) ) &amp; (FragLast = 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4064040" y="7431120"/>
            <a:ext cx="1482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ragNum := 0, cCFnext := 1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(F_CFack), Tally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866880" y="6567480"/>
            <a:ext cx="266544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xSt = –3) &amp; !F_TXq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_IFS &gt;= aSIFS) &amp; (Duration(aMax_Frame_Length, 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= {T_Dwell &amp; T_CFDR} 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914400" y="7010280"/>
            <a:ext cx="266688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858960" y="7024680"/>
            <a:ext cx="568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630600" y="5272200"/>
            <a:ext cx="2330280" cy="4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!F_TXq &amp; !F_RXq &amp; !PollList() )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!F_TXa &amp; !F_RXq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uration(aMax_Frame_Length,A) &gt; T_CFDR) 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913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581280" y="571500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3581280" y="6019920"/>
            <a:ext cx="2210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575160" y="5729400"/>
            <a:ext cx="6192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2:12b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381560" y="5729400"/>
            <a:ext cx="636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St := –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901800" y="7405560"/>
            <a:ext cx="2300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sSt = –4) | (Duration(cFragLng,A) &gt; T_CFDR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00400" y="7620120"/>
            <a:ext cx="0" cy="38088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914400" y="762012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914400" y="8001000"/>
            <a:ext cx="2286000" cy="0"/>
          </a:xfrm>
          <a:prstGeom prst="line">
            <a:avLst/>
          </a:prstGeom>
          <a:ln w="12600">
            <a:solidFill>
              <a:srgbClr val="7f7f7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581280" y="4800600"/>
            <a:ext cx="0" cy="3352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1600200"/>
            <a:ext cx="0" cy="6553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12920" y="7634160"/>
            <a:ext cx="1868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end(F_CFack), 16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(F_CFP), cCFnext := 0, TxSt := 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895320" y="7634160"/>
            <a:ext cx="4935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1:1f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181160" y="702468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tryCnt := aACK_Retry_Max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xRequest(GenCFpoll(PollList(next),F_CFack), 2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867280" y="1295280"/>
            <a:ext cx="0" cy="30481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Fischer</dc:creator>
  <dc:description/>
  <dc:language>en-US</dc:language>
  <cp:lastModifiedBy>Vic Hayes</cp:lastModifiedBy>
  <cp:revision>0</cp:revision>
  <dc:subject/>
  <dc:title>State Machine Notation</dc:title>
</cp:coreProperties>
</file>