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Aug 199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5/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g ‘95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802.11 decisions made but not edited into D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nection mgt stuff hanging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 will email as 95/212 for LB comment re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P MSDU vs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P IV drawing edit correction also in 95/2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uperseded by 95/196 (WEP MSDU vs MP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mat &amp; figures in Claus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IM diagram out of date (4.3.2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2.6.3 retry li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6.2.6.3 modified to correct motivation for mib vars in sec 8 re retry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1 will be this proposed text for LB com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(bob Ohara, TOm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rag vs dwell 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orth doing frag adjustment to fit remaining dwell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Use fixed frag size of A_fragmentation_threshold per MSDU (except for last fra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ccept rec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ave D2 as is: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ke F will write up in doc 95/206 people can cite if they like in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 known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xt vs stat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roup drafts Mike and Joh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9 will be further updated state machines - avail before LB closes (9/10 pr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 desc inadequa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s identifi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clear language re unicast data and/or mgt frames at any rate in last para sec 6.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ate transition R41b - plcp header is ok, but rate indicated is not one the phy supports, what to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consensus, people to consider and make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MSDU vs MPDU revis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to reconsider MPDU decision and change back to MS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veral strong MSDU supporters and a couple fence sitters, no strong MPDU suppo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 to include in 95/196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ref paper 95/187 for background, new paper will be changed tex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ICV al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able rec: change back to CRC-16 from CRC-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: to put in 95/197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ref mike’s’ paper 95/187 for background, new paper will be changed tex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ate breaking consideration: San Jose 95/06 minutes:  Kerry Lynn says 32 bits is shortest ICV that govt will accept for 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is may nullify rec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B to check with Kerry Lyn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Non-accept of non-WEP Data frames MIB 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ke F to create 95/198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ll ref paper 95/187 for background, new paper will be changed tex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EP: Multiple default key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87 prob 4 for background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 support to ask Mike F to write up text for people to review - Doc 95/211 for LB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vote: 8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pec when to set To-DS b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ummary: When bit set not spe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Iss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ry direct first vs. try AP first;  mandate or n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ome want speced, some do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-DS bit definition not the issue, when to invoke 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consensus after three attem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g Goals from July 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cess D2.0 LB comments (if any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work on Section 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Outline Conformance Statements to correspond to D2.0, flesh out to match D2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ncompress TI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m’s proposal uncompress and delete trailing zeros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 95/208 for LB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Johnny’s modification - delete leading and trailing zeros: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 95/209R1 for LB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ave D2 alone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e, side discussion: people also concerned re interaction with SID allocation strategy (not speced in D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How are beacon interval times coordinated in an ad-hoc n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e as side effect of ad-hoc pwr mgt paper see 95/137R2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soc / Reassoc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 will correct in 95/203 for LB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ombine auth and assoc func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al: Combine Auth frame contents into Assoc and Reassoc frames, leave auth fr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proposal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eave D2 as is: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sociation - different states between s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d sent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f  STA 1 receives a class 3 frame from STA 2 which is not associated with the STA 1, STA 1 shall send a Disassociation frame to STA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poll to adopt: 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B to put in paper 95/210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SF timer alg probl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uch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consen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eacon / Scanning / BSS joining / BSS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blem with PHY specs re time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ef 11.3.3.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re research needed, ripe area for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MSDU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hould min req for multi simul MSDUs be &gt; for APs than ST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aw p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reducing to &lt; 6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or leaving as is: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hat happens if implemented limit exceed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eed to spec behavi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traw: Need to spec behavio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rst straw: 8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nd straw: 4, 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iverging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left for indv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What to do if data frame not recv in time after po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uch discussion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ing useful to capture from this discu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 known limi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text vs state mach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roup drafts Mike and Simon and John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9 will be further updated state machines - avail before LB closes (9/10 pro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us code fill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m B started eff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ll be in 95/213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July MAC minutes ap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arolyn took minutes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37R2 - IBSS pwr m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i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vail lat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6 - WEP: MSDU vs MPDU revi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7 - WEP: ICV a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ometime next we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8 - WEP: Non-accept of non-WEP Data frames MIB tog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199 - state machine known limitations rem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opefully avail before LB closes, prob not until 9/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1 - 6.2.6.3 retry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b Ohara, T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ready distrib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2 - MAC Conformance stm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imon, 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expected before LB cl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3 - Assoc / Reassoc relation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6 - frag vs dwell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istribu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7 - 6.2.5 Back off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8 - Uncompress TIM / trail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9R1 - Uncompress Tim / trailing &amp; lead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Johnny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0 - Association: different states between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av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1 - WEP: Multiple default key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lat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2 - Connection mgt stuff hanging around  in D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ke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13 - Status code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m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om will let vic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Nov 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Quick votes on LB referenc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extended discussion, &lt; 5 min each 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ces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2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apers (numerical or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37R1 - ad hoc pwr mgt (impro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2 - rts/cts authors not present at mtg - univ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3 - modified backoff algs - univ Ber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7 bumps on road to privacy - mik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88 how far should an ESS extend - mike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t 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Full MAC group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 official votes due to pending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ny recs in small papers to be avail ASAP for reference in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IBSS pwr m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sensus is for this feature, details of mechanism to be in 95/137R2 from Rick Wh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Conformance stm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imon to create straw man, mike F to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c 95/202 will be avail before Nov mt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ot expected before LB cl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6.2.5 Back off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Straw vote to change D2 text to  CWmin = 7, CWmax = 2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zero relative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alues required not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11, 1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m B will create doc 95/207 and dist for LB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ke F; ref to ftp://ftp.cs.toronto.edu/csri-technical-reports/2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is is enet capture effect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