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7E8C32AF-06E0-4E9C-9F6A-45E20472E31E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2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ovember 6-10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ntreal, PQ,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Nov 6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Nov 6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versity of Tw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ick votes on Letter Ballot reference papers (M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 all D2 letter bal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initial MAC PICS pro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gress on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Tuesday   |  Wednesday |   Thursday |   Friday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MAC! FH |MAC!DS!FH!  |MAC!DS!FH!  |MAC!DS!FH!IR| 802 !MAC!PH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  |   !  !  !  |   !  !  !  |   !  !  !  |Plen-|   ! 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  |   !  !  !  |   !  !  !  |   !........|  ary|OPT!OP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  |   !  !  !  |   !  !  !  |   !   PHY  |-----|   ! T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802      |MAC!  PHY   |Full 802.11 |Full 802.11 | OPT  ! OPT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Plenary    |   !        |Resolve     |   Reports  | MAC  ! PHY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|   !........|  outputs   |   Outputs 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|   !DS!FH!  |Cross issues|  Next mtng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Full 802.11 |   !  !  !  |Conform Tst |            |      !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IR!OPT !OPT |IR!OPT !OPT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!MAC !PHY |  !MAC !PHY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88 +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ui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aumburg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2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on draft D2.0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haumburg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PR let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y 12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formance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4296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4000680"/>
                <a:tab algn="l" pos="47433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uly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