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25A90B6-CE26-4A49-8C1D-73934B9BC2E3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3r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uary 8-11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January 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22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Diego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gate       MA/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unresolved LB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D2 draft editing using D2.1 a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utput of this meeting (D2.1) to complete D2 LB comment processing resulting in D2.2 (D3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result of ad-hoc on Multi Rate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the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mit D3.0 for WG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ad-hoc on Multi-Rat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an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