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7924680" cy="6324480"/>
          </a:xfrm>
          <a:prstGeom prst="roundRect">
            <a:avLst/>
          </a:prstGeom>
          <a:noFill/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203480" y="6545160"/>
            <a:ext cx="35910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EEE 802.11 MAC report  Nov 1995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oc 95/2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070760" y="6545160"/>
            <a:ext cx="9540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avid Bag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Nov ‘95 MAC group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09680" y="1905120"/>
            <a:ext cx="45720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2895480"/>
            <a:ext cx="4572000" cy="1447920"/>
          </a:xfrm>
          <a:prstGeom prst="rect">
            <a:avLst/>
          </a:prstGeom>
          <a:solidFill>
            <a:srgbClr val="ffffff"/>
          </a:solidFill>
          <a:ln w="76320">
            <a:solidFill>
              <a:srgbClr val="618ffd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09680" y="4648320"/>
            <a:ext cx="45720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971800" y="3276720"/>
            <a:ext cx="2895480" cy="102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7200" spc="-1" strike="noStrike">
                <a:solidFill>
                  <a:srgbClr val="00279f"/>
                </a:solidFill>
                <a:latin typeface="Arial"/>
                <a:ea typeface="Arial"/>
              </a:rPr>
              <a:t>MA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743200" y="4724280"/>
            <a:ext cx="33526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098960" y="2109960"/>
            <a:ext cx="628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95/201 - 6.2.6.3 retry lim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: to adopt 95/2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2, 0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95/203 - Assoc / Reassoc relation cor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: to adopt 95/2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1, 0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95/206 - frag vs dwell bound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: to adopt 95/2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mend to not del last deleted para on pg 2 of 2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mend vote: 9, 7,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mend: name mib var to match sec 8 (“frag threshold vs frag payloa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mend vote: 16, 0,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in motion vote: 12, 3,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95/207 - 6.2.5 Back off ti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: to adopt 95/2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0, 1,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Uncompress TIM pap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5/208 - Uncompress TIM / trailing z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5/209R1 - Uncompress Tim / trailing &amp; leading z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: to adopt either 208 or 209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Vote: 6,5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: vote for 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dopt 208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dopt 209R1: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bstain: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sult: 95/209R1 adop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95/210 - Association: different states between sta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: to adopt 95/2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4, 0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95/211 - WEP: Multiple default key sup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 to adopt 95/2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5, 1,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95/212 - Connection mgt stuff hanging around  in D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 to adopt 95/2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2, 1,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95/213 - Status code fill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 to adopt 95/21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im: move to change reason 13 to “Association denied because the requesting STA is not authentic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11, 0,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: refer to mac sub-grp working thru sec 4 com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un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D2 Letter Ballot Comment Resol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ug ‘95 Goals for Nov ‘95 mt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90720" y="129528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Quick votes on LB reference pa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No extended discussion, &lt; 5 min each sub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rocess </a:t>
            </a:r>
            <a:r>
              <a:rPr b="1" lang="en-US" sz="2400" spc="-1" strike="noStrike" u="sng">
                <a:solidFill>
                  <a:srgbClr val="00279f"/>
                </a:solidFill>
                <a:uFillTx/>
                <a:latin typeface="Arial"/>
                <a:ea typeface="Arial"/>
              </a:rPr>
              <a:t>all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D2 LB com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view initial MAC PICS Pro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B Resolution: Clause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otal comments: 1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echnical comments: 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Unresolved subjects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Highligh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issing pics pro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eferences to other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ment and Draft text file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1cmts.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1draft.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 to adopt Comment and Draft text fi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: 10, 0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31, 0,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B Resolution: Clau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otal comments: 2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echnical comments: 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Unresolved subject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Highligh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omment 81, 107 re restricting ESS to MAC layer components and creating a M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oved to not adopt comment 81/107 proposa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vote: 11, 0,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omment 119, 140 re must define IAP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oved to not adopt comment 119 &amp; 14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vote: 9, 0,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omments 238-241 - Layer model incorrect, needs updating (missing top. multiple same name SAP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Instructions from MAC grp re add data sap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vote: un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B Resolution: Claus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ment and Draft text file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2cmts.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2draft.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 to adopt Comment and Draft text fi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: 9, 0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34, 0,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B Resolution: Clause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otal comments: 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echnical comments: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Unresolved subject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Highligh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ervice primitives corrected to match 802.2 199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eclined: Include encapsulated LLC info, declined by sec 4 group as no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ment and Draft text file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3cmts.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3draft.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 to adopt Comment and Draft text fi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: 9, 0,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9, 0,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B Resolution: Clau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otal comments: 2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echnical comments: 1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Unresolved subjects: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how to encode duration info for multi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Using Plenary guidance from W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ext did not et incorporated due to lack of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ditor refer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 10,1,5 to remove clause 1.5 - editors to accomplish after meet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igures need editing by someone who has visio to complete text ed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B Resolution: Clau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Highligh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eclined proposal to encapsulate non-802 link layer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plit Pwr Field into pwr bit / more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Kept Existing to/from DS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emoved vestiges of connection mg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hanged IBSS BSSID from MAC adr to TSF derived B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larified bit &amp; octet ord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Incorporated 95/137R1 (IBSS pwr mg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Incorporated 95/209R1 (tim compres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emoved regulatory domain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pecified status and reason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Updated and clarified fame seq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B Resolution: Claus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ment and Draft text file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4cmts.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4draft.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 to adopt Comment and Draft text fi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: 16, 0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30, 2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B Resolution: Clause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otal comments: 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echnical comments: 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Unresolved subjects: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Highligh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Incorporated pap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196 (WEP on MPD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198 (exclude unencrypted MPD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211 (Key ID fiel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212 (WEP edits missed from D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B Resolution: Clause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High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eclin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ke WEP mand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WEP CRC 32-&gt;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ombine Reassoc and A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roposed deletion of shared key authent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B Resolution: Clause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ment and Draft text file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5cmts.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5draft.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 to adopt Comment and Draft text fi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dopt all but resolution related to 95/248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: 13, 0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dopt 95/248 recommendation (to decline 95/248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: 8, 2,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7, 1,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sc Su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ugust MAC minutes approved un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B Resolution: Clause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otal comments: 3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echnical comments: 2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Unresolved su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one defe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B Resolution: Clause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Highligh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pproved documents included: 201, 206, 207 &amp; 174 &amp; 1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Excepting the above papers, no functionality has been changed by the comments resolved. The text has been changed/clarified to reflect the current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eleted subclause 6.1.5 (suggested by many comments) which repeated Data Servic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retty much re-wrote wording of subclause 6.2 because of many com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Specifying references to MIB variables a l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larified NAV setting and clearing (not changed, just clarifi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Bounded CF period for max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B Resolution: Clause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ferred to MAC grou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#197 - Matt, increasing the reliability of broad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otion to decline adoption of clause 6 comment 198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ove to lay motion on table: 6, 4, 4 - tab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#49 - Apple patent issue - defer to V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pple patent comment from Ed Gei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otion to decline comment to remove RTS/CTS or approach apple for patent lice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vote: 11, 2,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B Resolution: Clause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6 editing not quite comple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95/247 motion from wed plenary “duration into PLCP header” text not edited to reflect this 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lause 6.7 re correcting state machine errors, comments to fic accepted, but text not edited y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impact of sec 4 change of last frag to more fragments causes ripple edit in state mach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igure 6.3 edit needed due to lack of vis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B Resolution: Clause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ment and Draft text file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6cmts.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6draft.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 to adopt Comment and Draft text fi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: 12, 0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28, 1,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B Resolution: Clause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otal comments: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echnical comments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Unresolved subjects: 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Highligh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ll change edi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Both tech comments withdrawn by auth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ment and Draft text file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7cmts.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7draft.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 to adopt Comment and Draft text fi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vote: none needed as all changes editorial in this s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B Resolution: Clause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otal comments: 1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echnical comments: 1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Unresolved subjects: 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Highligh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ostly minor clar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onsistency updates to support other cl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wr mgt for PCF im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ment and Draft text file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8cmts.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8draft.d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 to adopt Comment and Draft text fi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AC vote: 12, 0,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Plenary vote: 31, 0,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Plenary mo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d: That the resolution of D2 LB comments adopted during this week be reflected in the contents of Draft D2.1 (with change bar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3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lenary vote: 31, 1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oals for Jan 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90720" y="129528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plete unresolved LB com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lause 1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inish MAC pics pro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lause 4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How to encode duration info for multirate ed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lause 6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abled clause 6 comment 1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95/247 motion from wed plenary “duration into PLCP header” text not edited to reflect this 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lause 6.7 re correcting state machine errors, comments to fix accepted, but text not edited y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400" spc="-1" strike="noStrike">
                <a:solidFill>
                  <a:srgbClr val="00279f"/>
                </a:solidFill>
                <a:latin typeface="Arial"/>
                <a:ea typeface="Arial"/>
              </a:rPr>
              <a:t>impact of sec 4 change of last frag to more fragments causes ripple edit in state machi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Figure 6.3 edit needed due to lack of vis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General comments - did anyone process the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oals for Jan 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90720" y="129528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plete D2 draft editing using D2.1 as 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Use output of Nov mtg (D2.1) to complete D2 LB comment processing resulting in D2.2 (D3.0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This Week’s Work Summa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ally good progress on LB commen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MAC chair would like to personally thank all involved for the long hours and extra effort that enabled us to accomplish this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279f"/>
                </a:solidFill>
                <a:latin typeface="Arial"/>
                <a:ea typeface="Arial"/>
              </a:rPr>
              <a:t>Everyone did a Great Job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group repor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at’s all for now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This Week’s Work Summa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las, despite the best laid plain of mice and men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e do have a few (&lt;6) unresolved com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LB reference papers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MAC group will not be asking the plenary to approve each paper individu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e papers have been incorporated into the revised draft clau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95/137R2 - IBSS pwr mg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: To approve with correction by  simon: his LB comment re sec 8.2.2.4G “beacon -&gt; atim window (typ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0, 0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95/196 - WEP: MSDU vs MPDU revisi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: to adopt 95/1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, 6,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aper NOT ado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ecision is to apply WEP to MP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Therefore, text in clauses has been corrected to indicate WEP on MP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95/198 - WEP: rejection of plain text Data frames MIB tog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tion: to adopt 95/1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6, 0,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