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E7BBE9F-E798-4DC1-A79F-584AC4331619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1st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ugust 28-3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August 2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26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findings ad-hoc pow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utline conformance clause to correspond to D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rt Conformance Tes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k on comments on Draft Standard (under L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CF!MAC|PH!PH!CF!MAC|PH!PH!CF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TS!   |DS!FH!TS!   |DS!FH!TS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PHY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!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Conformance |PH!PH!CF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   Test    |DS!FH!TS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         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       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August 2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 Test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BC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1st Session of meetings of IEEE P802.11 Wireless Local Area Networks  Tentative Agenda</dc:title>
</cp:coreProperties>
</file>