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7924680" cy="6324480"/>
          </a:xfrm>
          <a:prstGeom prst="roundRect">
            <a:avLst/>
          </a:prstGeom>
          <a:noFill/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203480" y="6545160"/>
            <a:ext cx="3591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EEE 802.11 MAC report  Nov 1995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oc 95/2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070760" y="6545160"/>
            <a:ext cx="954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vid Bag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Nov ‘95 MAC group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1905120"/>
            <a:ext cx="45720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2895480"/>
            <a:ext cx="4572000" cy="144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618ffd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4648320"/>
            <a:ext cx="45720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71800" y="3276720"/>
            <a:ext cx="2895480" cy="102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00279f"/>
                </a:solidFill>
                <a:latin typeface="Arial"/>
                <a:ea typeface="Arial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743200" y="4724280"/>
            <a:ext cx="3352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098960" y="2109960"/>
            <a:ext cx="628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5/201 - 6.2.6.3 retry li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to adopt 95/2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2, 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5/203 - Assoc / Reassoc relation cor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to adopt 95/2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1, 0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5/206 - frag vs dwell bound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to adopt 95/2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mend to not del last deleted para on pg 2 of 2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mend vote: 9, 7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mend: name mib var to match sec 8 (“frag threshold vs frag paylo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mend vote: 16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in motion vote: 12, 3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5/207 - 6.2.5 Back off t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to adopt 95/2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0, 1,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Uncompress TIM pa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208 - Uncompress TIM / trailing z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209R1 - Uncompress Tim / trailing &amp; leading z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to adopt either 208 or 209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ote: 6,5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vote for 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dopt 208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dopt 209R1: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bstain: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sult: 95/209R1 adop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5/210 - Association: different states between st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to adopt 95/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4, 0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5/211 - WEP: Multiple default key sup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 to adopt 95/2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5, 1,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5/212 - Connection mgt stuff hanging around  in D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 to adopt 95/2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2, 1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5/213 - Status code fill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 to adopt 95/21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im: move to change reason 13 to “Association denied because the requesting STA is not authent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11, 0,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refer to mac sub-grp working thru sec 4 com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un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D2 Letter Ballot Comment Re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ug ‘95 Goals for Nov ‘95 mt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12952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Quick votes on LB reference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extended discussion, &lt; 5 min each su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roces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all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D2 LB com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view initial MAC PICS Pro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tal comments: 1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echnical comments: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nresolved subjects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Highligh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issing pics pro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ferences to other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ment and Draft text file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1cmts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1draft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 to adopt Comment and Draft text fi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10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31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tal comments: 2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echnical comments: 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nresolved subject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Highligh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ment 81, 107 re restricting ESS to MAC layer components and creating a M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oved to not adopt comment 81/107 propos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ote: 11, 0,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ment 119, 140 re must define IAP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oved to not adopt comment 119 &amp; 14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ote: 9, 0,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ments 238-241 - Layer model incorrect, needs updating (missing top. multiple same name SA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nstructions from MAC grp re add data sap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ote: u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ment and Draft text file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2cmts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2draft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 to adopt Comment and Draft text fi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9, 0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34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tal comments: 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echnical comments: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nresolved subject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Highligh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ervice primitives corrected to match 802.2 199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eclined: Include encapsulated LLC info, declined by sec 4 group as no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ment and Draft text file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3cmts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3draft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 to adopt Comment and Draft text fi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9, 0,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9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tal comments: 2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echnical comments: 1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nresolved subject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how to encode duration info for multi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Using Plenary guidance from W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ext did not et incorporated due to lack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ditor refer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 10,1,5 to remove clause 1.5 - editors to accomplish after meet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igures need editing by someone who has visio to complete text ed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Highligh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eclined proposal to encapsulate non-802 link layer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plit Pwr Field into pwr bit / more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Kept Existing to/from DS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moved vestiges of connection m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hanged IBSS BSSID from MAC adr to TSF derived B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rified bit &amp; octet 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ncorporated 95/137R1 (IBSS pwr mg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ncorporated 95/209R1 (tim compres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moved regulatory domain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pecified status and reas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Updated and clarified fame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ment and Draft text file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4cmts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4draft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 to adopt Comment and Draft text fi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16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30, 2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tal comments: 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echnical comments: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nresolved subject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Highligh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ncorporated pap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196 (WEP on MPD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198 (exclude unencrypted MPD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211 (Key ID fie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212 (WEP edits missed from D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High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eclin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ke WEP mand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EP CRC 32-&gt;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bine Reassoc and A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oposed deletion of shared key authent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ment and Draft text file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5cmts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5draft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 to adopt Comment and Draft text fi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dopt all but resolution related to 95/248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13, 0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dopt 95/248 recommendation (to decline 95/248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8, 2,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7, 1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sc Su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ugust MAC minutes approved u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tal comments: 3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echnical comments: 2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nresolved su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ne defe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Highligh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pproved documents included: 201, 206, 207 &amp; 174 &amp; 1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xcepting the above papers, no functionality has been changed by the comments resolved. The text has been changed/clarified to reflect the current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eleted subclause 6.1.5 (suggested by many comments) which repeated Data Servic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etty much re-wrote wording of subclause 6.2 because of many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pecifying references to MIB variables a l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rified NAV setting and clearing (not changed, just clarifi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ounded CF period for max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ferred to MAC grou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#197 - Matt, increasing the reliability of broad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otion to decline adoption of clause 6 comment 198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ove to lay motion on table: 6, 4, 4 - t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#49 - Apple patent issue - defer to V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pple patent comment from Ed Gei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otion to decline comment to remove RTS/CTS or approach apple for patent lice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ote: 11, 2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6 editing not quite comple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95/247 motion from wed plenary “duration into PLCP header” text not edited to reflect this 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use 6.7 re correcting state machine errors, comments to fic accepted, but text not edited y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mpact of sec 4 change of last frag to more fragments causes ripple edit in state mach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igure 6.3 edit needed due to lack of vis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ment and Draft text file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6cmts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6draft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 to adopt Comment and Draft text fi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12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8, 1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tal comments: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echnical comments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nresolved subjects: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Highligh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change ed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oth tech comments withdrawn by auth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ment and Draft text file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7cmts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7draft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 to adopt Comment and Draft text fi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ote: none needed as all changes editorial in this s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tal comments: 1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echnical comments: 1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nresolved subjects: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Highligh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ostly minor clar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nsistency updates to support other 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wr mgt for PCF im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ment and Draft text file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8cmts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8draft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 to adopt Comment and Draft text fi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12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31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lenary mo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hat the resolution of D2 LB comments adopted during this week be reflected in the contents of Draft D2.1 (with change ba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3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31, 1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oals for Jan 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90720" y="12952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 unresolved LB com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use 1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inish MAC pics pro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use 4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How to encode duration info for multirate e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use 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abled clause 6 comment 1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95/247 motion from wed plenary “duration into PLCP header” text not edited to reflect this 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use 6.7 re correcting state machine errors, comments to fix accepted, but text not edited y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impact of sec 4 change of last frag to more fragments causes ripple edit in state machi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igure 6.3 edit needed due to lack of vis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General comments - did anyone process the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oals for Jan 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12952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 D2 draft editing using D2.1 as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se output of Nov mtg (D2.1) to complete D2 LB comment processing resulting in D2.2 (D3.0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his Week’s Work Summ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ally good progress on LB commen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MAC chair would like to personally thank all involved for the long hours and extra effort that enabled us to accomplish thi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Everyone did a Great Jo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group rep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at’s all for now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his Week’s Work Summ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las, despite the best laid plain of mice and men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do have a few (&lt;6) unresolved com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ference papers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MAC group will not be asking the plenary to approve each paper individ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papers have been incorporated into the revised draft cla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5/137R2 - IBSS pwr mg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To approve with correction by  simon: his LB comment re sec 8.2.2.4G “beacon -&gt; atim window (typ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0, 0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5/196 - WEP: MSDU vs MPDU revisi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to adopt 95/1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, 6,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aper NOT ado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ecision is to apply WEP to MP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refore, text in clauses has been corrected to indicate WEP on MP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5/198 - WEP: rejection of plain text Data frames MIB tog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to adopt 95/1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6, 0,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Bagby</dc:creator>
  <dc:description/>
  <dc:language>en-US</dc:language>
  <cp:lastModifiedBy>Vic Hayes</cp:lastModifiedBy>
  <cp:revision>0</cp:revision>
  <dc:subject/>
  <dc:title>November '94 MAC group agenda</dc:title>
</cp:coreProperties>
</file>