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90D7A95F-8346-4D38-BBD8-EC741C0148AD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8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6-10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st Palm Beach, F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rch 6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March 6, 08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st Palm Bch, F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ma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ta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ui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P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0016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543120"/>
                <a:tab algn="l" pos="4286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 resolve the ballo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 permitting: Conformanc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Monday      |  Tuesday   |  Wednesday |   Thursday |Friday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c!MAC!DS!FH!IR|MAC!DS!FH!IR|MAC!DS!FH!IR|MAC!DS!FH!IR| 802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!  !  !  |   !  !  !  |   !  !  !  |   !  !  !  |Plen-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!  |   !  !  !  |   !  !  !  |   !........|   ary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!  |   !  !  !  |   !  !  !  |   !   PHY  |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802!            |MAC!DS!FH!IR|Full 802.11 |Full 802.11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ln!   !  !  !  |   !  !  !  |Resolve     |   Repor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!   !  !  !  |   !  !  !  |  outputs   |   Outpu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...|   !  !  !  |Cross issues|  Next mtng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Full 802.11  |   !  !  !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Full 802.11    |MAC!DS!FH!IR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    |   !  !  !  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ch 6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line Village mee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-94/2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-95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ch 6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imu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tter ballot result,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7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tter ballot result, San Jose Recommend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5/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ch 6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ents on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March 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1 DS re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2 IR re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3 FH re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ch 9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ch 9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March 17 and March 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