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83808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6292800" y="555480"/>
            <a:ext cx="2516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–95/139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541680" y="555480"/>
            <a:ext cx="2001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uration/ID Enco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320" y="1447920"/>
            <a:ext cx="8083800" cy="0"/>
          </a:xfrm>
          <a:prstGeom prst="line">
            <a:avLst/>
          </a:prstGeom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4116240" y="6332400"/>
            <a:ext cx="73512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B4EDB97D-E74F-4698-9F4F-372EA9EEB2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5938920" y="6308640"/>
            <a:ext cx="2824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ichael Fischer, Digital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528480" y="63324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641520" y="555480"/>
            <a:ext cx="103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,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Improved encoding of Duration/ID 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600200"/>
            <a:ext cx="7924680" cy="177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fficiency of certain aspects of the Duration/ID field can be improved, with no loss of functionality, by adding usage–identification bits to this f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proposed encoding uses the most–significant bits to indicate the type of information in the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28800" y="3505320"/>
            <a:ext cx="6095880" cy="2144520"/>
            <a:chOff x="1828800" y="3505320"/>
            <a:chExt cx="6095880" cy="2144520"/>
          </a:xfrm>
        </p:grpSpPr>
        <p:sp>
          <p:nvSpPr>
            <p:cNvPr id="50" name=""/>
            <p:cNvSpPr/>
            <p:nvPr/>
          </p:nvSpPr>
          <p:spPr>
            <a:xfrm>
              <a:off x="182880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1460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200400" y="426708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19112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28800" y="388620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 txBox="1"/>
            <p:nvPr/>
          </p:nvSpPr>
          <p:spPr>
            <a:xfrm>
              <a:off x="1889280" y="3639960"/>
              <a:ext cx="641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2575080" y="3639960"/>
              <a:ext cx="641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 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260880" y="3639960"/>
              <a:ext cx="91296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ITS 13–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924680" y="3505320"/>
              <a:ext cx="0" cy="21333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50532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2670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2041560" y="40212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28800" y="47242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51814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28800" y="5638680"/>
              <a:ext cx="6095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204156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2041560" y="49356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2041560" y="53928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 txBox="1"/>
            <p:nvPr/>
          </p:nvSpPr>
          <p:spPr>
            <a:xfrm>
              <a:off x="2727360" y="49356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 txBox="1"/>
            <p:nvPr/>
          </p:nvSpPr>
          <p:spPr>
            <a:xfrm>
              <a:off x="272736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727360" y="53928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00400" y="35053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565440" y="4478400"/>
              <a:ext cx="2682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3260880" y="49356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– 163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3260880" y="53928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– 1638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2879640" y="4021200"/>
              <a:ext cx="861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0 – 327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5394240" y="3639960"/>
              <a:ext cx="7254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4251240" y="4021200"/>
              <a:ext cx="363852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ration (microseconds from end of this fram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251240" y="4478400"/>
              <a:ext cx="357984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ention free frames without a CID or an 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4251240" y="4935600"/>
              <a:ext cx="2757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ion ID (CID) for TBS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4251240" y="5392800"/>
              <a:ext cx="2622600" cy="25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285840" indent="-28584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ation ID (SID) in PS–Poll fra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Benefits of this improved en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existing Duration/ID field is unambiguous to the pair of communicating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ever, during the contention–free period, the Duration/ID field may be ambiguous to other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th this enco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ions that miss the CF–End frame can clear their NAVs upon detection of DCF traffic, becaus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CF traffic has a Duration/ID value &gt;327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AV update is simpler since stations do not have to decode frame type/subtype to know if this field contains a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(slight) risk is eliminated  that a station might set its NAV too high by misinterpreting a CID as a d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tention free period integrity is improved because newly active stations can passively detect a CF–period in prog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Drawbacks to this improved enco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rawbacks are appar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urations as long as 32767 microseconds can be represe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longest duration that needs to be represented (assuming the PHY could handle a full–length MSDU with WEP without fragmentation) is about 20K microseco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16383 connections can be identified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practical number of connections with the available bandwidth of the wireless PH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p to 16383 stations can be identified per B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practical number of stations associated with a single acces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is far exceeds the number of power–managed stations that can receive traffic advisories using the defined TIM enco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  <a:ea typeface="Arial"/>
              </a:rPr>
              <a:t>Mo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6002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modified encoding for the Duration/ID field proposed in document 95/139 be adopted and the modified text on Duration/ID encoding in 95/139 be placed into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 #2</a:t>
            </a:r>
            <a:br>
              <a:rPr sz="24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TE:  The subject matter of Motion #2 is fully independent of the encoding used for duration values.  Motion #2 can be adopted whether or not Motion #1 is adop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at the new text from document 95/139 that specifies how duration values are calculated for the various frame types &amp; subtypes be adopted and placed into the draft stand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White</dc:creator>
  <dc:description/>
  <dc:language>en-US</dc:language>
  <cp:lastModifiedBy>R22 Standards</cp:lastModifiedBy>
  <cp:revision>0</cp:revision>
  <dc:subject/>
  <dc:title>Improved encoding of Duration/ID field</dc:title>
</cp:coreProperties>
</file>