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45720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685800" y="6324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174600"/>
            <a:ext cx="909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uly 1995</a:t>
            </a:r>
            <a:endParaRPr b="0" lang="en-US" sz="1400" spc="-1" strike="noStrike">
              <a:solidFill>
                <a:srgbClr val="000000"/>
              </a:solidFill>
              <a:latin typeface="Arial"/>
            </a:endParaRPr>
          </a:p>
        </p:txBody>
      </p:sp>
      <p:sp>
        <p:nvSpPr>
          <p:cNvPr id="3" name=""/>
          <p:cNvSpPr txBox="1"/>
          <p:nvPr/>
        </p:nvSpPr>
        <p:spPr>
          <a:xfrm>
            <a:off x="6232680" y="174600"/>
            <a:ext cx="229248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Doc: IEEE P802.11-95/157a</a:t>
            </a:r>
            <a:endParaRPr b="0" lang="en-US" sz="1400" spc="-1" strike="noStrike">
              <a:solidFill>
                <a:srgbClr val="000000"/>
              </a:solidFill>
              <a:latin typeface="Arial"/>
            </a:endParaRPr>
          </a:p>
        </p:txBody>
      </p:sp>
      <p:sp>
        <p:nvSpPr>
          <p:cNvPr id="4" name=""/>
          <p:cNvSpPr txBox="1"/>
          <p:nvPr/>
        </p:nvSpPr>
        <p:spPr>
          <a:xfrm>
            <a:off x="593640" y="6351480"/>
            <a:ext cx="8953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5" name=""/>
          <p:cNvSpPr txBox="1"/>
          <p:nvPr/>
        </p:nvSpPr>
        <p:spPr>
          <a:xfrm>
            <a:off x="4251240" y="6351480"/>
            <a:ext cx="662040" cy="33876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page </a:t>
            </a:r>
            <a:fld id="{BCF70A75-765C-42A0-9743-7CF24E45E640}"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 name=""/>
          <p:cNvSpPr txBox="1"/>
          <p:nvPr/>
        </p:nvSpPr>
        <p:spPr>
          <a:xfrm>
            <a:off x="6248520" y="6351480"/>
            <a:ext cx="220968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Times New Roman"/>
                <a:ea typeface="Times New Roman"/>
              </a:rPr>
              <a:t>McDonald, Motorola</a:t>
            </a:r>
            <a:endParaRPr b="0" lang="en-US" sz="12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Operation in an Interference Limited Environment</a:t>
            </a:r>
            <a:endParaRPr b="0" lang="en-US" sz="4400" spc="-1" strike="noStrike">
              <a:solidFill>
                <a:srgbClr val="000000"/>
              </a:solidFill>
              <a:latin typeface="Arial"/>
            </a:endParaRPr>
          </a:p>
        </p:txBody>
      </p:sp>
      <p:pic>
        <p:nvPicPr>
          <p:cNvPr id="46" name="" descr=""/>
          <p:cNvPicPr/>
          <p:nvPr/>
        </p:nvPicPr>
        <p:blipFill>
          <a:blip r:embed="rId1"/>
          <a:stretch/>
        </p:blipFill>
        <p:spPr>
          <a:xfrm>
            <a:off x="1828800" y="2905200"/>
            <a:ext cx="5477040" cy="103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609480"/>
            <a:ext cx="784872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is submission addresses the issue of high capacity system applicatio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n such applications, cellular and microcellular systems, for instance, become interference limite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With increased demand for capacity, cell subdivision occurs which increases the propensity for interference limited oper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n interference limited operation, there is such prevalent reuse of frequencies that in hours of peak use there is frequently a low level signal present on all or many frequencies or channel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9"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For WLANs, a three dimensional office building will provide the scenario for interference limited opera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is paper suggest that the Mac State Machine be amended to allow IEEE 802.11 systems to operate efficiently in an interference limited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Illustration of Interference Limited Operation</a:t>
            </a:r>
            <a:endParaRPr b="0" lang="en-US" sz="4400" spc="-1" strike="noStrike">
              <a:solidFill>
                <a:srgbClr val="000000"/>
              </a:solidFill>
              <a:latin typeface="Arial"/>
            </a:endParaRPr>
          </a:p>
        </p:txBody>
      </p:sp>
      <p:pic>
        <p:nvPicPr>
          <p:cNvPr id="51" name="" descr=""/>
          <p:cNvPicPr/>
          <p:nvPr/>
        </p:nvPicPr>
        <p:blipFill>
          <a:blip r:embed="rId1"/>
          <a:stretch/>
        </p:blipFill>
        <p:spPr>
          <a:xfrm>
            <a:off x="2152800" y="2657520"/>
            <a:ext cx="4830840" cy="1539720"/>
          </a:xfrm>
          <a:prstGeom prst="rect">
            <a:avLst/>
          </a:prstGeom>
          <a:ln w="0">
            <a:noFill/>
          </a:ln>
        </p:spPr>
      </p:pic>
      <p:sp>
        <p:nvSpPr>
          <p:cNvPr id="52" name=""/>
          <p:cNvSpPr txBox="1"/>
          <p:nvPr/>
        </p:nvSpPr>
        <p:spPr>
          <a:xfrm>
            <a:off x="1889280" y="4632480"/>
            <a:ext cx="5627520" cy="118728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Signal A is undesi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Signal B is desired</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It is important that Signal B be receiv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762120"/>
            <a:ext cx="7924680" cy="5486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The Mac State Machine provide the option for a receiving station to reject an incoming compliant IEEE 802.11 transmission as soon as the receiving station determines that the packet is not intended for the station it. Once rejected, the station would be free to receive another signal even if that signal begins before the scheduled end of the rejected signa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85800" y="12193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Straw vote to support the idea of addressing the interference limited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McDonald</dc:creator>
  <dc:description/>
  <dc:language>en-US</dc:language>
  <cp:lastModifiedBy>R22 Standards</cp:lastModifiedBy>
  <cp:revision>0</cp:revision>
  <dc:subject/>
  <dc:title>95/1j2a</dc:title>
</cp:coreProperties>
</file>