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067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-15840" y="6523200"/>
            <a:ext cx="971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7908840" y="6523200"/>
            <a:ext cx="963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 Ed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380880"/>
            <a:ext cx="90676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136440" y="98280"/>
            <a:ext cx="984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ly 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6613560" y="98280"/>
            <a:ext cx="22305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802.11-95/1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4098960" y="6523200"/>
            <a:ext cx="75240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DEAEA577-36FF-4C98-9400-1B7FD0BAF33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304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Editors’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4479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raft 1.2 is available on the file server: 6draft12.zip and 2draft12.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corporates the results of all letter ball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second file of the individual sections is also available on the server: 6dr12sct.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ndividual sections are to be used to provide the official changes to the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ch document is “protected” for revisions, allowing changes to be incorporated from several sources without requiring manual editting (using Word 6 merge revisions capabil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reate a separate submission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ste only what you need from the section file into your submission to save paper/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ob O'Hara</dc:creator>
  <dc:description/>
  <dc:language>en-US</dc:language>
  <cp:lastModifiedBy>R22 Standards</cp:lastModifiedBy>
  <cp:revision>0</cp:revision>
  <dc:subject/>
  <dc:title>Editors' Report</dc:title>
</cp:coreProperties>
</file>