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A909E4C3-B53C-438C-A90D-659406EE38B6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1st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 28-31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aum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ssion starts on Monday, August 28, 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5/126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findings ad-hoc 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utline conformance clause to correspond to D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rt Conformance Tes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k on comments on Draft Standard (under L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Monday    |   Tuesday  | Wednesday  |  Thursda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802.11    |PH!PH!CF!MAC|PH!PH!CF!MAC|PH!PH!CF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MAC / PHY  |DS!FH!TS!   |DS!FH!TS!   |DS!FH!TS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............|  !  !  !   |..!..!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  !  !  !   | PHY !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MAC|  !  !  !   |     !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Conformance |PH!PH!CF!MAC|   802.11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   |    Test    |DS!FH!TS!   |  Repor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!  !  !   |            |  !  !  !   |  Outpu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!  !  !   |            |  !  !  !   | Next mtng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Aug 2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lt Lake City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88 + 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ui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15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August 2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1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Aug 3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 Te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Aug 3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September 1 and October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-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aumburg, 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riot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BC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1st Session of meetings of IEEE P802.11 Wireless Local Area Networks  Tentative Agenda</dc:title>
</cp:coreProperties>
</file>