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F829959-40BF-461F-A193-B478359D73E9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1st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8-31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au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August 2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126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findings ad-hoc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line conformance clause to correspond to D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Conformance T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 on comments on Draft Standard (under L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Wednesday  |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CF!MAC|PH!PH!CF!MAC|PH!PH!CF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AC / PHY  |DS!FH!TS!   |DS!FH!TS!   |DS!FH!TS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  !  !  !   |..!..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  !   | PHY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    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Conformance |PH!PH!CF!MAC|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    Test    |DS!FH!TS!   |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 |            |  !  !  !   |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          |  !  !  !   |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ust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 Te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, 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BC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1st Session of meetings of IEEE P802.11 Wireless Local Area Networks  Tentative Agenda</dc:title>
</cp:coreProperties>
</file>