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C734AD7-D282-4000-8913-A5A738615FB0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10-1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10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July 10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draft D2.0 for letter ballot among working group for approval for Sponsor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terOperability Lab invol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  |  Tuesday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 MAC !  FH  |MAC!DS!FH!IR|MAC!DS!FH!IR|MAC!DS!FH!IR| 802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  !      |   !  !  !  |   !  !  !  |   !  !  !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  !      |   !  !  !  |   !  !  !  |   !........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  !      |   !  !  !  |   !  !  !  |   !   PHY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   |MAC!  PHY   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Plenary      |   !        |Resolve    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   |   !........|  outputs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.|   !DS!FH!IR|Cross issues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Full 802.11  |   !  !  !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   |           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   |           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Palm Beach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#1 Salt Lake Cit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#2 Salt Lake City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Lab sign-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 DS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2 IR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3 FH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