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21376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A167463D-CE87-44A0-8FC4-E7B3776E84AC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9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8954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8-11,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lt Lake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y 8, 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doc.: IEEE P802.11-95/19 for 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solve the remaining issues from the letter ballot on D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7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Monday    |   Tuesday  | Wednesday  |  Thursda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802.11    |PH!PH!PH!MAC|PH!PH!PH!MAC|PH!PH!PH!MAC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MAC / PHY  |DS!FH!IR!   |DS!FH!IR!   |DS!FH!IR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............|  !  !  !   |..!..!..!   |  !  !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PH!MAC|  !  !  !   |    PHY !   |  !  !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IR!MAC|  !  !  !   |        !   |  !  !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PH!MAC|   802.11   |PH!PH!PH!MAC|   802.11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IR!   | MAC / PHY  |DS!FH!IR!   |  Reports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!  !  !   | Interface  |  !  !  !   |  Outputs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!  !  !   |  !  !  !   |  !  !  !   | Next mtng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May 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st Palm Beach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3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ubject to qu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May 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istration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0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4/2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uesday PM, May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l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en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y 1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y 1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May 19 and Jun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t Lake City, 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lt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ui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8-3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aumburg, 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riot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P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