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59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May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‘95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hi-lights - Sec 1,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1, 2, 3, (small portions of) 4, 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recommends  95/95 and 95/96 adoption, this completes processing of all comments in sec 1, 2, 5.4 from D1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1,2 Comment table updated, will be distributed as doc 95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technical LB comments on sec 1, 2, 3 now add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95 Security Recs for D1.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802.11 adopt the changes described in these slides by adopting the corresponding detailed text changes from document 95/9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22-0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PRNG Motion (D96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802.11 adopt RC4 as the WEP PRNG algorithm provided that the following conditions are satis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) RSA to send a letter to IEEE satisfying the requirements for “fair and equitable” availability of RC4 before the July 1995 IEEE 802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) RSA to further state in a letter to IEEE that it will make RC4 available under terms that are identical for anyone who wishes to use RC4 for an 802.11 WEP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inu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PRNG Motion (D96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29528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) RSA specifies liscensing terms for 802.11 WEP implementations which include at least the following s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ittle or no fee up front, with a per unit roya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one time, per company fee, with no per unit roya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8-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2-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Hi-lights - Sec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D1 LB comments delt with except missing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.2.2 missing text re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S will write missing text and submit for LB before July. will derive from iso 82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be doc 95/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1 LB tables: No new dist of doc needed all done before D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ed D1.2 text in 95/102 - will be in May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Rec Hi-lights - Sec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1 comment tables updated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be doc 95/115 in ma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ed D1.2 text in doc 95/116 - will be in May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Rec Hi-lights - Sec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0-5.2 in d1.1 - some comments not processed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3 - all comment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perframe concept updated (was not a frame was a time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 inteval and CF period sync work - they are integral multi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 and PCF must now be same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clairification for several su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period not constrained to single medium occupancy (dw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period starts with a 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Rec Hi-lights - Sec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4 coverdd by securit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5, 5.6 in D1.1 - all d1 comments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7 incomplete - open comments re multi-rat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Rec Hi-lights - Sec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8 state machines - replacement offer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be in May L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 = 95 /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to present as part of LB: 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c 95/101 is proposed D1.2 sec 5 text - will be in May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c 95/100 is updated D1 comments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Tech Rec Hi-lights - Sec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wer managemen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ssoci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c 95/106 = Proposed D1.2 text - will be in May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c 95/107 is updated D1 commen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w submission for a S7 reassoc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will be a 95/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ably in 2nd ma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rom Mar 95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Incorporate April LB changes to create D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inish processing D1 letter ballot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sulting is proposed changes for incorporation into D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July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nd D1.3 (D1.2 + July work) MAC chapters for 802.11 LB approval to forward to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perating rule will be “no putting decisons off”. There will be a decision for all issues in D1.3 by he end of the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uly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pen subject from D1 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se are the July 95 MA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D1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D1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D1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c 3.2.2 review and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pen subject from D1 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4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75% of  D1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 formats for connec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nection frame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pen subject from D1 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maining D1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.1 multi-rat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/cts usag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ike to create reponse for 2nd mailing for this com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gmentation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.7 not addressed yet, but all comments are either easy or editorial, will be complete in j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pen subject from D1 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ill empty section as of D1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create section before July (Doc 95/1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reg E., mike f, tom T, bob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ll for input from each ph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ord by Jim M, for all ph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an (by Chris), ed geiger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T (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pen subject from D1 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c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D1 7.2-7.3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7.1 - various subjects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ion of may’s work in parts of 7  (M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B review to be done in J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tbd’s present after May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r MAC minute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apers / subjects /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r LB results incorporated into D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1 LB comment processing continued using D1.1 as new text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lmos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ll D1 comments proc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4 - new mac state machines - mik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placement offering for D1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be in LB as proposal for D1.2 state machine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6 - mac/phy inteface functions  - mik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thdrawn form this mtg by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 - proposed value for contetnion window - 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a value of 32 slots be adopted for CW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3-11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st straw poll re values for C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&lt; 8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6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4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&gt; 64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nd straw poll re CW is a Phy dep par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, 1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rd straw re cw is Some dynamic value w/alg TB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0, 7,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Stuart J. Kerry</cp:lastModifiedBy>
  <cp:revision>0</cp:revision>
  <dc:subject/>
  <dc:title>November '94 MAC group agenda</dc:title>
</cp:coreProperties>
</file>