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2062080" y="-1120680"/>
            <a:ext cx="816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v, 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38320" y="25560"/>
            <a:ext cx="5816520" cy="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288200" y="-317520"/>
            <a:ext cx="735120" cy="3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3EE710C8-1843-4659-B87F-3921815E06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25640" y="-755640"/>
            <a:ext cx="54288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114640" y="7688160"/>
            <a:ext cx="5772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114640" y="-617400"/>
            <a:ext cx="5772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5575320" y="-1104840"/>
            <a:ext cx="232884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c: IEEE P802.11-95/2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>
            <a:off x="2070000" y="7810560"/>
            <a:ext cx="855720" cy="3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ge </a:t>
            </a:r>
            <a:fld id="{0149E7D1-1A75-44AD-B83E-102151CE59FE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 txBox="1"/>
          <p:nvPr/>
        </p:nvSpPr>
        <p:spPr>
          <a:xfrm>
            <a:off x="5575320" y="7810560"/>
            <a:ext cx="21607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m Diepstraten, AT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057400" y="1752480"/>
            <a:ext cx="57913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uthentication Letter Ballot comments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m Diepstrat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&amp;T WCN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ieuwege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070000" y="-668160"/>
            <a:ext cx="578484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ireless Access Method and Physical Layer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050920" y="-592200"/>
            <a:ext cx="57974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Authentication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43000" y="-160200"/>
            <a:ext cx="5805360" cy="70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is document intends to analyse the functionality of the different authentication schemes that are currently defined in D2 draft, and tries to identify the differences in their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re are 3 authentication mechanisms defin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en Authent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ared Key authent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priatary authent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sic assump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objective for the 802.11 authentication is simply used to bring the wireless link up to the assumed physical standard of a wired link (section 2.4.3.1 par 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 “Open Authentication” that compares the STA address against a “Allowed List” does achieve this basic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ut a station could fraud to be another station by using its SA add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re sophisticated Authentication does only make sense when Privacy is used on all data traffic, so when WEP is 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wise stations can always fake to be an other station to send its information any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f WEP is not used, then a more sophisticated Authentication scheme does not prevent stations to fake ident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f a station does know the WEP key, then that is equivalent to a station being physically connected to  the wired medi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 then we have achieved the spirit of the “Wired Equivelancy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 when WEP=on then knowledge of the WEP key does accomplish the “Wired Equivelancy”, and provide a level of implicit authent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050920" y="-592200"/>
            <a:ext cx="57974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Authentication 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043000" y="2811600"/>
            <a:ext cx="5805360" cy="40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n Sytem Authent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ither no Authentication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 can verify allowed membership against SA l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is makes sense with WEP = of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t does not protect against fake ident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hen WEP=on then knowledge of same key on both end is required to allow commun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 this is implicit authentic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f Station is not who he claims to be does not make any difference for privacy, because it has the key, so it can see all traffi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 Implicit authentication makes a lot of sense from a privacy point of vie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 does accomplish the “Wired Equivelancy” go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092320" y="44280"/>
            <a:ext cx="60102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050920" y="-592200"/>
            <a:ext cx="57974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Shared Key Authentic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043000" y="4419720"/>
            <a:ext cx="5805360" cy="24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hared Key Authentic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eds WEP algorithm + Shared Key in Authentication pha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he same key is used for Privacy and Authentication (no separate key provisions in MIB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P can do an additional membership check against SA li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sing Shared Key Authentication, without using WEP for data privacy does not make sense from privacy point of view. (We are not doing security but privacy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 Shared Key Authentication does also rely on knowledge of the same key on both end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hat is the value of Shared Key versus Open System Authentication when WEP is on??????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 why bother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000" spc="-1" strike="noStrike">
                <a:solidFill>
                  <a:srgbClr val="fc0128"/>
                </a:solidFill>
                <a:latin typeface="Arial"/>
                <a:ea typeface="Arial"/>
              </a:rPr>
              <a:t>Conclusion: Shared Key authentication is equivalent to Open System authentication, because they both depend on the knowledge of the same key on both end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000" spc="-1" strike="noStrike">
                <a:solidFill>
                  <a:srgbClr val="fc0128"/>
                </a:solidFill>
                <a:latin typeface="Arial"/>
                <a:ea typeface="Arial"/>
              </a:rPr>
              <a:t>Recommendation: Delete Shared Key Authentication metho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843200" y="82440"/>
            <a:ext cx="620388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050920" y="-592200"/>
            <a:ext cx="57974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Propriatary Authentic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043000" y="4487760"/>
            <a:ext cx="5805360" cy="26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priatary algorithm possi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n take relative long time depending on algorith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refore desire for pre-authentication possibil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ation can be authenticated with multiple APs and Stations at the same time according to current sche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is basic requirement to allow pre-authent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re is a desire for support of other authentication metho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is is provided by the mechanism as currently defin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lthough from a privacy point of view it does not  provide additional protection when the WEP key is know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27320" y="311040"/>
            <a:ext cx="543564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050920" y="-592200"/>
            <a:ext cx="57974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Maintaining Authentication St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043000" y="-160200"/>
            <a:ext cx="5805360" cy="73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tions need to be able to be authenticated with multiple stations at same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sicly to allow pre-authentication to prevent long propriatary authentication delay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urrently each TA/RA pair must maintain a authentication state vari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uthentication is needed before any traffic can occur between a given station (TA/RA) pai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r an AP this is no problem, because it needs to maintain per station knowledge for all kind of purpos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r a Station in an IS this is default no problem, as long as all traffic is going via the AP (DS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 Ad-Hoc a Station does need to maintain State information for all stations it wants to communicate wit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same is true for a Station in an IS that wants to do direct S-to-S traffic, then it needs to maintain extra Authentication State information for each station that wants to communicate directly, in addition to the A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ffect of Authentication requirement for S-to-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rst transmission to a given station should be a Authentication handshak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f there is a mismatch between state information on both ends then traffic is dropped (although Acked), and there is no feedback about this occur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imilar to suggested changes in AP, rules could be changed such that if such is detected, then a station has to do a deAuthenticate, to get state information on both ends in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wever do we need/want this complexity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thentication and WEP was there primarily to protect the DS, and to prevent to compromise the privacy of the existing wired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Ad-Hoc implicit authentication is achieved when WEP is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is more then sufficient for Ad-Ho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050920" y="-592200"/>
            <a:ext cx="57974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Implicit Authentication in Ad-H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043000" y="-160200"/>
            <a:ext cx="5805360" cy="70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clus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mplicit Authentication is enough for Ad-Ho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 no explicit authentication is need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 no S-to-S state information needs to be maintain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ich is an N to N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lexity reduction for St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is is accomplished by allowing S-to-S traffic in State 1 of Figure 2-8. (To_DS = off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is can also simplify the Associ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fine an Authentication field in the (Re)Association fram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can have the valu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e-authentic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pen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r “Shared Key” if not delet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value is Pre-Authenticate, then an explicit Authentication cycle i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value is open Sytem, then Association can proceed as nor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nly returning status should show separate authentication failure co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ssociation is reduced to two fram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-authentication is still possi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lu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sing implicit “authentication only” for Ad-Hoc allows combined Association/Authentication frames without any loss of capability / flexibil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lso applies to any traffic with To_DS and From_DS both fa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ommendation: Authentication is not needed for Ad-Hoc. So allow direct data frames (To_DS and From_DS both false) also as Class-1 fra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