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062080" y="-112068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,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38320" y="25560"/>
            <a:ext cx="58165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288200" y="-31752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A7F370E-4F87-4C88-A253-E46264E219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25640" y="-755640"/>
            <a:ext cx="542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14640" y="768816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14640" y="-61740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575320" y="-1104840"/>
            <a:ext cx="23288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2070000" y="7810560"/>
            <a:ext cx="855720" cy="3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76C44F6B-8BAA-4154-87E7-658E923FADE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5575320" y="7810560"/>
            <a:ext cx="2160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, AT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7400" y="175248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Letter Ballot comment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&amp;T WC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euwege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70000" y="-668160"/>
            <a:ext cx="578484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Access Method and Physical Layer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43000" y="-160200"/>
            <a:ext cx="5805360" cy="70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document intends to analyse the functionality of the different authentication schemes that are currently defined in D2 draft, and tries to identify the differences in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are 3 authentication mechanisms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priatar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objective for the 802.11 authentication is simply used to bring the wireless link up to the assumed physical standard of a wired link (section 2.4.3.1 par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“Open Authentication” that compares the STA address against a “Allowed List” does achieve this basic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t a station could fraud to be another station by using its SA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sophisticated Authentication does only make sense when Privacy is used on all data traffic, so when WEP is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wise stations can always fake to be an other station to send its information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WEP is not used, then a more sophisticated Authentication scheme does not prevent stations to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know the WEP key, then that is equivalent to a station being physically connected to  the wired med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then we have achieved the spirit of the “Wired Equivelan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when WEP=on then knowledge of the WEP key does accomplish the “Wired Equivelancy”, and provide a level of implicit authent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43000" y="2811600"/>
            <a:ext cx="58053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n Sytem Authent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ther no Authentication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 can verify allowed membership against SA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makes sense with WEP = of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t does not protect against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WEP=on then knowledge of same key on both end is required to allow commun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this is implicit authent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Station is not who he claims to be does not make any difference for privacy, because it has the key, so it can see all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Implicit authentication makes a lot of sense from a privacy point of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does accomplish the “Wired Equivelancy” go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2320" y="44280"/>
            <a:ext cx="6010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Shared Ke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43000" y="4419720"/>
            <a:ext cx="5805360" cy="24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eds WEP algorithm + Shared Key in Authentication ph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same key is used for Privacy and Authentication (no separate key provisions in MIB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 can do an additional membership check against SA l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ing Shared Key Authentication, without using WEP for data privacy does not make sense from privacy point of view. (We are not doing security but privac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Shared Key Authentication does also rely on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Shared Key versus Open System Authentication when WEP is on????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why both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Conclusion: Shared Key authentication is equivalent to Open System authentication, because they both depend on the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ecommendation: Delete Shared Key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43200" y="82440"/>
            <a:ext cx="62038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Propriatar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43000" y="4487760"/>
            <a:ext cx="5805360" cy="26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riatary algorithm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n take relative long time depending on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fore desire for pre-authentication possi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on can be authenticated with multiple APs and Stations at the same time according to current sch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basic requirement to allow pre-authent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a desire for support of other authentication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provided by the mechanism as currently def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hough from a privacy point of view it does not  provide additional protection when the WEP key is kn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7320" y="311040"/>
            <a:ext cx="54356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Maintaining Authentication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43000" y="-160200"/>
            <a:ext cx="5805360" cy="73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be able to be authenticated with multiple stations at sam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ly to allow pre-authentication to prevent long propriatary authentication dela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rrently each TA/RA pair must maintain a authentication state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is needed before any traffic can occur between a given station (TA/RA) p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n AP this is no problem, because it needs to maintain per station knowledge for all kind of purpo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 Station in an IS this is default no problem, as long as all traffic is going via the AP (D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Ad-Hoc a Station does need to maintain State information for all stations it wants to communicate wi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ame is true for a Station in an IS that wants to do direct S-to-S traffic, then it needs to maintain extra Authentication State information for each station that wants to communicate directly, in addition to the 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 of Authentication requirement for S-to-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rst transmission to a given station should be a Authentication handsha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there is a mismatch between state information on both ends then traffic is dropped (although Acked), and there is no feedback about this occu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ilar to suggested changes in AP, rules could be changed such that if such is detected, then a station has to do a deAuthenticate, to get state information on both ends in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wever do we need/want this complexity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WEP was there primarily to protect the DS, and to prevent to compromise the privacy of the existing wired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Ad-Hoc implicit authentication is achieved when WEP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more then sufficient for Ad-H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mplicit Authentication in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43000" y="-160200"/>
            <a:ext cx="5805360" cy="70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icit Authentication is enough for Ad-Ho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explicit authentication i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S-to-S state information needs to be mainta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s an N to N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xity reduction for S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accomplished by allowing S-to-S traffic in State 1 of Figure 2-8. (To_DS = of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can also simplify the Associ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e an Authentication field in the (Re)Association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can have th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-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 “Shared Key” if not de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Pre-Authenticate, then an explicit Authentication cycle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open Sytem, then Association can proceed as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ly returning status should show separate authentication failure c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s reduced to two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authentication is still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implicit “authentication only” for Ad-Hoc allows combined Association/Authentication frames without any loss of capability / flex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so applies to any traffic with To_DS and From_DS both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ation: Authentication is not needed for Ad-Hoc. So allow direct data frames (To_DS and From_DS both false) also as Class-1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Stuart J. Kerry</cp:lastModifiedBy>
  <cp:revision>0</cp:revision>
  <dc:subject/>
  <dc:title/>
</cp:coreProperties>
</file>