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A31FA64B-94FF-4022-A55B-140231884B2D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3rd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nuary 8-11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n D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ssion starts on Monday, January 8, 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5/229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 Diego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 gate       MA/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unresolved LB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D2 draft editing using D2.1 a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utput of this meeting (D2.1) to complete D2 LB comment processing resulting in D2.2 (D3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ize result of ad-hoc on Multi Rate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ize the PICS pro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mit D3.0 for WG Letter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onday  | Tuesday |Wednesday|Thursday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802.11  |PH!PH!MAC|PH!PH!MAC|PH!PH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ADMIN  |DS!FH!   |DS!FH!   |DS!FH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MAC / PHY|  !  !   |..!..!   |.....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|  !  !   | PHY !   | PHY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PHY !MAC|PH!PH!MAC|  802.11 | 802.11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|DS!FH!   |MAC/PHY  |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.....!   |  !  !   |.........|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   |  !  !   |PH!PH!MAC|   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   |  !  !   |DS!FH!   |Next mtng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OPT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IR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an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an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 from the ad-hoc on Multi-Rate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an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an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an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J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September 1 and Octobe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3rd Session of meetings of IEEE P802.11 Wireless Local Area Networks  Tentative Agenda</dc:title>
</cp:coreProperties>
</file>