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81120" y="426960"/>
            <a:ext cx="2338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s for document 95/014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83059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95160" y="8352000"/>
            <a:ext cx="158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tat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370400" y="835200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Fischer,  Digital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2954160" y="835200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3413160" y="83520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D8B7EE62-7946-4DD7-AE78-48B330DE0EB5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4100400" y="426960"/>
            <a:ext cx="217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–95/014A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066680" y="4191120"/>
            <a:ext cx="4876920" cy="152280"/>
            <a:chOff x="1066680" y="4191120"/>
            <a:chExt cx="4876920" cy="152280"/>
          </a:xfrm>
        </p:grpSpPr>
        <p:sp>
          <p:nvSpPr>
            <p:cNvPr id="47" name=""/>
            <p:cNvSpPr/>
            <p:nvPr/>
          </p:nvSpPr>
          <p:spPr>
            <a:xfrm>
              <a:off x="1066680" y="4267080"/>
              <a:ext cx="4876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91120" y="419112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 txBox="1"/>
          <p:nvPr/>
        </p:nvSpPr>
        <p:spPr>
          <a:xfrm>
            <a:off x="776160" y="1922400"/>
            <a:ext cx="582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3840" y="1922400"/>
            <a:ext cx="576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39680" y="25542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0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54016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1880" y="2325600"/>
            <a:ext cx="16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08280" y="2554200"/>
            <a:ext cx="1871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149640"/>
            <a:ext cx="312444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36800" y="316404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0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19280" y="2935440"/>
            <a:ext cx="22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OPTIONAL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87600" y="3164040"/>
            <a:ext cx="246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 OPTIONAL state transi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2120" y="377352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75912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49200" y="3544920"/>
            <a:ext cx="2843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state transition without associated a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Machine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6668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2666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191120" y="304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189320" y="270684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25920" y="2325600"/>
            <a:ext cx="10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to sel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84600" y="2706840"/>
            <a:ext cx="1193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to sel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84960" y="42814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98680" y="3925800"/>
            <a:ext cx="20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transition arrow from X2 to X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rosses, but does not enter, X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649840" y="1922400"/>
            <a:ext cx="59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35812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89320" y="362124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78200" y="3240000"/>
            <a:ext cx="10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54440" y="3621240"/>
            <a:ext cx="1054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4781520" y="2376360"/>
            <a:ext cx="1730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CFDR := aCFP_Max_Dura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CFDR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NAV(aCFP_Max_Du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60480" y="6993000"/>
            <a:ext cx="3222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TSF := Max((T_TSF * !F_Assoc),(mrTs + mOffset)), mSndBcn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raffic := mrTIM[0] | mrTIM[mSID], LoadNAV(mrCF_dur_re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Awake), F_Awake := !F_PSM | (mTraffic != 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beacon, DTIM, CFP and F_CFavail  settings from mrMS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903240" y="3214800"/>
            <a:ext cx="16178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LoadNAV(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Pr2), Clear(F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013360" y="5729400"/>
            <a:ext cx="1370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Awake, F_Awak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572000" y="1295280"/>
            <a:ext cx="0" cy="6858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477120" y="1447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572000" y="21337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45000" y="1461960"/>
            <a:ext cx="194004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!F_Assoc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+=1, F_DTIM := F_Assoc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TIM = aDTIM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+= F_CFavail, Clear(F_BCN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:=(mCFPcnt=aCFP_Interva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371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477120" y="2362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362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572000" y="2971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638600" y="2147760"/>
            <a:ext cx="185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CFavail &amp; (T_CFDR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0" y="3200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572000" y="3581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275440" y="2986200"/>
            <a:ext cx="57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47712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0" y="4343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4572000" y="4800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56160" y="4129200"/>
            <a:ext cx="201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ndBcn = 1) &amp; (!F_Mbusy) &amp; (NAV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6120" y="4357800"/>
            <a:ext cx="18003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2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nDly := T_BCN – ( aSlot_Time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(aCW_Min * Random(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11520" y="5500800"/>
            <a:ext cx="2104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SM &amp; (T_Awake=L_Awake) &amp; 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773600" y="3824280"/>
            <a:ext cx="170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Clear(F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214960" y="359568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33840" y="14619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838160" y="1157400"/>
            <a:ext cx="1506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cting_as_AP_Status = 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01800" y="138600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480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1447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5305320" y="1233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C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165560" y="906480"/>
            <a:ext cx="816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477120" y="3200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0" y="38098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572000" y="4114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477120" y="571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0" y="5715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33840" y="572940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572000" y="5943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914400" y="175248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914400" y="1295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218200" y="7862760"/>
            <a:ext cx="96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mr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606920" y="755820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mrType = (any oth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477120" y="7848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78487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30600" y="64911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h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572000" y="8077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30600" y="6033960"/>
            <a:ext cx="1916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Beacon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Addr2 != aCur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530600" y="78627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k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013360" y="6491160"/>
            <a:ext cx="1407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 mrCF_dur_re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list of known AP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717480" y="3649680"/>
            <a:ext cx="1306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–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058760" y="4662360"/>
            <a:ext cx="352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mrType = { Authentication | Deauthentication 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2701800" y="420516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946080" y="5424480"/>
            <a:ext cx="314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 resp seq complete) | (auth req compete/ad–hoc) | (deauth pro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90720" y="67816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65530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90720" y="655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038240" y="6338880"/>
            <a:ext cx="3417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 Probe Request) &amp; (mSndBcn = 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059360" y="61102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m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963720" y="6567480"/>
            <a:ext cx="3108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sp,mMSDU,mrAddr2), Enqueue(m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64771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4572000" y="6858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477120" y="6477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74920" y="5653080"/>
            <a:ext cx="2387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service state based on sequence and resul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55800" y="1386000"/>
            <a:ext cx="36687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AP, F_PC, F_Assoc, CF_Avail), Restart(T_TS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_BCN := aBeacon_Interval, Restart(T_BCN), L_Dwell := aDwell_Ti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Dwell), L_Slot := aSlot_Time, Restart(T_Slot), 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, Reset(T_CFDR), mDTIMcnt :=0, Clear(F_DTIM), SeqNum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SM :=aPower_Save_Mode, Set(F_Awake), L_Awake := &lt; awake time &gt;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:= SCAN, aCurrent_BSS_ID := 0, (reset service state &amp; 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29160" y="23763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35640" y="3214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529160" y="38242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33840" y="4357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0" y="50292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572000" y="5486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621320" y="4815000"/>
            <a:ext cx="1886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ndBcn = 2) &amp; (T_BCN = mBcnDl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608360" y="5043600"/>
            <a:ext cx="1874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Beacon, 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477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38520" y="5043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990720" y="754380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90720" y="70102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90720" y="7010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719280" y="6796080"/>
            <a:ext cx="390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mrTs) &amp; (mrType=Beacon) &amp; (mrAddr2=aCu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073400" y="70246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p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990720" y="80010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77724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990720" y="777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781520" y="6872400"/>
            <a:ext cx="126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Traffic = 1) &amp; F_P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078440" y="7786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r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48240" y="7101000"/>
            <a:ext cx="1932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S–Poll, m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rrent_BSS_ID,mSID), mTraffic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2666880" y="2514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914400" y="2590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443320" y="220176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2 –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100400" y="252900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336840" y="2300400"/>
            <a:ext cx="1100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= S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759040" y="2529000"/>
            <a:ext cx="134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Pr1), Set(F_Pr2)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171520" y="26049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835200" y="2224080"/>
            <a:ext cx="183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{ Beacon | Probe Resp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909720" y="260496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list of known AP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cord capability &amp; PHY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2590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14400" y="2895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914400" y="32004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173320" y="3214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914400" y="3657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017720" y="2909880"/>
            <a:ext cx="131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r1 ^ F_Pr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ore channels to sca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666880" y="31240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625840" y="31384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41972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666880" y="3581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2711520" y="2700360"/>
            <a:ext cx="1424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can_Mode = ACTIVE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Mbusy &amp; (NAV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DIFS) &amp; F_Pr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2666880" y="38862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625840" y="390060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043080" y="3900600"/>
            <a:ext cx="14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Pr1),Restart(T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666880" y="41148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2894040" y="3595680"/>
            <a:ext cx="137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can_Mode = ACTIV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F_Mbusy &amp; (T_Pr1 !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914400" y="3886200"/>
            <a:ext cx="0" cy="190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914400" y="4038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2714760" y="3138480"/>
            <a:ext cx="1736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que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U), Enqueue(mMSDU,TXq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Probe1),Clear(F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023840" y="3824280"/>
            <a:ext cx="1612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ponder selected @ 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197080" y="405288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278000" y="4433760"/>
            <a:ext cx="333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uthentication, mMSDU, mrAddr2), Enqueue(mMSDU, 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1163520" y="4052880"/>
            <a:ext cx="1027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:= n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4419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876240" y="44337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914400" y="48769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102200" y="489096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5638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873000" y="51958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886280" y="3214800"/>
            <a:ext cx="165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:=0,Clear(F_DTI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Awake), Set(F_Awak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4541760" y="71010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j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0" y="7086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4572000" y="7543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77120" y="7086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052640" y="7558200"/>
            <a:ext cx="308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Disassociation) &amp; 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009800" y="7786800"/>
            <a:ext cx="2712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Assoc), set service state =2, aScan_State := S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114800" y="7467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7467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990720" y="63244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1279440" y="6110280"/>
            <a:ext cx="278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ssoc := (mrStatus = 0), (if successful set service state =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403280" y="5195880"/>
            <a:ext cx="314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ssoc Req, mMSDU, mLength), Enqueue(mMSDU, TXq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206360" y="5881680"/>
            <a:ext cx="292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 Association Respon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365120" y="4967280"/>
            <a:ext cx="2455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 resp seq successful/infrastructure) &amp; !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914400" y="5181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878040" y="565308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990720" y="6095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990720" y="60958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073400" y="65674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4772160" y="2522520"/>
            <a:ext cx="1695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CFDR := aCFP_Max_Dura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CFDR), UpdatePollLis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859280" y="5348160"/>
            <a:ext cx="1527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826160" y="5958000"/>
            <a:ext cx="1590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DTI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Awake), mPSawake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1182600" y="1386000"/>
            <a:ext cx="33386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AP), F_PC := (aCF_Max_Duration != 0), Restart(T_TS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_BCN := aBeacon_Interval, Restart(T_BCN), L_Dwell := aDwellTi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Dwell), L_Slot := aSlot_Time, Restart(T_Slot), 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, F_DTIM), Reset(T_CFDR), mDTIM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Num := 0, Set(F_PSawake), (clear power save and association info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avail := F_PC, (inform distribution system that this BSS is pres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400800" y="1295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572000" y="2209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33840" y="1309680"/>
            <a:ext cx="187488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+= 1, F_DTIM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TIM = aDTIM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+=1,F_CFP:=(T_CFDR !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mCFPcnt = aCFP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Beacon, 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TIM(mMSDU, m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914400" y="1371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3200400"/>
            <a:ext cx="0" cy="3808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72000" y="25146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572000" y="29718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730760" y="2300400"/>
            <a:ext cx="16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PC &amp; (T_CFDR 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0" y="3886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4572000" y="4572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854600" y="3672000"/>
            <a:ext cx="1415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TIM &amp; (mPSawake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672080" y="3900600"/>
            <a:ext cx="174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DTIM(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mc, hea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Awake := &lt; station awake time &gt;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Awake), mPSawake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00800" y="4800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4572000" y="5715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5180040" y="5119560"/>
            <a:ext cx="7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729320" y="5729400"/>
            <a:ext cx="167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PSawake = 1) &amp; (T_Awake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773600" y="4815000"/>
            <a:ext cx="170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Clear(F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5214960" y="458640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59400" y="130968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843200" y="1157400"/>
            <a:ext cx="1495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cting_as_AP_Status = 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876240" y="138600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0:1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60480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12952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836960" y="1081080"/>
            <a:ext cx="1297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CN &amp; (mSndBcn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316400" y="906480"/>
            <a:ext cx="971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1 – AP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56160" y="25290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400800" y="3886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56160" y="39006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57200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60840" y="48150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4572000" y="5105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65520" y="534816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00800" y="5334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400800" y="5943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0" y="5943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59400" y="59580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572000" y="6248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914400" y="182880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14400" y="12952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704880" y="2735280"/>
            <a:ext cx="1179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2 – Assoc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5218200" y="7862760"/>
            <a:ext cx="96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mr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606920" y="755820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any oth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400800" y="7848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7848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67320" y="725328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j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572000" y="807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14400" y="3429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914400" y="31240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30600" y="694836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Beac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56160" y="78627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k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606920" y="633888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PS–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5089680" y="7253280"/>
            <a:ext cx="1407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 mrCF_dur_rem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5132520" y="664380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949560" y="313848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096920" y="2909880"/>
            <a:ext cx="3449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Association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14400" y="297180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914400" y="41911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1440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973080" y="3976560"/>
            <a:ext cx="3546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Reassociation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1378080" y="5805360"/>
            <a:ext cx="3193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Dis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85800" y="6697800"/>
            <a:ext cx="1370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3 –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914400" y="69343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70102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73152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2178000" y="6719760"/>
            <a:ext cx="235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rType = { Authentication | Deauthentication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1209600" y="3443400"/>
            <a:ext cx="3381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ssociation Response, mMSDU, mrAddr2,mrSI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), (update association info for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, inform distribution system and set service state =3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 &amp; PSM set up to buffer and indicate traffic by assigned S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901800" y="34434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1984320" y="3214800"/>
            <a:ext cx="1522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sociation request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946680" y="42051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1940040" y="428148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association request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1130400" y="4510080"/>
            <a:ext cx="3387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Reassociation Response, mMSDU,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), (update association info for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, inform distribution system about reassociation of 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898560" y="45100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1214280" y="4967280"/>
            <a:ext cx="321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ification from distribution system about association/re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914400" y="54864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914400" y="5181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951360" y="519588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1598760" y="5272200"/>
            <a:ext cx="22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ification from distribution system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1525680" y="6338880"/>
            <a:ext cx="3052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move association for mrAddr2, set service state =2, inform D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PSM reclaim buffers and stop buffering and indicating traffi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400800" y="6629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0" y="6629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4572000" y="6858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56160" y="66438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h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03240" y="55008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1565280" y="5500800"/>
            <a:ext cx="266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association information &amp; reply to DS as need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914400" y="60199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914400" y="6324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2095560" y="6110280"/>
            <a:ext cx="1298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association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898560" y="63388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975120" y="70246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901800" y="73296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3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1863720" y="710100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1512720" y="7329600"/>
            <a:ext cx="307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uthentication,mMSDU,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TXq), (if successful, set service state =2, else =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914400" y="7924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898560" y="79390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3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812960" y="7710480"/>
            <a:ext cx="1712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914400" y="26668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24382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91440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1370160" y="2224080"/>
            <a:ext cx="321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Probe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932280" y="245268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m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887400" y="2452680"/>
            <a:ext cx="3108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sp,mMSDU,mrAddr2), Enqueue(m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572000" y="7238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572000" y="7467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400800" y="723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2139840" y="7939080"/>
            <a:ext cx="105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service state =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683240" y="3290760"/>
            <a:ext cx="1752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cfp, hea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CFparms(mMSDU, m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791240" y="2986200"/>
            <a:ext cx="17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PC &amp; (T_CFDR !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72000" y="32004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572000" y="35812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400800" y="251460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560840" y="32148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946680" y="60339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572000" y="1143000"/>
            <a:ext cx="0" cy="7010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93800" y="90648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979640" y="906480"/>
            <a:ext cx="1225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990960" y="906480"/>
            <a:ext cx="8571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Bo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90720" y="1295280"/>
            <a:ext cx="0" cy="4496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990720" y="16905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565360" y="1766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2792520" y="1386000"/>
            <a:ext cx="143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WEP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WEP &amp; (tType != Data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59092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990720" y="16765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1103400" y="1461960"/>
            <a:ext cx="1454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tMPDU, t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1330200" y="1690560"/>
            <a:ext cx="1152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TxDone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rc := 0hFFFFFF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1752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41972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248520" y="2057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4419720" y="2743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4419720" y="20718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762440" y="2071800"/>
            <a:ext cx="1447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MDPU[tOctet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tCrc, tMPDU[tOctet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933800" y="184320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2004840" y="4487760"/>
            <a:ext cx="1176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590920" y="48769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962520" y="53481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2670120" y="5119560"/>
            <a:ext cx="1673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 &amp; tOctet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2778120" y="5348160"/>
            <a:ext cx="1152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END.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990720" y="5181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133720" y="519588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276200" y="496728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243080" y="5195880"/>
            <a:ext cx="87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TxDon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5108400" y="3824280"/>
            <a:ext cx="907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tLeng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922560" y="4487760"/>
            <a:ext cx="998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C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419720" y="48769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4419720" y="4952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4419720" y="4038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48520" y="4038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419720" y="5257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248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419720" y="5638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419720" y="52722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4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811760" y="5272200"/>
            <a:ext cx="1352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Crc[tOctet] ), 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933800" y="504360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4419720" y="405288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768920" y="4052880"/>
            <a:ext cx="143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:= 0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rc := tCrc ^ 0hFFFFFF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1920960" y="2887560"/>
            <a:ext cx="13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Timesta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590920" y="3276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1143000" y="350532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43000" y="3505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143000" y="411480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2155680" y="35193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3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093680" y="3519360"/>
            <a:ext cx="1469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Ts[(tOctet–24)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tCrc, tTs[(tOctet–24)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1200240" y="329076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590920" y="3657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590920" y="4191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2778120" y="3214800"/>
            <a:ext cx="1608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24  &amp;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FrameType = ProbeResponse  |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rameType = Beac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2762280" y="3672000"/>
            <a:ext cx="1181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s := T_TSF + tOffs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962520" y="36720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97080" y="3976560"/>
            <a:ext cx="665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2590920" y="42051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3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590920" y="24382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035160" y="2452680"/>
            <a:ext cx="1400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(tMPDU, t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LCPlength := tLength + 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START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035160" y="1766880"/>
            <a:ext cx="14000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LCPlength := tLength + 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START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590920" y="1295280"/>
            <a:ext cx="0" cy="1295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419720" y="1447920"/>
            <a:ext cx="0" cy="28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2779560" y="2224080"/>
            <a:ext cx="1303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WEP &amp; (tType =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2565360" y="24526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 txBox="1"/>
          <p:nvPr/>
        </p:nvSpPr>
        <p:spPr>
          <a:xfrm>
            <a:off x="4543560" y="547524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ThisBSS(rMP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rDuration &lt; 0h80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112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2013120" y="90648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870280" y="906480"/>
            <a:ext cx="111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e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152960" y="906480"/>
            <a:ext cx="992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5699160" y="906480"/>
            <a:ext cx="6429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990720" y="12952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209680" y="12952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90720" y="14479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988920" y="14619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1008000" y="1995480"/>
            <a:ext cx="1189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wake &amp; !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90720" y="2209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1751040" y="22240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995400" y="1233360"/>
            <a:ext cx="1058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wake | 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429000" y="12952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209680" y="1523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676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648320" y="12952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4832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019920" y="1447920"/>
            <a:ext cx="0" cy="3352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2208240" y="15382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006560" y="1461960"/>
            <a:ext cx="1214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RST.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09680" y="2133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2970360" y="21477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2211480" y="2147760"/>
            <a:ext cx="9320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2160720" y="1309680"/>
            <a:ext cx="13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427560" y="16905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416088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508200" y="1690560"/>
            <a:ext cx="1139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rc := 0hFFFFFF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648320" y="2133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913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648320" y="2590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618080" y="21477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3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705200" y="1843200"/>
            <a:ext cx="1106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indic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[rOctet]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851360" y="2147760"/>
            <a:ext cx="9684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rCrc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PDU[rOctet] 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743360" y="275760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RXEND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64652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9920" y="533412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209680" y="358128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4419720" y="6324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971800" y="54864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386160" y="1309680"/>
            <a:ext cx="1305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RXSTART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2790720" y="2909880"/>
            <a:ext cx="1276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2182680" y="1919160"/>
            <a:ext cx="1276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06668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06668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0666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175104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533680" y="153828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963720" y="2712960"/>
            <a:ext cx="1276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T_Busy &gt; aD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992160" y="3062160"/>
            <a:ext cx="9572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ear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8320" y="1447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91320" y="1447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4648320" y="1752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621320" y="14619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3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5072040" y="1233360"/>
            <a:ext cx="676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=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5019840" y="1461960"/>
            <a:ext cx="78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 := T_TS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2096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578560" y="4944960"/>
            <a:ext cx="885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NA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3894120" y="4335480"/>
            <a:ext cx="1055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e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1747800" y="6087960"/>
            <a:ext cx="620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2427120" y="5097600"/>
            <a:ext cx="1090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Dupl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2287440" y="3138480"/>
            <a:ext cx="1990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Clear(F_Mbusy), Tally(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2209680" y="403848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164120" y="26812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8120" y="2452680"/>
            <a:ext cx="1522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&gt; aMax_Frame_Leng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209680" y="26668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973240" y="2681280"/>
            <a:ext cx="1166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627360" y="3367080"/>
            <a:ext cx="2347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 != No_Error) | (rOctet != rPLCP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5535720" y="35956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125880" y="3595680"/>
            <a:ext cx="1166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5532480" y="4052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406600" y="3824280"/>
            <a:ext cx="3573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 = No_Error) &amp; ( (rCrc != 0hC704DD7B) | (rProtocol_Version != 0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125880" y="4052880"/>
            <a:ext cx="2274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UpdNAV( * see notes * 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548640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86400" y="4648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86400" y="541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5560920" y="4662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815000" y="4281480"/>
            <a:ext cx="125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Crc =0hC704DD7B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= No_Err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419720" y="7696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419720" y="6858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2057400" y="67816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2971800" y="5715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2209680" y="4876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762120" y="57913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5532480" y="6338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4822920" y="6110280"/>
            <a:ext cx="104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uration &lt; 0h8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505400" y="6338880"/>
            <a:ext cx="1098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rDu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13320" y="7481880"/>
            <a:ext cx="1123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uration &gt;= 0hC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4487760" y="7710480"/>
            <a:ext cx="11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rDurPs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5537160" y="77104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5537160" y="687240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486320" y="6567480"/>
            <a:ext cx="1611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CFP &amp; ThisBSS(rMPDU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h8000&lt;= rDuration &lt;0hC0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2028960" y="7024680"/>
            <a:ext cx="2414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rAddr1 = Broadcast_Address) |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 = {aGroup_Addresses}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romiscuous_Status = true)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isBSS(rMPDU) &amp; (rAddr3 !=aMAC_Address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024360" y="6567480"/>
            <a:ext cx="874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ype = Bea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3049560" y="5424480"/>
            <a:ext cx="138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oDS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=aMAC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073320" y="5958000"/>
            <a:ext cx="138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oDS = 1) &amp; 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=aMAC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2963880" y="4662360"/>
            <a:ext cx="841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3954600" y="4878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973240" y="4890960"/>
            <a:ext cx="822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935520" y="57294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7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057400" y="76201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252960" y="572940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363760" y="759636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3932280" y="6262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7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971800" y="6248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252960" y="626256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932280" y="7596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8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933720" y="67960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8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2438280" y="6324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722600" y="5576760"/>
            <a:ext cx="1190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Filter(rMPDU)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513160" y="5805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7:9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2317680" y="60339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)=1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2438280" y="6324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2057400" y="6629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44197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5105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513160" y="63388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7:8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44520" y="69483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WEP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925560" y="7253280"/>
            <a:ext cx="1155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WE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WEP=1) &amp; (Decry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,rOctet)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62120" y="7696080"/>
            <a:ext cx="12952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62120" y="6705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36640" y="6033960"/>
            <a:ext cx="9763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WEP = 1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WEP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rWEP=1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crypt(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) = 0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82760" y="3726000"/>
            <a:ext cx="565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762120" y="4267080"/>
            <a:ext cx="0" cy="3581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762120" y="7162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73200" y="67197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569960" y="71769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574640" y="77104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735120" y="44337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9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057400" y="64771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1092240" y="4433760"/>
            <a:ext cx="1139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T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Octet–4), rDir, rT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2192400" y="6796080"/>
            <a:ext cx="177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 0, UpdNAV(rCF_Dur_Re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941400" y="67197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779480" y="58053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1017720" y="42051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!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731880" y="5119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9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1035000" y="489096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1162080" y="5119560"/>
            <a:ext cx="9828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T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Error(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4419720" y="5029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41972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3341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4417920" y="5043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371840" y="4713120"/>
            <a:ext cx="115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ype={any CFack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hisBSS(rMP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581360" y="5195880"/>
            <a:ext cx="78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419720" y="4724280"/>
            <a:ext cx="0" cy="3124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4419720" y="5791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4505400" y="5805360"/>
            <a:ext cx="11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NAV(rDuration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5535720" y="5805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429080" y="6872400"/>
            <a:ext cx="131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P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aCF_Max_Du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545000" y="7176960"/>
            <a:ext cx="1492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h8000&lt;= rDuration &lt;0hC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4419720" y="73915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5532480" y="7405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 Popular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1523880" y="2209680"/>
            <a:ext cx="1828800" cy="1828800"/>
            <a:chOff x="1523880" y="2209680"/>
            <a:chExt cx="1828800" cy="1828800"/>
          </a:xfrm>
        </p:grpSpPr>
        <p:sp>
          <p:nvSpPr>
            <p:cNvPr id="1192" name=""/>
            <p:cNvSpPr/>
            <p:nvPr/>
          </p:nvSpPr>
          <p:spPr>
            <a:xfrm>
              <a:off x="1523880" y="22096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9868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462"/>
                  </a:moveTo>
                  <a:lnTo>
                    <a:pt x="0" y="462"/>
                  </a:lnTo>
                  <a:cubicBezTo>
                    <a:pt x="272" y="462"/>
                    <a:pt x="539" y="441"/>
                    <a:pt x="775" y="400"/>
                  </a:cubicBezTo>
                  <a:cubicBezTo>
                    <a:pt x="1010" y="360"/>
                    <a:pt x="1206" y="301"/>
                    <a:pt x="1341" y="231"/>
                  </a:cubicBezTo>
                  <a:cubicBezTo>
                    <a:pt x="1477" y="161"/>
                    <a:pt x="1549" y="81"/>
                    <a:pt x="154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4140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0"/>
                  </a:moveTo>
                  <a:lnTo>
                    <a:pt x="0" y="0"/>
                  </a:lnTo>
                  <a:cubicBezTo>
                    <a:pt x="0" y="81"/>
                    <a:pt x="72" y="161"/>
                    <a:pt x="208" y="231"/>
                  </a:cubicBezTo>
                  <a:cubicBezTo>
                    <a:pt x="343" y="301"/>
                    <a:pt x="539" y="360"/>
                    <a:pt x="775" y="400"/>
                  </a:cubicBezTo>
                  <a:cubicBezTo>
                    <a:pt x="1010" y="441"/>
                    <a:pt x="1277" y="462"/>
                    <a:pt x="1549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4156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59704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59080" y="31240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4343400" y="2209680"/>
            <a:ext cx="1828800" cy="1828800"/>
            <a:chOff x="4343400" y="2209680"/>
            <a:chExt cx="1828800" cy="1828800"/>
          </a:xfrm>
        </p:grpSpPr>
        <p:sp>
          <p:nvSpPr>
            <p:cNvPr id="1199" name=""/>
            <p:cNvSpPr/>
            <p:nvPr/>
          </p:nvSpPr>
          <p:spPr>
            <a:xfrm>
              <a:off x="4343400" y="22096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1820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462"/>
                  </a:moveTo>
                  <a:lnTo>
                    <a:pt x="0" y="462"/>
                  </a:lnTo>
                  <a:cubicBezTo>
                    <a:pt x="272" y="462"/>
                    <a:pt x="539" y="441"/>
                    <a:pt x="775" y="400"/>
                  </a:cubicBezTo>
                  <a:cubicBezTo>
                    <a:pt x="1010" y="360"/>
                    <a:pt x="1206" y="301"/>
                    <a:pt x="1341" y="231"/>
                  </a:cubicBezTo>
                  <a:cubicBezTo>
                    <a:pt x="1477" y="161"/>
                    <a:pt x="1549" y="81"/>
                    <a:pt x="154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66092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0"/>
                  </a:moveTo>
                  <a:lnTo>
                    <a:pt x="0" y="0"/>
                  </a:lnTo>
                  <a:cubicBezTo>
                    <a:pt x="0" y="81"/>
                    <a:pt x="72" y="161"/>
                    <a:pt x="208" y="231"/>
                  </a:cubicBezTo>
                  <a:cubicBezTo>
                    <a:pt x="343" y="301"/>
                    <a:pt x="539" y="360"/>
                    <a:pt x="775" y="400"/>
                  </a:cubicBezTo>
                  <a:cubicBezTo>
                    <a:pt x="1010" y="441"/>
                    <a:pt x="1277" y="462"/>
                    <a:pt x="1549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86108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41656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178600" y="31240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3352680" y="3048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2971800" y="4952880"/>
            <a:ext cx="1828800" cy="1828800"/>
            <a:chOff x="2971800" y="4952880"/>
            <a:chExt cx="1828800" cy="1828800"/>
          </a:xfrm>
        </p:grpSpPr>
        <p:sp>
          <p:nvSpPr>
            <p:cNvPr id="1207" name=""/>
            <p:cNvSpPr/>
            <p:nvPr/>
          </p:nvSpPr>
          <p:spPr>
            <a:xfrm>
              <a:off x="2971800" y="49528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46600" y="619776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1549" y="462"/>
                  </a:moveTo>
                  <a:lnTo>
                    <a:pt x="1549" y="462"/>
                  </a:lnTo>
                  <a:lnTo>
                    <a:pt x="1549" y="462"/>
                  </a:lnTo>
                  <a:cubicBezTo>
                    <a:pt x="1549" y="381"/>
                    <a:pt x="1477" y="301"/>
                    <a:pt x="1341" y="231"/>
                  </a:cubicBezTo>
                  <a:cubicBezTo>
                    <a:pt x="1206" y="161"/>
                    <a:pt x="1010" y="102"/>
                    <a:pt x="774" y="62"/>
                  </a:cubicBezTo>
                  <a:cubicBezTo>
                    <a:pt x="539" y="21"/>
                    <a:pt x="272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289320" y="619776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1549" y="0"/>
                  </a:moveTo>
                  <a:lnTo>
                    <a:pt x="1549" y="0"/>
                  </a:lnTo>
                  <a:cubicBezTo>
                    <a:pt x="1277" y="0"/>
                    <a:pt x="1010" y="21"/>
                    <a:pt x="774" y="62"/>
                  </a:cubicBezTo>
                  <a:cubicBezTo>
                    <a:pt x="539" y="102"/>
                    <a:pt x="343" y="161"/>
                    <a:pt x="208" y="231"/>
                  </a:cubicBezTo>
                  <a:cubicBezTo>
                    <a:pt x="72" y="301"/>
                    <a:pt x="0" y="381"/>
                    <a:pt x="0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9480" y="56181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044960" y="56181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07000" y="58672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"/>
          <p:cNvSpPr/>
          <p:nvPr/>
        </p:nvSpPr>
        <p:spPr>
          <a:xfrm flipH="1">
            <a:off x="4267080" y="3962520"/>
            <a:ext cx="60984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2133720" y="5791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213372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133720" y="4724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276720" y="4724280"/>
            <a:ext cx="22860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2836800" y="7132680"/>
            <a:ext cx="179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smiley fac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914400"/>
            <a:ext cx="1523880" cy="35053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66680" y="1905120"/>
            <a:ext cx="1219320" cy="685800"/>
            <a:chOff x="1066680" y="1905120"/>
            <a:chExt cx="1219320" cy="685800"/>
          </a:xfrm>
        </p:grpSpPr>
        <p:sp>
          <p:nvSpPr>
            <p:cNvPr id="81" name=""/>
            <p:cNvSpPr/>
            <p:nvPr/>
          </p:nvSpPr>
          <p:spPr>
            <a:xfrm>
              <a:off x="106668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115740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bu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(DS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90920" y="1905120"/>
            <a:ext cx="1219320" cy="685800"/>
            <a:chOff x="2590920" y="1905120"/>
            <a:chExt cx="1219320" cy="685800"/>
          </a:xfrm>
        </p:grpSpPr>
        <p:sp>
          <p:nvSpPr>
            <p:cNvPr id="84" name=""/>
            <p:cNvSpPr/>
            <p:nvPr/>
          </p:nvSpPr>
          <p:spPr>
            <a:xfrm>
              <a:off x="259092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68128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Data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 (MD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081320" y="1905120"/>
            <a:ext cx="1284120" cy="685800"/>
            <a:chOff x="4081320" y="1905120"/>
            <a:chExt cx="1284120" cy="685800"/>
          </a:xfrm>
        </p:grpSpPr>
        <p:sp>
          <p:nvSpPr>
            <p:cNvPr id="87" name=""/>
            <p:cNvSpPr/>
            <p:nvPr/>
          </p:nvSpPr>
          <p:spPr>
            <a:xfrm>
              <a:off x="411480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081320" y="1973160"/>
              <a:ext cx="128412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Manageme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(M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828800" y="4572000"/>
            <a:ext cx="1219320" cy="685800"/>
            <a:chOff x="1828800" y="4572000"/>
            <a:chExt cx="1219320" cy="685800"/>
          </a:xfrm>
        </p:grpSpPr>
        <p:sp>
          <p:nvSpPr>
            <p:cNvPr id="90" name=""/>
            <p:cNvSpPr/>
            <p:nvPr/>
          </p:nvSpPr>
          <p:spPr>
            <a:xfrm>
              <a:off x="1828800" y="4572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835280" y="4716360"/>
              <a:ext cx="1206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Control  (C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14800" y="3657600"/>
            <a:ext cx="1219320" cy="685800"/>
            <a:chOff x="4114800" y="3657600"/>
            <a:chExt cx="1219320" cy="685800"/>
          </a:xfrm>
        </p:grpSpPr>
        <p:sp>
          <p:nvSpPr>
            <p:cNvPr id="93" name=""/>
            <p:cNvSpPr/>
            <p:nvPr/>
          </p:nvSpPr>
          <p:spPr>
            <a:xfrm>
              <a:off x="4114800" y="36576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132440" y="3726000"/>
              <a:ext cx="11858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(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19320" y="5715000"/>
            <a:ext cx="1219320" cy="685800"/>
            <a:chOff x="1219320" y="5715000"/>
            <a:chExt cx="1219320" cy="685800"/>
          </a:xfrm>
        </p:grpSpPr>
        <p:sp>
          <p:nvSpPr>
            <p:cNvPr id="96" name=""/>
            <p:cNvSpPr/>
            <p:nvPr/>
          </p:nvSpPr>
          <p:spPr>
            <a:xfrm>
              <a:off x="1219320" y="5715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289160" y="5859360"/>
              <a:ext cx="1079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ter (T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666880" y="5715000"/>
            <a:ext cx="1219320" cy="685800"/>
            <a:chOff x="2666880" y="5715000"/>
            <a:chExt cx="1219320" cy="685800"/>
          </a:xfrm>
        </p:grpSpPr>
        <p:sp>
          <p:nvSpPr>
            <p:cNvPr id="99" name=""/>
            <p:cNvSpPr/>
            <p:nvPr/>
          </p:nvSpPr>
          <p:spPr>
            <a:xfrm>
              <a:off x="2666880" y="5715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2757600" y="5859360"/>
              <a:ext cx="1038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(R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14600" y="3573360"/>
            <a:ext cx="762480" cy="396720"/>
            <a:chOff x="2514600" y="3573360"/>
            <a:chExt cx="762480" cy="396720"/>
          </a:xfrm>
        </p:grpSpPr>
        <p:sp>
          <p:nvSpPr>
            <p:cNvPr id="102" name=""/>
            <p:cNvSpPr/>
            <p:nvPr/>
          </p:nvSpPr>
          <p:spPr>
            <a:xfrm>
              <a:off x="2514600" y="358128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529000" y="357336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76720" y="2963880"/>
            <a:ext cx="762480" cy="396720"/>
            <a:chOff x="3276720" y="2963880"/>
            <a:chExt cx="762480" cy="396720"/>
          </a:xfrm>
        </p:grpSpPr>
        <p:sp>
          <p:nvSpPr>
            <p:cNvPr id="105" name=""/>
            <p:cNvSpPr/>
            <p:nvPr/>
          </p:nvSpPr>
          <p:spPr>
            <a:xfrm>
              <a:off x="3276720" y="297180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290760" y="296388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954600"/>
            <a:ext cx="762480" cy="396720"/>
            <a:chOff x="1066680" y="3954600"/>
            <a:chExt cx="762480" cy="396720"/>
          </a:xfrm>
        </p:grpSpPr>
        <p:sp>
          <p:nvSpPr>
            <p:cNvPr id="108" name=""/>
            <p:cNvSpPr/>
            <p:nvPr/>
          </p:nvSpPr>
          <p:spPr>
            <a:xfrm>
              <a:off x="1066680" y="39625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109520" y="3954600"/>
              <a:ext cx="677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00200" y="3268800"/>
            <a:ext cx="762480" cy="396720"/>
            <a:chOff x="1600200" y="3268800"/>
            <a:chExt cx="762480" cy="396720"/>
          </a:xfrm>
        </p:grpSpPr>
        <p:sp>
          <p:nvSpPr>
            <p:cNvPr id="111" name=""/>
            <p:cNvSpPr/>
            <p:nvPr/>
          </p:nvSpPr>
          <p:spPr>
            <a:xfrm>
              <a:off x="1600200" y="32767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692360" y="32688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245120" y="982800"/>
            <a:ext cx="960480" cy="396720"/>
            <a:chOff x="4245120" y="982800"/>
            <a:chExt cx="960480" cy="396720"/>
          </a:xfrm>
        </p:grpSpPr>
        <p:sp>
          <p:nvSpPr>
            <p:cNvPr id="114" name=""/>
            <p:cNvSpPr/>
            <p:nvPr/>
          </p:nvSpPr>
          <p:spPr>
            <a:xfrm>
              <a:off x="426708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245120" y="98280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487692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41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743200" y="982800"/>
            <a:ext cx="914400" cy="396720"/>
            <a:chOff x="2743200" y="982800"/>
            <a:chExt cx="914400" cy="396720"/>
          </a:xfrm>
        </p:grpSpPr>
        <p:sp>
          <p:nvSpPr>
            <p:cNvPr id="120" name=""/>
            <p:cNvSpPr/>
            <p:nvPr/>
          </p:nvSpPr>
          <p:spPr>
            <a:xfrm>
              <a:off x="274320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840040" y="982800"/>
              <a:ext cx="720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LC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4812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5268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2880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19480" y="5029200"/>
            <a:ext cx="896760" cy="465120"/>
            <a:chOff x="4119480" y="5029200"/>
            <a:chExt cx="896760" cy="465120"/>
          </a:xfrm>
        </p:grpSpPr>
        <p:sp>
          <p:nvSpPr>
            <p:cNvPr id="127" name=""/>
            <p:cNvSpPr/>
            <p:nvPr/>
          </p:nvSpPr>
          <p:spPr>
            <a:xfrm>
              <a:off x="4181400" y="5029200"/>
              <a:ext cx="770400" cy="457560"/>
            </a:xfrm>
            <a:custGeom>
              <a:avLst/>
              <a:gdLst/>
              <a:ahLst/>
              <a:rect l="0" t="0" r="r" b="b"/>
              <a:pathLst>
                <a:path w="2140" h="1271">
                  <a:moveTo>
                    <a:pt x="0" y="380"/>
                  </a:moveTo>
                  <a:lnTo>
                    <a:pt x="0" y="890"/>
                  </a:lnTo>
                  <a:lnTo>
                    <a:pt x="642" y="1271"/>
                  </a:lnTo>
                  <a:lnTo>
                    <a:pt x="1498" y="1271"/>
                  </a:lnTo>
                  <a:lnTo>
                    <a:pt x="2140" y="890"/>
                  </a:lnTo>
                  <a:lnTo>
                    <a:pt x="2140" y="380"/>
                  </a:lnTo>
                  <a:lnTo>
                    <a:pt x="1498" y="0"/>
                  </a:lnTo>
                  <a:lnTo>
                    <a:pt x="642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119480" y="5097600"/>
              <a:ext cx="896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wer Sa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365760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2590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362320" y="3429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76720" y="38098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7692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81080" y="2590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2590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343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33526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962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1240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6708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34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25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5257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19520" y="525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817640" y="6850080"/>
            <a:ext cx="1243080" cy="244440"/>
            <a:chOff x="1817640" y="6850080"/>
            <a:chExt cx="1243080" cy="244440"/>
          </a:xfrm>
        </p:grpSpPr>
        <p:sp>
          <p:nvSpPr>
            <p:cNvPr id="153" name=""/>
            <p:cNvSpPr/>
            <p:nvPr/>
          </p:nvSpPr>
          <p:spPr>
            <a:xfrm>
              <a:off x="1905120" y="6858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817640" y="6850080"/>
              <a:ext cx="1243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Data 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57400" y="6400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640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2578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19520" y="6400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76600" y="6850080"/>
            <a:ext cx="1257480" cy="244440"/>
            <a:chOff x="4476600" y="6850080"/>
            <a:chExt cx="1257480" cy="244440"/>
          </a:xfrm>
        </p:grpSpPr>
        <p:sp>
          <p:nvSpPr>
            <p:cNvPr id="160" name=""/>
            <p:cNvSpPr/>
            <p:nvPr/>
          </p:nvSpPr>
          <p:spPr>
            <a:xfrm>
              <a:off x="4572000" y="6858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476600" y="6850080"/>
              <a:ext cx="1257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029200" y="4343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181480" y="4343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24280" y="4343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692680" y="2049480"/>
            <a:ext cx="960480" cy="396720"/>
            <a:chOff x="5692680" y="2049480"/>
            <a:chExt cx="960480" cy="396720"/>
          </a:xfrm>
        </p:grpSpPr>
        <p:sp>
          <p:nvSpPr>
            <p:cNvPr id="167" name=""/>
            <p:cNvSpPr txBox="1"/>
            <p:nvPr/>
          </p:nvSpPr>
          <p:spPr>
            <a:xfrm>
              <a:off x="5692680" y="204948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5000" y="2057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133720" y="41148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3372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03240" y="2712960"/>
            <a:ext cx="484200" cy="639720"/>
            <a:chOff x="903240" y="2712960"/>
            <a:chExt cx="484200" cy="639720"/>
          </a:xfrm>
        </p:grpSpPr>
        <p:sp>
          <p:nvSpPr>
            <p:cNvPr id="172" name=""/>
            <p:cNvSpPr/>
            <p:nvPr/>
          </p:nvSpPr>
          <p:spPr>
            <a:xfrm>
              <a:off x="990720" y="2743200"/>
              <a:ext cx="3049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903240" y="2712960"/>
              <a:ext cx="484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04812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47600" y="990720"/>
            <a:ext cx="1284120" cy="401400"/>
            <a:chOff x="1047600" y="990720"/>
            <a:chExt cx="1284120" cy="401400"/>
          </a:xfrm>
        </p:grpSpPr>
        <p:sp>
          <p:nvSpPr>
            <p:cNvPr id="176" name=""/>
            <p:cNvSpPr/>
            <p:nvPr/>
          </p:nvSpPr>
          <p:spPr>
            <a:xfrm>
              <a:off x="1066680" y="99072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047600" y="995400"/>
              <a:ext cx="1284120" cy="396720"/>
              <a:chOff x="1047600" y="995400"/>
              <a:chExt cx="1284120" cy="396720"/>
            </a:xfrm>
          </p:grpSpPr>
          <p:sp>
            <p:nvSpPr>
              <p:cNvPr id="178" name=""/>
              <p:cNvSpPr/>
              <p:nvPr/>
            </p:nvSpPr>
            <p:spPr>
              <a:xfrm>
                <a:off x="1231920" y="138420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1047600" y="995400"/>
                <a:ext cx="12841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red Distribution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 flipH="1">
            <a:off x="3048120" y="4952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914400"/>
            <a:ext cx="1523880" cy="32767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47600" y="990720"/>
            <a:ext cx="1284120" cy="401400"/>
            <a:chOff x="1047600" y="990720"/>
            <a:chExt cx="1284120" cy="401400"/>
          </a:xfrm>
        </p:grpSpPr>
        <p:sp>
          <p:nvSpPr>
            <p:cNvPr id="183" name=""/>
            <p:cNvSpPr/>
            <p:nvPr/>
          </p:nvSpPr>
          <p:spPr>
            <a:xfrm>
              <a:off x="1066680" y="99072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047600" y="995400"/>
              <a:ext cx="1284120" cy="396720"/>
              <a:chOff x="1047600" y="995400"/>
              <a:chExt cx="1284120" cy="396720"/>
            </a:xfrm>
          </p:grpSpPr>
          <p:sp>
            <p:nvSpPr>
              <p:cNvPr id="185" name=""/>
              <p:cNvSpPr/>
              <p:nvPr/>
            </p:nvSpPr>
            <p:spPr>
              <a:xfrm>
                <a:off x="1231920" y="138420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1047600" y="995400"/>
                <a:ext cx="12841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red Distribution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1066680" y="1905120"/>
            <a:ext cx="1219320" cy="685800"/>
            <a:chOff x="1066680" y="1905120"/>
            <a:chExt cx="1219320" cy="685800"/>
          </a:xfrm>
        </p:grpSpPr>
        <p:sp>
          <p:nvSpPr>
            <p:cNvPr id="188" name=""/>
            <p:cNvSpPr/>
            <p:nvPr/>
          </p:nvSpPr>
          <p:spPr>
            <a:xfrm>
              <a:off x="106668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15740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bu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(DS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590920" y="1905120"/>
            <a:ext cx="1219320" cy="685800"/>
            <a:chOff x="2590920" y="1905120"/>
            <a:chExt cx="1219320" cy="685800"/>
          </a:xfrm>
        </p:grpSpPr>
        <p:sp>
          <p:nvSpPr>
            <p:cNvPr id="191" name=""/>
            <p:cNvSpPr/>
            <p:nvPr/>
          </p:nvSpPr>
          <p:spPr>
            <a:xfrm>
              <a:off x="259092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68128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Data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 (MD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514600" y="3497400"/>
            <a:ext cx="762480" cy="396720"/>
            <a:chOff x="2514600" y="3497400"/>
            <a:chExt cx="762480" cy="396720"/>
          </a:xfrm>
        </p:grpSpPr>
        <p:sp>
          <p:nvSpPr>
            <p:cNvPr id="194" name=""/>
            <p:cNvSpPr/>
            <p:nvPr/>
          </p:nvSpPr>
          <p:spPr>
            <a:xfrm>
              <a:off x="2514600" y="35053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2529000" y="349740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00400" y="2887560"/>
            <a:ext cx="762480" cy="396720"/>
            <a:chOff x="3200400" y="2887560"/>
            <a:chExt cx="762480" cy="396720"/>
          </a:xfrm>
        </p:grpSpPr>
        <p:sp>
          <p:nvSpPr>
            <p:cNvPr id="197" name=""/>
            <p:cNvSpPr/>
            <p:nvPr/>
          </p:nvSpPr>
          <p:spPr>
            <a:xfrm>
              <a:off x="3200400" y="289548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214800" y="288756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66680" y="3726000"/>
            <a:ext cx="762480" cy="396720"/>
            <a:chOff x="1066680" y="3726000"/>
            <a:chExt cx="762480" cy="396720"/>
          </a:xfrm>
        </p:grpSpPr>
        <p:sp>
          <p:nvSpPr>
            <p:cNvPr id="200" name=""/>
            <p:cNvSpPr/>
            <p:nvPr/>
          </p:nvSpPr>
          <p:spPr>
            <a:xfrm>
              <a:off x="1066680" y="37339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1109520" y="3726000"/>
              <a:ext cx="677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00200" y="3192480"/>
            <a:ext cx="762480" cy="396720"/>
            <a:chOff x="1600200" y="3192480"/>
            <a:chExt cx="762480" cy="396720"/>
          </a:xfrm>
        </p:grpSpPr>
        <p:sp>
          <p:nvSpPr>
            <p:cNvPr id="203" name=""/>
            <p:cNvSpPr/>
            <p:nvPr/>
          </p:nvSpPr>
          <p:spPr>
            <a:xfrm>
              <a:off x="1600200" y="320040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1692360" y="319248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4876920" y="1371600"/>
            <a:ext cx="0" cy="53352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334120" y="2133720"/>
            <a:ext cx="380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2286000"/>
            <a:ext cx="380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743200" y="982800"/>
            <a:ext cx="914400" cy="396720"/>
            <a:chOff x="2743200" y="982800"/>
            <a:chExt cx="914400" cy="396720"/>
          </a:xfrm>
        </p:grpSpPr>
        <p:sp>
          <p:nvSpPr>
            <p:cNvPr id="209" name=""/>
            <p:cNvSpPr/>
            <p:nvPr/>
          </p:nvSpPr>
          <p:spPr>
            <a:xfrm>
              <a:off x="274320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2840040" y="982800"/>
              <a:ext cx="720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LC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04812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3526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516480" y="4724280"/>
            <a:ext cx="896760" cy="465120"/>
            <a:chOff x="3516480" y="4724280"/>
            <a:chExt cx="896760" cy="465120"/>
          </a:xfrm>
        </p:grpSpPr>
        <p:sp>
          <p:nvSpPr>
            <p:cNvPr id="216" name=""/>
            <p:cNvSpPr/>
            <p:nvPr/>
          </p:nvSpPr>
          <p:spPr>
            <a:xfrm>
              <a:off x="3581280" y="4724280"/>
              <a:ext cx="762480" cy="457560"/>
            </a:xfrm>
            <a:custGeom>
              <a:avLst/>
              <a:gdLst/>
              <a:ahLst/>
              <a:rect l="0" t="0" r="r" b="b"/>
              <a:pathLst>
                <a:path w="2118" h="1271">
                  <a:moveTo>
                    <a:pt x="0" y="380"/>
                  </a:moveTo>
                  <a:lnTo>
                    <a:pt x="0" y="890"/>
                  </a:lnTo>
                  <a:lnTo>
                    <a:pt x="636" y="1271"/>
                  </a:lnTo>
                  <a:lnTo>
                    <a:pt x="1482" y="1271"/>
                  </a:lnTo>
                  <a:lnTo>
                    <a:pt x="2118" y="890"/>
                  </a:lnTo>
                  <a:lnTo>
                    <a:pt x="2118" y="380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516480" y="4792680"/>
              <a:ext cx="896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wer Sa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3581280" y="2590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2590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362320" y="3352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276720" y="3733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590920"/>
            <a:ext cx="0" cy="9144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876920" y="2590920"/>
            <a:ext cx="0" cy="9144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981080" y="3581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81080" y="2590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590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495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4343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81280" y="32767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04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4495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26708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419112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048120" y="4648320"/>
            <a:ext cx="13716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495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09680" y="495288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819520" y="495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609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6095880"/>
            <a:ext cx="0" cy="38124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19520" y="609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4191120"/>
            <a:ext cx="0" cy="22860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81480" y="4191120"/>
            <a:ext cx="0" cy="22860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48320" y="4191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191120"/>
            <a:ext cx="0" cy="8380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487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1371600"/>
            <a:ext cx="0" cy="53352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03240" y="2712960"/>
            <a:ext cx="484200" cy="639720"/>
            <a:chOff x="903240" y="2712960"/>
            <a:chExt cx="484200" cy="639720"/>
          </a:xfrm>
        </p:grpSpPr>
        <p:sp>
          <p:nvSpPr>
            <p:cNvPr id="254" name=""/>
            <p:cNvSpPr/>
            <p:nvPr/>
          </p:nvSpPr>
          <p:spPr>
            <a:xfrm>
              <a:off x="990720" y="2743200"/>
              <a:ext cx="3049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903240" y="2712960"/>
              <a:ext cx="484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476600" y="6469200"/>
            <a:ext cx="1257480" cy="244440"/>
            <a:chOff x="4476600" y="6469200"/>
            <a:chExt cx="1257480" cy="244440"/>
          </a:xfrm>
        </p:grpSpPr>
        <p:sp>
          <p:nvSpPr>
            <p:cNvPr id="257" name=""/>
            <p:cNvSpPr/>
            <p:nvPr/>
          </p:nvSpPr>
          <p:spPr>
            <a:xfrm>
              <a:off x="4572000" y="64771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476600" y="6469200"/>
              <a:ext cx="1257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114800" y="3505320"/>
            <a:ext cx="1219320" cy="685800"/>
            <a:chOff x="4114800" y="3505320"/>
            <a:chExt cx="1219320" cy="685800"/>
          </a:xfrm>
        </p:grpSpPr>
        <p:sp>
          <p:nvSpPr>
            <p:cNvPr id="260" name=""/>
            <p:cNvSpPr/>
            <p:nvPr/>
          </p:nvSpPr>
          <p:spPr>
            <a:xfrm>
              <a:off x="4114800" y="35053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4132440" y="3573360"/>
              <a:ext cx="11858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(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828800" y="4267080"/>
            <a:ext cx="1219320" cy="685800"/>
            <a:chOff x="1828800" y="4267080"/>
            <a:chExt cx="1219320" cy="685800"/>
          </a:xfrm>
        </p:grpSpPr>
        <p:sp>
          <p:nvSpPr>
            <p:cNvPr id="263" name=""/>
            <p:cNvSpPr/>
            <p:nvPr/>
          </p:nvSpPr>
          <p:spPr>
            <a:xfrm>
              <a:off x="1828800" y="4267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1835280" y="4411800"/>
              <a:ext cx="1206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Control  (C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081320" y="1905120"/>
            <a:ext cx="1284120" cy="685800"/>
            <a:chOff x="4081320" y="1905120"/>
            <a:chExt cx="1284120" cy="685800"/>
          </a:xfrm>
        </p:grpSpPr>
        <p:sp>
          <p:nvSpPr>
            <p:cNvPr id="266" name=""/>
            <p:cNvSpPr/>
            <p:nvPr/>
          </p:nvSpPr>
          <p:spPr>
            <a:xfrm>
              <a:off x="411480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081320" y="1973160"/>
              <a:ext cx="128412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Manageme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(M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245120" y="982800"/>
            <a:ext cx="960480" cy="396720"/>
            <a:chOff x="4245120" y="982800"/>
            <a:chExt cx="960480" cy="396720"/>
          </a:xfrm>
        </p:grpSpPr>
        <p:sp>
          <p:nvSpPr>
            <p:cNvPr id="269" name=""/>
            <p:cNvSpPr/>
            <p:nvPr/>
          </p:nvSpPr>
          <p:spPr>
            <a:xfrm>
              <a:off x="426708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245120" y="98280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893960" y="6469200"/>
            <a:ext cx="1243080" cy="244440"/>
            <a:chOff x="1893960" y="6469200"/>
            <a:chExt cx="1243080" cy="244440"/>
          </a:xfrm>
        </p:grpSpPr>
        <p:sp>
          <p:nvSpPr>
            <p:cNvPr id="272" name=""/>
            <p:cNvSpPr/>
            <p:nvPr/>
          </p:nvSpPr>
          <p:spPr>
            <a:xfrm>
              <a:off x="1905120" y="647712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1893960" y="6469200"/>
              <a:ext cx="1243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Data 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666880" y="5410080"/>
            <a:ext cx="1219320" cy="685800"/>
            <a:chOff x="2666880" y="5410080"/>
            <a:chExt cx="1219320" cy="685800"/>
          </a:xfrm>
        </p:grpSpPr>
        <p:sp>
          <p:nvSpPr>
            <p:cNvPr id="275" name=""/>
            <p:cNvSpPr/>
            <p:nvPr/>
          </p:nvSpPr>
          <p:spPr>
            <a:xfrm>
              <a:off x="2666880" y="5410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2757600" y="5554800"/>
              <a:ext cx="1038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(R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43000" y="5410080"/>
            <a:ext cx="1219320" cy="685800"/>
            <a:chOff x="1143000" y="5410080"/>
            <a:chExt cx="1219320" cy="685800"/>
          </a:xfrm>
        </p:grpSpPr>
        <p:sp>
          <p:nvSpPr>
            <p:cNvPr id="278" name=""/>
            <p:cNvSpPr/>
            <p:nvPr/>
          </p:nvSpPr>
          <p:spPr>
            <a:xfrm>
              <a:off x="1143000" y="5410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212840" y="5554800"/>
              <a:ext cx="1079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ter (T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692680" y="2049480"/>
            <a:ext cx="960480" cy="396720"/>
            <a:chOff x="5692680" y="2049480"/>
            <a:chExt cx="960480" cy="396720"/>
          </a:xfrm>
        </p:grpSpPr>
        <p:sp>
          <p:nvSpPr>
            <p:cNvPr id="281" name=""/>
            <p:cNvSpPr txBox="1"/>
            <p:nvPr/>
          </p:nvSpPr>
          <p:spPr>
            <a:xfrm>
              <a:off x="5692680" y="204948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2057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90920" y="4952880"/>
            <a:ext cx="0" cy="152424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39625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906480"/>
            <a:ext cx="458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798640" y="906480"/>
            <a:ext cx="1111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 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261040" y="906480"/>
            <a:ext cx="7556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p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1295280"/>
            <a:ext cx="0" cy="5257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92240" y="14619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301920" y="16905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14479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13000" y="1004760"/>
            <a:ext cx="12938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_UNIT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ll, mdDA, mdData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Route, mdPri, mdS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1467000"/>
            <a:ext cx="0" cy="4628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16765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2362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73240" y="1766880"/>
            <a:ext cx="2084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ength(mdData) &gt; aMax_Frame_Length) |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Route != null) |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Pri != {contention | contention_free}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C != {asynchronous | time_bounded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743200" y="23763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0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631880" y="2376360"/>
            <a:ext cx="852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47242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301920" y="473868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4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35053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129200" y="1461960"/>
            <a:ext cx="746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val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623960" y="473868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dMSDU, 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430440" y="4030560"/>
            <a:ext cx="9176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191120" y="4510080"/>
            <a:ext cx="1384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essState(mdDA)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State(mdDA) !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29200" y="48909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4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5867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066680" y="6400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92240" y="588168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0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01720" y="588168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mdMSDU, 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57150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990880" y="5173560"/>
            <a:ext cx="727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401840" y="6415200"/>
            <a:ext cx="1316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_UNITDATA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A, mdDA, mdData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, mdPri, mdS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768760" y="641520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960560" y="5653080"/>
            <a:ext cx="500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RX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556080" y="2583000"/>
            <a:ext cx="663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3276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365760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38600" y="1690560"/>
            <a:ext cx="167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 MAC header to cre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MSDU which incl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FromDS := 0, mdType := Dat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2 := aMAC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130720" y="35193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301920" y="367200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3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576440" y="3672000"/>
            <a:ext cx="1432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dMSDU, 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30481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741760" y="306216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0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631880" y="3062160"/>
            <a:ext cx="852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95280" y="2681280"/>
            <a:ext cx="1989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Pri = contention_free &amp; !F_CFavail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C = time_bound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53040" y="3062160"/>
            <a:ext cx="1415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AccessState(mdDA) !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State(mdDA) = 1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5943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27760" y="595800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4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176720" y="5500800"/>
            <a:ext cx="1415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AccessState(mdDA) !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State(mdDA) = 1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1295280"/>
            <a:ext cx="0" cy="190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121280" y="351936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121280" y="489096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121280" y="595800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Management Service State Machin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2438280" y="4952880"/>
            <a:ext cx="3505320" cy="152640"/>
            <a:chOff x="2438280" y="4952880"/>
            <a:chExt cx="3505320" cy="152640"/>
          </a:xfrm>
        </p:grpSpPr>
        <p:sp>
          <p:nvSpPr>
            <p:cNvPr id="339" name=""/>
            <p:cNvSpPr/>
            <p:nvPr/>
          </p:nvSpPr>
          <p:spPr>
            <a:xfrm>
              <a:off x="2438280" y="502920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0080" y="49528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9000" y="4952880"/>
              <a:ext cx="0" cy="15264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480" bIns="69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38280" y="4419720"/>
            <a:ext cx="1981440" cy="152280"/>
            <a:chOff x="2438280" y="4419720"/>
            <a:chExt cx="1981440" cy="152280"/>
          </a:xfrm>
        </p:grpSpPr>
        <p:sp>
          <p:nvSpPr>
            <p:cNvPr id="343" name=""/>
            <p:cNvSpPr/>
            <p:nvPr/>
          </p:nvSpPr>
          <p:spPr>
            <a:xfrm>
              <a:off x="2438280" y="449568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29000" y="441972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 flipH="1">
            <a:off x="990720" y="16765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74840" y="830160"/>
            <a:ext cx="1033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D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58680" y="2757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511960" y="830160"/>
            <a:ext cx="865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oDS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454720" y="26049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58680" y="5272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24160" y="830160"/>
            <a:ext cx="409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40120" y="1690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1523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46400" y="1538280"/>
            <a:ext cx="13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dsMSDU,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230480" y="1461960"/>
            <a:ext cx="1662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available from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397320" y="15382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0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348080" y="1309680"/>
            <a:ext cx="601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oD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20760" y="1690560"/>
            <a:ext cx="1674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DSM reception in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146320" y="2041560"/>
            <a:ext cx="582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20600" y="2529000"/>
            <a:ext cx="131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| unicast to L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2438280"/>
            <a:ext cx="0" cy="1295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27432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544760" y="2757600"/>
            <a:ext cx="876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163600" y="3946680"/>
            <a:ext cx="547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19720" y="32767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27600" y="2879640"/>
            <a:ext cx="981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ired D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43434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113360" y="5318280"/>
            <a:ext cx="611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65530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24160" y="5043600"/>
            <a:ext cx="811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B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19720" y="3581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52578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64008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3581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371600" y="48006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38280" y="31240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429000" y="3809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54864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38280" y="61722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42670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42670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60199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429000" y="58672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47800" y="290988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40660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3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16440" y="2376360"/>
            <a:ext cx="131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| unicast to L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944880" y="2604960"/>
            <a:ext cx="1258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714840" y="359568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30480" y="38242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30480" y="5881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6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724120" y="527220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406600" y="55008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471920" y="4815000"/>
            <a:ext cx="811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B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54720" y="5043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30760" y="504360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94940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3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38280" y="33670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353960" y="359568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71840" y="5881680"/>
            <a:ext cx="649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565360" y="420516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rom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406600" y="45100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406600" y="6186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471840" y="451008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749840" y="3290760"/>
            <a:ext cx="10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i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45472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649680" y="5653080"/>
            <a:ext cx="47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one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387680" y="4281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5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813200" y="40528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82960" y="428148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916360" y="618660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454720" y="6415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74920" y="6338880"/>
            <a:ext cx="861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75320" y="6186600"/>
            <a:ext cx="861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58680" y="6567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68440" y="656748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30680" y="6415200"/>
            <a:ext cx="1101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38520" y="359568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943600" y="137160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90720" y="137160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57150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506600" y="527220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438280" y="2514600"/>
            <a:ext cx="3505320" cy="152280"/>
            <a:chOff x="2438280" y="2514600"/>
            <a:chExt cx="3505320" cy="152280"/>
          </a:xfrm>
        </p:grpSpPr>
        <p:sp>
          <p:nvSpPr>
            <p:cNvPr id="424" name=""/>
            <p:cNvSpPr/>
            <p:nvPr/>
          </p:nvSpPr>
          <p:spPr>
            <a:xfrm>
              <a:off x="2438280" y="259092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429000" y="251460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3429000" y="121932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505320" y="76960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075280" y="199548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030640" y="1766880"/>
            <a:ext cx="1144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_Poll &amp; (TxSt !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50920" y="6338880"/>
            <a:ext cx="16621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1 – (2 * cCFnex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Num += 1, cCFnex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, cFragNum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 cFragLa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05080" y="2529000"/>
            <a:ext cx="1352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nACK(crAddr1, 0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1120" y="982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71600" y="25146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7160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371600" y="28954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2286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800680" y="958680"/>
            <a:ext cx="727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056120" y="1897200"/>
            <a:ext cx="885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400" y="2811600"/>
            <a:ext cx="801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622600" y="98280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90720" y="13716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1523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988920" y="15382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360520" y="20718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528920" y="1309680"/>
            <a:ext cx="1058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wake | 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27080" y="1843200"/>
            <a:ext cx="176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wake &amp; !F_DTIM &amp; (Tx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28195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2666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213000" y="2681280"/>
            <a:ext cx="1273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nACK(crMPDU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2520" y="26812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08640" y="2604960"/>
            <a:ext cx="1655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tate(crAddr2,crType)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494240" y="28335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271520" y="2300400"/>
            <a:ext cx="1573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Error(crAddr1) &amp; (TxSt &gt;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335320" y="2529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819520" y="41911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444920" y="3316320"/>
            <a:ext cx="163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tate(crAddr2,crType) =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494240" y="3519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916360" y="3976560"/>
            <a:ext cx="3314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RTS) &amp; (NAV =0) &amp; !F_Mbusy &amp; (T_IFS =aSIFS) &amp; !F_CF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688000" y="42051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603600" y="4205160"/>
            <a:ext cx="1712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TS(crMPDU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819520" y="73152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684760" y="4738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819520" y="4724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262320" y="4484520"/>
            <a:ext cx="24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 {Management | Data} ) &amp; (cr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29080" y="4713120"/>
            <a:ext cx="195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689440" y="527220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19520" y="52578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949480" y="5018040"/>
            <a:ext cx="31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Management) &amp; (crFragLast = 1) ) | (crType = PS–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440160" y="5246640"/>
            <a:ext cx="2130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crMSDU, crLength, crDir, cr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684760" y="5881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819520" y="5867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35160" y="5627520"/>
            <a:ext cx="293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Data) &amp; (crFragLast = 1) ) &amp; (crToDS = 1) &amp; F_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516480" y="5881680"/>
            <a:ext cx="197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crMSDU, 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819520" y="64771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28840" y="6237360"/>
            <a:ext cx="255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Data) &amp; (crFragLast = 1) ) &amp; (crToDS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688000" y="73296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052960" y="2833560"/>
            <a:ext cx="94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813040" y="1843200"/>
            <a:ext cx="1693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gt;= 0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Length, crDir, cr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rDir = 1) &amp; (crType 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management | data | PS–Poll}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= aSIFS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843280" y="2986200"/>
            <a:ext cx="1569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gt;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Dir, crTs) &amp; ( (crDir = 0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 control) 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3581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78928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819520" y="7010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905200" y="6770520"/>
            <a:ext cx="320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={CF–End | CF–End+Ack} ) &amp; (crAddr2=aCur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130560" y="6999120"/>
            <a:ext cx="1527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NAV(0), Clear(F_CF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695920" y="7024680"/>
            <a:ext cx="493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76760" y="7151760"/>
            <a:ext cx="87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ther fra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3505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728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819520" y="38862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99072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90720" y="3505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274760" y="3798720"/>
            <a:ext cx="142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FrDSq &amp; ( (cCFnext 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CFP &amp; (TxSt = 0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198440" y="4167360"/>
            <a:ext cx="129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Fr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2335320" y="3519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4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246320" y="3525840"/>
            <a:ext cx="11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332080" y="4129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4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9072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99072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120680" y="4484520"/>
            <a:ext cx="1739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Addr1 = multicast) &amp; !F_DTI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PsMode(cAddr1)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527120" y="4815000"/>
            <a:ext cx="1181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cMSDU,P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63720" y="4815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0480" y="53481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233360" y="5094360"/>
            <a:ext cx="1359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CFpoll &amp; (cCFnex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30360" y="7089840"/>
            <a:ext cx="21589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C1 continues, subsequ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s enabled when TxSt != 0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1 | 2 } for DCF trans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–1 | –2 } for CF–Poll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–3 | –4 } for Point Coordin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819520" y="1600200"/>
            <a:ext cx="33526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7467480"/>
            <a:ext cx="0" cy="38124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817720" y="1614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333600" y="1157400"/>
            <a:ext cx="2224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aware &amp; !F_P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Dir = 1) &amp; (crType = { any with CF–Poll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060800" y="1614600"/>
            <a:ext cx="8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150920" y="5348160"/>
            <a:ext cx="16621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aCW_Mi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 Seq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, cFragNum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 cFragLa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65440" y="153828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902120" y="3519360"/>
            <a:ext cx="94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720" y="63244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65160" y="6338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279440" y="6084720"/>
            <a:ext cx="126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oll | (cCFnex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08000" y="3189240"/>
            <a:ext cx="1816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q &amp; ( F_CFpoll | (cCFnext 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CFP &amp; (TxSt = 0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105520" y="1981080"/>
            <a:ext cx="106668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1981080"/>
            <a:ext cx="0" cy="38124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05520" y="2362320"/>
            <a:ext cx="10666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713560" y="19954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72200" y="1523880"/>
            <a:ext cx="0" cy="6324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19520" y="1371600"/>
            <a:ext cx="0" cy="6095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3200400"/>
            <a:ext cx="0" cy="3276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067200" y="753732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668760" y="7684920"/>
            <a:ext cx="213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process frame received during CF period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689440" y="64911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846520" y="6491160"/>
            <a:ext cx="2994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crMPDU,crLength),Enqueue(cr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1066680" y="4738680"/>
            <a:ext cx="108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347920" y="7024680"/>
            <a:ext cx="24750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–1) | ( (TxSt = 1) &amp; (FragNum &gt; 0)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SIFS) &amp; (cAddr1 = individual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Duration(cFragLng, A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17440" y="6993000"/>
            <a:ext cx="121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81000" y="5450040"/>
            <a:ext cx="1392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Last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022480" y="906480"/>
            <a:ext cx="8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,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720720" y="1233360"/>
            <a:ext cx="13032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NAV != 0) | F_Mbusy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TxSt = 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16765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54120" y="1690560"/>
            <a:ext cx="17812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 := (Int(cCW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() ) * aSlot_Tim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, Start(T_Backof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tal_Backoff_Time += T_Backo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Min((cCW * 2), aCW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949400" y="1690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2590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00600" y="3962520"/>
            <a:ext cx="0" cy="3962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438280" y="25146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19051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511360" y="1919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00600" y="160020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338720" y="1211400"/>
            <a:ext cx="925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543040" y="1233360"/>
            <a:ext cx="192564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F_Backoff &amp; (NAV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!F_Mbusy &amp; (T_IFS &gt;= aD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 = individual_addres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ng &gt;= aRTS_Threshold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 A, R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940120" y="1919160"/>
            <a:ext cx="1668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RTS(cMPDU), 1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24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2057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800600" y="23623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78400" y="184320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797360" y="20718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0880" y="207180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700360" y="2147760"/>
            <a:ext cx="1612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CTS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lt; aCTS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314960" y="2529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773440" y="2529000"/>
            <a:ext cx="131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2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478400" y="3421080"/>
            <a:ext cx="646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962520"/>
            <a:ext cx="0" cy="3962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65200" y="3421080"/>
            <a:ext cx="698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409840" y="41292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6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33600" y="3443400"/>
            <a:ext cx="21463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(FragNum =0) &amp; (NAV =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ackoff &amp; !F_Mbusy &amp; (T_IFS &gt;= aD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Addr1 = individual_addres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ng &lt; aRTS_Threshold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 A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819520" y="4129200"/>
            <a:ext cx="19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 := (cRetryCnt &gt; 0), cMore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q, TxRequest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00600" y="3048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800600" y="44197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24480" y="30481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807080" y="2725560"/>
            <a:ext cx="1671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SDU, , ,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CTS) &amp; (T_IFS =aS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79736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203800" y="3062160"/>
            <a:ext cx="1106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ore := F_TXq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ng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2448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00600" y="5029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800600" y="5334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302080" y="481500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797360" y="5043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407200" y="504360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38280" y="31240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671920" y="2757600"/>
            <a:ext cx="1671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CTS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gt;= aCTS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31172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965320" y="313848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438280" y="4876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2685960" y="4510080"/>
            <a:ext cx="1641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ACK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lt;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314960" y="48909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584440" y="4890960"/>
            <a:ext cx="16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(2 * TxSt)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438280" y="54864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658960" y="5119560"/>
            <a:ext cx="169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ACK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gt;=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311720" y="55008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41640" y="550080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66880" y="3900600"/>
            <a:ext cx="16257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Mbusy &amp; (NAV 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_IFS &gt;= aD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=group_address)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Num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&lt;=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914400" y="4724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03240" y="5164200"/>
            <a:ext cx="1449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c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120680" y="7373880"/>
            <a:ext cx="857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558880" y="5697360"/>
            <a:ext cx="2295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0) &amp; ( F_CFack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xIndicate(crMPDU, , , ) &amp; (crType = ACK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438280" y="6019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952640" y="47386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7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541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885960" y="54244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7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866880" y="6186600"/>
            <a:ext cx="16257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= aS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=group_address)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Num &gt;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&lt;=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914400" y="69343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949400" y="6948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7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7696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882720" y="7710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7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52600" y="774864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463840" y="6059520"/>
            <a:ext cx="2089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 Fragment(c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PDU, cFragNum, cFragLng, cFragLas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316400" y="60339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1676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1295280"/>
            <a:ext cx="0" cy="22860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487600" y="7481880"/>
            <a:ext cx="2297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ype := (cType | F_CFpol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ore :=F_ TXq, cRetry :=(cRetryCnt &gt;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cFragLng), Clear(F_CF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536920" y="6459480"/>
            <a:ext cx="2295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1) &amp; ( F_CFack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xIndicate(crMPDU, , , ) &amp; (crType = ACK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438280" y="67816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3080" y="679608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311720" y="67960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438280" y="74674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406600" y="7481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6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95320" y="2909880"/>
            <a:ext cx="1003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2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aCW_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2895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65000" y="2681280"/>
            <a:ext cx="1133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lt; 0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895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32767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54080" y="2909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7772400"/>
            <a:ext cx="0" cy="22860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38280" y="1523880"/>
            <a:ext cx="0" cy="6248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1025640" y="4967280"/>
            <a:ext cx="23367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 :=(cRetryCnt &gt; 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ype := (cType | PollList(cAddr1) | F_CFack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cFragLng), Clear(F_CFack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552680" y="1690560"/>
            <a:ext cx="1247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3, cCFnext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914400" y="1676520"/>
            <a:ext cx="236232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963720" y="16905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9880" y="1919160"/>
            <a:ext cx="2433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C &amp; F_CF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0) &amp; ( (NAV != 0) | F_Mbusy )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TxSt = –3) &amp; (Duration(cFragLng,A) &gt; T_Dwell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968400" y="2427120"/>
            <a:ext cx="2097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, T_Backoff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(aCW_Min * Random() ) * aSlot_Tim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tal_Backoff_Time += T_Backo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Backoff), TxSt := Min(TxSt, –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28880" y="1309680"/>
            <a:ext cx="2057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C &amp; F_CFP &amp; (TxSt = 0) &amp; (NAV 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!F_Mbusy &amp; (T_IFS &gt;= aP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567160" y="906480"/>
            <a:ext cx="1419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CF Multica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530520" y="3214800"/>
            <a:ext cx="1549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338640" y="2757600"/>
            <a:ext cx="23194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T_IFS &gt;= aS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 &lt;= {T_Dwell &amp; T_CFDR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Addr1 != individual 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268800" y="1538280"/>
            <a:ext cx="2441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 TXq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:= 0, Seq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 cFragNum, cFragLng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Last), cCFnext := cFragL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732120" y="1309680"/>
            <a:ext cx="1224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CFnext = 1) &amp; F_TX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276720" y="32004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273480" y="153828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0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280120" y="321480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405240" y="3976560"/>
            <a:ext cx="141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dr1 = individual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712880" y="3519360"/>
            <a:ext cx="404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T_IFS &gt;= aSIFS) &amp; ( (Duration(Length(cMPDU)) &lt;= T_CFDR) | !F_TXq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" y="129528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50880" y="906480"/>
            <a:ext cx="8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,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120760" y="3747960"/>
            <a:ext cx="314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end(), 16), Clear(F_CFP), cCFnext := 0, 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343480" y="906480"/>
            <a:ext cx="1047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Multica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76720" y="15238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914400" y="30481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960480" y="2376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12952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914400" y="23623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48120" y="2362320"/>
            <a:ext cx="0" cy="6858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914400" y="3733920"/>
            <a:ext cx="4952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276720" y="23623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270240" y="237636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0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987720" y="2147760"/>
            <a:ext cx="7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73480" y="2408400"/>
            <a:ext cx="259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+= 1,Fragment(cMSDU,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cFragLng,cFragLast), cCFnext :=cFragL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914400" y="4191120"/>
            <a:ext cx="4952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280120" y="374796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276880" y="420516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392200" y="4205160"/>
            <a:ext cx="291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:= 0, cRetryCnt := 0, Set(F_Backoff), Clear(F_CFac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7880" y="4411800"/>
            <a:ext cx="1128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CF–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14400" y="49528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861840" y="49672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925560" y="4510080"/>
            <a:ext cx="23922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3) &amp; (cCFnex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_IFS &gt;= aSIFS) &amp; F_Backoff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A) &lt;= {T_Dwell &amp; T_CFDR}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791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1280" y="4876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581280" y="51814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235400" y="466236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578400" y="489096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111560" y="489096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81280" y="655308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529080" y="65674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3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810400" y="639432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605040" y="6186600"/>
            <a:ext cx="2227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CFack | (crType = ACK) ) &amp; (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914400" y="32767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089000" y="3062160"/>
            <a:ext cx="2087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2) &amp; F_PC &amp; F_CFP &amp; F_Back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730520" y="329076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914400" y="35053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3276720"/>
            <a:ext cx="0" cy="2286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965160" y="32907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05040" y="5424480"/>
            <a:ext cx="2614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PIFS) &amp; (cRetryCnt &lt;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876240" y="5653080"/>
            <a:ext cx="2187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 :=(Int(aCW_Min*Random(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aSlot_Time), aTotal_Backoff_Time +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, Start(T_Backoff)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952560" y="6110280"/>
            <a:ext cx="2673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PIFS) &amp; (cRetryCnt &gt;=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987720" y="6593040"/>
            <a:ext cx="2089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 Fragment(c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PDU, cFragNum, cFragLng, cFragLas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14400" y="56386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71880" y="56530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14400" y="63244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68640" y="63388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73080" y="6338880"/>
            <a:ext cx="178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:= 1, cRetryCn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73915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525840" y="740556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3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810400" y="723276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605040" y="7024680"/>
            <a:ext cx="2227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CFack | (crType = ACK) ) &amp; (FragLas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064040" y="7431120"/>
            <a:ext cx="1482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:= 0, cCFnext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66880" y="6567480"/>
            <a:ext cx="26654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3) &amp; !F_TXq &amp; !F_RXq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SIFS) &amp; (Duration(aMax_Frame_Length, 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 {T_Dwell &amp; T_CFDR} 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14400" y="70102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858960" y="70246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630600" y="5272200"/>
            <a:ext cx="2330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TXq &amp; !F_RXq &amp; !PollList()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!F_TXa &amp; !F_RXq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aMax_Frame_Length,A) &gt; T_CFDR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913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581280" y="57150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581280" y="6019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575160" y="572940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381560" y="572940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901800" y="7405560"/>
            <a:ext cx="230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sSt = –4) | (Duration(cFragLng,A) &gt; T_CFD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00400" y="7620120"/>
            <a:ext cx="0" cy="3808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76201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14400" y="800100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581280" y="4800600"/>
            <a:ext cx="0" cy="3352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14400" y="1600200"/>
            <a:ext cx="0" cy="6553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12920" y="7634160"/>
            <a:ext cx="1868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end(F_CFack), 16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, cCFnext := 0, 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895320" y="7634160"/>
            <a:ext cx="493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181160" y="702468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aACK_Retry_Max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poll(PollList(next),F_CFack), 2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1295280"/>
            <a:ext cx="0" cy="3048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Fischer</dc:creator>
  <dc:description/>
  <dc:language>en-US</dc:language>
  <cp:lastModifiedBy>Vic Hayes</cp:lastModifiedBy>
  <cp:revision>0</cp:revision>
  <dc:subject/>
  <dc:title>State Machine Notation</dc:title>
</cp:coreProperties>
</file>