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52280"/>
            <a:ext cx="8915400" cy="640080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990720" y="762120"/>
            <a:ext cx="7162560" cy="0"/>
          </a:xfrm>
          <a:prstGeom prst="line">
            <a:avLst/>
          </a:prstGeom>
          <a:ln w="255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908840" y="608004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A6F4D9A2-DC4D-4454-946D-4D4427622327}" type="slidenum"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457200"/>
            <a:ext cx="73152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32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Session of meetings of</a:t>
            </a:r>
            <a:br>
              <a:rPr sz="36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EEE P802.11</a:t>
            </a:r>
            <a:br>
              <a:rPr sz="18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ireless Local Area Networks</a:t>
            </a:r>
            <a:br>
              <a:rPr sz="3600"/>
            </a:br>
            <a:br>
              <a:rPr sz="1800"/>
            </a:br>
            <a:r>
              <a:rPr b="1" lang="en-US" sz="6600" spc="-1" strike="noStrike">
                <a:solidFill>
                  <a:srgbClr val="000000"/>
                </a:solidFill>
                <a:latin typeface="Arial"/>
                <a:ea typeface="Arial"/>
              </a:rPr>
              <a:t>Tentative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Agend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52280" y="2971800"/>
            <a:ext cx="8915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bject to changes by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vember 6-10, 19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ntreal, PQ, Ca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session starts on Monday, Nov 6, 15:30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r half an hour after adjournment of the 802 plen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terim meeting of subgroups, Monday, Nov 6, 08: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entative Meeting Sched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80880" y="9144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at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onth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Year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lac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yp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cation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ost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-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treal, P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een Elizabeth Ho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-1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a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-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 Joll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-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therlan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versity of Tw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-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ancouver  B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tel Vancouv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BJECTIVES All Grou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000160" indent="-34308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543120"/>
                <a:tab algn="l" pos="42861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ick votes on Letter Ballot reference papers (MA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cess all D2 letter ballo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view initial MAC PICS prof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gress on Conformance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ough Graphic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990720"/>
            <a:ext cx="90676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|-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Monday    |  Tuesday   |  Wednesday |   Thursday |   Friday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|-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Exc!MAC! FH |MAC!DS!FH!  |MAC!DS!FH!  |MAC!DS!FH!IR| 802 !MAC!PH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AM |Com!   !    |   !  !  !  |   !  !  !  |   !  !  !  |Plen-|   ! Y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!   !    |   !  !  !  |   !  !  !  |   !........|  ary|OPT!OP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!   !    |   !  !  !  |   !  !  !  |   !   PHY  |-----|   ! T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|-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802      |MAC!  PHY   |Full 802.11 |Full 802.11 | OPT  ! OPT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Plenary    |   !        |Resolve     |   Reports  | MAC  ! PHY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PM |            |   !........|  outputs   |   Outputs  |      !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............|   !DS!FH!  |Cross issues|  Next mtng |      !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Full 802.11 |   !  !  !  |Conform Tst |            |      !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|-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Eve-|IR!OPT !OPT |IR!OPT !OPT |Social      |   Exec.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ning|  !MAC !PHY |  !MAC !PHY |     Event  |     Comm.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egend:   ......... = flexible adjournment/St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PM, July 10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33520" y="91440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:3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r half an hour after plenary ad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cret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l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oting r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ttendance list, Reg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gistics (breaks, lunch, copying, document distrib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pproval of the minutes of previous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lt Lake City mee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11-95/88 +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ui mee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11-95/1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chaumburg mee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1-95/2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tters arising from the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PM, July 10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Executive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e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letter ballot on draft D2.0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n Jose meeting fin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chaumburg meeting fin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PR lette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view of contributi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option of the Agend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1-95/2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PM, July 10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finishe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7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journ for sub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Rough graphic outline for subgroup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ednesday PM, July 12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9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l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ument list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genda adju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0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ross group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HY re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C re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formance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4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jo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Rough graphic outline for subgroup m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ursday PM, July 13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5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ument list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genda adju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6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C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Y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7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finishe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ap of output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4296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4000680"/>
                <a:tab algn="l" pos="4743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allot on Draft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ap of document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ursday PM, July 13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x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Objectives for nex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Mailing Dates: July 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uture Mee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Intermediate Meetings requir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8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9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osu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ic Hayes</dc:creator>
  <dc:description/>
  <dc:language>en-US</dc:language>
  <cp:lastModifiedBy>Vic Hayes</cp:lastModifiedBy>
  <cp:revision>0</cp:revision>
  <dc:subject/>
  <dc:title>32nd Session of meetings of IEEE P802.11 Wireless Local Area Networks  Tentative Agenda</dc:title>
</cp:coreProperties>
</file>