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F36962-3CE1-4F1A-8481-C340E62E2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33F142FA-210E-4758-A5B5-CD5A61754508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Hopping - Multiple AP’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specified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level optimization prefers network-wide hop synchro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efficient system - less collisions, less ìair usage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lklore saya that FCC forbids this. If so, what is the rat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the tru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Wish Li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ed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der channels (Petition by Symbo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