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E77AE6-3E65-4D1B-9149-B9E758B58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line for 802.11 Letter Ball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contains the time line to go through the various ballots for 802.1, assuming positiv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proposed by Vic Hayes, and presented at the January 1996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objections were raised from the attend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 WORKING GROUP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1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5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n 27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da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 2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3 (Sun) (thirty days from mailing date, thirty-eight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7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1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INITIAL SPONSOR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15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1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3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9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r 2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 (Thu) (thirty days from mail arrive date, forty days from 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8 (W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3 (M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FOR SPONSOR CONFIRMATION BAL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of mee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6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ors deli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3 (Th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5 (S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at IE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7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ail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31 (F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receiv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4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ot clos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19 (Wed) (fifteen days from mail arrive, twenty-five days from ftp-ser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on ser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 25 (T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eting sta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ed standard due at IEEE office: August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 September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opportunity (but needs ExCom e-mail ballo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at IEEE office: Novemb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Board meeting: December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