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38160">
            <a:solidFill>
              <a:srgbClr val="fc0128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451640" y="6529320"/>
            <a:ext cx="939960" cy="5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</a:t>
            </a:r>
            <a:fld id="{1FC1DB27-6A96-407A-851F-C0FE0DF75892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of IEEE P802.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d by Vic Hayes, Chair, AT&amp;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recht, the Neth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76320"/>
            <a:ext cx="81532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, MAC: 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62040" y="3898800"/>
            <a:ext cx="7620120" cy="229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Medium Access Control Protocol” using an Ethernet like </a:t>
            </a:r>
            <a:r>
              <a:rPr b="0" i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CSMA/CA + Ac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ision “Avoidance” rather then a “Detection” sche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7920" indent="-2365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ness demonstrated in </a:t>
            </a:r>
            <a:r>
              <a:rPr b="0" i="1" lang="en-US" sz="18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Wavel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du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MAC level recovery of “Lost Packet” using a retransmission algorith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s provisions to deal with “Hidden Node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03360" y="1449360"/>
            <a:ext cx="55530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, MAC: Performa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76320" y="5300640"/>
            <a:ext cx="76201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t and stable throughpu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Based on 2 Mbps </a:t>
            </a:r>
            <a:r>
              <a:rPr b="0" i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Wavel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p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440000" y="1263600"/>
            <a:ext cx="6062760" cy="4046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895560" y="1876320"/>
            <a:ext cx="1195560" cy="228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, MAC: Other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33320" y="137016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aming through the Wireless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 Continuous conne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will “Re-Associate” with Access Points based on “Signal / Link Quality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multi channel roam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on System” will adapt to logical location changes of the s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sions to use minimum Battery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y: Switch nodes off as much as possible, while maintaining network configu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35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ffic buffering functions are included in the Access Point to support t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3760" indent="-29376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d Equivalent Privacy” encryption algorithm is inclu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, PHY, Ra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te radio work on the 2.4 GHz band (IS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promising global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read Spectrum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so allowed to start work in 1.9, 5.2 and 5.8 GHz b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ctivity y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Sequence Spread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Sequence uses an 11 chip Barker Sequence to multiply the transmitte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divides received signal by same Sequence to recover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rrow band interference demin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s can resolve multipath in the cor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of 2 Mbit/s in DQPSK (Differential Quadrature Phase Shift Key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 back modulation of 1 Mbit/s in DBPSK (Differential Binary P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Hopping Spread Sp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Hopping uses one of out 79 channels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ps from one frequency channel to the next at a 2.5 hops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sets of 22 hop sequences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for 1 Mbit/s in 2 level GFSK (Gaussian Frequency Shift Key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for 2 Mbit/s in 4 level GFSK, channel perm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, PHY, Infra-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for 1 Mbit/s (basic rate) in 16-PPM (Pulse Position Modu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on for 2 Mbit/s (enhanced rate) in 4 -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ter illuminates the ceiling with diffused Infra-red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read from ceiling, so there is no requirements to line transmitter and receiver pai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draft ballot condu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.5 % approval (75 % required, unanimous prefer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 (17) appro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 (66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appro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(11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ing negative votes at November/January me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draft sent to ISO annexed to a Proposed New Work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802.11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81200" y="1114560"/>
            <a:ext cx="762012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G Confirmation ballot Jan/Feb 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 issues at March 1996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nsor Ballot Mar/Apr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 issues at May 1996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nsor Confirmation ballot Jun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e issues at July 1996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  <a:tabLst>
                <a:tab algn="ctr" pos="1600200"/>
                <a:tab algn="ctr" pos="4172040"/>
                <a:tab algn="ctr" pos="640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Board meeting September 17-18, 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conference, January 9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hysical Layer Group assembled at the Westgate Hotel, San Diego,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CC staff at the Federal Communications Building, Washington, D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8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802.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um Acces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ROJECT 8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and Metropolitan Standards Committee (LM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d in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nsored by the Computer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st of 35 Socie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Area Networks (L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nly LAN standards development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Standards adopted as International Standard by ISO/I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Standards Organization and International Electrical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ropolitan Area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 450 Voting Members, over 600 Ob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Working Groups, 2 Technical Advisory Grou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 through 802.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ROJECT 80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Area Network -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ate to high signaling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1 Mbit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rately sized geographic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om  to campus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ly owned, used and operated by single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ntrast to wide area net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shared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roject 802.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Local Area Networks Standards Work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July 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 voting members, 28 aspirant voting memb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mbership is by individual, not by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 mailing list with over 180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, Canada, Europe, Israel, Japan, Korea, Tai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actur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-electro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ra-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factur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Functional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ments study showed two types of networking nee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hronous, that is bursty traffic, but when something to send: need for very fast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chronous, that is regular traffic, in small amounts at a time, but at a constant 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 802.11 adopted the following requir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ynchronous MSDU delivery on al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DU is the MAC Service Data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"time-bound MSDU delivery servic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destrian speed and vehicular spe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ises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first review 802.10 prov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MAC to support various PH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ion depend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uter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803240"/>
            <a:ext cx="89028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152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PH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06668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300400" y="1380960"/>
            <a:ext cx="1057320" cy="519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757760" y="1400040"/>
            <a:ext cx="1209600" cy="519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0" y="2666880"/>
            <a:ext cx="1028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80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805200" y="2000160"/>
            <a:ext cx="1557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62560" y="2000160"/>
            <a:ext cx="1523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19600" y="2405160"/>
            <a:ext cx="1542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ROAD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62560" y="2392200"/>
            <a:ext cx="1523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BASE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00520" y="2808360"/>
            <a:ext cx="1562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-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400720" y="2808360"/>
            <a:ext cx="1452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-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09880" y="3162240"/>
            <a:ext cx="1533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-F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24400" y="3181320"/>
            <a:ext cx="1562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-F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14760" y="3543120"/>
            <a:ext cx="1504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BASE-F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934320" y="2494080"/>
            <a:ext cx="148608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ll Ethernet, but not inter-operable on the med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419200" y="4514760"/>
            <a:ext cx="895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802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857840" y="4214880"/>
            <a:ext cx="114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S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838760" y="4610160"/>
            <a:ext cx="114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H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819680" y="5010120"/>
            <a:ext cx="1181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0" y="4214880"/>
            <a:ext cx="142884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ly all 802.11, but not inter-operable on the med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81200" y="2647800"/>
            <a:ext cx="952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62120" y="4476600"/>
            <a:ext cx="1238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