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646E79-F058-4E30-AB55-ADC335AAD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39680" y="6629400"/>
            <a:ext cx="1465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FE14A1D3-51B2-4DBF-809B-8CA83FD1DB6A}" type="slidenum"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&lt;number&gt;</a:t>
            </a:fld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</a:t>
            </a:r>
            <a:r>
              <a:rPr b="0" lang="en-US" sz="500" spc="-1" strike="noStrike">
                <a:solidFill>
                  <a:srgbClr val="081d58"/>
                </a:solidFill>
                <a:latin typeface="Book Antiqua"/>
                <a:ea typeface="Book Antiqua"/>
              </a:rPr>
              <a:t>BreezeNET       </a:t>
            </a:r>
            <a:r>
              <a:rPr b="0" lang="en-US" sz="600" spc="-1" strike="noStrike">
                <a:solidFill>
                  <a:srgbClr val="081d58"/>
                </a:solidFill>
                <a:latin typeface="Book Antiqua"/>
                <a:ea typeface="Book Antiqua"/>
              </a:rPr>
              <a:t>        01/09/9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676520"/>
            <a:ext cx="7772400" cy="33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read Spectrum subpart of the 802.11 Wireless LAN Standar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371600" y="3886200"/>
            <a:ext cx="6400800" cy="19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- 802.11 meeting, Jan. 5,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ftali Chay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 Scien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HSS Modulation Specific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bounded by FC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er bounded to maintain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ccurac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ro crossing instants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l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nter Frequency accuracy - 60 KH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Receiver Perform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85800" y="1766880"/>
            <a:ext cx="77533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CA- Clear Channel Assess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838080" y="1981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is us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te frame re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transmitting when the channel is bu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A Sensitiv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0 dBm for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20 dBm, reduced by 0.5 dB for each dB of power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ection during 0101 pattern within 20 usec with 95%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838080" y="182880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ured minimum hop distance for multipath diversity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hits and adjacent channel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izing consecutive hits between different hopp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CC 15.247 requirement: Pseudorandomly ordered frequency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2286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Previous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ious 802.11 hopping sequences were based on constant frequency increment (mod 79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d better worst case hit, adjacent hit and consecutive hi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e rejected by FCC as insufficiently pseudorandom (due to constant frequency inc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FCC approval for Breeze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designed computer generated pseudorandom list of 79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nimum hop distance of 6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hopping sequences derived from the base predesigned sequ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8 hopping patterns organized in 3 sets of 26 patterns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53352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New Frequency Hopping Sequences- cont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ote frequency as 2402+b[i], b[i] is the base sequence in range 0..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-th sequence is formed from the base sequence as 2402+(b[i]+k) mod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 seq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02, 2456, 2472, 244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-th seq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32, 2407, 2423, 2477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68580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-FCC Meeting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inform FCC about the 802.11 WLAN Standard and its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void situation in which 802.11 standard is not acceptable by F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get better understanding of what FCC does permit, in order to produce a better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Collision Avoid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hysical layer (PHY) is able to provide Carrier Detect indication, when not transmi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ndomized Inter-Frame Space (IFS) for reducing collision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nential Backoff is used to stabilize the network when collisions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Virtual Carrier Sense mechan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radio network, some stations may not hear a transmission from a certain station and therefore collide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TS-CTS exchange contains timing information that signals other stations for how long the medium will be bu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Carier Sense mechanism is implemented in the MAC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Frequency Hopping Sp.Sp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es according to FCC 15.247 ru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MHz bandwidth at -20 dB P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pping over 79 frequencies in a pseudo-random man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x 1 Watt power and 36 dBm EI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09480"/>
            <a:ext cx="8077320" cy="166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 Objectiv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hieving at least 1 Mbit/sec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w cost/familiar technology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ant Envelope- Saturated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iter-Discriminator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channel operation -shaping to reduce adjacent channel inter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rates - taking advantage of short range scenarios to increa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Modul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752480"/>
            <a:ext cx="78487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ussian shaped FSK (GFS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symbol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RZ data is filtered with BT=0.5 Gaussian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or 2 Mbit/sec with multilevel G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Mbit/sec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level GFSK      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45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amble and Header always at 1 Mbit/sec; Data at 1 or 2 Mbit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GFSK vs GMSK compari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1981080"/>
            <a:ext cx="80010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popular with cellular teleph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MSK is a binary GFSK with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02.11 GFSK i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.34 due to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b/s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MHz 20 dB bandwidth 15.247 r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sul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sitivity reduced by 4-5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d first adjacent channel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66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7c341"/>
                </a:solidFill>
                <a:latin typeface="Book Antiqua"/>
                <a:ea typeface="Book Antiqua"/>
              </a:rPr>
              <a:t>802.11 FHSS Frame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Y header indicates payload rate and length; CRC16 pro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a71f6e"/>
              </a:buClr>
              <a:buSzPct val="5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is formatted to limit DC offset variations, for PLL bas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9880" y="979560"/>
            <a:ext cx="457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b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77960" y="1932120"/>
            <a:ext cx="8032680" cy="1149480"/>
            <a:chOff x="777960" y="1932120"/>
            <a:chExt cx="8032680" cy="1149480"/>
          </a:xfrm>
        </p:grpSpPr>
        <p:grpSp>
          <p:nvGrpSpPr>
            <p:cNvPr id="110" name=""/>
            <p:cNvGrpSpPr/>
            <p:nvPr/>
          </p:nvGrpSpPr>
          <p:grpSpPr>
            <a:xfrm>
              <a:off x="1628640" y="1943280"/>
              <a:ext cx="6372360" cy="295200"/>
              <a:chOff x="1628640" y="1943280"/>
              <a:chExt cx="6372360" cy="295200"/>
            </a:xfrm>
          </p:grpSpPr>
          <p:sp>
            <p:nvSpPr>
              <p:cNvPr id="111" name=""/>
              <p:cNvSpPr/>
              <p:nvPr/>
            </p:nvSpPr>
            <p:spPr>
              <a:xfrm>
                <a:off x="1628640" y="1943280"/>
                <a:ext cx="1612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543640" y="1943280"/>
                <a:ext cx="245736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24180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008600" y="1943280"/>
                <a:ext cx="76824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76840" y="1943280"/>
                <a:ext cx="766800" cy="2952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363680" y="193212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777960" y="209232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229600" y="20988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339084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21621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12740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4863960" y="197172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6057720" y="197172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2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05680" y="1957320"/>
              <a:ext cx="260640" cy="303480"/>
            </a:xfrm>
            <a:custGeom>
              <a:avLst/>
              <a:gdLst/>
              <a:ahLst/>
              <a:rect l="0" t="0" r="r" b="b"/>
              <a:pathLst>
                <a:path fill="none" w="724" h="843">
                  <a:moveTo>
                    <a:pt x="0" y="843"/>
                  </a:moveTo>
                  <a:lnTo>
                    <a:pt x="0" y="0"/>
                  </a:lnTo>
                  <a:lnTo>
                    <a:pt x="724" y="421"/>
                  </a:lnTo>
                  <a:lnTo>
                    <a:pt x="0" y="84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36560" y="2728800"/>
              <a:ext cx="1612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51560" y="281448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4972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16520" y="2728800"/>
              <a:ext cx="76824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4760" y="2728800"/>
              <a:ext cx="766800" cy="295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785880" y="2878200"/>
              <a:ext cx="581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8278920" y="2868480"/>
              <a:ext cx="525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 txBox="1"/>
            <p:nvPr/>
          </p:nvSpPr>
          <p:spPr>
            <a:xfrm>
              <a:off x="339876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21700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 txBox="1"/>
            <p:nvPr/>
          </p:nvSpPr>
          <p:spPr>
            <a:xfrm>
              <a:off x="413532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4871880" y="2757600"/>
              <a:ext cx="457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6 bit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6066000" y="2782800"/>
              <a:ext cx="1306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riable lengyh 4 level dat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99560" y="2655720"/>
              <a:ext cx="294120" cy="425880"/>
            </a:xfrm>
            <a:custGeom>
              <a:avLst/>
              <a:gdLst/>
              <a:ahLst/>
              <a:rect l="0" t="0" r="r" b="b"/>
              <a:pathLst>
                <a:path fill="none" w="817" h="1183">
                  <a:moveTo>
                    <a:pt x="0" y="1183"/>
                  </a:moveTo>
                  <a:lnTo>
                    <a:pt x="0" y="0"/>
                  </a:lnTo>
                  <a:lnTo>
                    <a:pt x="817" y="591"/>
                  </a:lnTo>
                  <a:lnTo>
                    <a:pt x="0" y="118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553000" y="267336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49760" y="2935440"/>
              <a:ext cx="2457360" cy="130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86000" y="2719440"/>
              <a:ext cx="267120" cy="314640"/>
            </a:xfrm>
            <a:custGeom>
              <a:avLst/>
              <a:gdLst/>
              <a:ahLst/>
              <a:rect l="0" t="0" r="r" b="b"/>
              <a:pathLst>
                <a:path fill="none" w="742" h="874">
                  <a:moveTo>
                    <a:pt x="742" y="874"/>
                  </a:moveTo>
                  <a:lnTo>
                    <a:pt x="742" y="0"/>
                  </a:lnTo>
                  <a:lnTo>
                    <a:pt x="0" y="436"/>
                  </a:lnTo>
                  <a:lnTo>
                    <a:pt x="742" y="874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 txBox="1"/>
          <p:nvPr/>
        </p:nvSpPr>
        <p:spPr>
          <a:xfrm>
            <a:off x="843120" y="1627200"/>
            <a:ext cx="7897680" cy="2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681120"/>
                <a:tab algn="l" pos="2109960"/>
                <a:tab algn="l" pos="2860560"/>
                <a:tab algn="l" pos="3654360"/>
                <a:tab algn="l" pos="5141880"/>
                <a:tab algn="l" pos="67438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up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 timing sync pattern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yn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 header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 CRC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load Data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p dow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