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587E6C-1E91-4D48-88DC-11AA33582B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9680" y="6629400"/>
            <a:ext cx="146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2475A210-52F5-4DFA-BF9F-1F8A0EAAD7F5}" type="slidenum"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&lt;number&gt;</a:t>
            </a:fld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</a:t>
            </a:r>
            <a:r>
              <a:rPr b="0" lang="en-US" sz="500" spc="-1" strike="noStrike">
                <a:solidFill>
                  <a:srgbClr val="081d58"/>
                </a:solidFill>
                <a:latin typeface="Book Antiqua"/>
                <a:ea typeface="Book Antiqua"/>
              </a:rPr>
              <a:t>BreezeNET       </a:t>
            </a:r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 01/09/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52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read Spectrum subpart of the 802.11 Wireless LAN 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- 802.11 meeting, Jan. 5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HSS Modulation Specif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bounded to maintai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ccur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 crossing instan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Frequency accuracy - 6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Receiver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66880"/>
            <a:ext cx="7753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CA- Clear Channel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1981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is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Sensi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0 dBm f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during 0101 pattern within 20 usec with 95%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286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Previous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802.11 hopping sequences were based on constant frequency increment (mod 7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better worst case hit, adjacent hit and consecutive hi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e rejected by FCC as insufficiently pseudorandom (due to constant frequency inc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FCC approval for Bree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hopping sequences derived from the base predesigned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-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-FCC Meeting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form FCC about the 802.11 WLAN Standard and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situation in which 802.11 standard is not acceptable by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better understanding of what FCC does permit, in order to produce a bette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ollision Avoi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layer (PHY) is able to provide Carrier Detect indication, when not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d Inter-Frame Space (IFS) for reducing colli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ial Backoff is used to stabilize the network when collision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Virtual Carrier Sense mechan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adio network, some stations may not hear a transmission from a certain station and therefore collid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TS-CTS exchange contains timing information that signals other stations for how long the medium will be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arier Sense mechanism is implemented in the MA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.S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s according to FCC 15.247 ru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MHz bandwidth at -20 dB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ping over 79 frequencies in a pseudo-random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Watt power and 36 dBm EI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/familiar technology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hannel operation -shaping to reduce adjacent 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rates - taking advantage of short range scenarios to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75248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ussian shaped FSK (G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RZ data is filtered with BT=0.5 Gaussi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45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GFSK vs GMSK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98108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popular with cellular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a binary GFSK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2.11 GFSK i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 due t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/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Hz 20 dB bandwidth 15.247 r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 reduced by 4-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first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Fram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formatted to limit DC offset variations, for PLL bas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9880" y="97956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960" y="1932120"/>
            <a:ext cx="8032680" cy="1149480"/>
            <a:chOff x="777960" y="1932120"/>
            <a:chExt cx="8032680" cy="1149480"/>
          </a:xfrm>
        </p:grpSpPr>
        <p:grpSp>
          <p:nvGrpSpPr>
            <p:cNvPr id="110" name=""/>
            <p:cNvGrpSpPr/>
            <p:nvPr/>
          </p:nvGrpSpPr>
          <p:grpSpPr>
            <a:xfrm>
              <a:off x="1628640" y="1943280"/>
              <a:ext cx="6372360" cy="295200"/>
              <a:chOff x="1628640" y="1943280"/>
              <a:chExt cx="6372360" cy="29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628640" y="1943280"/>
                <a:ext cx="1612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3640" y="1943280"/>
                <a:ext cx="245736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180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08600" y="1943280"/>
                <a:ext cx="76824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63680" y="193212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7960" y="209232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9600" y="20988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39084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621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12740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8639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57720" y="197172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2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5680" y="1957320"/>
              <a:ext cx="260640" cy="303480"/>
            </a:xfrm>
            <a:custGeom>
              <a:avLst/>
              <a:gdLst/>
              <a:ahLst/>
              <a:rect l="0" t="0" r="r" b="b"/>
              <a:pathLst>
                <a:path fill="none" w="724" h="843">
                  <a:moveTo>
                    <a:pt x="0" y="843"/>
                  </a:moveTo>
                  <a:lnTo>
                    <a:pt x="0" y="0"/>
                  </a:lnTo>
                  <a:lnTo>
                    <a:pt x="724" y="421"/>
                  </a:lnTo>
                  <a:lnTo>
                    <a:pt x="0" y="8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6560" y="2728800"/>
              <a:ext cx="1612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51560" y="281448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6520" y="2728800"/>
              <a:ext cx="76824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476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5880" y="28782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78920" y="2868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39876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1700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3532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18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066000" y="278280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4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99560" y="2655720"/>
              <a:ext cx="294120" cy="425880"/>
            </a:xfrm>
            <a:custGeom>
              <a:avLst/>
              <a:gdLst/>
              <a:ahLst/>
              <a:rect l="0" t="0" r="r" b="b"/>
              <a:pathLst>
                <a:path fill="none" w="817" h="1183">
                  <a:moveTo>
                    <a:pt x="0" y="1183"/>
                  </a:moveTo>
                  <a:lnTo>
                    <a:pt x="0" y="0"/>
                  </a:lnTo>
                  <a:lnTo>
                    <a:pt x="817" y="591"/>
                  </a:lnTo>
                  <a:lnTo>
                    <a:pt x="0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3000" y="267336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49760" y="293544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6000" y="271944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843120" y="1627200"/>
            <a:ext cx="7897680" cy="2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681120"/>
                <a:tab algn="l" pos="2109960"/>
                <a:tab algn="l" pos="2860560"/>
                <a:tab algn="l" pos="3654360"/>
                <a:tab algn="l" pos="5141880"/>
                <a:tab algn="l" pos="6743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u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 timing sync patt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y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CR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 Dat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aftali Chayat</dc:creator>
  <dc:description/>
  <dc:language>en-US</dc:language>
  <cp:lastModifiedBy>Vic Hayes</cp:lastModifiedBy>
  <cp:revision>0</cp:revision>
  <dc:subject/>
  <dc:title>Frequency Hopping Spread Spectrum section of the 802.11 Wireless LAN Standard</dc:title>
</cp:coreProperties>
</file>