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4677616A-619E-403C-8D3D-2E03D3DFCA5C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4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11-15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Jolla,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rch 11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March 11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9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-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comments on LB on D3.0 and prepare Draft for sponsor ballot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sion of FH tables for various other countries (France, Spain, Australia)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 a tutorial to 802 in preparation of the sponsor ballot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Mbit/s informational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C wish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 !MAC!DS!FH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!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IR!OPT !OPT |IR!Tutorial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!MAC !PHY |  !  to 802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3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eting with the F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-election of offi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ponse to IS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6/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r 13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