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52280"/>
            <a:ext cx="8915400" cy="640080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990720" y="762120"/>
            <a:ext cx="7162560" cy="0"/>
          </a:xfrm>
          <a:prstGeom prst="line">
            <a:avLst/>
          </a:prstGeom>
          <a:ln w="2556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908840" y="608004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5A7152F3-CF45-4C35-9F1F-A0930BF55D04}" type="slidenum"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457200"/>
            <a:ext cx="73152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34th Session of meetings of</a:t>
            </a:r>
            <a:br>
              <a:rPr sz="36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EEE P802.11</a:t>
            </a:r>
            <a:br>
              <a:rPr sz="18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ireless Local Area Networks</a:t>
            </a:r>
            <a:br>
              <a:rPr sz="3600"/>
            </a:br>
            <a:br>
              <a:rPr sz="1800"/>
            </a:br>
            <a:r>
              <a:rPr b="1" lang="en-US" sz="6600" spc="-1" strike="noStrike">
                <a:solidFill>
                  <a:srgbClr val="000000"/>
                </a:solidFill>
                <a:latin typeface="Arial"/>
                <a:ea typeface="Arial"/>
              </a:rPr>
              <a:t>Tentative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Agend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52280" y="2971800"/>
            <a:ext cx="89154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bject to changes by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ch 11-15, 19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a Jolla, Califor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session starts on Monday, March 11, 15:30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r half an hour after adjournment of the 802 plen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terim meeting of subgroups, Monday, March 11, 08: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entative Meeting Sched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80880" y="9144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at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onth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Year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lac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yp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ocation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ost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-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 Jolla, C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-9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-1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-1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l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therlan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-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ancouver,  B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tel Vancou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-1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rvine, CA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rvine Marriot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-1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haina, H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 Ma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-1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ntreal, QU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tel Vancouv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BJECTIVES All Grou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solve comments on LB on D3.0 and prepare Draft for sponsor ballot 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clusion of FH tables for various other countries (France, Spain, Australia)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ive a tutorial to 802 in preparation of the sponsor ballot 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formance testing (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 Mbit/s informational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CC wish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238880" y="2133720"/>
            <a:ext cx="1371600" cy="18288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ough Graphic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0" y="990720"/>
            <a:ext cx="90676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Monday    |  Tuesday  |Wednesday   |   Thursday |   Friday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Ex !MAC!DS!FH|MAC!  PHY  |MAC! DS! FH |MAC! DS! FH |     802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AM |Com!   !  !  |   !       |   !   !    |   !   !    |   Plenary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!   !  !  |   !.......|   !   !    |   !........|</a:t>
            </a:r>
            <a:r>
              <a:rPr b="1" lang="en-US" sz="1600" spc="-1" strike="noStrike">
                <a:solidFill>
                  <a:srgbClr val="919191"/>
                </a:solidFill>
                <a:latin typeface="Courier New"/>
                <a:ea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!   !  !  |   ! DS!FH |   !   !    |   !   PHY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  802     |MAC! DS!FH |Full 802.11 |Full 802.11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Plenary    |   !   !   |Resolve     |   Reports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PM |             |   !   !   |  outputs   |   Outputs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.............|   !   !   |Cross issues|  Next mtng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Full 802.11 |   !   !   |Conform Tst |          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Eve-| IR!OPT !OPT |IR!Tutorial|Social      |   Exec.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ning|   !MAC !PHY |  !  to 802|     Event  |     Comm.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egend:   ......... = flexible adjournment/St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PM, Mar 11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33520" y="91440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:3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r half an hour after plenary ad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cret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ll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oting r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ttendance list, Reg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gistics (breaks, lunch, copying, document distribu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pproval of the minutes of previous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ntreal meet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11-95/2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n Diego meet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11-96/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tters arising from the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PM, Mar 11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Executive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e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letter ballot on draft D3.0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n Jose meeting fin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n Diego meeting fin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PR le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eeting with the FC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view of contributio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option of the Agend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1-96/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PM, Mar 11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finished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.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-election of offi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.2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sponse to IS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96/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7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w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8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journ for sub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e Rough graphic outline for subgroup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ednesday PM, Mar 13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9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ll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cument list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genda adjus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0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ross group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HY re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C re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formance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4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jo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e Rough graphic outline for subgroup m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ursday PM, Mar 14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5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cument list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genda adjus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6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C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HY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7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finished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ap of output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4296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4000680"/>
                <a:tab algn="l" pos="4743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allot on Draft Stand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ap of document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ursday PM, Mar 14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xt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 Objectives for next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 Mailing Dates: @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uture Mee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Intermediate Meetings requir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8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w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9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osu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ic Hayes</dc:creator>
  <dc:description/>
  <dc:language>en-US</dc:language>
  <cp:lastModifiedBy>Vic Hayes</cp:lastModifiedBy>
  <cp:revision>0</cp:revision>
  <dc:subject/>
  <dc:title>34th Session of meetings of IEEE P802.11 Wireless Local Area Networks  Tentative Agenda</dc:title>
</cp:coreProperties>
</file>