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52280"/>
            <a:ext cx="8915400" cy="640080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990720" y="762120"/>
            <a:ext cx="7162560" cy="0"/>
          </a:xfrm>
          <a:prstGeom prst="line">
            <a:avLst/>
          </a:prstGeom>
          <a:ln w="25560">
            <a:solidFill>
              <a:srgbClr val="618f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7908840" y="6080040"/>
            <a:ext cx="523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fld id="{76FAA89A-6D67-4634-8333-748F568F7F06}" type="slidenum"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838080" y="457200"/>
            <a:ext cx="731520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34th Session of meetings of</a:t>
            </a:r>
            <a:br>
              <a:rPr sz="36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EEE P802.11</a:t>
            </a:r>
            <a:br>
              <a:rPr sz="18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Wireless Local Area Networks</a:t>
            </a:r>
            <a:br>
              <a:rPr sz="3600"/>
            </a:br>
            <a:br>
              <a:rPr sz="1800"/>
            </a:br>
            <a:r>
              <a:rPr b="1" lang="en-US" sz="6600" spc="-1" strike="noStrike">
                <a:solidFill>
                  <a:srgbClr val="000000"/>
                </a:solidFill>
                <a:latin typeface="Arial"/>
                <a:ea typeface="Arial"/>
              </a:rPr>
              <a:t>Tentative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Agend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52280" y="2971800"/>
            <a:ext cx="8915400" cy="32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ubject to changes by committ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ch 11-15, 19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a Jolla, Califor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session starts on Monday, March 11, 15:30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r half an hour after adjournment of the 802 plen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terim meeting of subgroups, Monday, March 11, 08: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entative Meeting Schedu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80880" y="91440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ate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onth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Year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lace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yp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ocation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ost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1-1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rc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 Jolla, C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yatt Reg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-1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8-1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ul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etherland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1-1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v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ancouver,  B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tel Vancou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-1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rc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rvine, CA?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rvine Marriot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7-1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u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haina, H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yatt Regency Ma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-1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v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ntreal, QU?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tel Vancouv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BJECTIVES All Grou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solve comments on LB on D3.0 and prepare Draft for sponsor ballot  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clusion of FH tables for various other countries (France, Spain, Australia)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ive a tutorial to 802 in preparation of the sponsor ballot 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formance testing (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 Mbit/s informational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CC wish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7238880" y="2133720"/>
            <a:ext cx="1371600" cy="182880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Rough Graphic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0" y="990720"/>
            <a:ext cx="906768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----|-----------|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  Monday    |  Tuesday  |Wednesday   |   Thursday |   Friday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----|-----------|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Ex !MAC!DS!FH|MAC!  PHY  |MAC! DS! FH |MAC! DS! FH |     802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AM |Com!   !  !  |   !       |   !   !    |   !   !    |   Plenary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  !   !  !  |   !.......|   !   !    |   !........|</a:t>
            </a:r>
            <a:r>
              <a:rPr b="1" lang="en-US" sz="1600" spc="-1" strike="noStrike">
                <a:solidFill>
                  <a:srgbClr val="919191"/>
                </a:solidFill>
                <a:latin typeface="Courier New"/>
                <a:ea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  !   !  !  |   ! DS!FH |   !   !    |   !   PHY  |       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----|-----------|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    802     |MAC! DS!FH |Full 802.11 |Full 802.11 |       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 Plenary    |   !   !   |Resolve     |   Reports  |       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PM |             |   !   !   |  outputs   |   Outputs  |       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.............|   !   !   |Cross issues|  Next mtng |       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Full 802.11 |   !   !   |Conform Tst |            |       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----|-----------|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Eve-| IR!OPT !OPT |IR!Tutorial|Social      |   Exec.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ning|   !MAC !PHY |  !  to 802|     Event  |     Comm.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----|-----------|------------|---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Legend:   ......... = flexible adjournment/St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onday PM, Mar 11, 199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533520" y="91440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en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:30 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r half an hour after plenary ad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ecret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oll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oting righ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ttendance list, Regist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ogistics (breaks, lunch, copying, document distribu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ther announc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pproval of the minutes of previous mee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ontreal meeti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11-95/2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an Diego meeti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11-96/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tters arising from the min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onday PM, Mar 11, 199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Executive Committ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edi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letter ballot on draft D3.0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an Jose meeting fina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an Diego meeting fina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6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PR le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7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eeting with the FC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4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view of contribution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5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doption of the Agend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1-96/2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onday PM, Mar 11, 199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6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nfinished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7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ew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8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djourn for sub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e Rough graphic outline for subgroup mee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Wednesday PM, Mar 13, 199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9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en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:00 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oll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ocument list up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genda adjust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.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nounc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0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ross group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1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HY resol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2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C resol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3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formance 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4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djou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e Rough graphic outline for subgroup m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hursday PM, Mar 14, 199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5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en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:00 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5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nounc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5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ocument list up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5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genda adjust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6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6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C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6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HY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7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nfinished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7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cap of output docu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4296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4000680"/>
                <a:tab algn="l" pos="4743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allot on Draft Stand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7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cap of document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hursday PM, Mar 14, 199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7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xt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* Objectives for next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* Mailing Dates: @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7.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uture Meet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7.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ther Intermediate Meetings requir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8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ew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9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osur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5:00 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