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BD8EBFC7-6208-445C-8C22-A51C86DE368E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4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11-15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a Jolla, Califor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11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11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-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comments on LB on D3.0 and prepare Draft for sponsor ballot 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lusion of FH tables for various other countries (France, Spain, Australia)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 a tutorial to 802 in preparation of the sponsor ballot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 Mbit/s informational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 !MAC!DS!FH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IR!OPT !OPT |IR!Tutorial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!MAC !PHY |  !  to 802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ntreal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2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3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Diego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eting with the FC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 13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 14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4th Session of meetings of IEEE P802.11 Wireless Local Area Networks  Tentative Agenda</dc:title>
</cp:coreProperties>
</file>