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F29D9F-E2D5-48BE-B572-F10C45DC0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57456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49160" y="21744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802.11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073160"/>
            <a:ext cx="77547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174160" y="655308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62B6F175-0289-41F0-A3B4-81A118011B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4960" y="531720"/>
            <a:ext cx="72396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362720" y="233280"/>
            <a:ext cx="10047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ae00"/>
                </a:solidFill>
                <a:latin typeface="Arial"/>
                <a:ea typeface="Arial"/>
              </a:rPr>
              <a:t>March  9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631800" y="6553080"/>
            <a:ext cx="6800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1996 IEEE, All rights reserved. This contains parts from an unapproved draft, subject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80880" y="6591240"/>
            <a:ext cx="8325000" cy="0"/>
          </a:xfrm>
          <a:prstGeom prst="line">
            <a:avLst/>
          </a:prstGeom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6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600" spc="-1" strike="noStrike">
                <a:solidFill>
                  <a:srgbClr val="618ffd"/>
                </a:solidFill>
                <a:latin typeface="Arial"/>
                <a:ea typeface="Arial"/>
              </a:rPr>
              <a:t>802.11 Tutorial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802.11 MAC Entit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Basic Access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vacy and 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TS/CTS Overhead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324080" y="1298520"/>
            <a:ext cx="6407280" cy="4357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736560" y="5835600"/>
            <a:ext cx="7365960" cy="53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od mixed Throughput (long inbound frames) ef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289320" y="1806480"/>
            <a:ext cx="2529000" cy="303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 Short, 40% Long Fr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Optional Point Coordination Function (PC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990720" y="3992400"/>
            <a:ext cx="7467480" cy="27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ion Free Service uses Point Coordination Function (PCF) on a DCF Foun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CF can provide low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er dela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variations to support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Time Bounded Servi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nc Data, Voice or mixed implementation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int Coordinator resides in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existence between Contention and optional Contention Free  does not burden the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27400" y="1290600"/>
            <a:ext cx="4489560" cy="271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38560" y="1300320"/>
            <a:ext cx="2163600" cy="1131840"/>
          </a:xfrm>
          <a:prstGeom prst="rect">
            <a:avLst/>
          </a:prstGeom>
          <a:solidFill>
            <a:srgbClr val="c0c0c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00440" y="1576440"/>
            <a:ext cx="1459440" cy="565560"/>
          </a:xfrm>
          <a:custGeom>
            <a:avLst/>
            <a:gdLst/>
            <a:ahLst/>
            <a:rect l="0" t="0" r="r" b="b"/>
            <a:pathLst>
              <a:path w="4054" h="1571">
                <a:moveTo>
                  <a:pt x="899" y="1571"/>
                </a:moveTo>
                <a:lnTo>
                  <a:pt x="0" y="0"/>
                </a:lnTo>
                <a:lnTo>
                  <a:pt x="3159" y="0"/>
                </a:lnTo>
                <a:lnTo>
                  <a:pt x="4054" y="1571"/>
                </a:lnTo>
                <a:lnTo>
                  <a:pt x="899" y="1571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254480" y="1865160"/>
            <a:ext cx="1472040" cy="567000"/>
          </a:xfrm>
          <a:custGeom>
            <a:avLst/>
            <a:gdLst/>
            <a:ahLst/>
            <a:rect l="0" t="0" r="r" b="b"/>
            <a:pathLst>
              <a:path w="4089" h="1575">
                <a:moveTo>
                  <a:pt x="3181" y="1575"/>
                </a:moveTo>
                <a:lnTo>
                  <a:pt x="4089" y="0"/>
                </a:lnTo>
                <a:lnTo>
                  <a:pt x="908" y="0"/>
                </a:lnTo>
                <a:lnTo>
                  <a:pt x="0" y="1575"/>
                </a:lnTo>
                <a:lnTo>
                  <a:pt x="3181" y="1575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08240" y="3151080"/>
            <a:ext cx="228924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95640" y="2413080"/>
            <a:ext cx="2317680" cy="59364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746520" y="2697120"/>
            <a:ext cx="893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SMA/CA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49680" y="1919160"/>
            <a:ext cx="7300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273480" y="1871640"/>
            <a:ext cx="539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97560" y="2098800"/>
            <a:ext cx="539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70440" y="299088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67240" y="2990880"/>
            <a:ext cx="0" cy="169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54480" y="3613320"/>
            <a:ext cx="354240" cy="375120"/>
          </a:xfrm>
          <a:custGeom>
            <a:avLst/>
            <a:gdLst/>
            <a:ahLst/>
            <a:rect l="0" t="0" r="r" b="b"/>
            <a:pathLst>
              <a:path fill="none" w="984" h="1042">
                <a:moveTo>
                  <a:pt x="0" y="0"/>
                </a:moveTo>
                <a:lnTo>
                  <a:pt x="0" y="1042"/>
                </a:lnTo>
                <a:lnTo>
                  <a:pt x="790" y="1042"/>
                </a:lnTo>
                <a:lnTo>
                  <a:pt x="790" y="261"/>
                </a:lnTo>
                <a:lnTo>
                  <a:pt x="790" y="649"/>
                </a:lnTo>
                <a:lnTo>
                  <a:pt x="984" y="261"/>
                </a:lnTo>
                <a:lnTo>
                  <a:pt x="790" y="649"/>
                </a:lnTo>
                <a:lnTo>
                  <a:pt x="591" y="26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951360" y="328464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68960" y="1406520"/>
            <a:ext cx="0" cy="1527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110280" y="1397160"/>
            <a:ext cx="106560" cy="244800"/>
          </a:xfrm>
          <a:custGeom>
            <a:avLst/>
            <a:gdLst/>
            <a:ahLst/>
            <a:rect l="0" t="0" r="r" b="b"/>
            <a:pathLst>
              <a:path w="296" h="680">
                <a:moveTo>
                  <a:pt x="132" y="0"/>
                </a:moveTo>
                <a:lnTo>
                  <a:pt x="0" y="680"/>
                </a:lnTo>
                <a:lnTo>
                  <a:pt x="296" y="680"/>
                </a:lnTo>
                <a:lnTo>
                  <a:pt x="132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0280" y="2801880"/>
            <a:ext cx="106560" cy="246600"/>
          </a:xfrm>
          <a:custGeom>
            <a:avLst/>
            <a:gdLst/>
            <a:ahLst/>
            <a:rect l="0" t="0" r="r" b="b"/>
            <a:pathLst>
              <a:path w="296" h="685">
                <a:moveTo>
                  <a:pt x="132" y="685"/>
                </a:moveTo>
                <a:lnTo>
                  <a:pt x="0" y="0"/>
                </a:lnTo>
                <a:lnTo>
                  <a:pt x="296" y="0"/>
                </a:lnTo>
                <a:lnTo>
                  <a:pt x="132" y="68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243480" y="2011320"/>
            <a:ext cx="487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95640" y="2131920"/>
            <a:ext cx="1179360" cy="3207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324240" y="2162160"/>
            <a:ext cx="663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9440" y="2486160"/>
            <a:ext cx="523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867040" y="1649520"/>
            <a:ext cx="981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Fre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738680" y="1552680"/>
            <a:ext cx="615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346480" y="1268280"/>
            <a:ext cx="1784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Bounded / Asyn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Contention Fre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990720" y="3811680"/>
            <a:ext cx="7162920" cy="26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ternating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Contention Free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Conten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peration under PCF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V prevent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affic until reset by the last PCF trans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variable leng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ion Fre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eriod per interv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th PCF and DCF defer to each other causing PCF Burst start vari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81160" y="1490760"/>
            <a:ext cx="6781680" cy="174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457280" y="2262240"/>
            <a:ext cx="6399360" cy="4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585800" y="2101680"/>
            <a:ext cx="14050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595520" y="1828800"/>
            <a:ext cx="0" cy="96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32480" y="2163600"/>
            <a:ext cx="0" cy="282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552680" y="1909800"/>
            <a:ext cx="1333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Free Peri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224160" y="1924200"/>
            <a:ext cx="1082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Peri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95520" y="1881360"/>
            <a:ext cx="3002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595520" y="1843200"/>
            <a:ext cx="214560" cy="84600"/>
          </a:xfrm>
          <a:custGeom>
            <a:avLst/>
            <a:gdLst/>
            <a:ahLst/>
            <a:rect l="0" t="0" r="r" b="b"/>
            <a:pathLst>
              <a:path w="596" h="235">
                <a:moveTo>
                  <a:pt x="0" y="115"/>
                </a:moveTo>
                <a:lnTo>
                  <a:pt x="596" y="0"/>
                </a:lnTo>
                <a:lnTo>
                  <a:pt x="596" y="235"/>
                </a:lnTo>
                <a:lnTo>
                  <a:pt x="0" y="11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17920" y="1835280"/>
            <a:ext cx="214560" cy="86040"/>
          </a:xfrm>
          <a:custGeom>
            <a:avLst/>
            <a:gdLst/>
            <a:ahLst/>
            <a:rect l="0" t="0" r="r" b="b"/>
            <a:pathLst>
              <a:path w="596" h="239">
                <a:moveTo>
                  <a:pt x="596" y="120"/>
                </a:moveTo>
                <a:lnTo>
                  <a:pt x="0" y="0"/>
                </a:lnTo>
                <a:lnTo>
                  <a:pt x="0" y="239"/>
                </a:lnTo>
                <a:lnTo>
                  <a:pt x="596" y="1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2754360" y="1665360"/>
            <a:ext cx="1320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P repetition inter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643040" y="2428920"/>
            <a:ext cx="987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Length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632480" y="1684440"/>
            <a:ext cx="0" cy="1238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49880" y="2184480"/>
            <a:ext cx="582480" cy="187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960800" y="1679400"/>
            <a:ext cx="0" cy="1231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335480" y="1719360"/>
            <a:ext cx="884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964040" y="1673280"/>
            <a:ext cx="214560" cy="84600"/>
          </a:xfrm>
          <a:custGeom>
            <a:avLst/>
            <a:gdLst/>
            <a:ahLst/>
            <a:rect l="0" t="0" r="r" b="b"/>
            <a:pathLst>
              <a:path w="596" h="235">
                <a:moveTo>
                  <a:pt x="0" y="120"/>
                </a:moveTo>
                <a:lnTo>
                  <a:pt x="596" y="0"/>
                </a:lnTo>
                <a:lnTo>
                  <a:pt x="596" y="235"/>
                </a:lnTo>
                <a:lnTo>
                  <a:pt x="0" y="1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11800" y="1673280"/>
            <a:ext cx="214560" cy="84600"/>
          </a:xfrm>
          <a:custGeom>
            <a:avLst/>
            <a:gdLst/>
            <a:ahLst/>
            <a:rect l="0" t="0" r="r" b="b"/>
            <a:pathLst>
              <a:path w="596" h="235">
                <a:moveTo>
                  <a:pt x="596" y="120"/>
                </a:moveTo>
                <a:lnTo>
                  <a:pt x="0" y="0"/>
                </a:lnTo>
                <a:lnTo>
                  <a:pt x="0" y="235"/>
                </a:lnTo>
                <a:lnTo>
                  <a:pt x="596" y="1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110120" y="1446120"/>
            <a:ext cx="1638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Defers for Busy Medi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54680" y="2101680"/>
            <a:ext cx="117648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175360" y="2157480"/>
            <a:ext cx="647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-Bur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313160" y="2187720"/>
            <a:ext cx="6303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medi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070000" y="210024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444840" y="2079720"/>
            <a:ext cx="4190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981080" y="2230560"/>
            <a:ext cx="579600" cy="1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ptional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56160" y="2651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90520" y="3208320"/>
            <a:ext cx="6640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12720" y="3030480"/>
            <a:ext cx="128520" cy="18720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05480" y="3030480"/>
            <a:ext cx="128520" cy="1872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100160" y="3005280"/>
            <a:ext cx="431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632480" y="1881360"/>
            <a:ext cx="3001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32480" y="1843200"/>
            <a:ext cx="214560" cy="84600"/>
          </a:xfrm>
          <a:custGeom>
            <a:avLst/>
            <a:gdLst/>
            <a:ahLst/>
            <a:rect l="0" t="0" r="r" b="b"/>
            <a:pathLst>
              <a:path w="596" h="235">
                <a:moveTo>
                  <a:pt x="0" y="115"/>
                </a:moveTo>
                <a:lnTo>
                  <a:pt x="596" y="0"/>
                </a:lnTo>
                <a:lnTo>
                  <a:pt x="596" y="235"/>
                </a:lnTo>
                <a:lnTo>
                  <a:pt x="0" y="11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4880" y="1835280"/>
            <a:ext cx="214560" cy="86040"/>
          </a:xfrm>
          <a:custGeom>
            <a:avLst/>
            <a:gdLst/>
            <a:ahLst/>
            <a:rect l="0" t="0" r="r" b="b"/>
            <a:pathLst>
              <a:path w="596" h="239">
                <a:moveTo>
                  <a:pt x="596" y="120"/>
                </a:moveTo>
                <a:lnTo>
                  <a:pt x="0" y="0"/>
                </a:lnTo>
                <a:lnTo>
                  <a:pt x="0" y="239"/>
                </a:lnTo>
                <a:lnTo>
                  <a:pt x="596" y="12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4920" bIns="34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9080" y="1747800"/>
            <a:ext cx="0" cy="871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34160" y="3038400"/>
            <a:ext cx="301680" cy="18576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119640" y="2333520"/>
            <a:ext cx="0" cy="56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87680" y="2833560"/>
            <a:ext cx="1731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899320" y="2792520"/>
            <a:ext cx="214560" cy="84600"/>
          </a:xfrm>
          <a:custGeom>
            <a:avLst/>
            <a:gdLst/>
            <a:ahLst/>
            <a:rect l="0" t="0" r="r" b="b"/>
            <a:pathLst>
              <a:path w="596" h="235">
                <a:moveTo>
                  <a:pt x="596" y="115"/>
                </a:moveTo>
                <a:lnTo>
                  <a:pt x="0" y="0"/>
                </a:lnTo>
                <a:lnTo>
                  <a:pt x="0" y="235"/>
                </a:lnTo>
                <a:lnTo>
                  <a:pt x="596" y="11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960800" y="2792520"/>
            <a:ext cx="213120" cy="84600"/>
          </a:xfrm>
          <a:custGeom>
            <a:avLst/>
            <a:gdLst/>
            <a:ahLst/>
            <a:rect l="0" t="0" r="r" b="b"/>
            <a:pathLst>
              <a:path w="592" h="235">
                <a:moveTo>
                  <a:pt x="0" y="115"/>
                </a:moveTo>
                <a:lnTo>
                  <a:pt x="592" y="0"/>
                </a:lnTo>
                <a:lnTo>
                  <a:pt x="592" y="235"/>
                </a:lnTo>
                <a:lnTo>
                  <a:pt x="0" y="11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971960" y="2595600"/>
            <a:ext cx="1117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 traffic Def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417920" y="2792520"/>
            <a:ext cx="214560" cy="84600"/>
          </a:xfrm>
          <a:custGeom>
            <a:avLst/>
            <a:gdLst/>
            <a:ahLst/>
            <a:rect l="0" t="0" r="r" b="b"/>
            <a:pathLst>
              <a:path w="596" h="235">
                <a:moveTo>
                  <a:pt x="596" y="115"/>
                </a:moveTo>
                <a:lnTo>
                  <a:pt x="0" y="0"/>
                </a:lnTo>
                <a:lnTo>
                  <a:pt x="0" y="235"/>
                </a:lnTo>
                <a:lnTo>
                  <a:pt x="596" y="11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95760" y="2527200"/>
            <a:ext cx="406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08040" y="3006720"/>
            <a:ext cx="1459080" cy="206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33640" y="2502000"/>
            <a:ext cx="0" cy="38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2600" y="2714760"/>
            <a:ext cx="84600" cy="184680"/>
          </a:xfrm>
          <a:custGeom>
            <a:avLst/>
            <a:gdLst/>
            <a:ahLst/>
            <a:rect l="0" t="0" r="r" b="b"/>
            <a:pathLst>
              <a:path w="235" h="513">
                <a:moveTo>
                  <a:pt x="115" y="513"/>
                </a:moveTo>
                <a:lnTo>
                  <a:pt x="235" y="0"/>
                </a:lnTo>
                <a:lnTo>
                  <a:pt x="0" y="0"/>
                </a:lnTo>
                <a:lnTo>
                  <a:pt x="115" y="5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913120" y="2581200"/>
            <a:ext cx="853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Reset NAV"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1600" y="3021120"/>
            <a:ext cx="1519200" cy="1936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375160" y="1665360"/>
            <a:ext cx="13208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P repetition interv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780320" y="3030480"/>
            <a:ext cx="182880" cy="206640"/>
          </a:xfrm>
          <a:custGeom>
            <a:avLst/>
            <a:gdLst/>
            <a:ahLst/>
            <a:rect l="0" t="0" r="r" b="b"/>
            <a:pathLst>
              <a:path w="508" h="574">
                <a:moveTo>
                  <a:pt x="0" y="574"/>
                </a:moveTo>
                <a:lnTo>
                  <a:pt x="189" y="251"/>
                </a:lnTo>
                <a:lnTo>
                  <a:pt x="508" y="0"/>
                </a:lnTo>
                <a:lnTo>
                  <a:pt x="508" y="574"/>
                </a:lnTo>
                <a:lnTo>
                  <a:pt x="0" y="57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PCF Bu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90720" y="17589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F-Burst by Polling bit in CF-Down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mediate response by Station on a CF_Po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to maintain NAV to protect CF-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onses can be variable l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et NAV” by last (CF_End) frame from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ACK Previous Frame" bit in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50760" y="1631880"/>
            <a:ext cx="7243920" cy="21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68560" y="2600280"/>
            <a:ext cx="6740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1374840" y="1787400"/>
            <a:ext cx="0" cy="987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0960" y="1728720"/>
            <a:ext cx="0" cy="930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183200" y="2359080"/>
            <a:ext cx="298440" cy="25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463840" y="2590920"/>
            <a:ext cx="571680" cy="2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151080" y="2359080"/>
            <a:ext cx="571680" cy="2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770280" y="2590920"/>
            <a:ext cx="298440" cy="2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76240" y="2359080"/>
            <a:ext cx="641520" cy="25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40280" y="2590920"/>
            <a:ext cx="365040" cy="25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595760" y="2359080"/>
            <a:ext cx="298440" cy="25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374840" y="1844640"/>
            <a:ext cx="6327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74840" y="180324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0" y="115"/>
                </a:moveTo>
                <a:lnTo>
                  <a:pt x="693" y="0"/>
                </a:lnTo>
                <a:lnTo>
                  <a:pt x="693" y="204"/>
                </a:lnTo>
                <a:lnTo>
                  <a:pt x="0" y="115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21480" y="180324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693" y="115"/>
                </a:moveTo>
                <a:lnTo>
                  <a:pt x="0" y="0"/>
                </a:lnTo>
                <a:lnTo>
                  <a:pt x="0" y="204"/>
                </a:lnTo>
                <a:lnTo>
                  <a:pt x="693" y="115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965400" y="1589040"/>
            <a:ext cx="1951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P repetition 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421240" y="2359080"/>
            <a:ext cx="297000" cy="25092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575160" y="2543040"/>
            <a:ext cx="344520" cy="406440"/>
            <a:chOff x="3575160" y="2543040"/>
            <a:chExt cx="344520" cy="406440"/>
          </a:xfrm>
        </p:grpSpPr>
        <p:sp>
          <p:nvSpPr>
            <p:cNvPr id="434" name=""/>
            <p:cNvSpPr/>
            <p:nvPr/>
          </p:nvSpPr>
          <p:spPr>
            <a:xfrm>
              <a:off x="3713040" y="2543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81440" y="260028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5160" y="2892600"/>
              <a:ext cx="344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8000" y="2868480"/>
              <a:ext cx="95760" cy="44640"/>
            </a:xfrm>
            <a:custGeom>
              <a:avLst/>
              <a:gdLst/>
              <a:ahLst/>
              <a:rect l="0" t="0" r="r" b="b"/>
              <a:pathLst>
                <a:path w="266" h="124">
                  <a:moveTo>
                    <a:pt x="266" y="61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266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86120" y="2868480"/>
              <a:ext cx="95760" cy="44640"/>
            </a:xfrm>
            <a:custGeom>
              <a:avLst/>
              <a:gdLst/>
              <a:ahLst/>
              <a:rect l="0" t="0" r="r" b="b"/>
              <a:pathLst>
                <a:path w="266" h="124">
                  <a:moveTo>
                    <a:pt x="0" y="61"/>
                  </a:moveTo>
                  <a:lnTo>
                    <a:pt x="266" y="0"/>
                  </a:lnTo>
                  <a:lnTo>
                    <a:pt x="266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025800" y="22525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162240" y="225252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892600" y="2298600"/>
            <a:ext cx="387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35440" y="2276640"/>
            <a:ext cx="95760" cy="43200"/>
          </a:xfrm>
          <a:custGeom>
            <a:avLst/>
            <a:gdLst/>
            <a:ahLst/>
            <a:rect l="0" t="0" r="r" b="b"/>
            <a:pathLst>
              <a:path w="266" h="120">
                <a:moveTo>
                  <a:pt x="266" y="62"/>
                </a:moveTo>
                <a:lnTo>
                  <a:pt x="0" y="0"/>
                </a:lnTo>
                <a:lnTo>
                  <a:pt x="0" y="120"/>
                </a:lnTo>
                <a:lnTo>
                  <a:pt x="266" y="6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162240" y="2276640"/>
            <a:ext cx="95760" cy="43200"/>
          </a:xfrm>
          <a:custGeom>
            <a:avLst/>
            <a:gdLst/>
            <a:ahLst/>
            <a:rect l="0" t="0" r="r" b="b"/>
            <a:pathLst>
              <a:path w="266" h="120">
                <a:moveTo>
                  <a:pt x="0" y="62"/>
                </a:moveTo>
                <a:lnTo>
                  <a:pt x="266" y="0"/>
                </a:lnTo>
                <a:lnTo>
                  <a:pt x="266" y="12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3924360" y="2252520"/>
            <a:ext cx="385560" cy="406440"/>
            <a:chOff x="3924360" y="2252520"/>
            <a:chExt cx="385560" cy="406440"/>
          </a:xfrm>
        </p:grpSpPr>
        <p:sp>
          <p:nvSpPr>
            <p:cNvPr id="445" name=""/>
            <p:cNvSpPr/>
            <p:nvPr/>
          </p:nvSpPr>
          <p:spPr>
            <a:xfrm>
              <a:off x="4057560" y="225252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94000" y="2252520"/>
              <a:ext cx="0" cy="231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924360" y="2298600"/>
              <a:ext cx="385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67200" y="2276640"/>
              <a:ext cx="93960" cy="43200"/>
            </a:xfrm>
            <a:custGeom>
              <a:avLst/>
              <a:gdLst/>
              <a:ahLst/>
              <a:rect l="0" t="0" r="r" b="b"/>
              <a:pathLst>
                <a:path w="261" h="120">
                  <a:moveTo>
                    <a:pt x="261" y="62"/>
                  </a:moveTo>
                  <a:lnTo>
                    <a:pt x="0" y="0"/>
                  </a:lnTo>
                  <a:lnTo>
                    <a:pt x="0" y="120"/>
                  </a:lnTo>
                  <a:lnTo>
                    <a:pt x="261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194000" y="2276640"/>
              <a:ext cx="95760" cy="43200"/>
            </a:xfrm>
            <a:custGeom>
              <a:avLst/>
              <a:gdLst/>
              <a:ahLst/>
              <a:rect l="0" t="0" r="r" b="b"/>
              <a:pathLst>
                <a:path w="266" h="120">
                  <a:moveTo>
                    <a:pt x="0" y="62"/>
                  </a:moveTo>
                  <a:lnTo>
                    <a:pt x="266" y="0"/>
                  </a:lnTo>
                  <a:lnTo>
                    <a:pt x="266" y="12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 flipV="1">
            <a:off x="4470480" y="225252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606920" y="2252520"/>
            <a:ext cx="0" cy="231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336920" y="2298600"/>
            <a:ext cx="385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379760" y="2276640"/>
            <a:ext cx="93960" cy="43200"/>
          </a:xfrm>
          <a:custGeom>
            <a:avLst/>
            <a:gdLst/>
            <a:ahLst/>
            <a:rect l="0" t="0" r="r" b="b"/>
            <a:pathLst>
              <a:path w="261" h="120">
                <a:moveTo>
                  <a:pt x="261" y="62"/>
                </a:moveTo>
                <a:lnTo>
                  <a:pt x="0" y="0"/>
                </a:lnTo>
                <a:lnTo>
                  <a:pt x="0" y="120"/>
                </a:lnTo>
                <a:lnTo>
                  <a:pt x="261" y="6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606920" y="2276640"/>
            <a:ext cx="95760" cy="43200"/>
          </a:xfrm>
          <a:custGeom>
            <a:avLst/>
            <a:gdLst/>
            <a:ahLst/>
            <a:rect l="0" t="0" r="r" b="b"/>
            <a:pathLst>
              <a:path w="266" h="120">
                <a:moveTo>
                  <a:pt x="0" y="62"/>
                </a:moveTo>
                <a:lnTo>
                  <a:pt x="266" y="0"/>
                </a:lnTo>
                <a:lnTo>
                  <a:pt x="266" y="12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160960" y="2252520"/>
            <a:ext cx="387360" cy="406440"/>
            <a:chOff x="5160960" y="2252520"/>
            <a:chExt cx="387360" cy="406440"/>
          </a:xfrm>
        </p:grpSpPr>
        <p:sp>
          <p:nvSpPr>
            <p:cNvPr id="456" name=""/>
            <p:cNvSpPr/>
            <p:nvPr/>
          </p:nvSpPr>
          <p:spPr>
            <a:xfrm>
              <a:off x="5294160" y="225252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32400" y="2252520"/>
              <a:ext cx="0" cy="231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60960" y="229860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203800" y="2276640"/>
              <a:ext cx="95760" cy="43200"/>
            </a:xfrm>
            <a:custGeom>
              <a:avLst/>
              <a:gdLst/>
              <a:ahLst/>
              <a:rect l="0" t="0" r="r" b="b"/>
              <a:pathLst>
                <a:path w="266" h="120">
                  <a:moveTo>
                    <a:pt x="266" y="62"/>
                  </a:moveTo>
                  <a:lnTo>
                    <a:pt x="0" y="0"/>
                  </a:lnTo>
                  <a:lnTo>
                    <a:pt x="0" y="120"/>
                  </a:lnTo>
                  <a:lnTo>
                    <a:pt x="266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432400" y="2276640"/>
              <a:ext cx="95760" cy="43200"/>
            </a:xfrm>
            <a:custGeom>
              <a:avLst/>
              <a:gdLst/>
              <a:ahLst/>
              <a:rect l="0" t="0" r="r" b="b"/>
              <a:pathLst>
                <a:path w="266" h="120">
                  <a:moveTo>
                    <a:pt x="0" y="62"/>
                  </a:moveTo>
                  <a:lnTo>
                    <a:pt x="266" y="0"/>
                  </a:lnTo>
                  <a:lnTo>
                    <a:pt x="266" y="12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4745160" y="2543040"/>
            <a:ext cx="342720" cy="406440"/>
            <a:chOff x="4745160" y="2543040"/>
            <a:chExt cx="342720" cy="406440"/>
          </a:xfrm>
        </p:grpSpPr>
        <p:sp>
          <p:nvSpPr>
            <p:cNvPr id="462" name=""/>
            <p:cNvSpPr/>
            <p:nvPr/>
          </p:nvSpPr>
          <p:spPr>
            <a:xfrm>
              <a:off x="4881600" y="2543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51440" y="260028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45160" y="289260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88000" y="2868480"/>
              <a:ext cx="93960" cy="44640"/>
            </a:xfrm>
            <a:custGeom>
              <a:avLst/>
              <a:gdLst/>
              <a:ahLst/>
              <a:rect l="0" t="0" r="r" b="b"/>
              <a:pathLst>
                <a:path w="261" h="124">
                  <a:moveTo>
                    <a:pt x="261" y="61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261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54680" y="2868480"/>
              <a:ext cx="95760" cy="44640"/>
            </a:xfrm>
            <a:custGeom>
              <a:avLst/>
              <a:gdLst/>
              <a:ahLst/>
              <a:rect l="0" t="0" r="r" b="b"/>
              <a:pathLst>
                <a:path w="266" h="124">
                  <a:moveTo>
                    <a:pt x="0" y="61"/>
                  </a:moveTo>
                  <a:lnTo>
                    <a:pt x="266" y="0"/>
                  </a:lnTo>
                  <a:lnTo>
                    <a:pt x="266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268360" y="2543040"/>
            <a:ext cx="344520" cy="406440"/>
            <a:chOff x="2268360" y="2543040"/>
            <a:chExt cx="344520" cy="406440"/>
          </a:xfrm>
        </p:grpSpPr>
        <p:sp>
          <p:nvSpPr>
            <p:cNvPr id="468" name=""/>
            <p:cNvSpPr/>
            <p:nvPr/>
          </p:nvSpPr>
          <p:spPr>
            <a:xfrm>
              <a:off x="2406600" y="2543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75000" y="2600280"/>
              <a:ext cx="0" cy="349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68360" y="2892600"/>
              <a:ext cx="344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11560" y="2868480"/>
              <a:ext cx="95760" cy="44640"/>
            </a:xfrm>
            <a:custGeom>
              <a:avLst/>
              <a:gdLst/>
              <a:ahLst/>
              <a:rect l="0" t="0" r="r" b="b"/>
              <a:pathLst>
                <a:path w="266" h="124">
                  <a:moveTo>
                    <a:pt x="266" y="61"/>
                  </a:moveTo>
                  <a:lnTo>
                    <a:pt x="0" y="0"/>
                  </a:lnTo>
                  <a:lnTo>
                    <a:pt x="0" y="124"/>
                  </a:lnTo>
                  <a:lnTo>
                    <a:pt x="266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9680" y="2868480"/>
              <a:ext cx="95760" cy="44640"/>
            </a:xfrm>
            <a:custGeom>
              <a:avLst/>
              <a:gdLst/>
              <a:ahLst/>
              <a:rect l="0" t="0" r="r" b="b"/>
              <a:pathLst>
                <a:path w="266" h="124">
                  <a:moveTo>
                    <a:pt x="0" y="61"/>
                  </a:moveTo>
                  <a:lnTo>
                    <a:pt x="266" y="0"/>
                  </a:lnTo>
                  <a:lnTo>
                    <a:pt x="266" y="124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957240" y="2482920"/>
            <a:ext cx="700200" cy="2430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1515960" y="2252520"/>
            <a:ext cx="387360" cy="406440"/>
            <a:chOff x="1515960" y="2252520"/>
            <a:chExt cx="387360" cy="406440"/>
          </a:xfrm>
        </p:grpSpPr>
        <p:sp>
          <p:nvSpPr>
            <p:cNvPr id="475" name=""/>
            <p:cNvSpPr/>
            <p:nvPr/>
          </p:nvSpPr>
          <p:spPr>
            <a:xfrm>
              <a:off x="1649520" y="225252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87400" y="2252520"/>
              <a:ext cx="0" cy="231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15960" y="2298600"/>
              <a:ext cx="387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60600" y="2276640"/>
              <a:ext cx="93960" cy="43200"/>
            </a:xfrm>
            <a:custGeom>
              <a:avLst/>
              <a:gdLst/>
              <a:ahLst/>
              <a:rect l="0" t="0" r="r" b="b"/>
              <a:pathLst>
                <a:path w="261" h="120">
                  <a:moveTo>
                    <a:pt x="261" y="62"/>
                  </a:moveTo>
                  <a:lnTo>
                    <a:pt x="0" y="0"/>
                  </a:lnTo>
                  <a:lnTo>
                    <a:pt x="0" y="120"/>
                  </a:lnTo>
                  <a:lnTo>
                    <a:pt x="261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87400" y="2276640"/>
              <a:ext cx="95760" cy="43200"/>
            </a:xfrm>
            <a:custGeom>
              <a:avLst/>
              <a:gdLst/>
              <a:ahLst/>
              <a:rect l="0" t="0" r="r" b="b"/>
              <a:pathLst>
                <a:path w="266" h="120">
                  <a:moveTo>
                    <a:pt x="0" y="62"/>
                  </a:moveTo>
                  <a:lnTo>
                    <a:pt x="266" y="0"/>
                  </a:lnTo>
                  <a:lnTo>
                    <a:pt x="266" y="12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 txBox="1"/>
          <p:nvPr/>
        </p:nvSpPr>
        <p:spPr>
          <a:xfrm>
            <a:off x="1873080" y="236052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2560680" y="259092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730680" y="262260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247920" y="238284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164120" y="237168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2640" y="237636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923000" y="2602080"/>
            <a:ext cx="32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61920" y="3589200"/>
            <a:ext cx="722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300320" y="3409920"/>
            <a:ext cx="81000" cy="1843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00480" y="3409920"/>
            <a:ext cx="974880" cy="1843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06920" y="3409920"/>
            <a:ext cx="974880" cy="1843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464000" y="3409920"/>
            <a:ext cx="974880" cy="1843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876920" y="3409920"/>
            <a:ext cx="974880" cy="1843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702400" y="3395520"/>
            <a:ext cx="836640" cy="19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871560" y="3381480"/>
            <a:ext cx="431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07080" y="2717640"/>
            <a:ext cx="0" cy="581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676840" y="3279600"/>
            <a:ext cx="52920" cy="79560"/>
          </a:xfrm>
          <a:custGeom>
            <a:avLst/>
            <a:gdLst/>
            <a:ahLst/>
            <a:rect l="0" t="0" r="r" b="b"/>
            <a:pathLst>
              <a:path w="147" h="221">
                <a:moveTo>
                  <a:pt x="75" y="221"/>
                </a:moveTo>
                <a:lnTo>
                  <a:pt x="147" y="0"/>
                </a:lnTo>
                <a:lnTo>
                  <a:pt x="0" y="0"/>
                </a:lnTo>
                <a:lnTo>
                  <a:pt x="75" y="22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662440" y="3081240"/>
            <a:ext cx="72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 NAV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284720" y="2638440"/>
            <a:ext cx="463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U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097680" y="2233440"/>
            <a:ext cx="128268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Peri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707080" y="2484360"/>
            <a:ext cx="206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521480" y="244332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693" y="111"/>
                </a:moveTo>
                <a:lnTo>
                  <a:pt x="0" y="0"/>
                </a:lnTo>
                <a:lnTo>
                  <a:pt x="0" y="204"/>
                </a:lnTo>
                <a:lnTo>
                  <a:pt x="693" y="11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734080" y="244332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0" y="111"/>
                </a:moveTo>
                <a:lnTo>
                  <a:pt x="693" y="0"/>
                </a:lnTo>
                <a:lnTo>
                  <a:pt x="693" y="204"/>
                </a:lnTo>
                <a:lnTo>
                  <a:pt x="0" y="11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764480" y="3409920"/>
            <a:ext cx="81000" cy="1843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374840" y="2077920"/>
            <a:ext cx="433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07080" y="1962000"/>
            <a:ext cx="0" cy="522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374840" y="203688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0" y="111"/>
                </a:moveTo>
                <a:lnTo>
                  <a:pt x="693" y="0"/>
                </a:lnTo>
                <a:lnTo>
                  <a:pt x="693" y="204"/>
                </a:lnTo>
                <a:lnTo>
                  <a:pt x="0" y="11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457960" y="203688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693" y="111"/>
                </a:moveTo>
                <a:lnTo>
                  <a:pt x="0" y="0"/>
                </a:lnTo>
                <a:lnTo>
                  <a:pt x="0" y="204"/>
                </a:lnTo>
                <a:lnTo>
                  <a:pt x="693" y="11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2522520" y="1847880"/>
            <a:ext cx="15271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Free Bur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578640" y="2627280"/>
            <a:ext cx="960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 = AP-Fra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6578640" y="2801880"/>
            <a:ext cx="1157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x = Station-Fra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5365800" y="2570040"/>
            <a:ext cx="596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_E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92400" y="3403440"/>
            <a:ext cx="4421160" cy="19836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532560" y="3502080"/>
            <a:ext cx="1228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521480" y="347508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693" y="115"/>
                </a:moveTo>
                <a:lnTo>
                  <a:pt x="0" y="0"/>
                </a:lnTo>
                <a:lnTo>
                  <a:pt x="0" y="204"/>
                </a:lnTo>
                <a:lnTo>
                  <a:pt x="693" y="115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541920" y="3460680"/>
            <a:ext cx="249480" cy="73440"/>
          </a:xfrm>
          <a:custGeom>
            <a:avLst/>
            <a:gdLst/>
            <a:ahLst/>
            <a:rect l="0" t="0" r="r" b="b"/>
            <a:pathLst>
              <a:path w="693" h="204">
                <a:moveTo>
                  <a:pt x="0" y="111"/>
                </a:moveTo>
                <a:lnTo>
                  <a:pt x="693" y="0"/>
                </a:lnTo>
                <a:lnTo>
                  <a:pt x="693" y="204"/>
                </a:lnTo>
                <a:lnTo>
                  <a:pt x="0" y="111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638760" y="3592440"/>
            <a:ext cx="13143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 Contention Peri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7194600" y="34956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71640" y="2565360"/>
            <a:ext cx="644400" cy="101520"/>
          </a:xfrm>
          <a:prstGeom prst="round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888840" y="2522520"/>
            <a:ext cx="6397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Medi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533600" y="2093760"/>
            <a:ext cx="40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F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238480" y="2914560"/>
            <a:ext cx="398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Fra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92280" y="3581280"/>
            <a:ext cx="7740720" cy="26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rst of Fragments which are individually acknowled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Unicast frames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om backoff and retransmission of failing fragment when no ACK is retur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formation in data fragments and Ack frames causes NAV to be set, for medium reservation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2560" y="1133640"/>
            <a:ext cx="7750080" cy="231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606680" y="1798560"/>
            <a:ext cx="2868480" cy="314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55840" y="2119320"/>
            <a:ext cx="2127240" cy="25560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2808360" y="2695680"/>
            <a:ext cx="816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994200" y="3195720"/>
            <a:ext cx="561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98320" y="2610000"/>
            <a:ext cx="550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592200" y="3103560"/>
            <a:ext cx="663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479840" y="255600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95640" y="2664000"/>
            <a:ext cx="88560" cy="95760"/>
          </a:xfrm>
          <a:custGeom>
            <a:avLst/>
            <a:gdLst/>
            <a:ahLst/>
            <a:rect l="0" t="0" r="r" b="b"/>
            <a:pathLst>
              <a:path w="246" h="266">
                <a:moveTo>
                  <a:pt x="246" y="266"/>
                </a:moveTo>
                <a:lnTo>
                  <a:pt x="242" y="0"/>
                </a:lnTo>
                <a:lnTo>
                  <a:pt x="242" y="0"/>
                </a:lnTo>
                <a:cubicBezTo>
                  <a:pt x="200" y="1"/>
                  <a:pt x="159" y="13"/>
                  <a:pt x="123" y="36"/>
                </a:cubicBezTo>
                <a:cubicBezTo>
                  <a:pt x="85" y="59"/>
                  <a:pt x="54" y="93"/>
                  <a:pt x="33" y="133"/>
                </a:cubicBezTo>
                <a:cubicBezTo>
                  <a:pt x="13" y="171"/>
                  <a:pt x="1" y="213"/>
                  <a:pt x="0" y="257"/>
                </a:cubicBezTo>
                <a:lnTo>
                  <a:pt x="246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740760" y="2664000"/>
            <a:ext cx="77400" cy="95760"/>
          </a:xfrm>
          <a:custGeom>
            <a:avLst/>
            <a:gdLst/>
            <a:ahLst/>
            <a:rect l="0" t="0" r="r" b="b"/>
            <a:pathLst>
              <a:path w="215" h="266">
                <a:moveTo>
                  <a:pt x="0" y="266"/>
                </a:moveTo>
                <a:lnTo>
                  <a:pt x="215" y="257"/>
                </a:lnTo>
                <a:lnTo>
                  <a:pt x="215" y="257"/>
                </a:lnTo>
                <a:cubicBezTo>
                  <a:pt x="214" y="213"/>
                  <a:pt x="204" y="171"/>
                  <a:pt x="186" y="133"/>
                </a:cubicBezTo>
                <a:cubicBezTo>
                  <a:pt x="167" y="93"/>
                  <a:pt x="140" y="59"/>
                  <a:pt x="108" y="36"/>
                </a:cubicBezTo>
                <a:cubicBezTo>
                  <a:pt x="75" y="12"/>
                  <a:pt x="38" y="0"/>
                  <a:pt x="0" y="0"/>
                </a:cubicBezTo>
                <a:lnTo>
                  <a:pt x="0" y="0"/>
                </a:lnTo>
                <a:lnTo>
                  <a:pt x="0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059360" y="3157560"/>
            <a:ext cx="433440" cy="2826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656080" y="2664000"/>
            <a:ext cx="71640" cy="95760"/>
          </a:xfrm>
          <a:custGeom>
            <a:avLst/>
            <a:gdLst/>
            <a:ahLst/>
            <a:rect l="0" t="0" r="r" b="b"/>
            <a:pathLst>
              <a:path w="199" h="266">
                <a:moveTo>
                  <a:pt x="199" y="266"/>
                </a:moveTo>
                <a:lnTo>
                  <a:pt x="199" y="0"/>
                </a:lnTo>
                <a:lnTo>
                  <a:pt x="199" y="0"/>
                </a:lnTo>
                <a:lnTo>
                  <a:pt x="199" y="0"/>
                </a:lnTo>
                <a:cubicBezTo>
                  <a:pt x="164" y="0"/>
                  <a:pt x="130" y="12"/>
                  <a:pt x="99" y="36"/>
                </a:cubicBezTo>
                <a:cubicBezTo>
                  <a:pt x="69" y="59"/>
                  <a:pt x="44" y="93"/>
                  <a:pt x="27" y="133"/>
                </a:cubicBezTo>
                <a:cubicBezTo>
                  <a:pt x="10" y="171"/>
                  <a:pt x="1" y="213"/>
                  <a:pt x="0" y="257"/>
                </a:cubicBezTo>
                <a:lnTo>
                  <a:pt x="199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1947960" y="3195720"/>
            <a:ext cx="431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365200" y="255600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6040" y="2664000"/>
            <a:ext cx="88560" cy="95760"/>
          </a:xfrm>
          <a:custGeom>
            <a:avLst/>
            <a:gdLst/>
            <a:ahLst/>
            <a:rect l="0" t="0" r="r" b="b"/>
            <a:pathLst>
              <a:path w="246" h="266">
                <a:moveTo>
                  <a:pt x="246" y="266"/>
                </a:moveTo>
                <a:lnTo>
                  <a:pt x="242" y="0"/>
                </a:lnTo>
                <a:lnTo>
                  <a:pt x="242" y="0"/>
                </a:lnTo>
                <a:cubicBezTo>
                  <a:pt x="200" y="1"/>
                  <a:pt x="159" y="13"/>
                  <a:pt x="123" y="36"/>
                </a:cubicBezTo>
                <a:cubicBezTo>
                  <a:pt x="85" y="59"/>
                  <a:pt x="54" y="93"/>
                  <a:pt x="33" y="133"/>
                </a:cubicBezTo>
                <a:cubicBezTo>
                  <a:pt x="13" y="171"/>
                  <a:pt x="1" y="213"/>
                  <a:pt x="0" y="257"/>
                </a:cubicBezTo>
                <a:lnTo>
                  <a:pt x="246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24680" y="2664000"/>
            <a:ext cx="83520" cy="95760"/>
          </a:xfrm>
          <a:custGeom>
            <a:avLst/>
            <a:gdLst/>
            <a:ahLst/>
            <a:rect l="0" t="0" r="r" b="b"/>
            <a:pathLst>
              <a:path w="232" h="266">
                <a:moveTo>
                  <a:pt x="0" y="266"/>
                </a:moveTo>
                <a:lnTo>
                  <a:pt x="232" y="257"/>
                </a:lnTo>
                <a:lnTo>
                  <a:pt x="232" y="257"/>
                </a:lnTo>
                <a:cubicBezTo>
                  <a:pt x="231" y="213"/>
                  <a:pt x="220" y="171"/>
                  <a:pt x="201" y="133"/>
                </a:cubicBezTo>
                <a:cubicBezTo>
                  <a:pt x="181" y="93"/>
                  <a:pt x="151" y="59"/>
                  <a:pt x="116" y="36"/>
                </a:cubicBezTo>
                <a:cubicBezTo>
                  <a:pt x="81" y="12"/>
                  <a:pt x="41" y="0"/>
                  <a:pt x="0" y="0"/>
                </a:cubicBezTo>
                <a:lnTo>
                  <a:pt x="0" y="0"/>
                </a:lnTo>
                <a:lnTo>
                  <a:pt x="0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560600" y="254304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43280" y="3157560"/>
            <a:ext cx="433440" cy="2826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177920" y="2695680"/>
            <a:ext cx="431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173240" y="2657520"/>
            <a:ext cx="449280" cy="2826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665440" y="1887480"/>
            <a:ext cx="89388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2701800" y="1862280"/>
            <a:ext cx="822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 (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968560" y="2173320"/>
            <a:ext cx="87948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2994120" y="2149560"/>
            <a:ext cx="822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 (C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92200" y="179244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3800" y="255600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06840" y="2543040"/>
            <a:ext cx="0" cy="120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2657520"/>
            <a:ext cx="1033560" cy="2826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076640" y="255600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012680" y="2109960"/>
            <a:ext cx="7396200" cy="1304640"/>
            <a:chOff x="1012680" y="2109960"/>
            <a:chExt cx="7396200" cy="1304640"/>
          </a:xfrm>
        </p:grpSpPr>
        <p:sp>
          <p:nvSpPr>
            <p:cNvPr id="556" name=""/>
            <p:cNvSpPr/>
            <p:nvPr/>
          </p:nvSpPr>
          <p:spPr>
            <a:xfrm>
              <a:off x="1012680" y="2109960"/>
              <a:ext cx="7396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12680" y="3414600"/>
              <a:ext cx="7396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012680" y="2914560"/>
              <a:ext cx="73962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623960" y="2717640"/>
            <a:ext cx="333720" cy="60840"/>
            <a:chOff x="1623960" y="2717640"/>
            <a:chExt cx="333720" cy="60840"/>
          </a:xfrm>
        </p:grpSpPr>
        <p:sp>
          <p:nvSpPr>
            <p:cNvPr id="560" name=""/>
            <p:cNvSpPr/>
            <p:nvPr/>
          </p:nvSpPr>
          <p:spPr>
            <a:xfrm>
              <a:off x="1690560" y="274968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623960" y="272088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0" y="80"/>
                  </a:moveTo>
                  <a:lnTo>
                    <a:pt x="208" y="0"/>
                  </a:lnTo>
                  <a:lnTo>
                    <a:pt x="208" y="16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882800" y="271764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208" y="8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208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2367000" y="2717640"/>
            <a:ext cx="333720" cy="60840"/>
            <a:chOff x="2367000" y="2717640"/>
            <a:chExt cx="333720" cy="60840"/>
          </a:xfrm>
        </p:grpSpPr>
        <p:sp>
          <p:nvSpPr>
            <p:cNvPr id="564" name=""/>
            <p:cNvSpPr/>
            <p:nvPr/>
          </p:nvSpPr>
          <p:spPr>
            <a:xfrm>
              <a:off x="2433600" y="274968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367000" y="272088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0" y="80"/>
                  </a:moveTo>
                  <a:lnTo>
                    <a:pt x="208" y="0"/>
                  </a:lnTo>
                  <a:lnTo>
                    <a:pt x="208" y="16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625840" y="271764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208" y="8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208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736800" y="2717640"/>
            <a:ext cx="333720" cy="60840"/>
            <a:chOff x="3736800" y="2717640"/>
            <a:chExt cx="333720" cy="60840"/>
          </a:xfrm>
        </p:grpSpPr>
        <p:sp>
          <p:nvSpPr>
            <p:cNvPr id="568" name=""/>
            <p:cNvSpPr/>
            <p:nvPr/>
          </p:nvSpPr>
          <p:spPr>
            <a:xfrm>
              <a:off x="3803760" y="274968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36800" y="272088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0" y="80"/>
                  </a:moveTo>
                  <a:lnTo>
                    <a:pt x="208" y="0"/>
                  </a:lnTo>
                  <a:lnTo>
                    <a:pt x="208" y="16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995640" y="271764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208" y="8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208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"/>
          <p:cNvSpPr/>
          <p:nvPr/>
        </p:nvSpPr>
        <p:spPr>
          <a:xfrm flipV="1">
            <a:off x="7202520" y="1855800"/>
            <a:ext cx="119160" cy="24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8096400" y="1852560"/>
            <a:ext cx="114120" cy="24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7342200" y="1855800"/>
            <a:ext cx="109440" cy="244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7454880" y="1859040"/>
            <a:ext cx="109440" cy="24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7570800" y="1852560"/>
            <a:ext cx="115920" cy="241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7080120" y="1486080"/>
            <a:ext cx="0" cy="630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7211880" y="117468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626160" y="1414440"/>
            <a:ext cx="458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721560" y="1095480"/>
            <a:ext cx="473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7219800" y="1881360"/>
            <a:ext cx="11080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off-Wind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633360" y="1922400"/>
            <a:ext cx="75960" cy="92520"/>
          </a:xfrm>
          <a:custGeom>
            <a:avLst/>
            <a:gdLst/>
            <a:ahLst/>
            <a:rect l="0" t="0" r="r" b="b"/>
            <a:pathLst>
              <a:path w="211" h="257">
                <a:moveTo>
                  <a:pt x="0" y="13"/>
                </a:moveTo>
                <a:lnTo>
                  <a:pt x="0" y="257"/>
                </a:lnTo>
                <a:lnTo>
                  <a:pt x="0" y="257"/>
                </a:lnTo>
                <a:lnTo>
                  <a:pt x="0" y="257"/>
                </a:lnTo>
                <a:cubicBezTo>
                  <a:pt x="37" y="257"/>
                  <a:pt x="74" y="246"/>
                  <a:pt x="106" y="224"/>
                </a:cubicBezTo>
                <a:cubicBezTo>
                  <a:pt x="138" y="203"/>
                  <a:pt x="165" y="172"/>
                  <a:pt x="183" y="136"/>
                </a:cubicBezTo>
                <a:cubicBezTo>
                  <a:pt x="202" y="99"/>
                  <a:pt x="211" y="57"/>
                  <a:pt x="211" y="14"/>
                </a:cubicBezTo>
                <a:cubicBezTo>
                  <a:pt x="211" y="9"/>
                  <a:pt x="211" y="5"/>
                  <a:pt x="211" y="0"/>
                </a:cubicBezTo>
                <a:lnTo>
                  <a:pt x="0" y="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899400" y="1925640"/>
            <a:ext cx="88560" cy="89280"/>
          </a:xfrm>
          <a:custGeom>
            <a:avLst/>
            <a:gdLst/>
            <a:ahLst/>
            <a:rect l="0" t="0" r="r" b="b"/>
            <a:pathLst>
              <a:path w="246" h="248">
                <a:moveTo>
                  <a:pt x="246" y="4"/>
                </a:moveTo>
                <a:lnTo>
                  <a:pt x="0" y="0"/>
                </a:lnTo>
                <a:lnTo>
                  <a:pt x="0" y="0"/>
                </a:lnTo>
                <a:cubicBezTo>
                  <a:pt x="0" y="1"/>
                  <a:pt x="0" y="3"/>
                  <a:pt x="0" y="4"/>
                </a:cubicBezTo>
                <a:cubicBezTo>
                  <a:pt x="0" y="47"/>
                  <a:pt x="11" y="89"/>
                  <a:pt x="33" y="126"/>
                </a:cubicBezTo>
                <a:cubicBezTo>
                  <a:pt x="55" y="163"/>
                  <a:pt x="86" y="194"/>
                  <a:pt x="123" y="215"/>
                </a:cubicBezTo>
                <a:cubicBezTo>
                  <a:pt x="159" y="236"/>
                  <a:pt x="200" y="247"/>
                  <a:pt x="242" y="248"/>
                </a:cubicBezTo>
                <a:lnTo>
                  <a:pt x="246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321680" y="1855800"/>
            <a:ext cx="974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602400" y="117468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118200" y="3186000"/>
            <a:ext cx="561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118200" y="2654280"/>
            <a:ext cx="87480" cy="95760"/>
          </a:xfrm>
          <a:custGeom>
            <a:avLst/>
            <a:gdLst/>
            <a:ahLst/>
            <a:rect l="0" t="0" r="r" b="b"/>
            <a:pathLst>
              <a:path w="243" h="266">
                <a:moveTo>
                  <a:pt x="243" y="266"/>
                </a:moveTo>
                <a:lnTo>
                  <a:pt x="239" y="0"/>
                </a:lnTo>
                <a:lnTo>
                  <a:pt x="239" y="0"/>
                </a:lnTo>
                <a:cubicBezTo>
                  <a:pt x="198" y="1"/>
                  <a:pt x="157" y="13"/>
                  <a:pt x="121" y="36"/>
                </a:cubicBezTo>
                <a:cubicBezTo>
                  <a:pt x="84" y="59"/>
                  <a:pt x="54" y="93"/>
                  <a:pt x="32" y="133"/>
                </a:cubicBezTo>
                <a:cubicBezTo>
                  <a:pt x="12" y="171"/>
                  <a:pt x="1" y="213"/>
                  <a:pt x="0" y="257"/>
                </a:cubicBezTo>
                <a:lnTo>
                  <a:pt x="243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63320" y="2654280"/>
            <a:ext cx="75600" cy="95760"/>
          </a:xfrm>
          <a:custGeom>
            <a:avLst/>
            <a:gdLst/>
            <a:ahLst/>
            <a:rect l="0" t="0" r="r" b="b"/>
            <a:pathLst>
              <a:path w="210" h="266">
                <a:moveTo>
                  <a:pt x="0" y="266"/>
                </a:moveTo>
                <a:lnTo>
                  <a:pt x="210" y="257"/>
                </a:lnTo>
                <a:lnTo>
                  <a:pt x="210" y="257"/>
                </a:lnTo>
                <a:cubicBezTo>
                  <a:pt x="209" y="213"/>
                  <a:pt x="199" y="171"/>
                  <a:pt x="182" y="133"/>
                </a:cubicBezTo>
                <a:cubicBezTo>
                  <a:pt x="164" y="93"/>
                  <a:pt x="137" y="59"/>
                  <a:pt x="105" y="36"/>
                </a:cubicBezTo>
                <a:cubicBezTo>
                  <a:pt x="73" y="12"/>
                  <a:pt x="37" y="0"/>
                  <a:pt x="0" y="0"/>
                </a:cubicBezTo>
                <a:lnTo>
                  <a:pt x="0" y="0"/>
                </a:lnTo>
                <a:lnTo>
                  <a:pt x="0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778280" y="2654280"/>
            <a:ext cx="70920" cy="95760"/>
          </a:xfrm>
          <a:custGeom>
            <a:avLst/>
            <a:gdLst/>
            <a:ahLst/>
            <a:rect l="0" t="0" r="r" b="b"/>
            <a:pathLst>
              <a:path w="197" h="266">
                <a:moveTo>
                  <a:pt x="197" y="266"/>
                </a:moveTo>
                <a:lnTo>
                  <a:pt x="197" y="0"/>
                </a:lnTo>
                <a:lnTo>
                  <a:pt x="197" y="0"/>
                </a:lnTo>
                <a:lnTo>
                  <a:pt x="197" y="0"/>
                </a:lnTo>
                <a:cubicBezTo>
                  <a:pt x="162" y="0"/>
                  <a:pt x="128" y="12"/>
                  <a:pt x="98" y="36"/>
                </a:cubicBezTo>
                <a:cubicBezTo>
                  <a:pt x="68" y="59"/>
                  <a:pt x="44" y="93"/>
                  <a:pt x="26" y="133"/>
                </a:cubicBezTo>
                <a:cubicBezTo>
                  <a:pt x="10" y="171"/>
                  <a:pt x="1" y="213"/>
                  <a:pt x="0" y="257"/>
                </a:cubicBezTo>
                <a:lnTo>
                  <a:pt x="197" y="2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27600" y="2533680"/>
            <a:ext cx="0" cy="120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4929120" y="2685960"/>
            <a:ext cx="816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180120" y="3147840"/>
            <a:ext cx="433440" cy="2826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822920" y="2647800"/>
            <a:ext cx="1033560" cy="282600"/>
          </a:xfrm>
          <a:prstGeom prst="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678120" y="1843200"/>
            <a:ext cx="2927520" cy="2635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476600" y="2119320"/>
            <a:ext cx="2119320" cy="24300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983120" y="1887480"/>
            <a:ext cx="106056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4890960" y="1862280"/>
            <a:ext cx="1206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 (Fragment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092560" y="2157480"/>
            <a:ext cx="87948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054760" y="2131920"/>
            <a:ext cx="952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 (ACK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9800" y="2352600"/>
            <a:ext cx="0" cy="801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97760" y="2546280"/>
            <a:ext cx="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492800" y="2701800"/>
            <a:ext cx="331920" cy="60840"/>
            <a:chOff x="4492800" y="2701800"/>
            <a:chExt cx="331920" cy="60840"/>
          </a:xfrm>
        </p:grpSpPr>
        <p:sp>
          <p:nvSpPr>
            <p:cNvPr id="602" name=""/>
            <p:cNvSpPr/>
            <p:nvPr/>
          </p:nvSpPr>
          <p:spPr>
            <a:xfrm>
              <a:off x="4557600" y="273384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492800" y="270504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0" y="80"/>
                  </a:moveTo>
                  <a:lnTo>
                    <a:pt x="208" y="0"/>
                  </a:lnTo>
                  <a:lnTo>
                    <a:pt x="208" y="16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751280" y="2701800"/>
              <a:ext cx="73440" cy="57600"/>
            </a:xfrm>
            <a:custGeom>
              <a:avLst/>
              <a:gdLst/>
              <a:ahLst/>
              <a:rect l="0" t="0" r="r" b="b"/>
              <a:pathLst>
                <a:path w="204" h="160">
                  <a:moveTo>
                    <a:pt x="204" y="8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204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5859360" y="2698920"/>
            <a:ext cx="333720" cy="60480"/>
            <a:chOff x="5859360" y="2698920"/>
            <a:chExt cx="333720" cy="60480"/>
          </a:xfrm>
        </p:grpSpPr>
        <p:sp>
          <p:nvSpPr>
            <p:cNvPr id="606" name=""/>
            <p:cNvSpPr/>
            <p:nvPr/>
          </p:nvSpPr>
          <p:spPr>
            <a:xfrm>
              <a:off x="5924520" y="273060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59360" y="270180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0" y="80"/>
                  </a:moveTo>
                  <a:lnTo>
                    <a:pt x="208" y="0"/>
                  </a:lnTo>
                  <a:lnTo>
                    <a:pt x="208" y="16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18200" y="269892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208" y="8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208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6605640" y="1893960"/>
            <a:ext cx="332280" cy="60840"/>
            <a:chOff x="6605640" y="1893960"/>
            <a:chExt cx="332280" cy="60840"/>
          </a:xfrm>
        </p:grpSpPr>
        <p:sp>
          <p:nvSpPr>
            <p:cNvPr id="610" name=""/>
            <p:cNvSpPr/>
            <p:nvPr/>
          </p:nvSpPr>
          <p:spPr>
            <a:xfrm>
              <a:off x="6670800" y="192564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05640" y="1897200"/>
              <a:ext cx="74880" cy="57600"/>
            </a:xfrm>
            <a:custGeom>
              <a:avLst/>
              <a:gdLst/>
              <a:ahLst/>
              <a:rect l="0" t="0" r="r" b="b"/>
              <a:pathLst>
                <a:path w="208" h="160">
                  <a:moveTo>
                    <a:pt x="0" y="80"/>
                  </a:moveTo>
                  <a:lnTo>
                    <a:pt x="208" y="0"/>
                  </a:lnTo>
                  <a:lnTo>
                    <a:pt x="208" y="16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864480" y="1893960"/>
              <a:ext cx="73440" cy="57600"/>
            </a:xfrm>
            <a:custGeom>
              <a:avLst/>
              <a:gdLst/>
              <a:ahLst/>
              <a:rect l="0" t="0" r="r" b="b"/>
              <a:pathLst>
                <a:path w="204" h="160">
                  <a:moveTo>
                    <a:pt x="204" y="80"/>
                  </a:moveTo>
                  <a:lnTo>
                    <a:pt x="0" y="0"/>
                  </a:lnTo>
                  <a:lnTo>
                    <a:pt x="0" y="160"/>
                  </a:lnTo>
                  <a:lnTo>
                    <a:pt x="204" y="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"/>
          <p:cNvSpPr txBox="1"/>
          <p:nvPr/>
        </p:nvSpPr>
        <p:spPr>
          <a:xfrm>
            <a:off x="6572160" y="171612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6943680" y="1741320"/>
            <a:ext cx="0" cy="37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667560" y="1598760"/>
            <a:ext cx="39528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602400" y="1573200"/>
            <a:ext cx="74880" cy="57600"/>
          </a:xfrm>
          <a:custGeom>
            <a:avLst/>
            <a:gdLst/>
            <a:ahLst/>
            <a:rect l="0" t="0" r="r" b="b"/>
            <a:pathLst>
              <a:path w="208" h="160">
                <a:moveTo>
                  <a:pt x="0" y="80"/>
                </a:moveTo>
                <a:lnTo>
                  <a:pt x="208" y="0"/>
                </a:lnTo>
                <a:lnTo>
                  <a:pt x="208" y="160"/>
                </a:lnTo>
                <a:lnTo>
                  <a:pt x="0" y="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997680" y="1569960"/>
            <a:ext cx="74880" cy="57600"/>
          </a:xfrm>
          <a:custGeom>
            <a:avLst/>
            <a:gdLst/>
            <a:ahLst/>
            <a:rect l="0" t="0" r="r" b="b"/>
            <a:pathLst>
              <a:path w="208" h="160">
                <a:moveTo>
                  <a:pt x="208" y="80"/>
                </a:moveTo>
                <a:lnTo>
                  <a:pt x="0" y="0"/>
                </a:lnTo>
                <a:lnTo>
                  <a:pt x="0" y="160"/>
                </a:lnTo>
                <a:lnTo>
                  <a:pt x="208" y="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670800" y="1292400"/>
            <a:ext cx="511200" cy="6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605640" y="1270080"/>
            <a:ext cx="74880" cy="57600"/>
          </a:xfrm>
          <a:custGeom>
            <a:avLst/>
            <a:gdLst/>
            <a:ahLst/>
            <a:rect l="0" t="0" r="r" b="b"/>
            <a:pathLst>
              <a:path w="208" h="160">
                <a:moveTo>
                  <a:pt x="0" y="80"/>
                </a:moveTo>
                <a:lnTo>
                  <a:pt x="208" y="0"/>
                </a:lnTo>
                <a:lnTo>
                  <a:pt x="208" y="160"/>
                </a:lnTo>
                <a:lnTo>
                  <a:pt x="0" y="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30880" y="1263600"/>
            <a:ext cx="74880" cy="57600"/>
          </a:xfrm>
          <a:custGeom>
            <a:avLst/>
            <a:gdLst/>
            <a:ahLst/>
            <a:rect l="0" t="0" r="r" b="b"/>
            <a:pathLst>
              <a:path w="208" h="160">
                <a:moveTo>
                  <a:pt x="208" y="80"/>
                </a:moveTo>
                <a:lnTo>
                  <a:pt x="0" y="0"/>
                </a:lnTo>
                <a:lnTo>
                  <a:pt x="0" y="160"/>
                </a:lnTo>
                <a:lnTo>
                  <a:pt x="208" y="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Frame Form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692280" y="4140360"/>
            <a:ext cx="77407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Header format differs per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rol Frames (several fields are omit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ludes Sequence Control Field for filtering of duplicate caused by ACK mech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0400" y="1139760"/>
            <a:ext cx="7953480" cy="166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058760" y="1755720"/>
            <a:ext cx="746748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49688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2244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58800" y="1787400"/>
            <a:ext cx="687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58800" y="200484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533600" y="1787400"/>
            <a:ext cx="87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752480" y="200484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37024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24468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11948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2352600" y="184788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227400" y="184788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100400" y="184788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 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9284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867280" y="1755720"/>
            <a:ext cx="90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848200" y="1847880"/>
            <a:ext cx="8380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 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027760" y="1787400"/>
            <a:ext cx="895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027760" y="200484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724880" y="1755720"/>
            <a:ext cx="79848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759800" y="1862280"/>
            <a:ext cx="65232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885000" y="1754280"/>
            <a:ext cx="7952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885000" y="1971720"/>
            <a:ext cx="6634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d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9874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8604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27352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6100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48164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2308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3560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6885000" y="1427040"/>
            <a:ext cx="7952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-23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7978680" y="1427040"/>
            <a:ext cx="2919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2298600" y="2514600"/>
            <a:ext cx="2084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MAC Head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1520" y="2535120"/>
            <a:ext cx="6118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627120" y="2481120"/>
            <a:ext cx="6144120" cy="108360"/>
            <a:chOff x="627120" y="2481120"/>
            <a:chExt cx="6144120" cy="108360"/>
          </a:xfrm>
        </p:grpSpPr>
        <p:sp>
          <p:nvSpPr>
            <p:cNvPr id="660" name=""/>
            <p:cNvSpPr/>
            <p:nvPr/>
          </p:nvSpPr>
          <p:spPr>
            <a:xfrm>
              <a:off x="627120" y="2481120"/>
              <a:ext cx="219600" cy="108360"/>
            </a:xfrm>
            <a:custGeom>
              <a:avLst/>
              <a:gdLst/>
              <a:ahLst/>
              <a:rect l="0" t="0" r="r" b="b"/>
              <a:pathLst>
                <a:path w="610" h="301">
                  <a:moveTo>
                    <a:pt x="0" y="150"/>
                  </a:moveTo>
                  <a:lnTo>
                    <a:pt x="610" y="0"/>
                  </a:lnTo>
                  <a:lnTo>
                    <a:pt x="610" y="30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551640" y="2481120"/>
              <a:ext cx="219600" cy="108360"/>
            </a:xfrm>
            <a:custGeom>
              <a:avLst/>
              <a:gdLst/>
              <a:ahLst/>
              <a:rect l="0" t="0" r="r" b="b"/>
              <a:pathLst>
                <a:path w="610" h="301">
                  <a:moveTo>
                    <a:pt x="610" y="150"/>
                  </a:moveTo>
                  <a:lnTo>
                    <a:pt x="0" y="0"/>
                  </a:lnTo>
                  <a:lnTo>
                    <a:pt x="0" y="301"/>
                  </a:lnTo>
                  <a:lnTo>
                    <a:pt x="610" y="150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 txBox="1"/>
          <p:nvPr/>
        </p:nvSpPr>
        <p:spPr>
          <a:xfrm>
            <a:off x="550800" y="1101600"/>
            <a:ext cx="76032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s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58760" y="2911320"/>
            <a:ext cx="7170840" cy="1165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514520" y="3137040"/>
            <a:ext cx="669780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841400" y="3137040"/>
            <a:ext cx="69228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076400" y="3137040"/>
            <a:ext cx="80316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496960" y="3137040"/>
            <a:ext cx="90792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370320" y="3137040"/>
            <a:ext cx="582480" cy="5824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664240" y="3137040"/>
            <a:ext cx="68724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319800" y="3137040"/>
            <a:ext cx="69048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521480" y="3137040"/>
            <a:ext cx="69048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114560" y="3192480"/>
            <a:ext cx="7351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114560" y="3409920"/>
            <a:ext cx="692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878120" y="330048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2533680" y="3300480"/>
            <a:ext cx="768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517920" y="3192480"/>
            <a:ext cx="361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517920" y="3409920"/>
            <a:ext cx="379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154480" y="3300480"/>
            <a:ext cx="557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5700600" y="3192480"/>
            <a:ext cx="45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5700600" y="3409920"/>
            <a:ext cx="455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356520" y="3192480"/>
            <a:ext cx="539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6356520" y="3409920"/>
            <a:ext cx="49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7010280" y="3300480"/>
            <a:ext cx="531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7556400" y="330048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3408480" y="3789360"/>
            <a:ext cx="209088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Control Fie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004760" y="2865600"/>
            <a:ext cx="603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s: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98756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275256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51792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06404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71636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526248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581040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46416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712008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7666200" y="2865600"/>
            <a:ext cx="260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16440" y="3137040"/>
            <a:ext cx="692280" cy="5824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954600" y="3409920"/>
            <a:ext cx="379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954600" y="3192480"/>
            <a:ext cx="547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518000" y="3137040"/>
            <a:ext cx="692280" cy="58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608360" y="3192480"/>
            <a:ext cx="539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4608360" y="3409920"/>
            <a:ext cx="49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ddress Field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692280" y="3174840"/>
            <a:ext cx="774072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 1 = All stations filter on this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 2 = Transmitter Address (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s transmitter to address the ACK frame 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 3 = Dependent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D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r 4 = Only needed to identify the original source of  WD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 Distribution System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23800" y="1276200"/>
            <a:ext cx="802800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Privacy and Access Control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692280" y="1160640"/>
            <a:ext cx="808344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al of 802.11 is to provide “Wired Equivalent Privacy” (WE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able world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1 provides for an Authentication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aid in access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 provisions for “OPEN”, “Shared Key” or proprietary authentication exten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onal (WEP) Privacy mechanism defined by 802.1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mited for Station-to-Station traffic, so not “end to en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mbedded in the MAC ent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implements “Confidentiality”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s RC4 PRNG algorithm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 40 bit secret key (No Key distribution standardiz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d a 24 bit IV that is send with the d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ludes an ICV to allow integrity chec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payload of Data frames are encryp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ncryption on per MPDU bas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Privacy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692280" y="4952880"/>
            <a:ext cx="774072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P bit in Frame Control Field indicates WEP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frame can have a new IV, or IV can be reused for a limited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integrity check fails then frame is ACKed but disca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46280" y="1484280"/>
            <a:ext cx="7642080" cy="1430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383600" y="25830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035160" y="2428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433520" y="2583000"/>
            <a:ext cx="1906920" cy="230400"/>
          </a:xfrm>
          <a:custGeom>
            <a:avLst/>
            <a:gdLst/>
            <a:ahLst/>
            <a:rect l="0" t="0" r="r" b="b"/>
            <a:pathLst>
              <a:path fill="none" w="5297" h="640">
                <a:moveTo>
                  <a:pt x="0" y="0"/>
                </a:moveTo>
                <a:lnTo>
                  <a:pt x="0" y="640"/>
                </a:lnTo>
                <a:lnTo>
                  <a:pt x="5297" y="64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327480" y="1727280"/>
            <a:ext cx="558720" cy="1173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395960" y="1727280"/>
            <a:ext cx="558720" cy="1173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182680" y="1957320"/>
            <a:ext cx="484200" cy="4078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793960" y="2185920"/>
            <a:ext cx="328680" cy="4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573200" y="2722680"/>
            <a:ext cx="863640" cy="17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03480" y="1816200"/>
            <a:ext cx="2135520" cy="230400"/>
          </a:xfrm>
          <a:custGeom>
            <a:avLst/>
            <a:gdLst/>
            <a:ahLst/>
            <a:rect l="0" t="0" r="r" b="b"/>
            <a:pathLst>
              <a:path fill="none" w="5932" h="640">
                <a:moveTo>
                  <a:pt x="0" y="640"/>
                </a:moveTo>
                <a:lnTo>
                  <a:pt x="1371" y="640"/>
                </a:lnTo>
                <a:lnTo>
                  <a:pt x="912" y="640"/>
                </a:lnTo>
                <a:lnTo>
                  <a:pt x="912" y="0"/>
                </a:lnTo>
                <a:lnTo>
                  <a:pt x="5932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203480" y="2276640"/>
            <a:ext cx="458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649520" y="1957320"/>
            <a:ext cx="330120" cy="4078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967040" y="21225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652840" y="2122560"/>
            <a:ext cx="154440" cy="230400"/>
          </a:xfrm>
          <a:custGeom>
            <a:avLst/>
            <a:gdLst/>
            <a:ahLst/>
            <a:rect l="0" t="0" r="r" b="b"/>
            <a:pathLst>
              <a:path fill="none" w="429" h="640">
                <a:moveTo>
                  <a:pt x="0" y="0"/>
                </a:moveTo>
                <a:lnTo>
                  <a:pt x="217" y="0"/>
                </a:lnTo>
                <a:lnTo>
                  <a:pt x="217" y="640"/>
                </a:lnTo>
                <a:lnTo>
                  <a:pt x="429" y="64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203480" y="2583000"/>
            <a:ext cx="1603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181240" y="1963800"/>
            <a:ext cx="473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2181240" y="2117880"/>
            <a:ext cx="544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884160" y="1887480"/>
            <a:ext cx="325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3402000" y="1811160"/>
            <a:ext cx="325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655560" y="2117880"/>
            <a:ext cx="773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738440" y="204624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814400" y="204624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566720" y="2701800"/>
            <a:ext cx="88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ity Al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70280" y="2340000"/>
            <a:ext cx="177840" cy="17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2825640" y="2328840"/>
            <a:ext cx="25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3249720" y="2292480"/>
            <a:ext cx="652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hertex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402000" y="2654280"/>
            <a:ext cx="4176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951360" y="2352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255920" y="2276640"/>
            <a:ext cx="76680" cy="152640"/>
          </a:xfrm>
          <a:custGeom>
            <a:avLst/>
            <a:gdLst/>
            <a:ahLst/>
            <a:rect l="0" t="0" r="r" b="b"/>
            <a:pathLst>
              <a:path w="213" h="424">
                <a:moveTo>
                  <a:pt x="0" y="0"/>
                </a:moveTo>
                <a:lnTo>
                  <a:pt x="213" y="211"/>
                </a:lnTo>
                <a:lnTo>
                  <a:pt x="0" y="4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197160" y="1774800"/>
            <a:ext cx="136800" cy="73440"/>
          </a:xfrm>
          <a:custGeom>
            <a:avLst/>
            <a:gdLst/>
            <a:ahLst/>
            <a:rect l="0" t="0" r="r" b="b"/>
            <a:pathLst>
              <a:path w="380" h="204">
                <a:moveTo>
                  <a:pt x="380" y="102"/>
                </a:moveTo>
                <a:lnTo>
                  <a:pt x="0" y="0"/>
                </a:lnTo>
                <a:lnTo>
                  <a:pt x="0" y="204"/>
                </a:lnTo>
                <a:lnTo>
                  <a:pt x="380" y="10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197160" y="2387520"/>
            <a:ext cx="136800" cy="73440"/>
          </a:xfrm>
          <a:custGeom>
            <a:avLst/>
            <a:gdLst/>
            <a:ahLst/>
            <a:rect l="0" t="0" r="r" b="b"/>
            <a:pathLst>
              <a:path w="380" h="204">
                <a:moveTo>
                  <a:pt x="380" y="102"/>
                </a:moveTo>
                <a:lnTo>
                  <a:pt x="0" y="0"/>
                </a:lnTo>
                <a:lnTo>
                  <a:pt x="0" y="204"/>
                </a:lnTo>
                <a:lnTo>
                  <a:pt x="380" y="10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197160" y="2770200"/>
            <a:ext cx="136800" cy="74880"/>
          </a:xfrm>
          <a:custGeom>
            <a:avLst/>
            <a:gdLst/>
            <a:ahLst/>
            <a:rect l="0" t="0" r="r" b="b"/>
            <a:pathLst>
              <a:path w="380" h="208">
                <a:moveTo>
                  <a:pt x="380" y="106"/>
                </a:moveTo>
                <a:lnTo>
                  <a:pt x="0" y="0"/>
                </a:lnTo>
                <a:lnTo>
                  <a:pt x="0" y="208"/>
                </a:lnTo>
                <a:lnTo>
                  <a:pt x="380" y="1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921280" y="1727280"/>
            <a:ext cx="482760" cy="4078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532560" y="1957320"/>
            <a:ext cx="328680" cy="48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941720" y="2046240"/>
            <a:ext cx="459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388120" y="1727280"/>
            <a:ext cx="330120" cy="4078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705640" y="189216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391440" y="1892160"/>
            <a:ext cx="154440" cy="230400"/>
          </a:xfrm>
          <a:custGeom>
            <a:avLst/>
            <a:gdLst/>
            <a:ahLst/>
            <a:rect l="0" t="0" r="r" b="b"/>
            <a:pathLst>
              <a:path fill="none" w="429" h="640">
                <a:moveTo>
                  <a:pt x="0" y="0"/>
                </a:moveTo>
                <a:lnTo>
                  <a:pt x="212" y="0"/>
                </a:lnTo>
                <a:lnTo>
                  <a:pt x="212" y="640"/>
                </a:lnTo>
                <a:lnTo>
                  <a:pt x="429" y="64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941720" y="2352600"/>
            <a:ext cx="1603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5918040" y="1733400"/>
            <a:ext cx="473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5918040" y="1887480"/>
            <a:ext cx="544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468680" y="1811160"/>
            <a:ext cx="325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477040" y="1816200"/>
            <a:ext cx="0" cy="153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553000" y="1816200"/>
            <a:ext cx="0" cy="153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608880" y="2109960"/>
            <a:ext cx="177840" cy="17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6562800" y="2098800"/>
            <a:ext cx="257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4941720" y="1509840"/>
            <a:ext cx="459000" cy="306720"/>
          </a:xfrm>
          <a:custGeom>
            <a:avLst/>
            <a:gdLst/>
            <a:ahLst/>
            <a:rect l="0" t="0" r="r" b="b"/>
            <a:pathLst>
              <a:path fill="none" w="1275" h="852">
                <a:moveTo>
                  <a:pt x="0" y="0"/>
                </a:moveTo>
                <a:lnTo>
                  <a:pt x="635" y="0"/>
                </a:lnTo>
                <a:lnTo>
                  <a:pt x="635" y="852"/>
                </a:lnTo>
                <a:lnTo>
                  <a:pt x="1275" y="852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316400" y="1504800"/>
            <a:ext cx="773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K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4316400" y="2216160"/>
            <a:ext cx="652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phertex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468680" y="2654280"/>
            <a:ext cx="4176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850080" y="2200320"/>
            <a:ext cx="6843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941720" y="2735280"/>
            <a:ext cx="259416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532560" y="2494080"/>
            <a:ext cx="863640" cy="177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6524640" y="2471760"/>
            <a:ext cx="8859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ity Al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002360" y="2200320"/>
            <a:ext cx="0" cy="3063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469280" y="2157480"/>
            <a:ext cx="136800" cy="74880"/>
          </a:xfrm>
          <a:custGeom>
            <a:avLst/>
            <a:gdLst/>
            <a:ahLst/>
            <a:rect l="0" t="0" r="r" b="b"/>
            <a:pathLst>
              <a:path w="380" h="208">
                <a:moveTo>
                  <a:pt x="380" y="101"/>
                </a:moveTo>
                <a:lnTo>
                  <a:pt x="0" y="0"/>
                </a:lnTo>
                <a:lnTo>
                  <a:pt x="0" y="208"/>
                </a:lnTo>
                <a:lnTo>
                  <a:pt x="380" y="10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7280" bIns="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469280" y="2693880"/>
            <a:ext cx="136800" cy="73440"/>
          </a:xfrm>
          <a:custGeom>
            <a:avLst/>
            <a:gdLst/>
            <a:ahLst/>
            <a:rect l="0" t="0" r="r" b="b"/>
            <a:pathLst>
              <a:path w="380" h="204">
                <a:moveTo>
                  <a:pt x="380" y="102"/>
                </a:moveTo>
                <a:lnTo>
                  <a:pt x="0" y="0"/>
                </a:lnTo>
                <a:lnTo>
                  <a:pt x="0" y="204"/>
                </a:lnTo>
                <a:lnTo>
                  <a:pt x="380" y="10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469280" y="2541600"/>
            <a:ext cx="136800" cy="73440"/>
          </a:xfrm>
          <a:custGeom>
            <a:avLst/>
            <a:gdLst/>
            <a:ahLst/>
            <a:rect l="0" t="0" r="r" b="b"/>
            <a:pathLst>
              <a:path w="380" h="204">
                <a:moveTo>
                  <a:pt x="380" y="102"/>
                </a:moveTo>
                <a:lnTo>
                  <a:pt x="0" y="0"/>
                </a:lnTo>
                <a:lnTo>
                  <a:pt x="0" y="204"/>
                </a:lnTo>
                <a:lnTo>
                  <a:pt x="380" y="10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7291440" y="1887480"/>
            <a:ext cx="671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in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7596360" y="2500200"/>
            <a:ext cx="820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V'=ICV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655560" y="2424240"/>
            <a:ext cx="671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in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3936960" y="2019240"/>
            <a:ext cx="3952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488960" y="3427560"/>
            <a:ext cx="5902200" cy="12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503360" y="3440160"/>
            <a:ext cx="5622840" cy="4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1593720" y="3522600"/>
            <a:ext cx="706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am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2428920" y="3522600"/>
            <a:ext cx="949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H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3430440" y="3522600"/>
            <a:ext cx="920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Hea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603840" y="3522600"/>
            <a:ext cx="458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5183280" y="3522600"/>
            <a:ext cx="622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352600" y="3452760"/>
            <a:ext cx="0" cy="38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354480" y="3452760"/>
            <a:ext cx="0" cy="38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440240" y="3452760"/>
            <a:ext cx="0" cy="38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527880" y="3452760"/>
            <a:ext cx="0" cy="38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0240" y="4067280"/>
            <a:ext cx="2087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440240" y="3989520"/>
            <a:ext cx="251280" cy="154440"/>
          </a:xfrm>
          <a:custGeom>
            <a:avLst/>
            <a:gdLst/>
            <a:ahLst/>
            <a:rect l="0" t="0" r="r" b="b"/>
            <a:pathLst>
              <a:path w="698" h="429">
                <a:moveTo>
                  <a:pt x="0" y="217"/>
                </a:moveTo>
                <a:lnTo>
                  <a:pt x="698" y="0"/>
                </a:lnTo>
                <a:lnTo>
                  <a:pt x="698" y="429"/>
                </a:lnTo>
                <a:lnTo>
                  <a:pt x="0" y="217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276960" y="3989520"/>
            <a:ext cx="251280" cy="154440"/>
          </a:xfrm>
          <a:custGeom>
            <a:avLst/>
            <a:gdLst/>
            <a:ahLst/>
            <a:rect l="0" t="0" r="r" b="b"/>
            <a:pathLst>
              <a:path w="698" h="429">
                <a:moveTo>
                  <a:pt x="698" y="217"/>
                </a:moveTo>
                <a:lnTo>
                  <a:pt x="0" y="0"/>
                </a:lnTo>
                <a:lnTo>
                  <a:pt x="0" y="429"/>
                </a:lnTo>
                <a:lnTo>
                  <a:pt x="698" y="217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5016600" y="3828960"/>
            <a:ext cx="755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591000" y="4361040"/>
            <a:ext cx="3786120" cy="255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597120" y="4367160"/>
            <a:ext cx="504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6686640" y="4367160"/>
            <a:ext cx="5968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V (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440240" y="4373640"/>
            <a:ext cx="0" cy="230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527880" y="4373640"/>
            <a:ext cx="0" cy="230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932360" y="4367160"/>
            <a:ext cx="798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pher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4106880" y="4373640"/>
            <a:ext cx="0" cy="230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057560" y="4367160"/>
            <a:ext cx="4665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590920"/>
            <a:ext cx="2362320" cy="1981080"/>
          </a:xfrm>
          <a:prstGeom prst="rect">
            <a:avLst/>
          </a:prstGeom>
          <a:solidFill>
            <a:srgbClr val="fef58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Support for Mo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631960" y="2895480"/>
            <a:ext cx="31305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371600" y="2590920"/>
            <a:ext cx="5257800" cy="1981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371600" y="4572000"/>
            <a:ext cx="5257800" cy="1752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267080" y="2590920"/>
            <a:ext cx="0" cy="3733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371600" y="54864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629400" y="63244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flipV="1">
            <a:off x="8534520" y="243828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054160" y="254484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54160" y="44496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054160" y="53640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483160" y="44496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576840" y="3139920"/>
            <a:ext cx="128520" cy="59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576840" y="4968720"/>
            <a:ext cx="128520" cy="59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867120" y="359244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86200" y="5029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833480" y="2863800"/>
            <a:ext cx="17146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1455840" y="4767120"/>
            <a:ext cx="2432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598760" y="5681520"/>
            <a:ext cx="244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4419720" y="2722680"/>
            <a:ext cx="22096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MAC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4648320" y="4702320"/>
            <a:ext cx="1987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6781680" y="3787920"/>
            <a:ext cx="1987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935000" y="1677960"/>
            <a:ext cx="157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828800" y="1676520"/>
            <a:ext cx="9907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14200" y="3336840"/>
            <a:ext cx="878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290520" y="516564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228600" y="45720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2590920"/>
            <a:ext cx="2895480" cy="1981080"/>
          </a:xfrm>
          <a:prstGeom prst="rect">
            <a:avLst/>
          </a:prstGeom>
          <a:solidFill>
            <a:srgbClr val="ffff4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Protocol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31960" y="2895480"/>
            <a:ext cx="31305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2590920"/>
            <a:ext cx="5257800" cy="1981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4572000"/>
            <a:ext cx="5257800" cy="1752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2590920"/>
            <a:ext cx="0" cy="3733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1371600" y="548640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63244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534520" y="243828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4160" y="254484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054160" y="44496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4160" y="53640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3160" y="4449600"/>
            <a:ext cx="384120" cy="198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76840" y="3139920"/>
            <a:ext cx="128520" cy="59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76840" y="4968720"/>
            <a:ext cx="128520" cy="593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3581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5029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857240" y="3103560"/>
            <a:ext cx="1889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MAC Sub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455840" y="4767120"/>
            <a:ext cx="2432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CP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598760" y="5681520"/>
            <a:ext cx="2441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D Sub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0" y="2722680"/>
            <a:ext cx="1981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4702320"/>
            <a:ext cx="19875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781680" y="3787920"/>
            <a:ext cx="198756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935000" y="1677960"/>
            <a:ext cx="1571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L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1676520"/>
            <a:ext cx="990720" cy="533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4200" y="3336840"/>
            <a:ext cx="8780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90520" y="5165640"/>
            <a:ext cx="79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28600" y="457200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AC Managemen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ding and staying with a W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hronizati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SF Timer, Beacon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eeping without missing any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iodic sleep, frame buffering, Traffic Indication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ociation and Re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ining 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aming, moving from one AP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ment Information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614520" y="552600"/>
            <a:ext cx="779148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Synchronization in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ing Synchronization Function (T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for 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sent at well known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station timers in BSS are synchron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for Point Coordination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used to predict start of Contention Free bu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for Hop Timing for FH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used to time Dwell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Stations are synchronized, so they hop at sam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996840" y="1486080"/>
            <a:ext cx="750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600120" y="1332000"/>
            <a:ext cx="830592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stations maintain a local ti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ing Synchronizat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eps timers from all stations in sy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controls timing in infrastructure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ed function for Independent B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ing conveyed by periodic Beacon trans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contain Timestamp for the entire B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stamp from Beacons used to calibrate local c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required to hear every Beacon to stay in sy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contain other manageme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so used for Power Management, Ro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Synchronization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Infrastructure Beacon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996840" y="3448080"/>
            <a:ext cx="7785000" cy="25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s send Beacons in infrastructure networ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s scheduled at Beacon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ssion may be delayed by CSMA defer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sequent transmissions at expected Beacon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relative to last Beacon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Beacon sent at Target Beacon Transmiss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stamp contains timer value at transmi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82840" y="1204920"/>
            <a:ext cx="4246560" cy="215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08400" y="1973160"/>
            <a:ext cx="4047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560680" y="1819440"/>
            <a:ext cx="993600" cy="306360"/>
            <a:chOff x="2560680" y="1819440"/>
            <a:chExt cx="993600" cy="306360"/>
          </a:xfrm>
        </p:grpSpPr>
        <p:sp>
          <p:nvSpPr>
            <p:cNvPr id="852" name=""/>
            <p:cNvSpPr/>
            <p:nvPr/>
          </p:nvSpPr>
          <p:spPr>
            <a:xfrm flipV="1">
              <a:off x="2560680" y="18194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560680" y="1973160"/>
              <a:ext cx="9936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3554280" y="18194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4546440" y="1819440"/>
            <a:ext cx="993960" cy="306360"/>
            <a:chOff x="4546440" y="1819440"/>
            <a:chExt cx="993960" cy="306360"/>
          </a:xfrm>
        </p:grpSpPr>
        <p:sp>
          <p:nvSpPr>
            <p:cNvPr id="856" name=""/>
            <p:cNvSpPr/>
            <p:nvPr/>
          </p:nvSpPr>
          <p:spPr>
            <a:xfrm flipV="1">
              <a:off x="4546440" y="18194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546440" y="1973160"/>
              <a:ext cx="993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5540400" y="18194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554280" y="1819440"/>
            <a:ext cx="992160" cy="306360"/>
            <a:chOff x="3554280" y="1819440"/>
            <a:chExt cx="992160" cy="306360"/>
          </a:xfrm>
        </p:grpSpPr>
        <p:sp>
          <p:nvSpPr>
            <p:cNvPr id="860" name=""/>
            <p:cNvSpPr/>
            <p:nvPr/>
          </p:nvSpPr>
          <p:spPr>
            <a:xfrm flipV="1">
              <a:off x="3554280" y="18194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54280" y="1973160"/>
              <a:ext cx="9921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4546440" y="1819440"/>
              <a:ext cx="0" cy="306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"/>
          <p:cNvSpPr txBox="1"/>
          <p:nvPr/>
        </p:nvSpPr>
        <p:spPr>
          <a:xfrm>
            <a:off x="5753160" y="1714680"/>
            <a:ext cx="849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408400" y="2890800"/>
            <a:ext cx="40478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557440" y="2562120"/>
            <a:ext cx="101520" cy="3319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25560">
            <a:solidFill>
              <a:srgbClr val="8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526000" y="2571840"/>
            <a:ext cx="103320" cy="3319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25560">
            <a:solidFill>
              <a:srgbClr val="8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4762440" y="2571840"/>
            <a:ext cx="103320" cy="3319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25560">
            <a:solidFill>
              <a:srgbClr val="8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770280" y="2571840"/>
            <a:ext cx="101520" cy="3319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25560">
            <a:solidFill>
              <a:srgbClr val="8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778120" y="2647800"/>
            <a:ext cx="25416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083040" y="2647800"/>
            <a:ext cx="10152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503520" y="2647800"/>
            <a:ext cx="25416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152960" y="2647800"/>
            <a:ext cx="10152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486320" y="2638440"/>
            <a:ext cx="25416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145120" y="2647800"/>
            <a:ext cx="17784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832360" y="2647800"/>
            <a:ext cx="407880" cy="2556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608200" y="1657440"/>
            <a:ext cx="9446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295800" y="1619280"/>
            <a:ext cx="278280" cy="95760"/>
          </a:xfrm>
          <a:custGeom>
            <a:avLst/>
            <a:gdLst/>
            <a:ahLst/>
            <a:rect l="0" t="0" r="r" b="b"/>
            <a:pathLst>
              <a:path w="773" h="266">
                <a:moveTo>
                  <a:pt x="773" y="133"/>
                </a:moveTo>
                <a:lnTo>
                  <a:pt x="0" y="0"/>
                </a:lnTo>
                <a:lnTo>
                  <a:pt x="0" y="266"/>
                </a:lnTo>
                <a:lnTo>
                  <a:pt x="773" y="133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560680" y="1619280"/>
            <a:ext cx="278280" cy="95760"/>
          </a:xfrm>
          <a:custGeom>
            <a:avLst/>
            <a:gdLst/>
            <a:ahLst/>
            <a:rect l="0" t="0" r="r" b="b"/>
            <a:pathLst>
              <a:path w="773" h="266">
                <a:moveTo>
                  <a:pt x="0" y="133"/>
                </a:moveTo>
                <a:lnTo>
                  <a:pt x="773" y="0"/>
                </a:lnTo>
                <a:lnTo>
                  <a:pt x="773" y="266"/>
                </a:lnTo>
                <a:lnTo>
                  <a:pt x="0" y="133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2460600" y="1303200"/>
            <a:ext cx="1220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c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2460600" y="18493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3654360" y="18493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4654440" y="18493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5408640" y="184932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560680" y="2135160"/>
            <a:ext cx="76680" cy="363600"/>
            <a:chOff x="2560680" y="2135160"/>
            <a:chExt cx="76680" cy="363600"/>
          </a:xfrm>
        </p:grpSpPr>
        <p:sp>
          <p:nvSpPr>
            <p:cNvPr id="885" name=""/>
            <p:cNvSpPr/>
            <p:nvPr/>
          </p:nvSpPr>
          <p:spPr>
            <a:xfrm>
              <a:off x="2598840" y="21351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560680" y="2365200"/>
              <a:ext cx="76680" cy="133560"/>
            </a:xfrm>
            <a:custGeom>
              <a:avLst/>
              <a:gdLst/>
              <a:ahLst/>
              <a:rect l="0" t="0" r="r" b="b"/>
              <a:pathLst>
                <a:path w="213" h="371">
                  <a:moveTo>
                    <a:pt x="213" y="26"/>
                  </a:moveTo>
                  <a:lnTo>
                    <a:pt x="106" y="371"/>
                  </a:lnTo>
                  <a:lnTo>
                    <a:pt x="0" y="0"/>
                  </a:lnTo>
                  <a:lnTo>
                    <a:pt x="213" y="2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3754440" y="2144880"/>
            <a:ext cx="76680" cy="363600"/>
            <a:chOff x="3754440" y="2144880"/>
            <a:chExt cx="76680" cy="363600"/>
          </a:xfrm>
        </p:grpSpPr>
        <p:sp>
          <p:nvSpPr>
            <p:cNvPr id="888" name=""/>
            <p:cNvSpPr/>
            <p:nvPr/>
          </p:nvSpPr>
          <p:spPr>
            <a:xfrm>
              <a:off x="3792600" y="2144880"/>
              <a:ext cx="0" cy="258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754440" y="2374920"/>
              <a:ext cx="76680" cy="133560"/>
            </a:xfrm>
            <a:custGeom>
              <a:avLst/>
              <a:gdLst/>
              <a:ahLst/>
              <a:rect l="0" t="0" r="r" b="b"/>
              <a:pathLst>
                <a:path w="213" h="371">
                  <a:moveTo>
                    <a:pt x="213" y="26"/>
                  </a:moveTo>
                  <a:lnTo>
                    <a:pt x="106" y="371"/>
                  </a:lnTo>
                  <a:lnTo>
                    <a:pt x="0" y="0"/>
                  </a:lnTo>
                  <a:lnTo>
                    <a:pt x="213" y="2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4765680" y="2135160"/>
            <a:ext cx="78120" cy="363600"/>
            <a:chOff x="4765680" y="2135160"/>
            <a:chExt cx="78120" cy="363600"/>
          </a:xfrm>
        </p:grpSpPr>
        <p:sp>
          <p:nvSpPr>
            <p:cNvPr id="891" name=""/>
            <p:cNvSpPr/>
            <p:nvPr/>
          </p:nvSpPr>
          <p:spPr>
            <a:xfrm>
              <a:off x="4803840" y="213516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65680" y="2365200"/>
              <a:ext cx="78120" cy="133560"/>
            </a:xfrm>
            <a:custGeom>
              <a:avLst/>
              <a:gdLst/>
              <a:ahLst/>
              <a:rect l="0" t="0" r="r" b="b"/>
              <a:pathLst>
                <a:path w="217" h="371">
                  <a:moveTo>
                    <a:pt x="217" y="26"/>
                  </a:moveTo>
                  <a:lnTo>
                    <a:pt x="105" y="371"/>
                  </a:lnTo>
                  <a:lnTo>
                    <a:pt x="0" y="0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5529240" y="2154240"/>
            <a:ext cx="78120" cy="363600"/>
            <a:chOff x="5529240" y="2154240"/>
            <a:chExt cx="78120" cy="363600"/>
          </a:xfrm>
        </p:grpSpPr>
        <p:sp>
          <p:nvSpPr>
            <p:cNvPr id="894" name=""/>
            <p:cNvSpPr/>
            <p:nvPr/>
          </p:nvSpPr>
          <p:spPr>
            <a:xfrm>
              <a:off x="5568840" y="2154240"/>
              <a:ext cx="0" cy="258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529240" y="2384280"/>
              <a:ext cx="78120" cy="133560"/>
            </a:xfrm>
            <a:custGeom>
              <a:avLst/>
              <a:gdLst/>
              <a:ahLst/>
              <a:rect l="0" t="0" r="r" b="b"/>
              <a:pathLst>
                <a:path w="217" h="371">
                  <a:moveTo>
                    <a:pt x="217" y="26"/>
                  </a:moveTo>
                  <a:lnTo>
                    <a:pt x="111" y="371"/>
                  </a:lnTo>
                  <a:lnTo>
                    <a:pt x="0" y="0"/>
                  </a:lnTo>
                  <a:lnTo>
                    <a:pt x="217" y="2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"/>
          <p:cNvSpPr txBox="1"/>
          <p:nvPr/>
        </p:nvSpPr>
        <p:spPr>
          <a:xfrm>
            <a:off x="3776760" y="1514520"/>
            <a:ext cx="2224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ctual time" stamp in Bea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2470320" y="3044880"/>
            <a:ext cx="658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a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589120" y="293832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 txBox="1"/>
          <p:nvPr/>
        </p:nvSpPr>
        <p:spPr>
          <a:xfrm>
            <a:off x="3521160" y="3025800"/>
            <a:ext cx="1093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3621240" y="2928960"/>
            <a:ext cx="180720" cy="123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4146480" y="2938320"/>
            <a:ext cx="5724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H="1">
            <a:off x="4384800" y="2938320"/>
            <a:ext cx="199800" cy="135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976320" y="1335240"/>
            <a:ext cx="71629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devices are battery pow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important for mo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LAN protocols assume stations are always ready to rece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le receive state dominates LAN adapter power consumption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can we power off during idle periods, yet maintain an active ses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2.11 Power Management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s transceiver to be off as much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transparent to existing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flexible to support different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sible to trade off throughput for battery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Power Managemen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885960" y="1217520"/>
            <a:ext cx="7888320" cy="49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idle stations to go to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’s power save mode stored in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s buffer packets for sleeping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announces which stations have frames buff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ffic Indication Map (TIM) sent with every Be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Saving stations wake up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sten for Bea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F assures AP and Power Save stations are synchro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will wake up to hear a Be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keeps running when stations are slee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hronization allows extreme low power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dependent BSS also have 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ilar in concept, distributed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Infrastructure 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868320" y="3292560"/>
            <a:ext cx="7648560" cy="13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cast frames are also buffered i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broadcasts/multicasts are buff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adcasts/multicasts are only sent after D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IM interval is a multiple of TIM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871560" y="1849320"/>
            <a:ext cx="7342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95868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25432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54960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84488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4052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43580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958680" y="2158920"/>
            <a:ext cx="85680" cy="233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227640" y="2158920"/>
            <a:ext cx="85680" cy="233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844880" y="2158920"/>
            <a:ext cx="87480" cy="233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722760" y="2158920"/>
            <a:ext cx="85680" cy="233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40000" y="2158920"/>
            <a:ext cx="87480" cy="233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7458120" y="2158920"/>
            <a:ext cx="87480" cy="233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779400" y="1943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254320" y="1444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254320" y="136692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3549600" y="136692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2378160" y="1177920"/>
            <a:ext cx="106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-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1170000" y="1636560"/>
            <a:ext cx="720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ax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146320" y="2236680"/>
            <a:ext cx="17316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3441600" y="2236680"/>
            <a:ext cx="25884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032520" y="2233440"/>
            <a:ext cx="17316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862440" y="2236680"/>
            <a:ext cx="173160" cy="15552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2532240" y="1874880"/>
            <a:ext cx="790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Med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325680" y="2023920"/>
            <a:ext cx="227520" cy="184680"/>
          </a:xfrm>
          <a:custGeom>
            <a:avLst/>
            <a:gdLst/>
            <a:ahLst/>
            <a:rect l="0" t="0" r="r" b="b"/>
            <a:pathLst>
              <a:path w="632" h="513">
                <a:moveTo>
                  <a:pt x="0" y="0"/>
                </a:moveTo>
                <a:lnTo>
                  <a:pt x="632" y="513"/>
                </a:lnTo>
                <a:lnTo>
                  <a:pt x="450" y="269"/>
                </a:lnTo>
                <a:lnTo>
                  <a:pt x="362" y="403"/>
                </a:lnTo>
                <a:lnTo>
                  <a:pt x="632" y="5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205000" y="1992240"/>
            <a:ext cx="351360" cy="209880"/>
          </a:xfrm>
          <a:custGeom>
            <a:avLst/>
            <a:gdLst/>
            <a:ahLst/>
            <a:rect l="0" t="0" r="r" b="b"/>
            <a:pathLst>
              <a:path fill="none" w="976" h="583">
                <a:moveTo>
                  <a:pt x="976" y="0"/>
                </a:moveTo>
                <a:lnTo>
                  <a:pt x="30" y="556"/>
                </a:lnTo>
                <a:lnTo>
                  <a:pt x="287" y="367"/>
                </a:lnTo>
                <a:lnTo>
                  <a:pt x="344" y="433"/>
                </a:lnTo>
                <a:lnTo>
                  <a:pt x="0" y="58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1152360" y="2182680"/>
            <a:ext cx="787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2139840" y="1943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656240" y="19828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6027840" y="1973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7311960" y="1973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3533760" y="19620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552840" y="1517760"/>
            <a:ext cx="0" cy="252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435800" y="1460520"/>
            <a:ext cx="0" cy="311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549600" y="161604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4494240" y="1355760"/>
            <a:ext cx="114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IM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599240" y="2233440"/>
            <a:ext cx="150840" cy="15552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7701120" y="210816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3549600" y="1566720"/>
            <a:ext cx="248040" cy="97200"/>
          </a:xfrm>
          <a:custGeom>
            <a:avLst/>
            <a:gdLst/>
            <a:ahLst/>
            <a:rect l="0" t="0" r="r" b="b"/>
            <a:pathLst>
              <a:path w="689" h="270">
                <a:moveTo>
                  <a:pt x="0" y="137"/>
                </a:moveTo>
                <a:lnTo>
                  <a:pt x="689" y="0"/>
                </a:lnTo>
                <a:lnTo>
                  <a:pt x="689" y="270"/>
                </a:lnTo>
                <a:lnTo>
                  <a:pt x="0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7176960" y="1566720"/>
            <a:ext cx="249480" cy="97200"/>
          </a:xfrm>
          <a:custGeom>
            <a:avLst/>
            <a:gdLst/>
            <a:ahLst/>
            <a:rect l="0" t="0" r="r" b="b"/>
            <a:pathLst>
              <a:path w="693" h="270">
                <a:moveTo>
                  <a:pt x="693" y="137"/>
                </a:moveTo>
                <a:lnTo>
                  <a:pt x="0" y="0"/>
                </a:lnTo>
                <a:lnTo>
                  <a:pt x="0" y="270"/>
                </a:lnTo>
                <a:lnTo>
                  <a:pt x="693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254320" y="1395360"/>
            <a:ext cx="248040" cy="97200"/>
          </a:xfrm>
          <a:custGeom>
            <a:avLst/>
            <a:gdLst/>
            <a:ahLst/>
            <a:rect l="0" t="0" r="r" b="b"/>
            <a:pathLst>
              <a:path w="689" h="270">
                <a:moveTo>
                  <a:pt x="0" y="137"/>
                </a:moveTo>
                <a:lnTo>
                  <a:pt x="689" y="0"/>
                </a:lnTo>
                <a:lnTo>
                  <a:pt x="689" y="270"/>
                </a:lnTo>
                <a:lnTo>
                  <a:pt x="0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311640" y="1395360"/>
            <a:ext cx="249480" cy="97200"/>
          </a:xfrm>
          <a:custGeom>
            <a:avLst/>
            <a:gdLst/>
            <a:ahLst/>
            <a:rect l="0" t="0" r="r" b="b"/>
            <a:pathLst>
              <a:path w="693" h="270">
                <a:moveTo>
                  <a:pt x="693" y="137"/>
                </a:moveTo>
                <a:lnTo>
                  <a:pt x="0" y="0"/>
                </a:lnTo>
                <a:lnTo>
                  <a:pt x="0" y="270"/>
                </a:lnTo>
                <a:lnTo>
                  <a:pt x="693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873000" y="2392200"/>
            <a:ext cx="7342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3986280" y="212724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Infrastructure 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868320" y="3292560"/>
            <a:ext cx="7648560" cy="17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cast frames are also buffered i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broadcasts/multicasts are buff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adcasts/multicasts are only sent after D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IM interval is a multiple of TIM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wake up prior to an expected (D)T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871560" y="1849320"/>
            <a:ext cx="7342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95868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25432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54960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84488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14052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743580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958680" y="2158920"/>
            <a:ext cx="85680" cy="233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227640" y="2158920"/>
            <a:ext cx="85680" cy="233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844880" y="2158920"/>
            <a:ext cx="87480" cy="233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722760" y="2158920"/>
            <a:ext cx="85680" cy="233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2340000" y="2158920"/>
            <a:ext cx="87480" cy="233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458120" y="2158920"/>
            <a:ext cx="87480" cy="233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779400" y="1943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254320" y="1444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254320" y="136692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549600" y="136692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2378160" y="1177920"/>
            <a:ext cx="106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-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1170000" y="1636560"/>
            <a:ext cx="720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ax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871560" y="2819520"/>
            <a:ext cx="7342200" cy="155520"/>
            <a:chOff x="871560" y="2819520"/>
            <a:chExt cx="7342200" cy="155520"/>
          </a:xfrm>
        </p:grpSpPr>
        <p:sp>
          <p:nvSpPr>
            <p:cNvPr id="983" name=""/>
            <p:cNvSpPr/>
            <p:nvPr/>
          </p:nvSpPr>
          <p:spPr>
            <a:xfrm>
              <a:off x="871560" y="2897280"/>
              <a:ext cx="7342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95868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25432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54960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84488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14052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43580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"/>
          <p:cNvSpPr/>
          <p:nvPr/>
        </p:nvSpPr>
        <p:spPr>
          <a:xfrm>
            <a:off x="2146320" y="2236680"/>
            <a:ext cx="17316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441600" y="2236680"/>
            <a:ext cx="25884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32520" y="2233440"/>
            <a:ext cx="17316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893880" y="2664000"/>
            <a:ext cx="205200" cy="233640"/>
          </a:xfrm>
          <a:custGeom>
            <a:avLst/>
            <a:gdLst/>
            <a:ahLst/>
            <a:rect l="0" t="0" r="r" b="b"/>
            <a:pathLst>
              <a:path fill="none" w="570" h="649">
                <a:moveTo>
                  <a:pt x="0" y="649"/>
                </a:moveTo>
                <a:lnTo>
                  <a:pt x="88" y="0"/>
                </a:lnTo>
                <a:lnTo>
                  <a:pt x="570" y="0"/>
                </a:lnTo>
                <a:lnTo>
                  <a:pt x="570" y="64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484440" y="2673360"/>
            <a:ext cx="616320" cy="224280"/>
          </a:xfrm>
          <a:custGeom>
            <a:avLst/>
            <a:gdLst/>
            <a:ahLst/>
            <a:rect l="0" t="0" r="r" b="b"/>
            <a:pathLst>
              <a:path fill="none" w="1712" h="623">
                <a:moveTo>
                  <a:pt x="0" y="623"/>
                </a:moveTo>
                <a:lnTo>
                  <a:pt x="119" y="0"/>
                </a:lnTo>
                <a:lnTo>
                  <a:pt x="1712" y="0"/>
                </a:lnTo>
                <a:lnTo>
                  <a:pt x="1712" y="62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862440" y="2236680"/>
            <a:ext cx="173160" cy="15552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2532240" y="1874880"/>
            <a:ext cx="790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Med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325680" y="2023920"/>
            <a:ext cx="227520" cy="184680"/>
          </a:xfrm>
          <a:custGeom>
            <a:avLst/>
            <a:gdLst/>
            <a:ahLst/>
            <a:rect l="0" t="0" r="r" b="b"/>
            <a:pathLst>
              <a:path w="632" h="513">
                <a:moveTo>
                  <a:pt x="0" y="0"/>
                </a:moveTo>
                <a:lnTo>
                  <a:pt x="632" y="513"/>
                </a:lnTo>
                <a:lnTo>
                  <a:pt x="450" y="269"/>
                </a:lnTo>
                <a:lnTo>
                  <a:pt x="362" y="403"/>
                </a:lnTo>
                <a:lnTo>
                  <a:pt x="632" y="5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205000" y="1992240"/>
            <a:ext cx="351360" cy="209880"/>
          </a:xfrm>
          <a:custGeom>
            <a:avLst/>
            <a:gdLst/>
            <a:ahLst/>
            <a:rect l="0" t="0" r="r" b="b"/>
            <a:pathLst>
              <a:path fill="none" w="976" h="583">
                <a:moveTo>
                  <a:pt x="976" y="0"/>
                </a:moveTo>
                <a:lnTo>
                  <a:pt x="30" y="556"/>
                </a:lnTo>
                <a:lnTo>
                  <a:pt x="287" y="367"/>
                </a:lnTo>
                <a:lnTo>
                  <a:pt x="344" y="433"/>
                </a:lnTo>
                <a:lnTo>
                  <a:pt x="0" y="58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152360" y="2182680"/>
            <a:ext cx="787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139840" y="1943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4656240" y="19828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6027840" y="1973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7311960" y="1973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3533760" y="19620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552840" y="1517760"/>
            <a:ext cx="0" cy="252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7435800" y="1460520"/>
            <a:ext cx="0" cy="311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549600" y="161604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494240" y="1355760"/>
            <a:ext cx="114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IM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1157400" y="2668680"/>
            <a:ext cx="752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PS S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109520" y="2158920"/>
            <a:ext cx="74520" cy="23184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599240" y="2233440"/>
            <a:ext cx="150840" cy="15552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7701120" y="210816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166840" y="2668680"/>
            <a:ext cx="268560" cy="227520"/>
          </a:xfrm>
          <a:custGeom>
            <a:avLst/>
            <a:gdLst/>
            <a:ahLst/>
            <a:rect l="0" t="0" r="r" b="b"/>
            <a:pathLst>
              <a:path fill="none" w="746" h="632">
                <a:moveTo>
                  <a:pt x="0" y="632"/>
                </a:moveTo>
                <a:lnTo>
                  <a:pt x="70" y="0"/>
                </a:lnTo>
                <a:lnTo>
                  <a:pt x="746" y="0"/>
                </a:lnTo>
                <a:lnTo>
                  <a:pt x="746" y="632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3549600" y="1566720"/>
            <a:ext cx="248040" cy="97200"/>
          </a:xfrm>
          <a:custGeom>
            <a:avLst/>
            <a:gdLst/>
            <a:ahLst/>
            <a:rect l="0" t="0" r="r" b="b"/>
            <a:pathLst>
              <a:path w="689" h="270">
                <a:moveTo>
                  <a:pt x="0" y="137"/>
                </a:moveTo>
                <a:lnTo>
                  <a:pt x="689" y="0"/>
                </a:lnTo>
                <a:lnTo>
                  <a:pt x="689" y="270"/>
                </a:lnTo>
                <a:lnTo>
                  <a:pt x="0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7176960" y="1566720"/>
            <a:ext cx="249480" cy="97200"/>
          </a:xfrm>
          <a:custGeom>
            <a:avLst/>
            <a:gdLst/>
            <a:ahLst/>
            <a:rect l="0" t="0" r="r" b="b"/>
            <a:pathLst>
              <a:path w="693" h="270">
                <a:moveTo>
                  <a:pt x="693" y="137"/>
                </a:moveTo>
                <a:lnTo>
                  <a:pt x="0" y="0"/>
                </a:lnTo>
                <a:lnTo>
                  <a:pt x="0" y="270"/>
                </a:lnTo>
                <a:lnTo>
                  <a:pt x="693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254320" y="1395360"/>
            <a:ext cx="248040" cy="97200"/>
          </a:xfrm>
          <a:custGeom>
            <a:avLst/>
            <a:gdLst/>
            <a:ahLst/>
            <a:rect l="0" t="0" r="r" b="b"/>
            <a:pathLst>
              <a:path w="689" h="270">
                <a:moveTo>
                  <a:pt x="0" y="137"/>
                </a:moveTo>
                <a:lnTo>
                  <a:pt x="689" y="0"/>
                </a:lnTo>
                <a:lnTo>
                  <a:pt x="689" y="270"/>
                </a:lnTo>
                <a:lnTo>
                  <a:pt x="0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3311640" y="1395360"/>
            <a:ext cx="249480" cy="97200"/>
          </a:xfrm>
          <a:custGeom>
            <a:avLst/>
            <a:gdLst/>
            <a:ahLst/>
            <a:rect l="0" t="0" r="r" b="b"/>
            <a:pathLst>
              <a:path w="693" h="270">
                <a:moveTo>
                  <a:pt x="693" y="137"/>
                </a:moveTo>
                <a:lnTo>
                  <a:pt x="0" y="0"/>
                </a:lnTo>
                <a:lnTo>
                  <a:pt x="0" y="270"/>
                </a:lnTo>
                <a:lnTo>
                  <a:pt x="693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873000" y="2392200"/>
            <a:ext cx="7342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3986280" y="212724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Infrastructure 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868320" y="3292560"/>
            <a:ext cx="7648560" cy="28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cast frames are also buffered in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broadcasts/multicasts are buff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oadcasts/multicasts are only sent after D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IM interval is a multiple of TIM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wake up prior to an expected (D)T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IM indicates frame buffer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S-Poll and stays awake to receiv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se station sleeps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871560" y="1849320"/>
            <a:ext cx="7342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95868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25432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354960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84488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614052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7435800" y="1771560"/>
            <a:ext cx="0" cy="154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958680" y="2158920"/>
            <a:ext cx="85680" cy="2332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227640" y="2158920"/>
            <a:ext cx="85680" cy="23328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844880" y="2158920"/>
            <a:ext cx="87480" cy="23328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722760" y="2158920"/>
            <a:ext cx="85680" cy="23328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340000" y="2158920"/>
            <a:ext cx="87480" cy="23328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7458120" y="2158920"/>
            <a:ext cx="87480" cy="23328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779400" y="1943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254320" y="1444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254320" y="1366920"/>
            <a:ext cx="0" cy="4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3549600" y="136692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2378160" y="1177920"/>
            <a:ext cx="106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-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1170000" y="1636560"/>
            <a:ext cx="7207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-ax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3" name=""/>
          <p:cNvGrpSpPr/>
          <p:nvPr/>
        </p:nvGrpSpPr>
        <p:grpSpPr>
          <a:xfrm>
            <a:off x="871560" y="2819520"/>
            <a:ext cx="7342200" cy="155520"/>
            <a:chOff x="871560" y="2819520"/>
            <a:chExt cx="7342200" cy="155520"/>
          </a:xfrm>
        </p:grpSpPr>
        <p:sp>
          <p:nvSpPr>
            <p:cNvPr id="1044" name=""/>
            <p:cNvSpPr/>
            <p:nvPr/>
          </p:nvSpPr>
          <p:spPr>
            <a:xfrm>
              <a:off x="871560" y="2897280"/>
              <a:ext cx="7342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95868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25432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54960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84488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4052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435800" y="2819520"/>
              <a:ext cx="0" cy="1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2146320" y="2236680"/>
            <a:ext cx="17316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3441600" y="2236680"/>
            <a:ext cx="25884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032520" y="2233440"/>
            <a:ext cx="173160" cy="155520"/>
          </a:xfrm>
          <a:prstGeom prst="rect">
            <a:avLst/>
          </a:prstGeom>
          <a:solidFill>
            <a:srgbClr val="fdfd7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93880" y="2664000"/>
            <a:ext cx="205200" cy="233640"/>
          </a:xfrm>
          <a:custGeom>
            <a:avLst/>
            <a:gdLst/>
            <a:ahLst/>
            <a:rect l="0" t="0" r="r" b="b"/>
            <a:pathLst>
              <a:path fill="none" w="570" h="649">
                <a:moveTo>
                  <a:pt x="0" y="649"/>
                </a:moveTo>
                <a:lnTo>
                  <a:pt x="88" y="0"/>
                </a:lnTo>
                <a:lnTo>
                  <a:pt x="570" y="0"/>
                </a:lnTo>
                <a:lnTo>
                  <a:pt x="570" y="649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3484440" y="2673360"/>
            <a:ext cx="616320" cy="224280"/>
          </a:xfrm>
          <a:custGeom>
            <a:avLst/>
            <a:gdLst/>
            <a:ahLst/>
            <a:rect l="0" t="0" r="r" b="b"/>
            <a:pathLst>
              <a:path fill="none" w="1712" h="623">
                <a:moveTo>
                  <a:pt x="0" y="623"/>
                </a:moveTo>
                <a:lnTo>
                  <a:pt x="119" y="0"/>
                </a:lnTo>
                <a:lnTo>
                  <a:pt x="1712" y="0"/>
                </a:lnTo>
                <a:lnTo>
                  <a:pt x="1712" y="62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3862440" y="2236680"/>
            <a:ext cx="173160" cy="15552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2532240" y="1874880"/>
            <a:ext cx="790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y Med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325680" y="2023920"/>
            <a:ext cx="227520" cy="184680"/>
          </a:xfrm>
          <a:custGeom>
            <a:avLst/>
            <a:gdLst/>
            <a:ahLst/>
            <a:rect l="0" t="0" r="r" b="b"/>
            <a:pathLst>
              <a:path w="632" h="513">
                <a:moveTo>
                  <a:pt x="0" y="0"/>
                </a:moveTo>
                <a:lnTo>
                  <a:pt x="632" y="513"/>
                </a:lnTo>
                <a:lnTo>
                  <a:pt x="450" y="269"/>
                </a:lnTo>
                <a:lnTo>
                  <a:pt x="362" y="403"/>
                </a:lnTo>
                <a:lnTo>
                  <a:pt x="632" y="51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05000" y="1992240"/>
            <a:ext cx="351360" cy="209880"/>
          </a:xfrm>
          <a:custGeom>
            <a:avLst/>
            <a:gdLst/>
            <a:ahLst/>
            <a:rect l="0" t="0" r="r" b="b"/>
            <a:pathLst>
              <a:path fill="none" w="976" h="583">
                <a:moveTo>
                  <a:pt x="976" y="0"/>
                </a:moveTo>
                <a:lnTo>
                  <a:pt x="30" y="556"/>
                </a:lnTo>
                <a:lnTo>
                  <a:pt x="287" y="367"/>
                </a:lnTo>
                <a:lnTo>
                  <a:pt x="344" y="433"/>
                </a:lnTo>
                <a:lnTo>
                  <a:pt x="0" y="58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864480" y="2158920"/>
            <a:ext cx="76320" cy="23184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2158920"/>
            <a:ext cx="139680" cy="23328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6997680" y="2905200"/>
            <a:ext cx="746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 ope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432480" y="2158920"/>
            <a:ext cx="76320" cy="23184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896160" y="2440080"/>
            <a:ext cx="0" cy="33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1152360" y="2182680"/>
            <a:ext cx="7873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a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865920" y="2685960"/>
            <a:ext cx="63720" cy="89280"/>
          </a:xfrm>
          <a:custGeom>
            <a:avLst/>
            <a:gdLst/>
            <a:ahLst/>
            <a:rect l="0" t="0" r="r" b="b"/>
            <a:pathLst>
              <a:path w="177" h="248">
                <a:moveTo>
                  <a:pt x="74" y="248"/>
                </a:moveTo>
                <a:lnTo>
                  <a:pt x="0" y="0"/>
                </a:lnTo>
                <a:lnTo>
                  <a:pt x="177" y="0"/>
                </a:lnTo>
                <a:lnTo>
                  <a:pt x="74" y="24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 txBox="1"/>
          <p:nvPr/>
        </p:nvSpPr>
        <p:spPr>
          <a:xfrm>
            <a:off x="2139840" y="19432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656240" y="198288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6027840" y="1973160"/>
            <a:ext cx="387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7311960" y="1973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3533760" y="19620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552840" y="1517760"/>
            <a:ext cx="0" cy="252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7435800" y="1460520"/>
            <a:ext cx="0" cy="311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3549600" y="161604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4494240" y="1355760"/>
            <a:ext cx="114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IM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1157400" y="2668680"/>
            <a:ext cx="7524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PS S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109520" y="2158920"/>
            <a:ext cx="74520" cy="23184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7599240" y="2233440"/>
            <a:ext cx="150840" cy="15552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7701120" y="210816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166840" y="2668680"/>
            <a:ext cx="268560" cy="227520"/>
          </a:xfrm>
          <a:custGeom>
            <a:avLst/>
            <a:gdLst/>
            <a:ahLst/>
            <a:rect l="0" t="0" r="r" b="b"/>
            <a:pathLst>
              <a:path fill="none" w="746" h="632">
                <a:moveTo>
                  <a:pt x="0" y="632"/>
                </a:moveTo>
                <a:lnTo>
                  <a:pt x="70" y="0"/>
                </a:lnTo>
                <a:lnTo>
                  <a:pt x="746" y="0"/>
                </a:lnTo>
                <a:lnTo>
                  <a:pt x="746" y="632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549600" y="1566720"/>
            <a:ext cx="248040" cy="97200"/>
          </a:xfrm>
          <a:custGeom>
            <a:avLst/>
            <a:gdLst/>
            <a:ahLst/>
            <a:rect l="0" t="0" r="r" b="b"/>
            <a:pathLst>
              <a:path w="689" h="270">
                <a:moveTo>
                  <a:pt x="0" y="137"/>
                </a:moveTo>
                <a:lnTo>
                  <a:pt x="689" y="0"/>
                </a:lnTo>
                <a:lnTo>
                  <a:pt x="689" y="270"/>
                </a:lnTo>
                <a:lnTo>
                  <a:pt x="0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176960" y="1566720"/>
            <a:ext cx="249480" cy="97200"/>
          </a:xfrm>
          <a:custGeom>
            <a:avLst/>
            <a:gdLst/>
            <a:ahLst/>
            <a:rect l="0" t="0" r="r" b="b"/>
            <a:pathLst>
              <a:path w="693" h="270">
                <a:moveTo>
                  <a:pt x="693" y="137"/>
                </a:moveTo>
                <a:lnTo>
                  <a:pt x="0" y="0"/>
                </a:lnTo>
                <a:lnTo>
                  <a:pt x="0" y="270"/>
                </a:lnTo>
                <a:lnTo>
                  <a:pt x="693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254320" y="1395360"/>
            <a:ext cx="248040" cy="97200"/>
          </a:xfrm>
          <a:custGeom>
            <a:avLst/>
            <a:gdLst/>
            <a:ahLst/>
            <a:rect l="0" t="0" r="r" b="b"/>
            <a:pathLst>
              <a:path w="689" h="270">
                <a:moveTo>
                  <a:pt x="0" y="137"/>
                </a:moveTo>
                <a:lnTo>
                  <a:pt x="689" y="0"/>
                </a:lnTo>
                <a:lnTo>
                  <a:pt x="689" y="270"/>
                </a:lnTo>
                <a:lnTo>
                  <a:pt x="0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311640" y="1395360"/>
            <a:ext cx="249480" cy="97200"/>
          </a:xfrm>
          <a:custGeom>
            <a:avLst/>
            <a:gdLst/>
            <a:ahLst/>
            <a:rect l="0" t="0" r="r" b="b"/>
            <a:pathLst>
              <a:path w="693" h="270">
                <a:moveTo>
                  <a:pt x="693" y="137"/>
                </a:moveTo>
                <a:lnTo>
                  <a:pt x="0" y="0"/>
                </a:lnTo>
                <a:lnTo>
                  <a:pt x="0" y="270"/>
                </a:lnTo>
                <a:lnTo>
                  <a:pt x="693" y="137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5973840" y="2630520"/>
            <a:ext cx="1929240" cy="268560"/>
          </a:xfrm>
          <a:custGeom>
            <a:avLst/>
            <a:gdLst/>
            <a:ahLst/>
            <a:rect l="0" t="0" r="r" b="b"/>
            <a:pathLst>
              <a:path fill="none" w="5359" h="746">
                <a:moveTo>
                  <a:pt x="0" y="746"/>
                </a:moveTo>
                <a:lnTo>
                  <a:pt x="498" y="0"/>
                </a:lnTo>
                <a:lnTo>
                  <a:pt x="5359" y="0"/>
                </a:lnTo>
                <a:lnTo>
                  <a:pt x="5359" y="746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035840" y="2693880"/>
            <a:ext cx="138240" cy="20484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769160" y="2689200"/>
            <a:ext cx="61920" cy="20484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572160" y="2692440"/>
            <a:ext cx="41400" cy="20304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6364440" y="289404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S-Po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73000" y="2392200"/>
            <a:ext cx="7342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3986280" y="2127240"/>
            <a:ext cx="623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4516560" y="851040"/>
            <a:ext cx="4626000" cy="450540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0" y="312840"/>
            <a:ext cx="4795920" cy="431496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703440" y="644400"/>
            <a:ext cx="7729560" cy="3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Wireless LAN Infrastructur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2057400" y="224172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150804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692440" y="0"/>
            <a:ext cx="4267080" cy="42926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3222720" y="3110040"/>
            <a:ext cx="584640" cy="538200"/>
            <a:chOff x="3222720" y="3110040"/>
            <a:chExt cx="584640" cy="538200"/>
          </a:xfrm>
        </p:grpSpPr>
        <p:sp>
          <p:nvSpPr>
            <p:cNvPr id="1101" name=""/>
            <p:cNvSpPr/>
            <p:nvPr/>
          </p:nvSpPr>
          <p:spPr>
            <a:xfrm>
              <a:off x="3733920" y="31766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3727440" y="31194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662280" y="31608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751200" y="31687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684600" y="3151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93960" y="31510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684600" y="32814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743280" y="3160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84600" y="331488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684600" y="331488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676680" y="345456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367080" y="33876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376440" y="31510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84600" y="34290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22720" y="34290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232080" y="34210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262320" y="34448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232080" y="34765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392640" y="31608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433680" y="31766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595680" y="357516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603600" y="36162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603600" y="35910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645000" y="360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57680" y="35164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57680" y="351648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662280" y="35100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65600" y="31510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65600" y="312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7172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684600" y="31608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"/>
          <p:cNvSpPr txBox="1"/>
          <p:nvPr/>
        </p:nvSpPr>
        <p:spPr>
          <a:xfrm>
            <a:off x="4213080" y="1201680"/>
            <a:ext cx="114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ccess Poin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146400" y="36241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8061480" y="3214800"/>
            <a:ext cx="584640" cy="538200"/>
            <a:chOff x="8061480" y="3214800"/>
            <a:chExt cx="584640" cy="538200"/>
          </a:xfrm>
        </p:grpSpPr>
        <p:sp>
          <p:nvSpPr>
            <p:cNvPr id="1135" name=""/>
            <p:cNvSpPr/>
            <p:nvPr/>
          </p:nvSpPr>
          <p:spPr>
            <a:xfrm>
              <a:off x="8572680" y="328140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8566200" y="322416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8501040" y="326556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589960" y="327348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8523360" y="325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32720" y="325584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23360" y="338616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8582040" y="3265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8523360" y="341964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523360" y="341964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515440" y="355932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8205840" y="349236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8215200" y="325584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8523360" y="353376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061480" y="353376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070840" y="352584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101080" y="354960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8070840" y="358128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231040" y="326556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72440" y="328140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434440" y="367992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442360" y="372096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442360" y="369576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8483760" y="370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8596440" y="3621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596440" y="362124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8501040" y="361476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604360" y="32558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604360" y="322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610480" y="321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8523360" y="326556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6" name=""/>
          <p:cNvSpPr txBox="1"/>
          <p:nvPr/>
        </p:nvSpPr>
        <p:spPr>
          <a:xfrm>
            <a:off x="665172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28600" y="223524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2971800" y="1236600"/>
            <a:ext cx="609840" cy="611640"/>
            <a:chOff x="2971800" y="1236600"/>
            <a:chExt cx="609840" cy="611640"/>
          </a:xfrm>
        </p:grpSpPr>
        <p:sp>
          <p:nvSpPr>
            <p:cNvPr id="1169" name=""/>
            <p:cNvSpPr/>
            <p:nvPr/>
          </p:nvSpPr>
          <p:spPr>
            <a:xfrm>
              <a:off x="3505320" y="131112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498840" y="124776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432240" y="129384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524400" y="130320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452760" y="128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463920" y="128412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452760" y="14320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514680" y="129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452760" y="146988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452760" y="146988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446640" y="162864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121200" y="155268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132000" y="128412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452760" y="15987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971800" y="15987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981160" y="15908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014640" y="161604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981160" y="16527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147840" y="129384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192480" y="131112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360600" y="17654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370320" y="181116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370320" y="178272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411360" y="1793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530520" y="16984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530520" y="169848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432240" y="169236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537000" y="12841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537000" y="1249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546360" y="123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452760" y="129384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"/>
          <p:cNvGrpSpPr/>
          <p:nvPr/>
        </p:nvGrpSpPr>
        <p:grpSpPr>
          <a:xfrm>
            <a:off x="762120" y="3274920"/>
            <a:ext cx="609840" cy="611640"/>
            <a:chOff x="762120" y="3274920"/>
            <a:chExt cx="609840" cy="611640"/>
          </a:xfrm>
        </p:grpSpPr>
        <p:sp>
          <p:nvSpPr>
            <p:cNvPr id="1201" name=""/>
            <p:cNvSpPr/>
            <p:nvPr/>
          </p:nvSpPr>
          <p:spPr>
            <a:xfrm>
              <a:off x="1295280" y="334980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H="1">
              <a:off x="1289160" y="328608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222200" y="333216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314360" y="334152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243080" y="332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1254240" y="332280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243080" y="347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305000" y="333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243080" y="350820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243080" y="350820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236600" y="366696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911160" y="359100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922320" y="332280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243080" y="363708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62120" y="363708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71480" y="362916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804960" y="365436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71480" y="369108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38160" y="333216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982800" y="334980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150920" y="380376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160640" y="38498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160640" y="382104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201680" y="3832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320840" y="37368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320840" y="373680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1222200" y="373068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327320" y="33228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27320" y="328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336680" y="3274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43080" y="333216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1162080" y="1198440"/>
            <a:ext cx="763560" cy="893880"/>
            <a:chOff x="1162080" y="1198440"/>
            <a:chExt cx="763560" cy="893880"/>
          </a:xfrm>
        </p:grpSpPr>
        <p:sp>
          <p:nvSpPr>
            <p:cNvPr id="1233" name=""/>
            <p:cNvSpPr txBox="1"/>
            <p:nvPr/>
          </p:nvSpPr>
          <p:spPr>
            <a:xfrm>
              <a:off x="1162080" y="1817640"/>
              <a:ext cx="763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o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4" name=""/>
            <p:cNvGrpSpPr/>
            <p:nvPr/>
          </p:nvGrpSpPr>
          <p:grpSpPr>
            <a:xfrm>
              <a:off x="1266840" y="1198440"/>
              <a:ext cx="609840" cy="611640"/>
              <a:chOff x="1266840" y="1198440"/>
              <a:chExt cx="609840" cy="611640"/>
            </a:xfrm>
          </p:grpSpPr>
          <p:sp>
            <p:nvSpPr>
              <p:cNvPr id="1235" name=""/>
              <p:cNvSpPr/>
              <p:nvPr/>
            </p:nvSpPr>
            <p:spPr>
              <a:xfrm>
                <a:off x="1800360" y="1273320"/>
                <a:ext cx="54360" cy="146520"/>
              </a:xfrm>
              <a:custGeom>
                <a:avLst/>
                <a:gdLst/>
                <a:ahLst/>
                <a:rect l="0" t="0" r="r" b="b"/>
                <a:pathLst>
                  <a:path w="151" h="407">
                    <a:moveTo>
                      <a:pt x="0" y="407"/>
                    </a:moveTo>
                    <a:lnTo>
                      <a:pt x="0" y="385"/>
                    </a:lnTo>
                    <a:lnTo>
                      <a:pt x="98" y="0"/>
                    </a:lnTo>
                    <a:lnTo>
                      <a:pt x="151" y="0"/>
                    </a:lnTo>
                    <a:lnTo>
                      <a:pt x="129" y="101"/>
                    </a:lnTo>
                    <a:lnTo>
                      <a:pt x="98" y="101"/>
                    </a:lnTo>
                    <a:lnTo>
                      <a:pt x="53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>
                <a:off x="1793880" y="1209600"/>
                <a:ext cx="507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727280" y="1255680"/>
                <a:ext cx="106560" cy="163800"/>
              </a:xfrm>
              <a:custGeom>
                <a:avLst/>
                <a:gdLst/>
                <a:ahLst/>
                <a:rect l="0" t="0" r="r" b="b"/>
                <a:pathLst>
                  <a:path w="296" h="455">
                    <a:moveTo>
                      <a:pt x="114" y="455"/>
                    </a:moveTo>
                    <a:lnTo>
                      <a:pt x="164" y="455"/>
                    </a:lnTo>
                    <a:lnTo>
                      <a:pt x="203" y="455"/>
                    </a:lnTo>
                    <a:lnTo>
                      <a:pt x="203" y="433"/>
                    </a:lnTo>
                    <a:lnTo>
                      <a:pt x="269" y="149"/>
                    </a:lnTo>
                    <a:lnTo>
                      <a:pt x="296" y="119"/>
                    </a:lnTo>
                    <a:lnTo>
                      <a:pt x="296" y="48"/>
                    </a:lnTo>
                    <a:lnTo>
                      <a:pt x="269" y="48"/>
                    </a:lnTo>
                    <a:lnTo>
                      <a:pt x="252" y="48"/>
                    </a:lnTo>
                    <a:lnTo>
                      <a:pt x="230" y="149"/>
                    </a:lnTo>
                    <a:lnTo>
                      <a:pt x="203" y="171"/>
                    </a:lnTo>
                    <a:lnTo>
                      <a:pt x="132" y="171"/>
                    </a:lnTo>
                    <a:lnTo>
                      <a:pt x="66" y="149"/>
                    </a:lnTo>
                    <a:lnTo>
                      <a:pt x="92" y="79"/>
                    </a:lnTo>
                    <a:lnTo>
                      <a:pt x="92" y="22"/>
                    </a:lnTo>
                    <a:lnTo>
                      <a:pt x="66" y="0"/>
                    </a:lnTo>
                    <a:lnTo>
                      <a:pt x="44" y="79"/>
                    </a:lnTo>
                    <a:lnTo>
                      <a:pt x="0" y="252"/>
                    </a:lnTo>
                    <a:lnTo>
                      <a:pt x="0" y="406"/>
                    </a:lnTo>
                    <a:lnTo>
                      <a:pt x="0" y="433"/>
                    </a:lnTo>
                    <a:lnTo>
                      <a:pt x="44" y="433"/>
                    </a:lnTo>
                    <a:lnTo>
                      <a:pt x="66" y="433"/>
                    </a:lnTo>
                    <a:lnTo>
                      <a:pt x="114" y="45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1819440" y="126540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fill="none" w="98" h="72">
                    <a:moveTo>
                      <a:pt x="44" y="72"/>
                    </a:moveTo>
                    <a:lnTo>
                      <a:pt x="98" y="72"/>
                    </a:lnTo>
                    <a:lnTo>
                      <a:pt x="17" y="0"/>
                    </a:lnTo>
                    <a:lnTo>
                      <a:pt x="0" y="72"/>
                    </a:lnTo>
                    <a:lnTo>
                      <a:pt x="44" y="7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747800" y="12463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758960" y="1246320"/>
                <a:ext cx="66960" cy="25920"/>
              </a:xfrm>
              <a:custGeom>
                <a:avLst/>
                <a:gdLst/>
                <a:ahLst/>
                <a:rect l="0" t="0" r="r" b="b"/>
                <a:pathLst>
                  <a:path w="186" h="72">
                    <a:moveTo>
                      <a:pt x="0" y="40"/>
                    </a:moveTo>
                    <a:lnTo>
                      <a:pt x="44" y="0"/>
                    </a:lnTo>
                    <a:lnTo>
                      <a:pt x="98" y="0"/>
                    </a:lnTo>
                    <a:lnTo>
                      <a:pt x="146" y="40"/>
                    </a:lnTo>
                    <a:lnTo>
                      <a:pt x="186" y="40"/>
                    </a:lnTo>
                    <a:lnTo>
                      <a:pt x="146" y="7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747800" y="1393920"/>
                <a:ext cx="25920" cy="38520"/>
              </a:xfrm>
              <a:custGeom>
                <a:avLst/>
                <a:gdLst/>
                <a:ahLst/>
                <a:rect l="0" t="0" r="r" b="b"/>
                <a:pathLst>
                  <a:path w="72" h="107">
                    <a:moveTo>
                      <a:pt x="72" y="75"/>
                    </a:moveTo>
                    <a:lnTo>
                      <a:pt x="36" y="107"/>
                    </a:lnTo>
                    <a:lnTo>
                      <a:pt x="0" y="75"/>
                    </a:lnTo>
                    <a:lnTo>
                      <a:pt x="36" y="31"/>
                    </a:lnTo>
                    <a:lnTo>
                      <a:pt x="36" y="0"/>
                    </a:lnTo>
                    <a:lnTo>
                      <a:pt x="72" y="31"/>
                    </a:lnTo>
                    <a:lnTo>
                      <a:pt x="72" y="53"/>
                    </a:lnTo>
                    <a:lnTo>
                      <a:pt x="72" y="7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809720" y="12556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36"/>
                    </a:moveTo>
                    <a:lnTo>
                      <a:pt x="40" y="72"/>
                    </a:lnTo>
                    <a:lnTo>
                      <a:pt x="0" y="36"/>
                    </a:lnTo>
                    <a:lnTo>
                      <a:pt x="72" y="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747800" y="1432080"/>
                <a:ext cx="117720" cy="248040"/>
              </a:xfrm>
              <a:custGeom>
                <a:avLst/>
                <a:gdLst/>
                <a:ahLst/>
                <a:rect l="0" t="0" r="r" b="b"/>
                <a:pathLst>
                  <a:path w="327" h="689">
                    <a:moveTo>
                      <a:pt x="13" y="0"/>
                    </a:moveTo>
                    <a:lnTo>
                      <a:pt x="0" y="0"/>
                    </a:lnTo>
                    <a:lnTo>
                      <a:pt x="0" y="141"/>
                    </a:lnTo>
                    <a:lnTo>
                      <a:pt x="13" y="292"/>
                    </a:lnTo>
                    <a:lnTo>
                      <a:pt x="66" y="437"/>
                    </a:lnTo>
                    <a:lnTo>
                      <a:pt x="154" y="614"/>
                    </a:lnTo>
                    <a:lnTo>
                      <a:pt x="265" y="689"/>
                    </a:lnTo>
                    <a:lnTo>
                      <a:pt x="305" y="689"/>
                    </a:lnTo>
                    <a:lnTo>
                      <a:pt x="327" y="663"/>
                    </a:lnTo>
                    <a:lnTo>
                      <a:pt x="305" y="614"/>
                    </a:lnTo>
                    <a:lnTo>
                      <a:pt x="292" y="588"/>
                    </a:lnTo>
                    <a:lnTo>
                      <a:pt x="221" y="588"/>
                    </a:lnTo>
                    <a:lnTo>
                      <a:pt x="172" y="588"/>
                    </a:lnTo>
                    <a:lnTo>
                      <a:pt x="127" y="516"/>
                    </a:lnTo>
                    <a:lnTo>
                      <a:pt x="88" y="415"/>
                    </a:lnTo>
                    <a:lnTo>
                      <a:pt x="39" y="318"/>
                    </a:lnTo>
                    <a:lnTo>
                      <a:pt x="13" y="119"/>
                    </a:lnTo>
                    <a:lnTo>
                      <a:pt x="13" y="2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747800" y="1432080"/>
                <a:ext cx="128880" cy="257400"/>
              </a:xfrm>
              <a:custGeom>
                <a:avLst/>
                <a:gdLst/>
                <a:ahLst/>
                <a:rect l="0" t="0" r="r" b="b"/>
                <a:pathLst>
                  <a:path fill="none" w="358" h="715">
                    <a:moveTo>
                      <a:pt x="26" y="0"/>
                    </a:moveTo>
                    <a:lnTo>
                      <a:pt x="0" y="0"/>
                    </a:lnTo>
                    <a:lnTo>
                      <a:pt x="0" y="149"/>
                    </a:lnTo>
                    <a:lnTo>
                      <a:pt x="26" y="304"/>
                    </a:lnTo>
                    <a:lnTo>
                      <a:pt x="70" y="464"/>
                    </a:lnTo>
                    <a:lnTo>
                      <a:pt x="171" y="636"/>
                    </a:lnTo>
                    <a:lnTo>
                      <a:pt x="292" y="715"/>
                    </a:lnTo>
                    <a:lnTo>
                      <a:pt x="336" y="715"/>
                    </a:lnTo>
                    <a:lnTo>
                      <a:pt x="358" y="693"/>
                    </a:lnTo>
                    <a:lnTo>
                      <a:pt x="336" y="636"/>
                    </a:lnTo>
                    <a:lnTo>
                      <a:pt x="318" y="613"/>
                    </a:lnTo>
                    <a:lnTo>
                      <a:pt x="239" y="613"/>
                    </a:lnTo>
                    <a:lnTo>
                      <a:pt x="195" y="613"/>
                    </a:lnTo>
                    <a:lnTo>
                      <a:pt x="145" y="534"/>
                    </a:lnTo>
                    <a:lnTo>
                      <a:pt x="101" y="437"/>
                    </a:lnTo>
                    <a:lnTo>
                      <a:pt x="48" y="335"/>
                    </a:lnTo>
                    <a:lnTo>
                      <a:pt x="26" y="127"/>
                    </a:lnTo>
                    <a:lnTo>
                      <a:pt x="26" y="22"/>
                    </a:lnTo>
                    <a:lnTo>
                      <a:pt x="2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741320" y="1590840"/>
                <a:ext cx="25920" cy="44640"/>
              </a:xfrm>
              <a:custGeom>
                <a:avLst/>
                <a:gdLst/>
                <a:ahLst/>
                <a:rect l="0" t="0" r="r" b="b"/>
                <a:pathLst>
                  <a:path w="72" h="124">
                    <a:moveTo>
                      <a:pt x="72" y="22"/>
                    </a:moveTo>
                    <a:lnTo>
                      <a:pt x="72" y="0"/>
                    </a:lnTo>
                    <a:lnTo>
                      <a:pt x="31" y="0"/>
                    </a:lnTo>
                    <a:lnTo>
                      <a:pt x="0" y="22"/>
                    </a:lnTo>
                    <a:lnTo>
                      <a:pt x="0" y="48"/>
                    </a:lnTo>
                    <a:lnTo>
                      <a:pt x="0" y="71"/>
                    </a:lnTo>
                    <a:lnTo>
                      <a:pt x="0" y="93"/>
                    </a:lnTo>
                    <a:lnTo>
                      <a:pt x="72" y="124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415880" y="1514520"/>
                <a:ext cx="343440" cy="120960"/>
              </a:xfrm>
              <a:custGeom>
                <a:avLst/>
                <a:gdLst/>
                <a:ahLst/>
                <a:rect l="0" t="0" r="r" b="b"/>
                <a:pathLst>
                  <a:path w="954" h="336">
                    <a:moveTo>
                      <a:pt x="48" y="0"/>
                    </a:moveTo>
                    <a:lnTo>
                      <a:pt x="928" y="212"/>
                    </a:lnTo>
                    <a:lnTo>
                      <a:pt x="905" y="234"/>
                    </a:lnTo>
                    <a:lnTo>
                      <a:pt x="905" y="256"/>
                    </a:lnTo>
                    <a:lnTo>
                      <a:pt x="905" y="305"/>
                    </a:lnTo>
                    <a:lnTo>
                      <a:pt x="928" y="305"/>
                    </a:lnTo>
                    <a:lnTo>
                      <a:pt x="954" y="336"/>
                    </a:lnTo>
                    <a:lnTo>
                      <a:pt x="48" y="105"/>
                    </a:lnTo>
                    <a:lnTo>
                      <a:pt x="26" y="79"/>
                    </a:lnTo>
                    <a:lnTo>
                      <a:pt x="0" y="30"/>
                    </a:lnTo>
                    <a:lnTo>
                      <a:pt x="2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427040" y="1246320"/>
                <a:ext cx="392400" cy="344880"/>
              </a:xfrm>
              <a:custGeom>
                <a:avLst/>
                <a:gdLst/>
                <a:ahLst/>
                <a:rect l="0" t="0" r="r" b="b"/>
                <a:pathLst>
                  <a:path w="1090" h="958">
                    <a:moveTo>
                      <a:pt x="1041" y="127"/>
                    </a:moveTo>
                    <a:lnTo>
                      <a:pt x="189" y="0"/>
                    </a:lnTo>
                    <a:lnTo>
                      <a:pt x="167" y="0"/>
                    </a:lnTo>
                    <a:lnTo>
                      <a:pt x="136" y="30"/>
                    </a:lnTo>
                    <a:lnTo>
                      <a:pt x="0" y="666"/>
                    </a:lnTo>
                    <a:lnTo>
                      <a:pt x="0" y="725"/>
                    </a:lnTo>
                    <a:lnTo>
                      <a:pt x="22" y="747"/>
                    </a:lnTo>
                    <a:lnTo>
                      <a:pt x="896" y="958"/>
                    </a:lnTo>
                    <a:lnTo>
                      <a:pt x="922" y="928"/>
                    </a:lnTo>
                    <a:lnTo>
                      <a:pt x="944" y="897"/>
                    </a:lnTo>
                    <a:lnTo>
                      <a:pt x="966" y="879"/>
                    </a:lnTo>
                    <a:lnTo>
                      <a:pt x="1090" y="202"/>
                    </a:lnTo>
                    <a:lnTo>
                      <a:pt x="1090" y="180"/>
                    </a:lnTo>
                    <a:lnTo>
                      <a:pt x="1068" y="149"/>
                    </a:lnTo>
                    <a:lnTo>
                      <a:pt x="1041" y="127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747800" y="1560600"/>
                <a:ext cx="52920" cy="38520"/>
              </a:xfrm>
              <a:custGeom>
                <a:avLst/>
                <a:gdLst/>
                <a:ahLst/>
                <a:rect l="0" t="0" r="r" b="b"/>
                <a:pathLst>
                  <a:path w="147" h="107">
                    <a:moveTo>
                      <a:pt x="75" y="0"/>
                    </a:moveTo>
                    <a:lnTo>
                      <a:pt x="147" y="0"/>
                    </a:lnTo>
                    <a:lnTo>
                      <a:pt x="26" y="107"/>
                    </a:lnTo>
                    <a:lnTo>
                      <a:pt x="26" y="81"/>
                    </a:lnTo>
                    <a:lnTo>
                      <a:pt x="0" y="81"/>
                    </a:lnTo>
                    <a:lnTo>
                      <a:pt x="26" y="49"/>
                    </a:lnTo>
                    <a:lnTo>
                      <a:pt x="49" y="17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1266840" y="1560600"/>
                <a:ext cx="533880" cy="232200"/>
              </a:xfrm>
              <a:custGeom>
                <a:avLst/>
                <a:gdLst/>
                <a:ahLst/>
                <a:rect l="0" t="0" r="r" b="b"/>
                <a:pathLst>
                  <a:path w="1483" h="645">
                    <a:moveTo>
                      <a:pt x="1483" y="0"/>
                    </a:moveTo>
                    <a:lnTo>
                      <a:pt x="1483" y="149"/>
                    </a:lnTo>
                    <a:lnTo>
                      <a:pt x="1010" y="645"/>
                    </a:lnTo>
                    <a:lnTo>
                      <a:pt x="988" y="645"/>
                    </a:lnTo>
                    <a:lnTo>
                      <a:pt x="935" y="645"/>
                    </a:lnTo>
                    <a:lnTo>
                      <a:pt x="26" y="331"/>
                    </a:lnTo>
                    <a:lnTo>
                      <a:pt x="0" y="331"/>
                    </a:lnTo>
                    <a:lnTo>
                      <a:pt x="0" y="278"/>
                    </a:lnTo>
                    <a:lnTo>
                      <a:pt x="26" y="252"/>
                    </a:lnTo>
                    <a:lnTo>
                      <a:pt x="26" y="278"/>
                    </a:lnTo>
                    <a:lnTo>
                      <a:pt x="935" y="592"/>
                    </a:lnTo>
                    <a:lnTo>
                      <a:pt x="988" y="592"/>
                    </a:lnTo>
                    <a:lnTo>
                      <a:pt x="1032" y="592"/>
                    </a:lnTo>
                    <a:lnTo>
                      <a:pt x="1063" y="566"/>
                    </a:lnTo>
                    <a:lnTo>
                      <a:pt x="1369" y="203"/>
                    </a:lnTo>
                    <a:lnTo>
                      <a:pt x="1369" y="101"/>
                    </a:lnTo>
                    <a:lnTo>
                      <a:pt x="1483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1276200" y="1552680"/>
                <a:ext cx="483120" cy="221040"/>
              </a:xfrm>
              <a:custGeom>
                <a:avLst/>
                <a:gdLst/>
                <a:ahLst/>
                <a:rect l="0" t="0" r="r" b="b"/>
                <a:pathLst>
                  <a:path w="1342" h="614">
                    <a:moveTo>
                      <a:pt x="1342" y="230"/>
                    </a:moveTo>
                    <a:lnTo>
                      <a:pt x="441" y="0"/>
                    </a:lnTo>
                    <a:lnTo>
                      <a:pt x="0" y="278"/>
                    </a:lnTo>
                    <a:lnTo>
                      <a:pt x="909" y="614"/>
                    </a:lnTo>
                    <a:lnTo>
                      <a:pt x="962" y="614"/>
                    </a:lnTo>
                    <a:lnTo>
                      <a:pt x="984" y="614"/>
                    </a:lnTo>
                    <a:lnTo>
                      <a:pt x="1038" y="592"/>
                    </a:lnTo>
                    <a:lnTo>
                      <a:pt x="1342" y="230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309680" y="1577880"/>
                <a:ext cx="397080" cy="167040"/>
              </a:xfrm>
              <a:custGeom>
                <a:avLst/>
                <a:gdLst/>
                <a:ahLst/>
                <a:rect l="0" t="0" r="r" b="b"/>
                <a:pathLst>
                  <a:path w="1103" h="464">
                    <a:moveTo>
                      <a:pt x="1103" y="283"/>
                    </a:moveTo>
                    <a:lnTo>
                      <a:pt x="1103" y="261"/>
                    </a:lnTo>
                    <a:lnTo>
                      <a:pt x="1081" y="261"/>
                    </a:lnTo>
                    <a:lnTo>
                      <a:pt x="1054" y="229"/>
                    </a:lnTo>
                    <a:lnTo>
                      <a:pt x="185" y="0"/>
                    </a:lnTo>
                    <a:lnTo>
                      <a:pt x="0" y="127"/>
                    </a:lnTo>
                    <a:lnTo>
                      <a:pt x="22" y="154"/>
                    </a:lnTo>
                    <a:lnTo>
                      <a:pt x="216" y="202"/>
                    </a:lnTo>
                    <a:lnTo>
                      <a:pt x="185" y="229"/>
                    </a:lnTo>
                    <a:lnTo>
                      <a:pt x="185" y="261"/>
                    </a:lnTo>
                    <a:lnTo>
                      <a:pt x="772" y="441"/>
                    </a:lnTo>
                    <a:lnTo>
                      <a:pt x="794" y="415"/>
                    </a:lnTo>
                    <a:lnTo>
                      <a:pt x="838" y="415"/>
                    </a:lnTo>
                    <a:lnTo>
                      <a:pt x="816" y="464"/>
                    </a:lnTo>
                    <a:lnTo>
                      <a:pt x="909" y="464"/>
                    </a:lnTo>
                    <a:lnTo>
                      <a:pt x="944" y="464"/>
                    </a:lnTo>
                    <a:lnTo>
                      <a:pt x="1103" y="283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1276200" y="1614600"/>
                <a:ext cx="524160" cy="195480"/>
              </a:xfrm>
              <a:custGeom>
                <a:avLst/>
                <a:gdLst/>
                <a:ahLst/>
                <a:rect l="0" t="0" r="r" b="b"/>
                <a:pathLst>
                  <a:path w="1456" h="543">
                    <a:moveTo>
                      <a:pt x="1456" y="0"/>
                    </a:moveTo>
                    <a:lnTo>
                      <a:pt x="1006" y="494"/>
                    </a:lnTo>
                    <a:lnTo>
                      <a:pt x="962" y="494"/>
                    </a:lnTo>
                    <a:lnTo>
                      <a:pt x="909" y="494"/>
                    </a:lnTo>
                    <a:lnTo>
                      <a:pt x="0" y="180"/>
                    </a:lnTo>
                    <a:lnTo>
                      <a:pt x="0" y="233"/>
                    </a:lnTo>
                    <a:lnTo>
                      <a:pt x="22" y="233"/>
                    </a:lnTo>
                    <a:lnTo>
                      <a:pt x="931" y="543"/>
                    </a:lnTo>
                    <a:lnTo>
                      <a:pt x="962" y="543"/>
                    </a:lnTo>
                    <a:lnTo>
                      <a:pt x="1006" y="521"/>
                    </a:lnTo>
                    <a:lnTo>
                      <a:pt x="1456" y="22"/>
                    </a:lnTo>
                    <a:lnTo>
                      <a:pt x="1456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442880" y="1255680"/>
                <a:ext cx="357480" cy="305280"/>
              </a:xfrm>
              <a:custGeom>
                <a:avLst/>
                <a:gdLst/>
                <a:ahLst/>
                <a:rect l="0" t="0" r="r" b="b"/>
                <a:pathLst>
                  <a:path w="993" h="848">
                    <a:moveTo>
                      <a:pt x="971" y="171"/>
                    </a:moveTo>
                    <a:lnTo>
                      <a:pt x="194" y="0"/>
                    </a:lnTo>
                    <a:lnTo>
                      <a:pt x="167" y="0"/>
                    </a:lnTo>
                    <a:lnTo>
                      <a:pt x="145" y="48"/>
                    </a:lnTo>
                    <a:lnTo>
                      <a:pt x="0" y="613"/>
                    </a:lnTo>
                    <a:lnTo>
                      <a:pt x="22" y="637"/>
                    </a:lnTo>
                    <a:lnTo>
                      <a:pt x="830" y="848"/>
                    </a:lnTo>
                    <a:lnTo>
                      <a:pt x="852" y="848"/>
                    </a:lnTo>
                    <a:lnTo>
                      <a:pt x="878" y="826"/>
                    </a:lnTo>
                    <a:lnTo>
                      <a:pt x="993" y="198"/>
                    </a:lnTo>
                    <a:lnTo>
                      <a:pt x="993" y="171"/>
                    </a:lnTo>
                    <a:lnTo>
                      <a:pt x="971" y="171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487520" y="1273320"/>
                <a:ext cx="271800" cy="268560"/>
              </a:xfrm>
              <a:custGeom>
                <a:avLst/>
                <a:gdLst/>
                <a:ahLst/>
                <a:rect l="0" t="0" r="r" b="b"/>
                <a:pathLst>
                  <a:path w="755" h="746">
                    <a:moveTo>
                      <a:pt x="755" y="127"/>
                    </a:moveTo>
                    <a:lnTo>
                      <a:pt x="141" y="0"/>
                    </a:lnTo>
                    <a:lnTo>
                      <a:pt x="0" y="591"/>
                    </a:lnTo>
                    <a:lnTo>
                      <a:pt x="613" y="746"/>
                    </a:lnTo>
                    <a:lnTo>
                      <a:pt x="755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655640" y="1727280"/>
                <a:ext cx="44640" cy="65520"/>
              </a:xfrm>
              <a:custGeom>
                <a:avLst/>
                <a:gdLst/>
                <a:ahLst/>
                <a:rect l="0" t="0" r="r" b="b"/>
                <a:pathLst>
                  <a:path w="124" h="182">
                    <a:moveTo>
                      <a:pt x="0" y="182"/>
                    </a:moveTo>
                    <a:lnTo>
                      <a:pt x="0" y="128"/>
                    </a:lnTo>
                    <a:lnTo>
                      <a:pt x="124" y="0"/>
                    </a:lnTo>
                    <a:lnTo>
                      <a:pt x="124" y="22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665360" y="177336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w="98" h="72">
                    <a:moveTo>
                      <a:pt x="0" y="27"/>
                    </a:moveTo>
                    <a:lnTo>
                      <a:pt x="0" y="0"/>
                    </a:lnTo>
                    <a:lnTo>
                      <a:pt x="48" y="27"/>
                    </a:lnTo>
                    <a:lnTo>
                      <a:pt x="71" y="0"/>
                    </a:lnTo>
                    <a:lnTo>
                      <a:pt x="98" y="0"/>
                    </a:lnTo>
                    <a:lnTo>
                      <a:pt x="98" y="27"/>
                    </a:lnTo>
                    <a:lnTo>
                      <a:pt x="71" y="72"/>
                    </a:lnTo>
                    <a:lnTo>
                      <a:pt x="48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665360" y="1744560"/>
                <a:ext cx="51120" cy="28800"/>
              </a:xfrm>
              <a:custGeom>
                <a:avLst/>
                <a:gdLst/>
                <a:ahLst/>
                <a:rect l="0" t="0" r="r" b="b"/>
                <a:pathLst>
                  <a:path w="142" h="80">
                    <a:moveTo>
                      <a:pt x="0" y="80"/>
                    </a:moveTo>
                    <a:lnTo>
                      <a:pt x="98" y="0"/>
                    </a:lnTo>
                    <a:lnTo>
                      <a:pt x="120" y="0"/>
                    </a:lnTo>
                    <a:lnTo>
                      <a:pt x="142" y="0"/>
                    </a:lnTo>
                    <a:lnTo>
                      <a:pt x="142" y="30"/>
                    </a:lnTo>
                    <a:lnTo>
                      <a:pt x="120" y="80"/>
                    </a:lnTo>
                    <a:lnTo>
                      <a:pt x="98" y="80"/>
                    </a:lnTo>
                    <a:lnTo>
                      <a:pt x="70" y="80"/>
                    </a:lnTo>
                    <a:lnTo>
                      <a:pt x="48" y="80"/>
                    </a:lnTo>
                    <a:lnTo>
                      <a:pt x="26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706400" y="1755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36"/>
                    </a:lnTo>
                    <a:lnTo>
                      <a:pt x="31" y="0"/>
                    </a:lnTo>
                    <a:lnTo>
                      <a:pt x="72" y="36"/>
                    </a:lnTo>
                    <a:lnTo>
                      <a:pt x="72" y="72"/>
                    </a:lnTo>
                    <a:lnTo>
                      <a:pt x="31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825560" y="1660680"/>
                <a:ext cx="32040" cy="25920"/>
              </a:xfrm>
              <a:custGeom>
                <a:avLst/>
                <a:gdLst/>
                <a:ahLst/>
                <a:rect l="0" t="0" r="r" b="b"/>
                <a:pathLst>
                  <a:path w="89" h="72">
                    <a:moveTo>
                      <a:pt x="0" y="0"/>
                    </a:moveTo>
                    <a:lnTo>
                      <a:pt x="53" y="0"/>
                    </a:lnTo>
                    <a:lnTo>
                      <a:pt x="75" y="0"/>
                    </a:lnTo>
                    <a:lnTo>
                      <a:pt x="89" y="40"/>
                    </a:lnTo>
                    <a:lnTo>
                      <a:pt x="89" y="72"/>
                    </a:lnTo>
                    <a:lnTo>
                      <a:pt x="75" y="72"/>
                    </a:lnTo>
                    <a:lnTo>
                      <a:pt x="53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825560" y="166068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fill="none" w="120" h="72">
                    <a:moveTo>
                      <a:pt x="0" y="0"/>
                    </a:moveTo>
                    <a:lnTo>
                      <a:pt x="75" y="0"/>
                    </a:lnTo>
                    <a:lnTo>
                      <a:pt x="102" y="0"/>
                    </a:lnTo>
                    <a:lnTo>
                      <a:pt x="120" y="40"/>
                    </a:lnTo>
                    <a:lnTo>
                      <a:pt x="120" y="72"/>
                    </a:lnTo>
                    <a:lnTo>
                      <a:pt x="102" y="72"/>
                    </a:lnTo>
                    <a:lnTo>
                      <a:pt x="75" y="72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727280" y="1654200"/>
                <a:ext cx="92520" cy="119520"/>
              </a:xfrm>
              <a:custGeom>
                <a:avLst/>
                <a:gdLst/>
                <a:ahLst/>
                <a:rect l="0" t="0" r="r" b="b"/>
                <a:pathLst>
                  <a:path w="257" h="332">
                    <a:moveTo>
                      <a:pt x="235" y="0"/>
                    </a:moveTo>
                    <a:lnTo>
                      <a:pt x="257" y="22"/>
                    </a:lnTo>
                    <a:lnTo>
                      <a:pt x="209" y="52"/>
                    </a:lnTo>
                    <a:lnTo>
                      <a:pt x="209" y="102"/>
                    </a:lnTo>
                    <a:lnTo>
                      <a:pt x="209" y="177"/>
                    </a:lnTo>
                    <a:lnTo>
                      <a:pt x="186" y="257"/>
                    </a:lnTo>
                    <a:lnTo>
                      <a:pt x="137" y="310"/>
                    </a:lnTo>
                    <a:lnTo>
                      <a:pt x="44" y="332"/>
                    </a:lnTo>
                    <a:lnTo>
                      <a:pt x="0" y="332"/>
                    </a:lnTo>
                    <a:lnTo>
                      <a:pt x="0" y="310"/>
                    </a:lnTo>
                    <a:lnTo>
                      <a:pt x="115" y="284"/>
                    </a:lnTo>
                    <a:lnTo>
                      <a:pt x="164" y="257"/>
                    </a:lnTo>
                    <a:lnTo>
                      <a:pt x="186" y="208"/>
                    </a:lnTo>
                    <a:lnTo>
                      <a:pt x="186" y="102"/>
                    </a:lnTo>
                    <a:lnTo>
                      <a:pt x="186" y="74"/>
                    </a:lnTo>
                    <a:lnTo>
                      <a:pt x="209" y="5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832040" y="124632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832040" y="1211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36" y="0"/>
                    </a:lnTo>
                    <a:lnTo>
                      <a:pt x="72" y="0"/>
                    </a:lnTo>
                    <a:lnTo>
                      <a:pt x="36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841400" y="11984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747800" y="1255680"/>
                <a:ext cx="71640" cy="43200"/>
              </a:xfrm>
              <a:custGeom>
                <a:avLst/>
                <a:gdLst/>
                <a:ahLst/>
                <a:rect l="0" t="0" r="r" b="b"/>
                <a:pathLst>
                  <a:path w="199" h="120">
                    <a:moveTo>
                      <a:pt x="199" y="48"/>
                    </a:moveTo>
                    <a:lnTo>
                      <a:pt x="177" y="22"/>
                    </a:lnTo>
                    <a:lnTo>
                      <a:pt x="52" y="0"/>
                    </a:lnTo>
                    <a:lnTo>
                      <a:pt x="26" y="0"/>
                    </a:lnTo>
                    <a:lnTo>
                      <a:pt x="26" y="22"/>
                    </a:lnTo>
                    <a:lnTo>
                      <a:pt x="0" y="98"/>
                    </a:lnTo>
                    <a:lnTo>
                      <a:pt x="146" y="120"/>
                    </a:lnTo>
                    <a:lnTo>
                      <a:pt x="177" y="120"/>
                    </a:lnTo>
                    <a:lnTo>
                      <a:pt x="199" y="48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6" name=""/>
          <p:cNvSpPr/>
          <p:nvPr/>
        </p:nvSpPr>
        <p:spPr>
          <a:xfrm flipV="1">
            <a:off x="7201080" y="22478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4775040" y="198108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6988320" y="2417760"/>
            <a:ext cx="386280" cy="475200"/>
            <a:chOff x="6988320" y="2417760"/>
            <a:chExt cx="386280" cy="475200"/>
          </a:xfrm>
        </p:grpSpPr>
        <p:sp>
          <p:nvSpPr>
            <p:cNvPr id="1269" name=""/>
            <p:cNvSpPr/>
            <p:nvPr/>
          </p:nvSpPr>
          <p:spPr>
            <a:xfrm>
              <a:off x="6988320" y="2643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340760" y="2625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343640" y="2678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348680" y="2738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310520" y="2625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7331040" y="2608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7062840" y="2608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7310520" y="2617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7043760" y="2617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27704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01028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29288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02612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094520" y="267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196040" y="2679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277040" y="2606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010280" y="2608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277040" y="2639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010280" y="2641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043760" y="2654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066080" y="2671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128000" y="2679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V="1">
              <a:off x="7262640" y="2660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988320" y="263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067520" y="2706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067520" y="2720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70760" y="2755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101000" y="2814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101000" y="2838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102440" y="28623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216920" y="2809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216920" y="28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216920" y="2857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346880" y="279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346880" y="281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289640" y="2422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023240" y="241776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7661160" y="1262160"/>
            <a:ext cx="585000" cy="538200"/>
            <a:chOff x="7661160" y="1262160"/>
            <a:chExt cx="585000" cy="538200"/>
          </a:xfrm>
        </p:grpSpPr>
        <p:sp>
          <p:nvSpPr>
            <p:cNvPr id="1307" name=""/>
            <p:cNvSpPr/>
            <p:nvPr/>
          </p:nvSpPr>
          <p:spPr>
            <a:xfrm>
              <a:off x="8172360" y="132876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8166240" y="1271520"/>
              <a:ext cx="4896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101080" y="131292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8190000" y="132084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8123400" y="130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32760" y="130320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123400" y="1433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8182080" y="13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123400" y="146700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8123400" y="146700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8115480" y="160668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805880" y="153972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815240" y="130320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8123400" y="158112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661160" y="158112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670880" y="157320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701120" y="159696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670880" y="162864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831080" y="131292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872480" y="132876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034480" y="172728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042400" y="176832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042400" y="174312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08344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8196120" y="166860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8196120" y="166860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8101080" y="166212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8204040" y="1303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204040" y="1273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8210520" y="126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123400" y="131292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8" name=""/>
          <p:cNvGrpSpPr/>
          <p:nvPr/>
        </p:nvGrpSpPr>
        <p:grpSpPr>
          <a:xfrm>
            <a:off x="5975280" y="1442880"/>
            <a:ext cx="584640" cy="538560"/>
            <a:chOff x="5975280" y="1442880"/>
            <a:chExt cx="584640" cy="538560"/>
          </a:xfrm>
        </p:grpSpPr>
        <p:sp>
          <p:nvSpPr>
            <p:cNvPr id="1339" name=""/>
            <p:cNvSpPr/>
            <p:nvPr/>
          </p:nvSpPr>
          <p:spPr>
            <a:xfrm>
              <a:off x="6486480" y="15098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6480000" y="14526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415200" y="14940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504120" y="15019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643716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6446880" y="14842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6437160" y="16146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496200" y="1494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437160" y="16477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437160" y="16477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429240" y="17874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119640" y="17208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6129360" y="14842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437160" y="17622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975280" y="17622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985000" y="17542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14880" y="17780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985000" y="18097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145200" y="14940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186600" y="15098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348240" y="19080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356520" y="19494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356520" y="1924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97560" y="19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510240" y="1849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510240" y="18493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415200" y="18432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518160" y="14842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518160" y="145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524640" y="1442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37160" y="14940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0" name=""/>
          <p:cNvSpPr txBox="1"/>
          <p:nvPr/>
        </p:nvSpPr>
        <p:spPr>
          <a:xfrm>
            <a:off x="2952720" y="1814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695160" y="386568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5908680" y="19573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7566120" y="1760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7927920" y="375444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"/>
          <p:cNvGrpSpPr/>
          <p:nvPr/>
        </p:nvGrpSpPr>
        <p:grpSpPr>
          <a:xfrm>
            <a:off x="4587840" y="1495440"/>
            <a:ext cx="386280" cy="470160"/>
            <a:chOff x="4587840" y="1495440"/>
            <a:chExt cx="386280" cy="470160"/>
          </a:xfrm>
        </p:grpSpPr>
        <p:sp>
          <p:nvSpPr>
            <p:cNvPr id="1376" name=""/>
            <p:cNvSpPr/>
            <p:nvPr/>
          </p:nvSpPr>
          <p:spPr>
            <a:xfrm>
              <a:off x="4587840" y="1716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940280" y="169848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943520" y="1751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948200" y="181116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910040" y="169848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4930920" y="168120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4662360" y="1681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>
              <a:off x="4910040" y="1690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4643280" y="169056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87692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61016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89276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62600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694400" y="1751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79592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876920" y="16794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610160" y="1681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876920" y="1712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610160" y="1714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643280" y="1727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665600" y="174456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727520" y="175248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4862520" y="173340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587840" y="170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667400" y="177948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667400" y="1793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670280" y="1828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700520" y="1887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700520" y="19112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702320" y="19350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81644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816440" y="19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816440" y="193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946760" y="187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946760" y="189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88952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62276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1844640" y="2419200"/>
            <a:ext cx="386280" cy="470520"/>
            <a:chOff x="1844640" y="2419200"/>
            <a:chExt cx="386280" cy="470520"/>
          </a:xfrm>
        </p:grpSpPr>
        <p:sp>
          <p:nvSpPr>
            <p:cNvPr id="1414" name=""/>
            <p:cNvSpPr/>
            <p:nvPr/>
          </p:nvSpPr>
          <p:spPr>
            <a:xfrm>
              <a:off x="1844640" y="263988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197080" y="262260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00320" y="267480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05000" y="273528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166840" y="26226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2187720" y="260496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1919160" y="260496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V="1">
              <a:off x="2166840" y="26146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V="1">
              <a:off x="1900080" y="26146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13372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86696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14956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88280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951200" y="267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052720" y="267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133720" y="260352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866960" y="26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133720" y="263700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866960" y="263844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900080" y="265104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922400" y="266868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984320" y="267660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V="1">
              <a:off x="2119320" y="265752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844640" y="2628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924200" y="270360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924200" y="2717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927080" y="27525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957320" y="2811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957320" y="283536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959120" y="28591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073240" y="28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073240" y="283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073240" y="2854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203560" y="2793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203560" y="2816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14632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88280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1" name=""/>
          <p:cNvSpPr txBox="1"/>
          <p:nvPr/>
        </p:nvSpPr>
        <p:spPr>
          <a:xfrm>
            <a:off x="627120" y="4511520"/>
            <a:ext cx="7792920" cy="13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Station is Associated with a particular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1, 2, and 3 are associated with Access Point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4 and 5 are associated with Access Point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6 and 7 are associated with Access Point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ain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92280" y="1160640"/>
            <a:ext cx="774072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gle MAC to support multiple PH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single and multiple channel PH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PHYs with different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um Sen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uld allow overlap of multiple networks in the same area and channel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ed to be able to share the med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 re-use of the same med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to b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bust for Interfer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crowave interfe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un-licensed spectrum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-channel inter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mechanisms to deal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dden Nod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provisions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 Bounded Servi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provisions for Privacy and Access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4516560" y="851040"/>
            <a:ext cx="4626000" cy="450540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0" y="312840"/>
            <a:ext cx="4795920" cy="431496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703440" y="644400"/>
            <a:ext cx="7729560" cy="3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o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V="1">
            <a:off x="2057400" y="224172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150804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692440" y="0"/>
            <a:ext cx="4267080" cy="42926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0" name=""/>
          <p:cNvGrpSpPr/>
          <p:nvPr/>
        </p:nvGrpSpPr>
        <p:grpSpPr>
          <a:xfrm>
            <a:off x="3222720" y="3110040"/>
            <a:ext cx="584640" cy="538200"/>
            <a:chOff x="3222720" y="3110040"/>
            <a:chExt cx="584640" cy="538200"/>
          </a:xfrm>
        </p:grpSpPr>
        <p:sp>
          <p:nvSpPr>
            <p:cNvPr id="1461" name=""/>
            <p:cNvSpPr/>
            <p:nvPr/>
          </p:nvSpPr>
          <p:spPr>
            <a:xfrm>
              <a:off x="3733920" y="31766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H="1">
              <a:off x="3727440" y="31194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662280" y="31608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751200" y="31687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684600" y="3151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693960" y="31510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684600" y="32814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743280" y="3160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684600" y="331488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684600" y="331488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3676680" y="345456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367080" y="33876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376440" y="31510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684600" y="34290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3222720" y="34290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232080" y="34210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262320" y="34448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232080" y="34765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392640" y="31608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433680" y="31766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595680" y="357516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603600" y="36162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603600" y="35910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645000" y="360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757680" y="35164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3757680" y="351648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662280" y="35100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765600" y="31510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765600" y="312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77172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684600" y="31608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2" name=""/>
          <p:cNvSpPr txBox="1"/>
          <p:nvPr/>
        </p:nvSpPr>
        <p:spPr>
          <a:xfrm>
            <a:off x="4213080" y="1201680"/>
            <a:ext cx="114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ccess Poin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3146400" y="36241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"/>
          <p:cNvGrpSpPr/>
          <p:nvPr/>
        </p:nvGrpSpPr>
        <p:grpSpPr>
          <a:xfrm>
            <a:off x="8061480" y="3214800"/>
            <a:ext cx="584640" cy="538200"/>
            <a:chOff x="8061480" y="3214800"/>
            <a:chExt cx="584640" cy="538200"/>
          </a:xfrm>
        </p:grpSpPr>
        <p:sp>
          <p:nvSpPr>
            <p:cNvPr id="1495" name=""/>
            <p:cNvSpPr/>
            <p:nvPr/>
          </p:nvSpPr>
          <p:spPr>
            <a:xfrm>
              <a:off x="8572680" y="328140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>
              <a:off x="8566200" y="322416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8501040" y="326556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589960" y="327348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523360" y="325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8532720" y="325584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523360" y="338616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582040" y="3265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8523360" y="341964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8523360" y="341964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8515440" y="355932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8205840" y="349236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8215200" y="325584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523360" y="353376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061480" y="353376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8070840" y="352584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8101080" y="354960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8070840" y="358128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8231040" y="326556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8272440" y="328140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8434440" y="367992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8442360" y="372096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8442360" y="369576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483760" y="370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8596440" y="3621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8596440" y="362124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8501040" y="361476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604360" y="32558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604360" y="322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610480" y="321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8523360" y="326556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6" name=""/>
          <p:cNvSpPr txBox="1"/>
          <p:nvPr/>
        </p:nvSpPr>
        <p:spPr>
          <a:xfrm>
            <a:off x="665172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28600" y="223524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8" name=""/>
          <p:cNvGrpSpPr/>
          <p:nvPr/>
        </p:nvGrpSpPr>
        <p:grpSpPr>
          <a:xfrm>
            <a:off x="2971800" y="1236600"/>
            <a:ext cx="609840" cy="611640"/>
            <a:chOff x="2971800" y="1236600"/>
            <a:chExt cx="609840" cy="611640"/>
          </a:xfrm>
        </p:grpSpPr>
        <p:sp>
          <p:nvSpPr>
            <p:cNvPr id="1529" name=""/>
            <p:cNvSpPr/>
            <p:nvPr/>
          </p:nvSpPr>
          <p:spPr>
            <a:xfrm>
              <a:off x="3505320" y="131112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3498840" y="124776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432240" y="129384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524400" y="130320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452760" y="128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463920" y="128412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452760" y="14320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514680" y="129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452760" y="146988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452760" y="146988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446640" y="162864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121200" y="155268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132000" y="128412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452760" y="15987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971800" y="15987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981160" y="15908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014640" y="161604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981160" y="16527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147840" y="129384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192480" y="131112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360600" y="17654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370320" y="181116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370320" y="178272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411360" y="1793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530520" y="16984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530520" y="169848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432240" y="169236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537000" y="12841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537000" y="1249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546360" y="123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452760" y="129384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62120" y="3274920"/>
            <a:ext cx="609840" cy="611640"/>
            <a:chOff x="762120" y="3274920"/>
            <a:chExt cx="609840" cy="611640"/>
          </a:xfrm>
        </p:grpSpPr>
        <p:sp>
          <p:nvSpPr>
            <p:cNvPr id="1561" name=""/>
            <p:cNvSpPr/>
            <p:nvPr/>
          </p:nvSpPr>
          <p:spPr>
            <a:xfrm>
              <a:off x="1295280" y="334980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1289160" y="328608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222200" y="333216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314360" y="334152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243080" y="332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254240" y="332280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43080" y="347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305000" y="333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1243080" y="350820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1243080" y="350820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1236600" y="366696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911160" y="359100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922320" y="332280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1243080" y="363708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62120" y="363708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71480" y="362916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04960" y="365436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71480" y="369108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938160" y="333216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982800" y="334980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150920" y="380376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160640" y="38498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160640" y="382104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201680" y="3832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320840" y="37368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320840" y="373680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222200" y="373068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327320" y="33228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327320" y="328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336680" y="3274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243080" y="333216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1162080" y="1198440"/>
            <a:ext cx="763560" cy="893880"/>
            <a:chOff x="1162080" y="1198440"/>
            <a:chExt cx="763560" cy="893880"/>
          </a:xfrm>
        </p:grpSpPr>
        <p:sp>
          <p:nvSpPr>
            <p:cNvPr id="1593" name=""/>
            <p:cNvSpPr txBox="1"/>
            <p:nvPr/>
          </p:nvSpPr>
          <p:spPr>
            <a:xfrm>
              <a:off x="1162080" y="1817640"/>
              <a:ext cx="763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o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1266840" y="1198440"/>
              <a:ext cx="609840" cy="611640"/>
              <a:chOff x="1266840" y="1198440"/>
              <a:chExt cx="609840" cy="611640"/>
            </a:xfrm>
          </p:grpSpPr>
          <p:sp>
            <p:nvSpPr>
              <p:cNvPr id="1595" name=""/>
              <p:cNvSpPr/>
              <p:nvPr/>
            </p:nvSpPr>
            <p:spPr>
              <a:xfrm>
                <a:off x="1800360" y="1273320"/>
                <a:ext cx="54360" cy="146520"/>
              </a:xfrm>
              <a:custGeom>
                <a:avLst/>
                <a:gdLst/>
                <a:ahLst/>
                <a:rect l="0" t="0" r="r" b="b"/>
                <a:pathLst>
                  <a:path w="151" h="407">
                    <a:moveTo>
                      <a:pt x="0" y="407"/>
                    </a:moveTo>
                    <a:lnTo>
                      <a:pt x="0" y="385"/>
                    </a:lnTo>
                    <a:lnTo>
                      <a:pt x="98" y="0"/>
                    </a:lnTo>
                    <a:lnTo>
                      <a:pt x="151" y="0"/>
                    </a:lnTo>
                    <a:lnTo>
                      <a:pt x="129" y="101"/>
                    </a:lnTo>
                    <a:lnTo>
                      <a:pt x="98" y="101"/>
                    </a:lnTo>
                    <a:lnTo>
                      <a:pt x="53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>
                <a:off x="1793880" y="1209600"/>
                <a:ext cx="507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727280" y="1255680"/>
                <a:ext cx="106560" cy="163800"/>
              </a:xfrm>
              <a:custGeom>
                <a:avLst/>
                <a:gdLst/>
                <a:ahLst/>
                <a:rect l="0" t="0" r="r" b="b"/>
                <a:pathLst>
                  <a:path w="296" h="455">
                    <a:moveTo>
                      <a:pt x="114" y="455"/>
                    </a:moveTo>
                    <a:lnTo>
                      <a:pt x="164" y="455"/>
                    </a:lnTo>
                    <a:lnTo>
                      <a:pt x="203" y="455"/>
                    </a:lnTo>
                    <a:lnTo>
                      <a:pt x="203" y="433"/>
                    </a:lnTo>
                    <a:lnTo>
                      <a:pt x="269" y="149"/>
                    </a:lnTo>
                    <a:lnTo>
                      <a:pt x="296" y="119"/>
                    </a:lnTo>
                    <a:lnTo>
                      <a:pt x="296" y="48"/>
                    </a:lnTo>
                    <a:lnTo>
                      <a:pt x="269" y="48"/>
                    </a:lnTo>
                    <a:lnTo>
                      <a:pt x="252" y="48"/>
                    </a:lnTo>
                    <a:lnTo>
                      <a:pt x="230" y="149"/>
                    </a:lnTo>
                    <a:lnTo>
                      <a:pt x="203" y="171"/>
                    </a:lnTo>
                    <a:lnTo>
                      <a:pt x="132" y="171"/>
                    </a:lnTo>
                    <a:lnTo>
                      <a:pt x="66" y="149"/>
                    </a:lnTo>
                    <a:lnTo>
                      <a:pt x="92" y="79"/>
                    </a:lnTo>
                    <a:lnTo>
                      <a:pt x="92" y="22"/>
                    </a:lnTo>
                    <a:lnTo>
                      <a:pt x="66" y="0"/>
                    </a:lnTo>
                    <a:lnTo>
                      <a:pt x="44" y="79"/>
                    </a:lnTo>
                    <a:lnTo>
                      <a:pt x="0" y="252"/>
                    </a:lnTo>
                    <a:lnTo>
                      <a:pt x="0" y="406"/>
                    </a:lnTo>
                    <a:lnTo>
                      <a:pt x="0" y="433"/>
                    </a:lnTo>
                    <a:lnTo>
                      <a:pt x="44" y="433"/>
                    </a:lnTo>
                    <a:lnTo>
                      <a:pt x="66" y="433"/>
                    </a:lnTo>
                    <a:lnTo>
                      <a:pt x="114" y="45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819440" y="126540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fill="none" w="98" h="72">
                    <a:moveTo>
                      <a:pt x="44" y="72"/>
                    </a:moveTo>
                    <a:lnTo>
                      <a:pt x="98" y="72"/>
                    </a:lnTo>
                    <a:lnTo>
                      <a:pt x="17" y="0"/>
                    </a:lnTo>
                    <a:lnTo>
                      <a:pt x="0" y="72"/>
                    </a:lnTo>
                    <a:lnTo>
                      <a:pt x="44" y="7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747800" y="12463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758960" y="1246320"/>
                <a:ext cx="66960" cy="25920"/>
              </a:xfrm>
              <a:custGeom>
                <a:avLst/>
                <a:gdLst/>
                <a:ahLst/>
                <a:rect l="0" t="0" r="r" b="b"/>
                <a:pathLst>
                  <a:path w="186" h="72">
                    <a:moveTo>
                      <a:pt x="0" y="40"/>
                    </a:moveTo>
                    <a:lnTo>
                      <a:pt x="44" y="0"/>
                    </a:lnTo>
                    <a:lnTo>
                      <a:pt x="98" y="0"/>
                    </a:lnTo>
                    <a:lnTo>
                      <a:pt x="146" y="40"/>
                    </a:lnTo>
                    <a:lnTo>
                      <a:pt x="186" y="40"/>
                    </a:lnTo>
                    <a:lnTo>
                      <a:pt x="146" y="7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747800" y="1393920"/>
                <a:ext cx="25920" cy="38520"/>
              </a:xfrm>
              <a:custGeom>
                <a:avLst/>
                <a:gdLst/>
                <a:ahLst/>
                <a:rect l="0" t="0" r="r" b="b"/>
                <a:pathLst>
                  <a:path w="72" h="107">
                    <a:moveTo>
                      <a:pt x="72" y="75"/>
                    </a:moveTo>
                    <a:lnTo>
                      <a:pt x="36" y="107"/>
                    </a:lnTo>
                    <a:lnTo>
                      <a:pt x="0" y="75"/>
                    </a:lnTo>
                    <a:lnTo>
                      <a:pt x="36" y="31"/>
                    </a:lnTo>
                    <a:lnTo>
                      <a:pt x="36" y="0"/>
                    </a:lnTo>
                    <a:lnTo>
                      <a:pt x="72" y="31"/>
                    </a:lnTo>
                    <a:lnTo>
                      <a:pt x="72" y="53"/>
                    </a:lnTo>
                    <a:lnTo>
                      <a:pt x="72" y="7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809720" y="12556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36"/>
                    </a:moveTo>
                    <a:lnTo>
                      <a:pt x="40" y="72"/>
                    </a:lnTo>
                    <a:lnTo>
                      <a:pt x="0" y="36"/>
                    </a:lnTo>
                    <a:lnTo>
                      <a:pt x="72" y="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747800" y="1432080"/>
                <a:ext cx="117720" cy="248040"/>
              </a:xfrm>
              <a:custGeom>
                <a:avLst/>
                <a:gdLst/>
                <a:ahLst/>
                <a:rect l="0" t="0" r="r" b="b"/>
                <a:pathLst>
                  <a:path w="327" h="689">
                    <a:moveTo>
                      <a:pt x="13" y="0"/>
                    </a:moveTo>
                    <a:lnTo>
                      <a:pt x="0" y="0"/>
                    </a:lnTo>
                    <a:lnTo>
                      <a:pt x="0" y="141"/>
                    </a:lnTo>
                    <a:lnTo>
                      <a:pt x="13" y="292"/>
                    </a:lnTo>
                    <a:lnTo>
                      <a:pt x="66" y="437"/>
                    </a:lnTo>
                    <a:lnTo>
                      <a:pt x="154" y="614"/>
                    </a:lnTo>
                    <a:lnTo>
                      <a:pt x="265" y="689"/>
                    </a:lnTo>
                    <a:lnTo>
                      <a:pt x="305" y="689"/>
                    </a:lnTo>
                    <a:lnTo>
                      <a:pt x="327" y="663"/>
                    </a:lnTo>
                    <a:lnTo>
                      <a:pt x="305" y="614"/>
                    </a:lnTo>
                    <a:lnTo>
                      <a:pt x="292" y="588"/>
                    </a:lnTo>
                    <a:lnTo>
                      <a:pt x="221" y="588"/>
                    </a:lnTo>
                    <a:lnTo>
                      <a:pt x="172" y="588"/>
                    </a:lnTo>
                    <a:lnTo>
                      <a:pt x="127" y="516"/>
                    </a:lnTo>
                    <a:lnTo>
                      <a:pt x="88" y="415"/>
                    </a:lnTo>
                    <a:lnTo>
                      <a:pt x="39" y="318"/>
                    </a:lnTo>
                    <a:lnTo>
                      <a:pt x="13" y="119"/>
                    </a:lnTo>
                    <a:lnTo>
                      <a:pt x="13" y="2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747800" y="1432080"/>
                <a:ext cx="128880" cy="257400"/>
              </a:xfrm>
              <a:custGeom>
                <a:avLst/>
                <a:gdLst/>
                <a:ahLst/>
                <a:rect l="0" t="0" r="r" b="b"/>
                <a:pathLst>
                  <a:path fill="none" w="358" h="715">
                    <a:moveTo>
                      <a:pt x="26" y="0"/>
                    </a:moveTo>
                    <a:lnTo>
                      <a:pt x="0" y="0"/>
                    </a:lnTo>
                    <a:lnTo>
                      <a:pt x="0" y="149"/>
                    </a:lnTo>
                    <a:lnTo>
                      <a:pt x="26" y="304"/>
                    </a:lnTo>
                    <a:lnTo>
                      <a:pt x="70" y="464"/>
                    </a:lnTo>
                    <a:lnTo>
                      <a:pt x="171" y="636"/>
                    </a:lnTo>
                    <a:lnTo>
                      <a:pt x="292" y="715"/>
                    </a:lnTo>
                    <a:lnTo>
                      <a:pt x="336" y="715"/>
                    </a:lnTo>
                    <a:lnTo>
                      <a:pt x="358" y="693"/>
                    </a:lnTo>
                    <a:lnTo>
                      <a:pt x="336" y="636"/>
                    </a:lnTo>
                    <a:lnTo>
                      <a:pt x="318" y="613"/>
                    </a:lnTo>
                    <a:lnTo>
                      <a:pt x="239" y="613"/>
                    </a:lnTo>
                    <a:lnTo>
                      <a:pt x="195" y="613"/>
                    </a:lnTo>
                    <a:lnTo>
                      <a:pt x="145" y="534"/>
                    </a:lnTo>
                    <a:lnTo>
                      <a:pt x="101" y="437"/>
                    </a:lnTo>
                    <a:lnTo>
                      <a:pt x="48" y="335"/>
                    </a:lnTo>
                    <a:lnTo>
                      <a:pt x="26" y="127"/>
                    </a:lnTo>
                    <a:lnTo>
                      <a:pt x="26" y="22"/>
                    </a:lnTo>
                    <a:lnTo>
                      <a:pt x="2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741320" y="1590840"/>
                <a:ext cx="25920" cy="44640"/>
              </a:xfrm>
              <a:custGeom>
                <a:avLst/>
                <a:gdLst/>
                <a:ahLst/>
                <a:rect l="0" t="0" r="r" b="b"/>
                <a:pathLst>
                  <a:path w="72" h="124">
                    <a:moveTo>
                      <a:pt x="72" y="22"/>
                    </a:moveTo>
                    <a:lnTo>
                      <a:pt x="72" y="0"/>
                    </a:lnTo>
                    <a:lnTo>
                      <a:pt x="31" y="0"/>
                    </a:lnTo>
                    <a:lnTo>
                      <a:pt x="0" y="22"/>
                    </a:lnTo>
                    <a:lnTo>
                      <a:pt x="0" y="48"/>
                    </a:lnTo>
                    <a:lnTo>
                      <a:pt x="0" y="71"/>
                    </a:lnTo>
                    <a:lnTo>
                      <a:pt x="0" y="93"/>
                    </a:lnTo>
                    <a:lnTo>
                      <a:pt x="72" y="124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415880" y="1514520"/>
                <a:ext cx="343440" cy="120960"/>
              </a:xfrm>
              <a:custGeom>
                <a:avLst/>
                <a:gdLst/>
                <a:ahLst/>
                <a:rect l="0" t="0" r="r" b="b"/>
                <a:pathLst>
                  <a:path w="954" h="336">
                    <a:moveTo>
                      <a:pt x="48" y="0"/>
                    </a:moveTo>
                    <a:lnTo>
                      <a:pt x="928" y="212"/>
                    </a:lnTo>
                    <a:lnTo>
                      <a:pt x="905" y="234"/>
                    </a:lnTo>
                    <a:lnTo>
                      <a:pt x="905" y="256"/>
                    </a:lnTo>
                    <a:lnTo>
                      <a:pt x="905" y="305"/>
                    </a:lnTo>
                    <a:lnTo>
                      <a:pt x="928" y="305"/>
                    </a:lnTo>
                    <a:lnTo>
                      <a:pt x="954" y="336"/>
                    </a:lnTo>
                    <a:lnTo>
                      <a:pt x="48" y="105"/>
                    </a:lnTo>
                    <a:lnTo>
                      <a:pt x="26" y="79"/>
                    </a:lnTo>
                    <a:lnTo>
                      <a:pt x="0" y="30"/>
                    </a:lnTo>
                    <a:lnTo>
                      <a:pt x="2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427040" y="1246320"/>
                <a:ext cx="392400" cy="344880"/>
              </a:xfrm>
              <a:custGeom>
                <a:avLst/>
                <a:gdLst/>
                <a:ahLst/>
                <a:rect l="0" t="0" r="r" b="b"/>
                <a:pathLst>
                  <a:path w="1090" h="958">
                    <a:moveTo>
                      <a:pt x="1041" y="127"/>
                    </a:moveTo>
                    <a:lnTo>
                      <a:pt x="189" y="0"/>
                    </a:lnTo>
                    <a:lnTo>
                      <a:pt x="167" y="0"/>
                    </a:lnTo>
                    <a:lnTo>
                      <a:pt x="136" y="30"/>
                    </a:lnTo>
                    <a:lnTo>
                      <a:pt x="0" y="666"/>
                    </a:lnTo>
                    <a:lnTo>
                      <a:pt x="0" y="725"/>
                    </a:lnTo>
                    <a:lnTo>
                      <a:pt x="22" y="747"/>
                    </a:lnTo>
                    <a:lnTo>
                      <a:pt x="896" y="958"/>
                    </a:lnTo>
                    <a:lnTo>
                      <a:pt x="922" y="928"/>
                    </a:lnTo>
                    <a:lnTo>
                      <a:pt x="944" y="897"/>
                    </a:lnTo>
                    <a:lnTo>
                      <a:pt x="966" y="879"/>
                    </a:lnTo>
                    <a:lnTo>
                      <a:pt x="1090" y="202"/>
                    </a:lnTo>
                    <a:lnTo>
                      <a:pt x="1090" y="180"/>
                    </a:lnTo>
                    <a:lnTo>
                      <a:pt x="1068" y="149"/>
                    </a:lnTo>
                    <a:lnTo>
                      <a:pt x="1041" y="127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747800" y="1560600"/>
                <a:ext cx="52920" cy="38520"/>
              </a:xfrm>
              <a:custGeom>
                <a:avLst/>
                <a:gdLst/>
                <a:ahLst/>
                <a:rect l="0" t="0" r="r" b="b"/>
                <a:pathLst>
                  <a:path w="147" h="107">
                    <a:moveTo>
                      <a:pt x="75" y="0"/>
                    </a:moveTo>
                    <a:lnTo>
                      <a:pt x="147" y="0"/>
                    </a:lnTo>
                    <a:lnTo>
                      <a:pt x="26" y="107"/>
                    </a:lnTo>
                    <a:lnTo>
                      <a:pt x="26" y="81"/>
                    </a:lnTo>
                    <a:lnTo>
                      <a:pt x="0" y="81"/>
                    </a:lnTo>
                    <a:lnTo>
                      <a:pt x="26" y="49"/>
                    </a:lnTo>
                    <a:lnTo>
                      <a:pt x="49" y="17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266840" y="1560600"/>
                <a:ext cx="533880" cy="232200"/>
              </a:xfrm>
              <a:custGeom>
                <a:avLst/>
                <a:gdLst/>
                <a:ahLst/>
                <a:rect l="0" t="0" r="r" b="b"/>
                <a:pathLst>
                  <a:path w="1483" h="645">
                    <a:moveTo>
                      <a:pt x="1483" y="0"/>
                    </a:moveTo>
                    <a:lnTo>
                      <a:pt x="1483" y="149"/>
                    </a:lnTo>
                    <a:lnTo>
                      <a:pt x="1010" y="645"/>
                    </a:lnTo>
                    <a:lnTo>
                      <a:pt x="988" y="645"/>
                    </a:lnTo>
                    <a:lnTo>
                      <a:pt x="935" y="645"/>
                    </a:lnTo>
                    <a:lnTo>
                      <a:pt x="26" y="331"/>
                    </a:lnTo>
                    <a:lnTo>
                      <a:pt x="0" y="331"/>
                    </a:lnTo>
                    <a:lnTo>
                      <a:pt x="0" y="278"/>
                    </a:lnTo>
                    <a:lnTo>
                      <a:pt x="26" y="252"/>
                    </a:lnTo>
                    <a:lnTo>
                      <a:pt x="26" y="278"/>
                    </a:lnTo>
                    <a:lnTo>
                      <a:pt x="935" y="592"/>
                    </a:lnTo>
                    <a:lnTo>
                      <a:pt x="988" y="592"/>
                    </a:lnTo>
                    <a:lnTo>
                      <a:pt x="1032" y="592"/>
                    </a:lnTo>
                    <a:lnTo>
                      <a:pt x="1063" y="566"/>
                    </a:lnTo>
                    <a:lnTo>
                      <a:pt x="1369" y="203"/>
                    </a:lnTo>
                    <a:lnTo>
                      <a:pt x="1369" y="101"/>
                    </a:lnTo>
                    <a:lnTo>
                      <a:pt x="1483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276200" y="1552680"/>
                <a:ext cx="483120" cy="221040"/>
              </a:xfrm>
              <a:custGeom>
                <a:avLst/>
                <a:gdLst/>
                <a:ahLst/>
                <a:rect l="0" t="0" r="r" b="b"/>
                <a:pathLst>
                  <a:path w="1342" h="614">
                    <a:moveTo>
                      <a:pt x="1342" y="230"/>
                    </a:moveTo>
                    <a:lnTo>
                      <a:pt x="441" y="0"/>
                    </a:lnTo>
                    <a:lnTo>
                      <a:pt x="0" y="278"/>
                    </a:lnTo>
                    <a:lnTo>
                      <a:pt x="909" y="614"/>
                    </a:lnTo>
                    <a:lnTo>
                      <a:pt x="962" y="614"/>
                    </a:lnTo>
                    <a:lnTo>
                      <a:pt x="984" y="614"/>
                    </a:lnTo>
                    <a:lnTo>
                      <a:pt x="1038" y="592"/>
                    </a:lnTo>
                    <a:lnTo>
                      <a:pt x="1342" y="230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309680" y="1577880"/>
                <a:ext cx="397080" cy="167040"/>
              </a:xfrm>
              <a:custGeom>
                <a:avLst/>
                <a:gdLst/>
                <a:ahLst/>
                <a:rect l="0" t="0" r="r" b="b"/>
                <a:pathLst>
                  <a:path w="1103" h="464">
                    <a:moveTo>
                      <a:pt x="1103" y="283"/>
                    </a:moveTo>
                    <a:lnTo>
                      <a:pt x="1103" y="261"/>
                    </a:lnTo>
                    <a:lnTo>
                      <a:pt x="1081" y="261"/>
                    </a:lnTo>
                    <a:lnTo>
                      <a:pt x="1054" y="229"/>
                    </a:lnTo>
                    <a:lnTo>
                      <a:pt x="185" y="0"/>
                    </a:lnTo>
                    <a:lnTo>
                      <a:pt x="0" y="127"/>
                    </a:lnTo>
                    <a:lnTo>
                      <a:pt x="22" y="154"/>
                    </a:lnTo>
                    <a:lnTo>
                      <a:pt x="216" y="202"/>
                    </a:lnTo>
                    <a:lnTo>
                      <a:pt x="185" y="229"/>
                    </a:lnTo>
                    <a:lnTo>
                      <a:pt x="185" y="261"/>
                    </a:lnTo>
                    <a:lnTo>
                      <a:pt x="772" y="441"/>
                    </a:lnTo>
                    <a:lnTo>
                      <a:pt x="794" y="415"/>
                    </a:lnTo>
                    <a:lnTo>
                      <a:pt x="838" y="415"/>
                    </a:lnTo>
                    <a:lnTo>
                      <a:pt x="816" y="464"/>
                    </a:lnTo>
                    <a:lnTo>
                      <a:pt x="909" y="464"/>
                    </a:lnTo>
                    <a:lnTo>
                      <a:pt x="944" y="464"/>
                    </a:lnTo>
                    <a:lnTo>
                      <a:pt x="1103" y="283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276200" y="1614600"/>
                <a:ext cx="524160" cy="195480"/>
              </a:xfrm>
              <a:custGeom>
                <a:avLst/>
                <a:gdLst/>
                <a:ahLst/>
                <a:rect l="0" t="0" r="r" b="b"/>
                <a:pathLst>
                  <a:path w="1456" h="543">
                    <a:moveTo>
                      <a:pt x="1456" y="0"/>
                    </a:moveTo>
                    <a:lnTo>
                      <a:pt x="1006" y="494"/>
                    </a:lnTo>
                    <a:lnTo>
                      <a:pt x="962" y="494"/>
                    </a:lnTo>
                    <a:lnTo>
                      <a:pt x="909" y="494"/>
                    </a:lnTo>
                    <a:lnTo>
                      <a:pt x="0" y="180"/>
                    </a:lnTo>
                    <a:lnTo>
                      <a:pt x="0" y="233"/>
                    </a:lnTo>
                    <a:lnTo>
                      <a:pt x="22" y="233"/>
                    </a:lnTo>
                    <a:lnTo>
                      <a:pt x="931" y="543"/>
                    </a:lnTo>
                    <a:lnTo>
                      <a:pt x="962" y="543"/>
                    </a:lnTo>
                    <a:lnTo>
                      <a:pt x="1006" y="521"/>
                    </a:lnTo>
                    <a:lnTo>
                      <a:pt x="1456" y="22"/>
                    </a:lnTo>
                    <a:lnTo>
                      <a:pt x="1456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442880" y="1255680"/>
                <a:ext cx="357480" cy="305280"/>
              </a:xfrm>
              <a:custGeom>
                <a:avLst/>
                <a:gdLst/>
                <a:ahLst/>
                <a:rect l="0" t="0" r="r" b="b"/>
                <a:pathLst>
                  <a:path w="993" h="848">
                    <a:moveTo>
                      <a:pt x="971" y="171"/>
                    </a:moveTo>
                    <a:lnTo>
                      <a:pt x="194" y="0"/>
                    </a:lnTo>
                    <a:lnTo>
                      <a:pt x="167" y="0"/>
                    </a:lnTo>
                    <a:lnTo>
                      <a:pt x="145" y="48"/>
                    </a:lnTo>
                    <a:lnTo>
                      <a:pt x="0" y="613"/>
                    </a:lnTo>
                    <a:lnTo>
                      <a:pt x="22" y="637"/>
                    </a:lnTo>
                    <a:lnTo>
                      <a:pt x="830" y="848"/>
                    </a:lnTo>
                    <a:lnTo>
                      <a:pt x="852" y="848"/>
                    </a:lnTo>
                    <a:lnTo>
                      <a:pt x="878" y="826"/>
                    </a:lnTo>
                    <a:lnTo>
                      <a:pt x="993" y="198"/>
                    </a:lnTo>
                    <a:lnTo>
                      <a:pt x="993" y="171"/>
                    </a:lnTo>
                    <a:lnTo>
                      <a:pt x="971" y="171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487520" y="1273320"/>
                <a:ext cx="271800" cy="268560"/>
              </a:xfrm>
              <a:custGeom>
                <a:avLst/>
                <a:gdLst/>
                <a:ahLst/>
                <a:rect l="0" t="0" r="r" b="b"/>
                <a:pathLst>
                  <a:path w="755" h="746">
                    <a:moveTo>
                      <a:pt x="755" y="127"/>
                    </a:moveTo>
                    <a:lnTo>
                      <a:pt x="141" y="0"/>
                    </a:lnTo>
                    <a:lnTo>
                      <a:pt x="0" y="591"/>
                    </a:lnTo>
                    <a:lnTo>
                      <a:pt x="613" y="746"/>
                    </a:lnTo>
                    <a:lnTo>
                      <a:pt x="755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1655640" y="1727280"/>
                <a:ext cx="44640" cy="65520"/>
              </a:xfrm>
              <a:custGeom>
                <a:avLst/>
                <a:gdLst/>
                <a:ahLst/>
                <a:rect l="0" t="0" r="r" b="b"/>
                <a:pathLst>
                  <a:path w="124" h="182">
                    <a:moveTo>
                      <a:pt x="0" y="182"/>
                    </a:moveTo>
                    <a:lnTo>
                      <a:pt x="0" y="128"/>
                    </a:lnTo>
                    <a:lnTo>
                      <a:pt x="124" y="0"/>
                    </a:lnTo>
                    <a:lnTo>
                      <a:pt x="124" y="22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1665360" y="177336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w="98" h="72">
                    <a:moveTo>
                      <a:pt x="0" y="27"/>
                    </a:moveTo>
                    <a:lnTo>
                      <a:pt x="0" y="0"/>
                    </a:lnTo>
                    <a:lnTo>
                      <a:pt x="48" y="27"/>
                    </a:lnTo>
                    <a:lnTo>
                      <a:pt x="71" y="0"/>
                    </a:lnTo>
                    <a:lnTo>
                      <a:pt x="98" y="0"/>
                    </a:lnTo>
                    <a:lnTo>
                      <a:pt x="98" y="27"/>
                    </a:lnTo>
                    <a:lnTo>
                      <a:pt x="71" y="72"/>
                    </a:lnTo>
                    <a:lnTo>
                      <a:pt x="48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665360" y="1744560"/>
                <a:ext cx="51120" cy="28800"/>
              </a:xfrm>
              <a:custGeom>
                <a:avLst/>
                <a:gdLst/>
                <a:ahLst/>
                <a:rect l="0" t="0" r="r" b="b"/>
                <a:pathLst>
                  <a:path w="142" h="80">
                    <a:moveTo>
                      <a:pt x="0" y="80"/>
                    </a:moveTo>
                    <a:lnTo>
                      <a:pt x="98" y="0"/>
                    </a:lnTo>
                    <a:lnTo>
                      <a:pt x="120" y="0"/>
                    </a:lnTo>
                    <a:lnTo>
                      <a:pt x="142" y="0"/>
                    </a:lnTo>
                    <a:lnTo>
                      <a:pt x="142" y="30"/>
                    </a:lnTo>
                    <a:lnTo>
                      <a:pt x="120" y="80"/>
                    </a:lnTo>
                    <a:lnTo>
                      <a:pt x="98" y="80"/>
                    </a:lnTo>
                    <a:lnTo>
                      <a:pt x="70" y="80"/>
                    </a:lnTo>
                    <a:lnTo>
                      <a:pt x="48" y="80"/>
                    </a:lnTo>
                    <a:lnTo>
                      <a:pt x="26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706400" y="17557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36"/>
                    </a:lnTo>
                    <a:lnTo>
                      <a:pt x="31" y="0"/>
                    </a:lnTo>
                    <a:lnTo>
                      <a:pt x="72" y="36"/>
                    </a:lnTo>
                    <a:lnTo>
                      <a:pt x="72" y="72"/>
                    </a:lnTo>
                    <a:lnTo>
                      <a:pt x="31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825560" y="1660680"/>
                <a:ext cx="32040" cy="25920"/>
              </a:xfrm>
              <a:custGeom>
                <a:avLst/>
                <a:gdLst/>
                <a:ahLst/>
                <a:rect l="0" t="0" r="r" b="b"/>
                <a:pathLst>
                  <a:path w="89" h="72">
                    <a:moveTo>
                      <a:pt x="0" y="0"/>
                    </a:moveTo>
                    <a:lnTo>
                      <a:pt x="53" y="0"/>
                    </a:lnTo>
                    <a:lnTo>
                      <a:pt x="75" y="0"/>
                    </a:lnTo>
                    <a:lnTo>
                      <a:pt x="89" y="40"/>
                    </a:lnTo>
                    <a:lnTo>
                      <a:pt x="89" y="72"/>
                    </a:lnTo>
                    <a:lnTo>
                      <a:pt x="75" y="72"/>
                    </a:lnTo>
                    <a:lnTo>
                      <a:pt x="53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825560" y="166068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fill="none" w="120" h="72">
                    <a:moveTo>
                      <a:pt x="0" y="0"/>
                    </a:moveTo>
                    <a:lnTo>
                      <a:pt x="75" y="0"/>
                    </a:lnTo>
                    <a:lnTo>
                      <a:pt x="102" y="0"/>
                    </a:lnTo>
                    <a:lnTo>
                      <a:pt x="120" y="40"/>
                    </a:lnTo>
                    <a:lnTo>
                      <a:pt x="120" y="72"/>
                    </a:lnTo>
                    <a:lnTo>
                      <a:pt x="102" y="72"/>
                    </a:lnTo>
                    <a:lnTo>
                      <a:pt x="75" y="72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1727280" y="1654200"/>
                <a:ext cx="92520" cy="119520"/>
              </a:xfrm>
              <a:custGeom>
                <a:avLst/>
                <a:gdLst/>
                <a:ahLst/>
                <a:rect l="0" t="0" r="r" b="b"/>
                <a:pathLst>
                  <a:path w="257" h="332">
                    <a:moveTo>
                      <a:pt x="235" y="0"/>
                    </a:moveTo>
                    <a:lnTo>
                      <a:pt x="257" y="22"/>
                    </a:lnTo>
                    <a:lnTo>
                      <a:pt x="209" y="52"/>
                    </a:lnTo>
                    <a:lnTo>
                      <a:pt x="209" y="102"/>
                    </a:lnTo>
                    <a:lnTo>
                      <a:pt x="209" y="177"/>
                    </a:lnTo>
                    <a:lnTo>
                      <a:pt x="186" y="257"/>
                    </a:lnTo>
                    <a:lnTo>
                      <a:pt x="137" y="310"/>
                    </a:lnTo>
                    <a:lnTo>
                      <a:pt x="44" y="332"/>
                    </a:lnTo>
                    <a:lnTo>
                      <a:pt x="0" y="332"/>
                    </a:lnTo>
                    <a:lnTo>
                      <a:pt x="0" y="310"/>
                    </a:lnTo>
                    <a:lnTo>
                      <a:pt x="115" y="284"/>
                    </a:lnTo>
                    <a:lnTo>
                      <a:pt x="164" y="257"/>
                    </a:lnTo>
                    <a:lnTo>
                      <a:pt x="186" y="208"/>
                    </a:lnTo>
                    <a:lnTo>
                      <a:pt x="186" y="102"/>
                    </a:lnTo>
                    <a:lnTo>
                      <a:pt x="186" y="74"/>
                    </a:lnTo>
                    <a:lnTo>
                      <a:pt x="209" y="5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832040" y="124632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832040" y="12114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36" y="0"/>
                    </a:lnTo>
                    <a:lnTo>
                      <a:pt x="72" y="0"/>
                    </a:lnTo>
                    <a:lnTo>
                      <a:pt x="36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1841400" y="11984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1747800" y="1255680"/>
                <a:ext cx="71640" cy="43200"/>
              </a:xfrm>
              <a:custGeom>
                <a:avLst/>
                <a:gdLst/>
                <a:ahLst/>
                <a:rect l="0" t="0" r="r" b="b"/>
                <a:pathLst>
                  <a:path w="199" h="120">
                    <a:moveTo>
                      <a:pt x="199" y="48"/>
                    </a:moveTo>
                    <a:lnTo>
                      <a:pt x="177" y="22"/>
                    </a:lnTo>
                    <a:lnTo>
                      <a:pt x="52" y="0"/>
                    </a:lnTo>
                    <a:lnTo>
                      <a:pt x="26" y="0"/>
                    </a:lnTo>
                    <a:lnTo>
                      <a:pt x="26" y="22"/>
                    </a:lnTo>
                    <a:lnTo>
                      <a:pt x="0" y="98"/>
                    </a:lnTo>
                    <a:lnTo>
                      <a:pt x="146" y="120"/>
                    </a:lnTo>
                    <a:lnTo>
                      <a:pt x="177" y="120"/>
                    </a:lnTo>
                    <a:lnTo>
                      <a:pt x="199" y="48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6" name=""/>
          <p:cNvSpPr/>
          <p:nvPr/>
        </p:nvSpPr>
        <p:spPr>
          <a:xfrm flipV="1">
            <a:off x="7201080" y="22478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4775040" y="198108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8" name=""/>
          <p:cNvGrpSpPr/>
          <p:nvPr/>
        </p:nvGrpSpPr>
        <p:grpSpPr>
          <a:xfrm>
            <a:off x="6988320" y="2417760"/>
            <a:ext cx="386280" cy="475200"/>
            <a:chOff x="6988320" y="2417760"/>
            <a:chExt cx="386280" cy="475200"/>
          </a:xfrm>
        </p:grpSpPr>
        <p:sp>
          <p:nvSpPr>
            <p:cNvPr id="1629" name=""/>
            <p:cNvSpPr/>
            <p:nvPr/>
          </p:nvSpPr>
          <p:spPr>
            <a:xfrm>
              <a:off x="6988320" y="2643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340760" y="2625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343640" y="2678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348680" y="2738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310520" y="2625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>
              <a:off x="7331040" y="2608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7062840" y="2608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310520" y="2617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V="1">
              <a:off x="7043760" y="2617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27704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01028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29288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02612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094520" y="267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196040" y="2679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277040" y="2606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010280" y="2608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277040" y="2639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010280" y="2641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043760" y="2654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066080" y="2671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128000" y="2679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V="1">
              <a:off x="7262640" y="2660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988320" y="263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067520" y="2706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067520" y="2720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070760" y="2755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101000" y="2814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101000" y="2838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102440" y="28623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216920" y="2809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216920" y="28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216920" y="2857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346880" y="279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346880" y="281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289640" y="2422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023240" y="241776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7661160" y="1262160"/>
            <a:ext cx="585000" cy="538200"/>
            <a:chOff x="7661160" y="1262160"/>
            <a:chExt cx="585000" cy="538200"/>
          </a:xfrm>
        </p:grpSpPr>
        <p:sp>
          <p:nvSpPr>
            <p:cNvPr id="1667" name=""/>
            <p:cNvSpPr/>
            <p:nvPr/>
          </p:nvSpPr>
          <p:spPr>
            <a:xfrm>
              <a:off x="8172360" y="132876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8166240" y="1271520"/>
              <a:ext cx="4896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101080" y="131292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190000" y="132084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123400" y="130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132760" y="130320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8123400" y="1433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182080" y="13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123400" y="146700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8123400" y="146700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115480" y="160668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805880" y="153972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815240" y="130320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8123400" y="158112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61160" y="158112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70880" y="157320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701120" y="159696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670880" y="162864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31080" y="131292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872480" y="132876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8034480" y="172728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8042400" y="176832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8042400" y="174312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808344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8196120" y="166860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196120" y="166860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101080" y="166212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204040" y="1303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8204040" y="1273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210520" y="126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123400" y="131292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8" name=""/>
          <p:cNvGrpSpPr/>
          <p:nvPr/>
        </p:nvGrpSpPr>
        <p:grpSpPr>
          <a:xfrm>
            <a:off x="5975280" y="1442880"/>
            <a:ext cx="584640" cy="538560"/>
            <a:chOff x="5975280" y="1442880"/>
            <a:chExt cx="584640" cy="538560"/>
          </a:xfrm>
        </p:grpSpPr>
        <p:sp>
          <p:nvSpPr>
            <p:cNvPr id="1699" name=""/>
            <p:cNvSpPr/>
            <p:nvPr/>
          </p:nvSpPr>
          <p:spPr>
            <a:xfrm>
              <a:off x="6486480" y="15098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>
              <a:off x="6480000" y="14526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415200" y="14940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504120" y="15019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43716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446880" y="14842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437160" y="16146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496200" y="1494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437160" y="16477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437160" y="16477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6429240" y="17874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119640" y="17208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129360" y="14842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437160" y="17622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975280" y="17622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985000" y="17542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014880" y="17780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985000" y="18097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145200" y="14940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186600" y="15098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48240" y="19080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356520" y="19494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356520" y="1924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97560" y="19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510240" y="1849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510240" y="18493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415200" y="18432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518160" y="14842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518160" y="145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524640" y="1442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437160" y="14940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0" name=""/>
          <p:cNvSpPr txBox="1"/>
          <p:nvPr/>
        </p:nvSpPr>
        <p:spPr>
          <a:xfrm>
            <a:off x="2952720" y="1814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 txBox="1"/>
          <p:nvPr/>
        </p:nvSpPr>
        <p:spPr>
          <a:xfrm>
            <a:off x="695160" y="386568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 txBox="1"/>
          <p:nvPr/>
        </p:nvSpPr>
        <p:spPr>
          <a:xfrm>
            <a:off x="5908680" y="19573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7566120" y="1760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 txBox="1"/>
          <p:nvPr/>
        </p:nvSpPr>
        <p:spPr>
          <a:xfrm>
            <a:off x="7927920" y="375444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5" name=""/>
          <p:cNvGrpSpPr/>
          <p:nvPr/>
        </p:nvGrpSpPr>
        <p:grpSpPr>
          <a:xfrm>
            <a:off x="4587840" y="1495440"/>
            <a:ext cx="386280" cy="470160"/>
            <a:chOff x="4587840" y="1495440"/>
            <a:chExt cx="386280" cy="470160"/>
          </a:xfrm>
        </p:grpSpPr>
        <p:sp>
          <p:nvSpPr>
            <p:cNvPr id="1736" name=""/>
            <p:cNvSpPr/>
            <p:nvPr/>
          </p:nvSpPr>
          <p:spPr>
            <a:xfrm>
              <a:off x="4587840" y="1716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940280" y="169848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943520" y="1751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948200" y="181116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910040" y="169848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V="1">
              <a:off x="4930920" y="168120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V="1">
              <a:off x="4662360" y="1681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4910040" y="1690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V="1">
              <a:off x="4643280" y="169056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487692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61016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89276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62600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4694400" y="1751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79592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876920" y="16794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610160" y="1681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876920" y="1712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610160" y="1714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643280" y="1727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665600" y="174456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727520" y="175248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4862520" y="173340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587840" y="170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667400" y="177948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667400" y="1793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670280" y="1828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700520" y="1887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700520" y="19112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702320" y="19350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81644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816440" y="19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816440" y="193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946760" y="187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946760" y="189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88952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62276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3" name=""/>
          <p:cNvGrpSpPr/>
          <p:nvPr/>
        </p:nvGrpSpPr>
        <p:grpSpPr>
          <a:xfrm>
            <a:off x="1844640" y="2419200"/>
            <a:ext cx="386280" cy="470520"/>
            <a:chOff x="1844640" y="2419200"/>
            <a:chExt cx="386280" cy="470520"/>
          </a:xfrm>
        </p:grpSpPr>
        <p:sp>
          <p:nvSpPr>
            <p:cNvPr id="1774" name=""/>
            <p:cNvSpPr/>
            <p:nvPr/>
          </p:nvSpPr>
          <p:spPr>
            <a:xfrm>
              <a:off x="1844640" y="263988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197080" y="262260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200320" y="267480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205000" y="273528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166840" y="26226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V="1">
              <a:off x="2187720" y="260496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V="1">
              <a:off x="1919160" y="260496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2166840" y="26146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1900080" y="26146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13372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86696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14956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88280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951200" y="267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2052720" y="267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133720" y="260352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866960" y="26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133720" y="263700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866960" y="263844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900080" y="265104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922400" y="266868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984320" y="267660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V="1">
              <a:off x="2119320" y="265752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844640" y="2628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924200" y="270360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924200" y="2717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927080" y="27525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957320" y="2811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957320" y="283536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959120" y="28591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073240" y="28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073240" y="283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073240" y="2854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203560" y="2793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203560" y="2816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14632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188280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1" name=""/>
          <p:cNvSpPr/>
          <p:nvPr/>
        </p:nvSpPr>
        <p:spPr>
          <a:xfrm>
            <a:off x="1962000" y="1798560"/>
            <a:ext cx="4864320" cy="2417760"/>
          </a:xfrm>
          <a:prstGeom prst="line">
            <a:avLst/>
          </a:prstGeom>
          <a:ln w="203040">
            <a:solidFill>
              <a:srgbClr val="cecec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757080" y="4780080"/>
            <a:ext cx="4511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stations may mo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1962000" y="1798560"/>
            <a:ext cx="4864320" cy="2417760"/>
          </a:xfrm>
          <a:prstGeom prst="line">
            <a:avLst/>
          </a:prstGeom>
          <a:ln w="203040">
            <a:solidFill>
              <a:srgbClr val="cecec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516560" y="851040"/>
            <a:ext cx="4626000" cy="450540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0" y="312840"/>
            <a:ext cx="4795920" cy="431496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 txBox="1"/>
          <p:nvPr/>
        </p:nvSpPr>
        <p:spPr>
          <a:xfrm>
            <a:off x="703440" y="644400"/>
            <a:ext cx="7729560" cy="3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o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 flipV="1">
            <a:off x="2057400" y="224172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 txBox="1"/>
          <p:nvPr/>
        </p:nvSpPr>
        <p:spPr>
          <a:xfrm>
            <a:off x="150804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2692440" y="0"/>
            <a:ext cx="4267080" cy="42926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2" name=""/>
          <p:cNvGrpSpPr/>
          <p:nvPr/>
        </p:nvGrpSpPr>
        <p:grpSpPr>
          <a:xfrm>
            <a:off x="3222720" y="3110040"/>
            <a:ext cx="584640" cy="538200"/>
            <a:chOff x="3222720" y="3110040"/>
            <a:chExt cx="584640" cy="538200"/>
          </a:xfrm>
        </p:grpSpPr>
        <p:sp>
          <p:nvSpPr>
            <p:cNvPr id="1823" name=""/>
            <p:cNvSpPr/>
            <p:nvPr/>
          </p:nvSpPr>
          <p:spPr>
            <a:xfrm>
              <a:off x="3733920" y="31766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3727440" y="31194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3662280" y="31608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751200" y="31687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684600" y="3151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693960" y="31510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3684600" y="32814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743280" y="3160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684600" y="331488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3684600" y="331488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3676680" y="345456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367080" y="33876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376440" y="31510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684600" y="34290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222720" y="34290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232080" y="34210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262320" y="34448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232080" y="34765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392640" y="31608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433680" y="31766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595680" y="357516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603600" y="36162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603600" y="35910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645000" y="360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757680" y="35164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757680" y="351648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662280" y="35100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765600" y="31510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765600" y="312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77172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684600" y="31608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4" name=""/>
          <p:cNvSpPr txBox="1"/>
          <p:nvPr/>
        </p:nvSpPr>
        <p:spPr>
          <a:xfrm>
            <a:off x="4213080" y="1201680"/>
            <a:ext cx="114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ccess Poin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 txBox="1"/>
          <p:nvPr/>
        </p:nvSpPr>
        <p:spPr>
          <a:xfrm>
            <a:off x="3146400" y="36241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6" name=""/>
          <p:cNvGrpSpPr/>
          <p:nvPr/>
        </p:nvGrpSpPr>
        <p:grpSpPr>
          <a:xfrm>
            <a:off x="8061480" y="3214800"/>
            <a:ext cx="584640" cy="538200"/>
            <a:chOff x="8061480" y="3214800"/>
            <a:chExt cx="584640" cy="538200"/>
          </a:xfrm>
        </p:grpSpPr>
        <p:sp>
          <p:nvSpPr>
            <p:cNvPr id="1857" name=""/>
            <p:cNvSpPr/>
            <p:nvPr/>
          </p:nvSpPr>
          <p:spPr>
            <a:xfrm>
              <a:off x="8572680" y="328140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>
              <a:off x="8566200" y="322416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8501040" y="326556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589960" y="327348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523360" y="325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532720" y="325584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8523360" y="338616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8582040" y="3265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523360" y="341964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523360" y="341964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8515440" y="355932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205840" y="349236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8215200" y="325584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8523360" y="353376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8061480" y="353376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8070840" y="352584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8101080" y="354960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8070840" y="358128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8231040" y="326556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8272440" y="328140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8434440" y="367992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8442360" y="372096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8442360" y="369576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8483760" y="370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8596440" y="3621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8596440" y="362124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8501040" y="361476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8604360" y="32558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8604360" y="322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8610480" y="321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8523360" y="326556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8" name=""/>
          <p:cNvSpPr txBox="1"/>
          <p:nvPr/>
        </p:nvSpPr>
        <p:spPr>
          <a:xfrm>
            <a:off x="665172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228600" y="223524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"/>
          <p:cNvGrpSpPr/>
          <p:nvPr/>
        </p:nvGrpSpPr>
        <p:grpSpPr>
          <a:xfrm>
            <a:off x="2971800" y="1236600"/>
            <a:ext cx="609840" cy="611640"/>
            <a:chOff x="2971800" y="1236600"/>
            <a:chExt cx="609840" cy="611640"/>
          </a:xfrm>
        </p:grpSpPr>
        <p:sp>
          <p:nvSpPr>
            <p:cNvPr id="1891" name=""/>
            <p:cNvSpPr/>
            <p:nvPr/>
          </p:nvSpPr>
          <p:spPr>
            <a:xfrm>
              <a:off x="3505320" y="131112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>
              <a:off x="3498840" y="124776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432240" y="129384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524400" y="130320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452760" y="128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463920" y="128412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452760" y="14320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514680" y="129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452760" y="146988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452760" y="146988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46640" y="162864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121200" y="155268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132000" y="128412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452760" y="15987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71800" y="15987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81160" y="15908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014640" y="161604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81160" y="16527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147840" y="129384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2480" y="131112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360600" y="17654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70320" y="181116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370320" y="178272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11360" y="1793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30520" y="16984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530520" y="169848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432240" y="169236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537000" y="12841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537000" y="1249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546360" y="123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452760" y="129384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2" name=""/>
          <p:cNvGrpSpPr/>
          <p:nvPr/>
        </p:nvGrpSpPr>
        <p:grpSpPr>
          <a:xfrm>
            <a:off x="762120" y="3274920"/>
            <a:ext cx="609840" cy="611640"/>
            <a:chOff x="762120" y="3274920"/>
            <a:chExt cx="609840" cy="611640"/>
          </a:xfrm>
        </p:grpSpPr>
        <p:sp>
          <p:nvSpPr>
            <p:cNvPr id="1923" name=""/>
            <p:cNvSpPr/>
            <p:nvPr/>
          </p:nvSpPr>
          <p:spPr>
            <a:xfrm>
              <a:off x="1295280" y="334980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 flipH="1">
              <a:off x="1289160" y="328608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222200" y="333216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314360" y="334152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243080" y="332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254240" y="332280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243080" y="347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305000" y="333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243080" y="350820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243080" y="350820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236600" y="366696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911160" y="359100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922320" y="332280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243080" y="363708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762120" y="363708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71480" y="362916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804960" y="365436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71480" y="369108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938160" y="333216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982800" y="334980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150920" y="380376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160640" y="38498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160640" y="382104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201680" y="3832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320840" y="37368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320840" y="373680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222200" y="373068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327320" y="33228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327320" y="328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336680" y="3274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243080" y="333216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4" name=""/>
          <p:cNvGrpSpPr/>
          <p:nvPr/>
        </p:nvGrpSpPr>
        <p:grpSpPr>
          <a:xfrm>
            <a:off x="4273560" y="2735280"/>
            <a:ext cx="763560" cy="893880"/>
            <a:chOff x="4273560" y="2735280"/>
            <a:chExt cx="763560" cy="893880"/>
          </a:xfrm>
        </p:grpSpPr>
        <p:sp>
          <p:nvSpPr>
            <p:cNvPr id="1955" name=""/>
            <p:cNvSpPr txBox="1"/>
            <p:nvPr/>
          </p:nvSpPr>
          <p:spPr>
            <a:xfrm>
              <a:off x="4273560" y="3354480"/>
              <a:ext cx="763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o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6" name=""/>
            <p:cNvGrpSpPr/>
            <p:nvPr/>
          </p:nvGrpSpPr>
          <p:grpSpPr>
            <a:xfrm>
              <a:off x="4378320" y="2735280"/>
              <a:ext cx="609840" cy="611280"/>
              <a:chOff x="4378320" y="2735280"/>
              <a:chExt cx="609840" cy="611280"/>
            </a:xfrm>
          </p:grpSpPr>
          <p:sp>
            <p:nvSpPr>
              <p:cNvPr id="1957" name=""/>
              <p:cNvSpPr/>
              <p:nvPr/>
            </p:nvSpPr>
            <p:spPr>
              <a:xfrm>
                <a:off x="4911840" y="2809800"/>
                <a:ext cx="54360" cy="146520"/>
              </a:xfrm>
              <a:custGeom>
                <a:avLst/>
                <a:gdLst/>
                <a:ahLst/>
                <a:rect l="0" t="0" r="r" b="b"/>
                <a:pathLst>
                  <a:path w="151" h="407">
                    <a:moveTo>
                      <a:pt x="0" y="407"/>
                    </a:moveTo>
                    <a:lnTo>
                      <a:pt x="0" y="385"/>
                    </a:lnTo>
                    <a:lnTo>
                      <a:pt x="98" y="0"/>
                    </a:lnTo>
                    <a:lnTo>
                      <a:pt x="151" y="0"/>
                    </a:lnTo>
                    <a:lnTo>
                      <a:pt x="129" y="101"/>
                    </a:lnTo>
                    <a:lnTo>
                      <a:pt x="98" y="101"/>
                    </a:lnTo>
                    <a:lnTo>
                      <a:pt x="53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H="1">
                <a:off x="4905360" y="2746440"/>
                <a:ext cx="50760" cy="304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838760" y="2792520"/>
                <a:ext cx="106560" cy="163800"/>
              </a:xfrm>
              <a:custGeom>
                <a:avLst/>
                <a:gdLst/>
                <a:ahLst/>
                <a:rect l="0" t="0" r="r" b="b"/>
                <a:pathLst>
                  <a:path w="296" h="455">
                    <a:moveTo>
                      <a:pt x="114" y="455"/>
                    </a:moveTo>
                    <a:lnTo>
                      <a:pt x="164" y="455"/>
                    </a:lnTo>
                    <a:lnTo>
                      <a:pt x="203" y="455"/>
                    </a:lnTo>
                    <a:lnTo>
                      <a:pt x="203" y="433"/>
                    </a:lnTo>
                    <a:lnTo>
                      <a:pt x="269" y="149"/>
                    </a:lnTo>
                    <a:lnTo>
                      <a:pt x="296" y="119"/>
                    </a:lnTo>
                    <a:lnTo>
                      <a:pt x="296" y="48"/>
                    </a:lnTo>
                    <a:lnTo>
                      <a:pt x="269" y="48"/>
                    </a:lnTo>
                    <a:lnTo>
                      <a:pt x="252" y="48"/>
                    </a:lnTo>
                    <a:lnTo>
                      <a:pt x="230" y="149"/>
                    </a:lnTo>
                    <a:lnTo>
                      <a:pt x="203" y="171"/>
                    </a:lnTo>
                    <a:lnTo>
                      <a:pt x="132" y="171"/>
                    </a:lnTo>
                    <a:lnTo>
                      <a:pt x="66" y="149"/>
                    </a:lnTo>
                    <a:lnTo>
                      <a:pt x="92" y="79"/>
                    </a:lnTo>
                    <a:lnTo>
                      <a:pt x="92" y="22"/>
                    </a:lnTo>
                    <a:lnTo>
                      <a:pt x="66" y="0"/>
                    </a:lnTo>
                    <a:lnTo>
                      <a:pt x="44" y="79"/>
                    </a:lnTo>
                    <a:lnTo>
                      <a:pt x="0" y="252"/>
                    </a:lnTo>
                    <a:lnTo>
                      <a:pt x="0" y="406"/>
                    </a:lnTo>
                    <a:lnTo>
                      <a:pt x="0" y="433"/>
                    </a:lnTo>
                    <a:lnTo>
                      <a:pt x="44" y="433"/>
                    </a:lnTo>
                    <a:lnTo>
                      <a:pt x="66" y="433"/>
                    </a:lnTo>
                    <a:lnTo>
                      <a:pt x="114" y="45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930920" y="280188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fill="none" w="98" h="72">
                    <a:moveTo>
                      <a:pt x="44" y="72"/>
                    </a:moveTo>
                    <a:lnTo>
                      <a:pt x="98" y="72"/>
                    </a:lnTo>
                    <a:lnTo>
                      <a:pt x="17" y="0"/>
                    </a:lnTo>
                    <a:lnTo>
                      <a:pt x="0" y="72"/>
                    </a:lnTo>
                    <a:lnTo>
                      <a:pt x="44" y="7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4859280" y="2782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870440" y="2782800"/>
                <a:ext cx="66960" cy="25920"/>
              </a:xfrm>
              <a:custGeom>
                <a:avLst/>
                <a:gdLst/>
                <a:ahLst/>
                <a:rect l="0" t="0" r="r" b="b"/>
                <a:pathLst>
                  <a:path w="186" h="72">
                    <a:moveTo>
                      <a:pt x="0" y="40"/>
                    </a:moveTo>
                    <a:lnTo>
                      <a:pt x="44" y="0"/>
                    </a:lnTo>
                    <a:lnTo>
                      <a:pt x="98" y="0"/>
                    </a:lnTo>
                    <a:lnTo>
                      <a:pt x="146" y="40"/>
                    </a:lnTo>
                    <a:lnTo>
                      <a:pt x="186" y="40"/>
                    </a:lnTo>
                    <a:lnTo>
                      <a:pt x="146" y="7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859280" y="2930400"/>
                <a:ext cx="25920" cy="38520"/>
              </a:xfrm>
              <a:custGeom>
                <a:avLst/>
                <a:gdLst/>
                <a:ahLst/>
                <a:rect l="0" t="0" r="r" b="b"/>
                <a:pathLst>
                  <a:path w="72" h="107">
                    <a:moveTo>
                      <a:pt x="72" y="75"/>
                    </a:moveTo>
                    <a:lnTo>
                      <a:pt x="36" y="107"/>
                    </a:lnTo>
                    <a:lnTo>
                      <a:pt x="0" y="75"/>
                    </a:lnTo>
                    <a:lnTo>
                      <a:pt x="36" y="31"/>
                    </a:lnTo>
                    <a:lnTo>
                      <a:pt x="36" y="0"/>
                    </a:lnTo>
                    <a:lnTo>
                      <a:pt x="72" y="31"/>
                    </a:lnTo>
                    <a:lnTo>
                      <a:pt x="72" y="53"/>
                    </a:lnTo>
                    <a:lnTo>
                      <a:pt x="72" y="7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921200" y="27925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36"/>
                    </a:moveTo>
                    <a:lnTo>
                      <a:pt x="40" y="72"/>
                    </a:lnTo>
                    <a:lnTo>
                      <a:pt x="0" y="36"/>
                    </a:lnTo>
                    <a:lnTo>
                      <a:pt x="72" y="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4859280" y="2968560"/>
                <a:ext cx="117720" cy="248040"/>
              </a:xfrm>
              <a:custGeom>
                <a:avLst/>
                <a:gdLst/>
                <a:ahLst/>
                <a:rect l="0" t="0" r="r" b="b"/>
                <a:pathLst>
                  <a:path w="327" h="689">
                    <a:moveTo>
                      <a:pt x="13" y="0"/>
                    </a:moveTo>
                    <a:lnTo>
                      <a:pt x="0" y="0"/>
                    </a:lnTo>
                    <a:lnTo>
                      <a:pt x="0" y="141"/>
                    </a:lnTo>
                    <a:lnTo>
                      <a:pt x="13" y="292"/>
                    </a:lnTo>
                    <a:lnTo>
                      <a:pt x="66" y="437"/>
                    </a:lnTo>
                    <a:lnTo>
                      <a:pt x="154" y="614"/>
                    </a:lnTo>
                    <a:lnTo>
                      <a:pt x="265" y="689"/>
                    </a:lnTo>
                    <a:lnTo>
                      <a:pt x="305" y="689"/>
                    </a:lnTo>
                    <a:lnTo>
                      <a:pt x="327" y="663"/>
                    </a:lnTo>
                    <a:lnTo>
                      <a:pt x="305" y="614"/>
                    </a:lnTo>
                    <a:lnTo>
                      <a:pt x="292" y="588"/>
                    </a:lnTo>
                    <a:lnTo>
                      <a:pt x="221" y="588"/>
                    </a:lnTo>
                    <a:lnTo>
                      <a:pt x="172" y="588"/>
                    </a:lnTo>
                    <a:lnTo>
                      <a:pt x="127" y="516"/>
                    </a:lnTo>
                    <a:lnTo>
                      <a:pt x="88" y="415"/>
                    </a:lnTo>
                    <a:lnTo>
                      <a:pt x="39" y="318"/>
                    </a:lnTo>
                    <a:lnTo>
                      <a:pt x="13" y="119"/>
                    </a:lnTo>
                    <a:lnTo>
                      <a:pt x="13" y="2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859280" y="2968560"/>
                <a:ext cx="128880" cy="257400"/>
              </a:xfrm>
              <a:custGeom>
                <a:avLst/>
                <a:gdLst/>
                <a:ahLst/>
                <a:rect l="0" t="0" r="r" b="b"/>
                <a:pathLst>
                  <a:path fill="none" w="358" h="715">
                    <a:moveTo>
                      <a:pt x="26" y="0"/>
                    </a:moveTo>
                    <a:lnTo>
                      <a:pt x="0" y="0"/>
                    </a:lnTo>
                    <a:lnTo>
                      <a:pt x="0" y="149"/>
                    </a:lnTo>
                    <a:lnTo>
                      <a:pt x="26" y="304"/>
                    </a:lnTo>
                    <a:lnTo>
                      <a:pt x="70" y="464"/>
                    </a:lnTo>
                    <a:lnTo>
                      <a:pt x="171" y="636"/>
                    </a:lnTo>
                    <a:lnTo>
                      <a:pt x="292" y="715"/>
                    </a:lnTo>
                    <a:lnTo>
                      <a:pt x="336" y="715"/>
                    </a:lnTo>
                    <a:lnTo>
                      <a:pt x="358" y="693"/>
                    </a:lnTo>
                    <a:lnTo>
                      <a:pt x="336" y="636"/>
                    </a:lnTo>
                    <a:lnTo>
                      <a:pt x="318" y="613"/>
                    </a:lnTo>
                    <a:lnTo>
                      <a:pt x="239" y="613"/>
                    </a:lnTo>
                    <a:lnTo>
                      <a:pt x="195" y="613"/>
                    </a:lnTo>
                    <a:lnTo>
                      <a:pt x="145" y="534"/>
                    </a:lnTo>
                    <a:lnTo>
                      <a:pt x="101" y="437"/>
                    </a:lnTo>
                    <a:lnTo>
                      <a:pt x="48" y="335"/>
                    </a:lnTo>
                    <a:lnTo>
                      <a:pt x="26" y="127"/>
                    </a:lnTo>
                    <a:lnTo>
                      <a:pt x="26" y="22"/>
                    </a:lnTo>
                    <a:lnTo>
                      <a:pt x="2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4853160" y="3127320"/>
                <a:ext cx="25920" cy="44640"/>
              </a:xfrm>
              <a:custGeom>
                <a:avLst/>
                <a:gdLst/>
                <a:ahLst/>
                <a:rect l="0" t="0" r="r" b="b"/>
                <a:pathLst>
                  <a:path w="72" h="124">
                    <a:moveTo>
                      <a:pt x="72" y="22"/>
                    </a:moveTo>
                    <a:lnTo>
                      <a:pt x="72" y="0"/>
                    </a:lnTo>
                    <a:lnTo>
                      <a:pt x="31" y="0"/>
                    </a:lnTo>
                    <a:lnTo>
                      <a:pt x="0" y="22"/>
                    </a:lnTo>
                    <a:lnTo>
                      <a:pt x="0" y="48"/>
                    </a:lnTo>
                    <a:lnTo>
                      <a:pt x="0" y="71"/>
                    </a:lnTo>
                    <a:lnTo>
                      <a:pt x="0" y="93"/>
                    </a:lnTo>
                    <a:lnTo>
                      <a:pt x="72" y="124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4527720" y="3051000"/>
                <a:ext cx="343440" cy="120960"/>
              </a:xfrm>
              <a:custGeom>
                <a:avLst/>
                <a:gdLst/>
                <a:ahLst/>
                <a:rect l="0" t="0" r="r" b="b"/>
                <a:pathLst>
                  <a:path w="954" h="336">
                    <a:moveTo>
                      <a:pt x="48" y="0"/>
                    </a:moveTo>
                    <a:lnTo>
                      <a:pt x="928" y="212"/>
                    </a:lnTo>
                    <a:lnTo>
                      <a:pt x="905" y="234"/>
                    </a:lnTo>
                    <a:lnTo>
                      <a:pt x="905" y="256"/>
                    </a:lnTo>
                    <a:lnTo>
                      <a:pt x="905" y="305"/>
                    </a:lnTo>
                    <a:lnTo>
                      <a:pt x="928" y="305"/>
                    </a:lnTo>
                    <a:lnTo>
                      <a:pt x="954" y="336"/>
                    </a:lnTo>
                    <a:lnTo>
                      <a:pt x="48" y="105"/>
                    </a:lnTo>
                    <a:lnTo>
                      <a:pt x="26" y="79"/>
                    </a:lnTo>
                    <a:lnTo>
                      <a:pt x="0" y="30"/>
                    </a:lnTo>
                    <a:lnTo>
                      <a:pt x="2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538520" y="2782800"/>
                <a:ext cx="392400" cy="344880"/>
              </a:xfrm>
              <a:custGeom>
                <a:avLst/>
                <a:gdLst/>
                <a:ahLst/>
                <a:rect l="0" t="0" r="r" b="b"/>
                <a:pathLst>
                  <a:path w="1090" h="958">
                    <a:moveTo>
                      <a:pt x="1041" y="127"/>
                    </a:moveTo>
                    <a:lnTo>
                      <a:pt x="189" y="0"/>
                    </a:lnTo>
                    <a:lnTo>
                      <a:pt x="167" y="0"/>
                    </a:lnTo>
                    <a:lnTo>
                      <a:pt x="136" y="30"/>
                    </a:lnTo>
                    <a:lnTo>
                      <a:pt x="0" y="666"/>
                    </a:lnTo>
                    <a:lnTo>
                      <a:pt x="0" y="725"/>
                    </a:lnTo>
                    <a:lnTo>
                      <a:pt x="22" y="747"/>
                    </a:lnTo>
                    <a:lnTo>
                      <a:pt x="896" y="958"/>
                    </a:lnTo>
                    <a:lnTo>
                      <a:pt x="922" y="928"/>
                    </a:lnTo>
                    <a:lnTo>
                      <a:pt x="944" y="897"/>
                    </a:lnTo>
                    <a:lnTo>
                      <a:pt x="966" y="879"/>
                    </a:lnTo>
                    <a:lnTo>
                      <a:pt x="1090" y="202"/>
                    </a:lnTo>
                    <a:lnTo>
                      <a:pt x="1090" y="180"/>
                    </a:lnTo>
                    <a:lnTo>
                      <a:pt x="1068" y="149"/>
                    </a:lnTo>
                    <a:lnTo>
                      <a:pt x="1041" y="127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4859280" y="3097080"/>
                <a:ext cx="52920" cy="38520"/>
              </a:xfrm>
              <a:custGeom>
                <a:avLst/>
                <a:gdLst/>
                <a:ahLst/>
                <a:rect l="0" t="0" r="r" b="b"/>
                <a:pathLst>
                  <a:path w="147" h="107">
                    <a:moveTo>
                      <a:pt x="75" y="0"/>
                    </a:moveTo>
                    <a:lnTo>
                      <a:pt x="147" y="0"/>
                    </a:lnTo>
                    <a:lnTo>
                      <a:pt x="26" y="107"/>
                    </a:lnTo>
                    <a:lnTo>
                      <a:pt x="26" y="81"/>
                    </a:lnTo>
                    <a:lnTo>
                      <a:pt x="0" y="81"/>
                    </a:lnTo>
                    <a:lnTo>
                      <a:pt x="26" y="49"/>
                    </a:lnTo>
                    <a:lnTo>
                      <a:pt x="49" y="17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4378320" y="3097080"/>
                <a:ext cx="533880" cy="232200"/>
              </a:xfrm>
              <a:custGeom>
                <a:avLst/>
                <a:gdLst/>
                <a:ahLst/>
                <a:rect l="0" t="0" r="r" b="b"/>
                <a:pathLst>
                  <a:path w="1483" h="645">
                    <a:moveTo>
                      <a:pt x="1483" y="0"/>
                    </a:moveTo>
                    <a:lnTo>
                      <a:pt x="1483" y="149"/>
                    </a:lnTo>
                    <a:lnTo>
                      <a:pt x="1010" y="645"/>
                    </a:lnTo>
                    <a:lnTo>
                      <a:pt x="988" y="645"/>
                    </a:lnTo>
                    <a:lnTo>
                      <a:pt x="935" y="645"/>
                    </a:lnTo>
                    <a:lnTo>
                      <a:pt x="26" y="331"/>
                    </a:lnTo>
                    <a:lnTo>
                      <a:pt x="0" y="331"/>
                    </a:lnTo>
                    <a:lnTo>
                      <a:pt x="0" y="278"/>
                    </a:lnTo>
                    <a:lnTo>
                      <a:pt x="26" y="252"/>
                    </a:lnTo>
                    <a:lnTo>
                      <a:pt x="26" y="278"/>
                    </a:lnTo>
                    <a:lnTo>
                      <a:pt x="935" y="592"/>
                    </a:lnTo>
                    <a:lnTo>
                      <a:pt x="988" y="592"/>
                    </a:lnTo>
                    <a:lnTo>
                      <a:pt x="1032" y="592"/>
                    </a:lnTo>
                    <a:lnTo>
                      <a:pt x="1063" y="566"/>
                    </a:lnTo>
                    <a:lnTo>
                      <a:pt x="1369" y="203"/>
                    </a:lnTo>
                    <a:lnTo>
                      <a:pt x="1369" y="101"/>
                    </a:lnTo>
                    <a:lnTo>
                      <a:pt x="1483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387680" y="3089160"/>
                <a:ext cx="483120" cy="221040"/>
              </a:xfrm>
              <a:custGeom>
                <a:avLst/>
                <a:gdLst/>
                <a:ahLst/>
                <a:rect l="0" t="0" r="r" b="b"/>
                <a:pathLst>
                  <a:path w="1342" h="614">
                    <a:moveTo>
                      <a:pt x="1342" y="230"/>
                    </a:moveTo>
                    <a:lnTo>
                      <a:pt x="441" y="0"/>
                    </a:lnTo>
                    <a:lnTo>
                      <a:pt x="0" y="278"/>
                    </a:lnTo>
                    <a:lnTo>
                      <a:pt x="909" y="614"/>
                    </a:lnTo>
                    <a:lnTo>
                      <a:pt x="962" y="614"/>
                    </a:lnTo>
                    <a:lnTo>
                      <a:pt x="984" y="614"/>
                    </a:lnTo>
                    <a:lnTo>
                      <a:pt x="1038" y="592"/>
                    </a:lnTo>
                    <a:lnTo>
                      <a:pt x="1342" y="230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4421160" y="3114720"/>
                <a:ext cx="397080" cy="167040"/>
              </a:xfrm>
              <a:custGeom>
                <a:avLst/>
                <a:gdLst/>
                <a:ahLst/>
                <a:rect l="0" t="0" r="r" b="b"/>
                <a:pathLst>
                  <a:path w="1103" h="464">
                    <a:moveTo>
                      <a:pt x="1103" y="283"/>
                    </a:moveTo>
                    <a:lnTo>
                      <a:pt x="1103" y="261"/>
                    </a:lnTo>
                    <a:lnTo>
                      <a:pt x="1081" y="261"/>
                    </a:lnTo>
                    <a:lnTo>
                      <a:pt x="1054" y="229"/>
                    </a:lnTo>
                    <a:lnTo>
                      <a:pt x="185" y="0"/>
                    </a:lnTo>
                    <a:lnTo>
                      <a:pt x="0" y="127"/>
                    </a:lnTo>
                    <a:lnTo>
                      <a:pt x="22" y="154"/>
                    </a:lnTo>
                    <a:lnTo>
                      <a:pt x="216" y="202"/>
                    </a:lnTo>
                    <a:lnTo>
                      <a:pt x="185" y="229"/>
                    </a:lnTo>
                    <a:lnTo>
                      <a:pt x="185" y="261"/>
                    </a:lnTo>
                    <a:lnTo>
                      <a:pt x="772" y="441"/>
                    </a:lnTo>
                    <a:lnTo>
                      <a:pt x="794" y="415"/>
                    </a:lnTo>
                    <a:lnTo>
                      <a:pt x="838" y="415"/>
                    </a:lnTo>
                    <a:lnTo>
                      <a:pt x="816" y="464"/>
                    </a:lnTo>
                    <a:lnTo>
                      <a:pt x="909" y="464"/>
                    </a:lnTo>
                    <a:lnTo>
                      <a:pt x="944" y="464"/>
                    </a:lnTo>
                    <a:lnTo>
                      <a:pt x="1103" y="283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4387680" y="3151080"/>
                <a:ext cx="524160" cy="195480"/>
              </a:xfrm>
              <a:custGeom>
                <a:avLst/>
                <a:gdLst/>
                <a:ahLst/>
                <a:rect l="0" t="0" r="r" b="b"/>
                <a:pathLst>
                  <a:path w="1456" h="543">
                    <a:moveTo>
                      <a:pt x="1456" y="0"/>
                    </a:moveTo>
                    <a:lnTo>
                      <a:pt x="1006" y="494"/>
                    </a:lnTo>
                    <a:lnTo>
                      <a:pt x="962" y="494"/>
                    </a:lnTo>
                    <a:lnTo>
                      <a:pt x="909" y="494"/>
                    </a:lnTo>
                    <a:lnTo>
                      <a:pt x="0" y="180"/>
                    </a:lnTo>
                    <a:lnTo>
                      <a:pt x="0" y="233"/>
                    </a:lnTo>
                    <a:lnTo>
                      <a:pt x="22" y="233"/>
                    </a:lnTo>
                    <a:lnTo>
                      <a:pt x="931" y="543"/>
                    </a:lnTo>
                    <a:lnTo>
                      <a:pt x="962" y="543"/>
                    </a:lnTo>
                    <a:lnTo>
                      <a:pt x="1006" y="521"/>
                    </a:lnTo>
                    <a:lnTo>
                      <a:pt x="1456" y="22"/>
                    </a:lnTo>
                    <a:lnTo>
                      <a:pt x="1456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554360" y="2792520"/>
                <a:ext cx="357480" cy="305280"/>
              </a:xfrm>
              <a:custGeom>
                <a:avLst/>
                <a:gdLst/>
                <a:ahLst/>
                <a:rect l="0" t="0" r="r" b="b"/>
                <a:pathLst>
                  <a:path w="993" h="848">
                    <a:moveTo>
                      <a:pt x="971" y="171"/>
                    </a:moveTo>
                    <a:lnTo>
                      <a:pt x="194" y="0"/>
                    </a:lnTo>
                    <a:lnTo>
                      <a:pt x="167" y="0"/>
                    </a:lnTo>
                    <a:lnTo>
                      <a:pt x="145" y="48"/>
                    </a:lnTo>
                    <a:lnTo>
                      <a:pt x="0" y="613"/>
                    </a:lnTo>
                    <a:lnTo>
                      <a:pt x="22" y="637"/>
                    </a:lnTo>
                    <a:lnTo>
                      <a:pt x="830" y="848"/>
                    </a:lnTo>
                    <a:lnTo>
                      <a:pt x="852" y="848"/>
                    </a:lnTo>
                    <a:lnTo>
                      <a:pt x="878" y="826"/>
                    </a:lnTo>
                    <a:lnTo>
                      <a:pt x="993" y="198"/>
                    </a:lnTo>
                    <a:lnTo>
                      <a:pt x="993" y="171"/>
                    </a:lnTo>
                    <a:lnTo>
                      <a:pt x="971" y="171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4599000" y="2809800"/>
                <a:ext cx="271800" cy="268560"/>
              </a:xfrm>
              <a:custGeom>
                <a:avLst/>
                <a:gdLst/>
                <a:ahLst/>
                <a:rect l="0" t="0" r="r" b="b"/>
                <a:pathLst>
                  <a:path w="755" h="746">
                    <a:moveTo>
                      <a:pt x="755" y="127"/>
                    </a:moveTo>
                    <a:lnTo>
                      <a:pt x="141" y="0"/>
                    </a:lnTo>
                    <a:lnTo>
                      <a:pt x="0" y="591"/>
                    </a:lnTo>
                    <a:lnTo>
                      <a:pt x="613" y="746"/>
                    </a:lnTo>
                    <a:lnTo>
                      <a:pt x="755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4767120" y="3263760"/>
                <a:ext cx="44640" cy="65520"/>
              </a:xfrm>
              <a:custGeom>
                <a:avLst/>
                <a:gdLst/>
                <a:ahLst/>
                <a:rect l="0" t="0" r="r" b="b"/>
                <a:pathLst>
                  <a:path w="124" h="182">
                    <a:moveTo>
                      <a:pt x="0" y="182"/>
                    </a:moveTo>
                    <a:lnTo>
                      <a:pt x="0" y="128"/>
                    </a:lnTo>
                    <a:lnTo>
                      <a:pt x="124" y="0"/>
                    </a:lnTo>
                    <a:lnTo>
                      <a:pt x="124" y="22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4776840" y="330984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w="98" h="72">
                    <a:moveTo>
                      <a:pt x="0" y="27"/>
                    </a:moveTo>
                    <a:lnTo>
                      <a:pt x="0" y="0"/>
                    </a:lnTo>
                    <a:lnTo>
                      <a:pt x="48" y="27"/>
                    </a:lnTo>
                    <a:lnTo>
                      <a:pt x="71" y="0"/>
                    </a:lnTo>
                    <a:lnTo>
                      <a:pt x="98" y="0"/>
                    </a:lnTo>
                    <a:lnTo>
                      <a:pt x="98" y="27"/>
                    </a:lnTo>
                    <a:lnTo>
                      <a:pt x="71" y="72"/>
                    </a:lnTo>
                    <a:lnTo>
                      <a:pt x="48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4776840" y="3281400"/>
                <a:ext cx="51120" cy="28800"/>
              </a:xfrm>
              <a:custGeom>
                <a:avLst/>
                <a:gdLst/>
                <a:ahLst/>
                <a:rect l="0" t="0" r="r" b="b"/>
                <a:pathLst>
                  <a:path w="142" h="80">
                    <a:moveTo>
                      <a:pt x="0" y="80"/>
                    </a:moveTo>
                    <a:lnTo>
                      <a:pt x="98" y="0"/>
                    </a:lnTo>
                    <a:lnTo>
                      <a:pt x="120" y="0"/>
                    </a:lnTo>
                    <a:lnTo>
                      <a:pt x="142" y="0"/>
                    </a:lnTo>
                    <a:lnTo>
                      <a:pt x="142" y="30"/>
                    </a:lnTo>
                    <a:lnTo>
                      <a:pt x="120" y="80"/>
                    </a:lnTo>
                    <a:lnTo>
                      <a:pt x="98" y="80"/>
                    </a:lnTo>
                    <a:lnTo>
                      <a:pt x="70" y="80"/>
                    </a:lnTo>
                    <a:lnTo>
                      <a:pt x="48" y="80"/>
                    </a:lnTo>
                    <a:lnTo>
                      <a:pt x="26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4818240" y="3292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36"/>
                    </a:lnTo>
                    <a:lnTo>
                      <a:pt x="31" y="0"/>
                    </a:lnTo>
                    <a:lnTo>
                      <a:pt x="72" y="36"/>
                    </a:lnTo>
                    <a:lnTo>
                      <a:pt x="72" y="72"/>
                    </a:lnTo>
                    <a:lnTo>
                      <a:pt x="31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937040" y="3197160"/>
                <a:ext cx="32040" cy="25920"/>
              </a:xfrm>
              <a:custGeom>
                <a:avLst/>
                <a:gdLst/>
                <a:ahLst/>
                <a:rect l="0" t="0" r="r" b="b"/>
                <a:pathLst>
                  <a:path w="89" h="72">
                    <a:moveTo>
                      <a:pt x="0" y="0"/>
                    </a:moveTo>
                    <a:lnTo>
                      <a:pt x="53" y="0"/>
                    </a:lnTo>
                    <a:lnTo>
                      <a:pt x="75" y="0"/>
                    </a:lnTo>
                    <a:lnTo>
                      <a:pt x="89" y="40"/>
                    </a:lnTo>
                    <a:lnTo>
                      <a:pt x="89" y="72"/>
                    </a:lnTo>
                    <a:lnTo>
                      <a:pt x="75" y="72"/>
                    </a:lnTo>
                    <a:lnTo>
                      <a:pt x="53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4937040" y="319716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fill="none" w="120" h="72">
                    <a:moveTo>
                      <a:pt x="0" y="0"/>
                    </a:moveTo>
                    <a:lnTo>
                      <a:pt x="75" y="0"/>
                    </a:lnTo>
                    <a:lnTo>
                      <a:pt x="102" y="0"/>
                    </a:lnTo>
                    <a:lnTo>
                      <a:pt x="120" y="40"/>
                    </a:lnTo>
                    <a:lnTo>
                      <a:pt x="120" y="72"/>
                    </a:lnTo>
                    <a:lnTo>
                      <a:pt x="102" y="72"/>
                    </a:lnTo>
                    <a:lnTo>
                      <a:pt x="75" y="72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4838760" y="3191040"/>
                <a:ext cx="92520" cy="119520"/>
              </a:xfrm>
              <a:custGeom>
                <a:avLst/>
                <a:gdLst/>
                <a:ahLst/>
                <a:rect l="0" t="0" r="r" b="b"/>
                <a:pathLst>
                  <a:path w="257" h="332">
                    <a:moveTo>
                      <a:pt x="235" y="0"/>
                    </a:moveTo>
                    <a:lnTo>
                      <a:pt x="257" y="22"/>
                    </a:lnTo>
                    <a:lnTo>
                      <a:pt x="209" y="52"/>
                    </a:lnTo>
                    <a:lnTo>
                      <a:pt x="209" y="102"/>
                    </a:lnTo>
                    <a:lnTo>
                      <a:pt x="209" y="177"/>
                    </a:lnTo>
                    <a:lnTo>
                      <a:pt x="186" y="257"/>
                    </a:lnTo>
                    <a:lnTo>
                      <a:pt x="137" y="310"/>
                    </a:lnTo>
                    <a:lnTo>
                      <a:pt x="44" y="332"/>
                    </a:lnTo>
                    <a:lnTo>
                      <a:pt x="0" y="332"/>
                    </a:lnTo>
                    <a:lnTo>
                      <a:pt x="0" y="310"/>
                    </a:lnTo>
                    <a:lnTo>
                      <a:pt x="115" y="284"/>
                    </a:lnTo>
                    <a:lnTo>
                      <a:pt x="164" y="257"/>
                    </a:lnTo>
                    <a:lnTo>
                      <a:pt x="186" y="208"/>
                    </a:lnTo>
                    <a:lnTo>
                      <a:pt x="186" y="102"/>
                    </a:lnTo>
                    <a:lnTo>
                      <a:pt x="186" y="74"/>
                    </a:lnTo>
                    <a:lnTo>
                      <a:pt x="209" y="5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4943520" y="278280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4943520" y="27478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36" y="0"/>
                    </a:lnTo>
                    <a:lnTo>
                      <a:pt x="72" y="0"/>
                    </a:lnTo>
                    <a:lnTo>
                      <a:pt x="36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952880" y="2735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4859280" y="2792520"/>
                <a:ext cx="71640" cy="43200"/>
              </a:xfrm>
              <a:custGeom>
                <a:avLst/>
                <a:gdLst/>
                <a:ahLst/>
                <a:rect l="0" t="0" r="r" b="b"/>
                <a:pathLst>
                  <a:path w="199" h="120">
                    <a:moveTo>
                      <a:pt x="199" y="48"/>
                    </a:moveTo>
                    <a:lnTo>
                      <a:pt x="177" y="22"/>
                    </a:lnTo>
                    <a:lnTo>
                      <a:pt x="52" y="0"/>
                    </a:lnTo>
                    <a:lnTo>
                      <a:pt x="26" y="0"/>
                    </a:lnTo>
                    <a:lnTo>
                      <a:pt x="26" y="22"/>
                    </a:lnTo>
                    <a:lnTo>
                      <a:pt x="0" y="98"/>
                    </a:lnTo>
                    <a:lnTo>
                      <a:pt x="146" y="120"/>
                    </a:lnTo>
                    <a:lnTo>
                      <a:pt x="177" y="120"/>
                    </a:lnTo>
                    <a:lnTo>
                      <a:pt x="199" y="48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8" name=""/>
          <p:cNvSpPr/>
          <p:nvPr/>
        </p:nvSpPr>
        <p:spPr>
          <a:xfrm flipV="1">
            <a:off x="7201080" y="22478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4775040" y="198108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0" name=""/>
          <p:cNvGrpSpPr/>
          <p:nvPr/>
        </p:nvGrpSpPr>
        <p:grpSpPr>
          <a:xfrm>
            <a:off x="6988320" y="2417760"/>
            <a:ext cx="386280" cy="475200"/>
            <a:chOff x="6988320" y="2417760"/>
            <a:chExt cx="386280" cy="475200"/>
          </a:xfrm>
        </p:grpSpPr>
        <p:sp>
          <p:nvSpPr>
            <p:cNvPr id="1991" name=""/>
            <p:cNvSpPr/>
            <p:nvPr/>
          </p:nvSpPr>
          <p:spPr>
            <a:xfrm>
              <a:off x="6988320" y="2643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340760" y="2625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7343640" y="2678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7348680" y="2738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7310520" y="2625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7331040" y="2608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V="1">
              <a:off x="7062840" y="2608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7310520" y="2617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7043760" y="2617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727704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701028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29288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02612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094520" y="267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196040" y="2679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7277040" y="2606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7010280" y="2608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277040" y="2639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010280" y="2641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043760" y="2654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7066080" y="2671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128000" y="2679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7262640" y="2660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988320" y="263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067520" y="2706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067520" y="2720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070760" y="2755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101000" y="2814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7101000" y="2838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102440" y="28623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216920" y="2809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7216920" y="28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7216920" y="2857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346880" y="279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7346880" y="281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7289640" y="2422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7023240" y="241776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7661160" y="1262160"/>
            <a:ext cx="585000" cy="538200"/>
            <a:chOff x="7661160" y="1262160"/>
            <a:chExt cx="585000" cy="538200"/>
          </a:xfrm>
        </p:grpSpPr>
        <p:sp>
          <p:nvSpPr>
            <p:cNvPr id="2029" name=""/>
            <p:cNvSpPr/>
            <p:nvPr/>
          </p:nvSpPr>
          <p:spPr>
            <a:xfrm>
              <a:off x="8172360" y="132876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>
              <a:off x="8166240" y="1271520"/>
              <a:ext cx="4896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8101080" y="131292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8190000" y="132084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8123400" y="130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8132760" y="130320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8123400" y="1433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8182080" y="13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8123400" y="146700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8123400" y="146700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8115480" y="160668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7805880" y="153972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7815240" y="130320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8123400" y="158112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661160" y="158112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670880" y="157320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701120" y="159696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670880" y="162864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831080" y="131292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7872480" y="132876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8034480" y="172728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8042400" y="176832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8042400" y="174312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808344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8196120" y="166860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8196120" y="166860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8101080" y="166212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8204040" y="1303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204040" y="1273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8210520" y="126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8123400" y="131292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0" name=""/>
          <p:cNvGrpSpPr/>
          <p:nvPr/>
        </p:nvGrpSpPr>
        <p:grpSpPr>
          <a:xfrm>
            <a:off x="5975280" y="1442880"/>
            <a:ext cx="584640" cy="538560"/>
            <a:chOff x="5975280" y="1442880"/>
            <a:chExt cx="584640" cy="538560"/>
          </a:xfrm>
        </p:grpSpPr>
        <p:sp>
          <p:nvSpPr>
            <p:cNvPr id="2061" name=""/>
            <p:cNvSpPr/>
            <p:nvPr/>
          </p:nvSpPr>
          <p:spPr>
            <a:xfrm>
              <a:off x="6486480" y="15098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 flipH="1">
              <a:off x="6480000" y="14526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415200" y="14940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504120" y="15019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43716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446880" y="14842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437160" y="16146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496200" y="1494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437160" y="16477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437160" y="16477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429240" y="17874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119640" y="17208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129360" y="14842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437160" y="17622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975280" y="17622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5985000" y="17542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4880" y="17780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985000" y="18097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145200" y="14940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186600" y="15098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348240" y="19080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356520" y="19494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356520" y="1924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397560" y="19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510240" y="1849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510240" y="18493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415200" y="18432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518160" y="14842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518160" y="145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524640" y="1442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437160" y="14940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2" name=""/>
          <p:cNvSpPr txBox="1"/>
          <p:nvPr/>
        </p:nvSpPr>
        <p:spPr>
          <a:xfrm>
            <a:off x="2952720" y="1814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 txBox="1"/>
          <p:nvPr/>
        </p:nvSpPr>
        <p:spPr>
          <a:xfrm>
            <a:off x="695160" y="386568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 txBox="1"/>
          <p:nvPr/>
        </p:nvSpPr>
        <p:spPr>
          <a:xfrm>
            <a:off x="5908680" y="19573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 txBox="1"/>
          <p:nvPr/>
        </p:nvSpPr>
        <p:spPr>
          <a:xfrm>
            <a:off x="7566120" y="1760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 txBox="1"/>
          <p:nvPr/>
        </p:nvSpPr>
        <p:spPr>
          <a:xfrm>
            <a:off x="7927920" y="375444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7" name=""/>
          <p:cNvGrpSpPr/>
          <p:nvPr/>
        </p:nvGrpSpPr>
        <p:grpSpPr>
          <a:xfrm>
            <a:off x="4587840" y="1495440"/>
            <a:ext cx="386280" cy="470160"/>
            <a:chOff x="4587840" y="1495440"/>
            <a:chExt cx="386280" cy="470160"/>
          </a:xfrm>
        </p:grpSpPr>
        <p:sp>
          <p:nvSpPr>
            <p:cNvPr id="2098" name=""/>
            <p:cNvSpPr/>
            <p:nvPr/>
          </p:nvSpPr>
          <p:spPr>
            <a:xfrm>
              <a:off x="4587840" y="1716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940280" y="169848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943520" y="1751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948200" y="181116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910040" y="169848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4930920" y="168120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4662360" y="1681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4910040" y="1690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V="1">
              <a:off x="4643280" y="169056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87692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61016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89276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62600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694400" y="1751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79592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876920" y="16794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610160" y="1681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876920" y="1712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610160" y="1714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643280" y="1727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665600" y="174456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727520" y="175248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4862520" y="173340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587840" y="170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667400" y="177948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667400" y="1793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670280" y="1828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700520" y="1887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700520" y="19112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702320" y="19350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81644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816440" y="19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816440" y="193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946760" y="187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946760" y="189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88952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62276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5" name=""/>
          <p:cNvGrpSpPr/>
          <p:nvPr/>
        </p:nvGrpSpPr>
        <p:grpSpPr>
          <a:xfrm>
            <a:off x="1844640" y="2419200"/>
            <a:ext cx="386280" cy="470520"/>
            <a:chOff x="1844640" y="2419200"/>
            <a:chExt cx="386280" cy="470520"/>
          </a:xfrm>
        </p:grpSpPr>
        <p:sp>
          <p:nvSpPr>
            <p:cNvPr id="2136" name=""/>
            <p:cNvSpPr/>
            <p:nvPr/>
          </p:nvSpPr>
          <p:spPr>
            <a:xfrm>
              <a:off x="1844640" y="263988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197080" y="262260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200320" y="267480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205000" y="273528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166840" y="26226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V="1">
              <a:off x="2187720" y="260496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V="1">
              <a:off x="1919160" y="260496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V="1">
              <a:off x="2166840" y="26146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V="1">
              <a:off x="1900080" y="26146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13372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86696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14956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88280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951200" y="267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052720" y="267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133720" y="260352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866960" y="26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133720" y="263700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866960" y="263844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900080" y="265104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922400" y="266868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984320" y="267660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2119320" y="265752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844640" y="2628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924200" y="270360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924200" y="2717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927080" y="27525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957320" y="2811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957320" y="283536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959120" y="28591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073240" y="28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073240" y="283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73240" y="2854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203560" y="2793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03560" y="2816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14632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88280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3" name=""/>
          <p:cNvSpPr txBox="1"/>
          <p:nvPr/>
        </p:nvSpPr>
        <p:spPr>
          <a:xfrm>
            <a:off x="757080" y="4780080"/>
            <a:ext cx="660096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stations may mo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yond the coverage area of their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4516560" y="851040"/>
            <a:ext cx="4626000" cy="450540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0" y="312840"/>
            <a:ext cx="4795920" cy="431496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 txBox="1"/>
          <p:nvPr/>
        </p:nvSpPr>
        <p:spPr>
          <a:xfrm>
            <a:off x="703440" y="644400"/>
            <a:ext cx="7729560" cy="3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o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 flipV="1">
            <a:off x="2057400" y="224172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 txBox="1"/>
          <p:nvPr/>
        </p:nvSpPr>
        <p:spPr>
          <a:xfrm>
            <a:off x="150804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2692440" y="0"/>
            <a:ext cx="4267080" cy="42926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2" name=""/>
          <p:cNvGrpSpPr/>
          <p:nvPr/>
        </p:nvGrpSpPr>
        <p:grpSpPr>
          <a:xfrm>
            <a:off x="3222720" y="3110040"/>
            <a:ext cx="584640" cy="538200"/>
            <a:chOff x="3222720" y="3110040"/>
            <a:chExt cx="584640" cy="538200"/>
          </a:xfrm>
        </p:grpSpPr>
        <p:sp>
          <p:nvSpPr>
            <p:cNvPr id="2183" name=""/>
            <p:cNvSpPr/>
            <p:nvPr/>
          </p:nvSpPr>
          <p:spPr>
            <a:xfrm>
              <a:off x="3733920" y="31766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H="1">
              <a:off x="3727440" y="31194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662280" y="31608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751200" y="31687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684600" y="3151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693960" y="31510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684600" y="32814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743280" y="3160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684600" y="331488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684600" y="331488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676680" y="345456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367080" y="33876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376440" y="31510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684600" y="34290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222720" y="34290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232080" y="34210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262320" y="34448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232080" y="34765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392640" y="31608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433680" y="31766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595680" y="357516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603600" y="36162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603600" y="35910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645000" y="360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757680" y="35164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757680" y="351648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662280" y="35100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765600" y="31510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765600" y="312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77172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684600" y="31608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4" name=""/>
          <p:cNvSpPr txBox="1"/>
          <p:nvPr/>
        </p:nvSpPr>
        <p:spPr>
          <a:xfrm>
            <a:off x="4213080" y="1201680"/>
            <a:ext cx="114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ccess Poin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 txBox="1"/>
          <p:nvPr/>
        </p:nvSpPr>
        <p:spPr>
          <a:xfrm>
            <a:off x="3146400" y="36241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8061480" y="3214800"/>
            <a:ext cx="584640" cy="538200"/>
            <a:chOff x="8061480" y="3214800"/>
            <a:chExt cx="584640" cy="538200"/>
          </a:xfrm>
        </p:grpSpPr>
        <p:sp>
          <p:nvSpPr>
            <p:cNvPr id="2217" name=""/>
            <p:cNvSpPr/>
            <p:nvPr/>
          </p:nvSpPr>
          <p:spPr>
            <a:xfrm>
              <a:off x="8572680" y="328140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8566200" y="322416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8501040" y="326556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8589960" y="327348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8523360" y="325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8532720" y="325584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8523360" y="338616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8582040" y="3265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8523360" y="341964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8523360" y="341964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8515440" y="355932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8205840" y="349236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8215200" y="325584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8523360" y="353376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8061480" y="353376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8070840" y="352584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8101080" y="354960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8070840" y="358128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8231040" y="326556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8272440" y="328140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8434440" y="367992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8442360" y="372096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8442360" y="369576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8483760" y="370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8596440" y="3621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8596440" y="362124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8501040" y="361476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8604360" y="32558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8604360" y="322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8610480" y="321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8523360" y="326556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8" name=""/>
          <p:cNvSpPr txBox="1"/>
          <p:nvPr/>
        </p:nvSpPr>
        <p:spPr>
          <a:xfrm>
            <a:off x="665172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228600" y="223524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0" name=""/>
          <p:cNvGrpSpPr/>
          <p:nvPr/>
        </p:nvGrpSpPr>
        <p:grpSpPr>
          <a:xfrm>
            <a:off x="2971800" y="1236600"/>
            <a:ext cx="609840" cy="611640"/>
            <a:chOff x="2971800" y="1236600"/>
            <a:chExt cx="609840" cy="611640"/>
          </a:xfrm>
        </p:grpSpPr>
        <p:sp>
          <p:nvSpPr>
            <p:cNvPr id="2251" name=""/>
            <p:cNvSpPr/>
            <p:nvPr/>
          </p:nvSpPr>
          <p:spPr>
            <a:xfrm>
              <a:off x="3505320" y="131112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3498840" y="124776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432240" y="129384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524400" y="130320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452760" y="128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463920" y="128412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3452760" y="14320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514680" y="129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452760" y="146988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452760" y="146988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446640" y="162864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121200" y="155268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132000" y="128412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452760" y="15987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971800" y="15987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981160" y="15908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014640" y="161604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981160" y="16527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147840" y="129384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3192480" y="131112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360600" y="17654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370320" y="181116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370320" y="178272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11360" y="1793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530520" y="16984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530520" y="169848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32240" y="169236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37000" y="12841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537000" y="1249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546360" y="123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3452760" y="129384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"/>
          <p:cNvGrpSpPr/>
          <p:nvPr/>
        </p:nvGrpSpPr>
        <p:grpSpPr>
          <a:xfrm>
            <a:off x="762120" y="3274920"/>
            <a:ext cx="609840" cy="611640"/>
            <a:chOff x="762120" y="3274920"/>
            <a:chExt cx="609840" cy="611640"/>
          </a:xfrm>
        </p:grpSpPr>
        <p:sp>
          <p:nvSpPr>
            <p:cNvPr id="2283" name=""/>
            <p:cNvSpPr/>
            <p:nvPr/>
          </p:nvSpPr>
          <p:spPr>
            <a:xfrm>
              <a:off x="1295280" y="334980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H="1">
              <a:off x="1289160" y="328608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222200" y="333216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314360" y="334152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243080" y="332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254240" y="332280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243080" y="347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305000" y="333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243080" y="350820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243080" y="350820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236600" y="366696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911160" y="359100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922320" y="332280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243080" y="363708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762120" y="363708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71480" y="362916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804960" y="365436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71480" y="369108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938160" y="333216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982800" y="334980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150920" y="380376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160640" y="38498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160640" y="382104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201680" y="3832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320840" y="37368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320840" y="373680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222200" y="373068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327320" y="33228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327320" y="328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336680" y="3274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243080" y="333216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6902280" y="4017960"/>
            <a:ext cx="763560" cy="893880"/>
            <a:chOff x="6902280" y="4017960"/>
            <a:chExt cx="763560" cy="893880"/>
          </a:xfrm>
        </p:grpSpPr>
        <p:sp>
          <p:nvSpPr>
            <p:cNvPr id="2315" name=""/>
            <p:cNvSpPr txBox="1"/>
            <p:nvPr/>
          </p:nvSpPr>
          <p:spPr>
            <a:xfrm>
              <a:off x="6902280" y="4637160"/>
              <a:ext cx="763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o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6" name=""/>
            <p:cNvGrpSpPr/>
            <p:nvPr/>
          </p:nvGrpSpPr>
          <p:grpSpPr>
            <a:xfrm>
              <a:off x="7007400" y="4017960"/>
              <a:ext cx="609840" cy="611280"/>
              <a:chOff x="7007400" y="4017960"/>
              <a:chExt cx="609840" cy="611280"/>
            </a:xfrm>
          </p:grpSpPr>
          <p:sp>
            <p:nvSpPr>
              <p:cNvPr id="2317" name=""/>
              <p:cNvSpPr/>
              <p:nvPr/>
            </p:nvSpPr>
            <p:spPr>
              <a:xfrm>
                <a:off x="7540560" y="4092480"/>
                <a:ext cx="54360" cy="146520"/>
              </a:xfrm>
              <a:custGeom>
                <a:avLst/>
                <a:gdLst/>
                <a:ahLst/>
                <a:rect l="0" t="0" r="r" b="b"/>
                <a:pathLst>
                  <a:path w="151" h="407">
                    <a:moveTo>
                      <a:pt x="0" y="407"/>
                    </a:moveTo>
                    <a:lnTo>
                      <a:pt x="0" y="385"/>
                    </a:lnTo>
                    <a:lnTo>
                      <a:pt x="98" y="0"/>
                    </a:lnTo>
                    <a:lnTo>
                      <a:pt x="151" y="0"/>
                    </a:lnTo>
                    <a:lnTo>
                      <a:pt x="129" y="101"/>
                    </a:lnTo>
                    <a:lnTo>
                      <a:pt x="98" y="101"/>
                    </a:lnTo>
                    <a:lnTo>
                      <a:pt x="53" y="407"/>
                    </a:lnTo>
                    <a:lnTo>
                      <a:pt x="0" y="407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H="1">
                <a:off x="7534440" y="4029120"/>
                <a:ext cx="50760" cy="30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7467480" y="4075200"/>
                <a:ext cx="106560" cy="163800"/>
              </a:xfrm>
              <a:custGeom>
                <a:avLst/>
                <a:gdLst/>
                <a:ahLst/>
                <a:rect l="0" t="0" r="r" b="b"/>
                <a:pathLst>
                  <a:path w="296" h="455">
                    <a:moveTo>
                      <a:pt x="114" y="455"/>
                    </a:moveTo>
                    <a:lnTo>
                      <a:pt x="164" y="455"/>
                    </a:lnTo>
                    <a:lnTo>
                      <a:pt x="203" y="455"/>
                    </a:lnTo>
                    <a:lnTo>
                      <a:pt x="203" y="433"/>
                    </a:lnTo>
                    <a:lnTo>
                      <a:pt x="269" y="149"/>
                    </a:lnTo>
                    <a:lnTo>
                      <a:pt x="296" y="119"/>
                    </a:lnTo>
                    <a:lnTo>
                      <a:pt x="296" y="48"/>
                    </a:lnTo>
                    <a:lnTo>
                      <a:pt x="269" y="48"/>
                    </a:lnTo>
                    <a:lnTo>
                      <a:pt x="252" y="48"/>
                    </a:lnTo>
                    <a:lnTo>
                      <a:pt x="230" y="149"/>
                    </a:lnTo>
                    <a:lnTo>
                      <a:pt x="203" y="171"/>
                    </a:lnTo>
                    <a:lnTo>
                      <a:pt x="132" y="171"/>
                    </a:lnTo>
                    <a:lnTo>
                      <a:pt x="66" y="149"/>
                    </a:lnTo>
                    <a:lnTo>
                      <a:pt x="92" y="79"/>
                    </a:lnTo>
                    <a:lnTo>
                      <a:pt x="92" y="22"/>
                    </a:lnTo>
                    <a:lnTo>
                      <a:pt x="66" y="0"/>
                    </a:lnTo>
                    <a:lnTo>
                      <a:pt x="44" y="79"/>
                    </a:lnTo>
                    <a:lnTo>
                      <a:pt x="0" y="252"/>
                    </a:lnTo>
                    <a:lnTo>
                      <a:pt x="0" y="406"/>
                    </a:lnTo>
                    <a:lnTo>
                      <a:pt x="0" y="433"/>
                    </a:lnTo>
                    <a:lnTo>
                      <a:pt x="44" y="433"/>
                    </a:lnTo>
                    <a:lnTo>
                      <a:pt x="66" y="433"/>
                    </a:lnTo>
                    <a:lnTo>
                      <a:pt x="114" y="45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7559640" y="408456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fill="none" w="98" h="72">
                    <a:moveTo>
                      <a:pt x="44" y="72"/>
                    </a:moveTo>
                    <a:lnTo>
                      <a:pt x="98" y="72"/>
                    </a:lnTo>
                    <a:lnTo>
                      <a:pt x="17" y="0"/>
                    </a:lnTo>
                    <a:lnTo>
                      <a:pt x="0" y="72"/>
                    </a:lnTo>
                    <a:lnTo>
                      <a:pt x="44" y="72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7488360" y="40654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7499520" y="4065480"/>
                <a:ext cx="66960" cy="25920"/>
              </a:xfrm>
              <a:custGeom>
                <a:avLst/>
                <a:gdLst/>
                <a:ahLst/>
                <a:rect l="0" t="0" r="r" b="b"/>
                <a:pathLst>
                  <a:path w="186" h="72">
                    <a:moveTo>
                      <a:pt x="0" y="40"/>
                    </a:moveTo>
                    <a:lnTo>
                      <a:pt x="44" y="0"/>
                    </a:lnTo>
                    <a:lnTo>
                      <a:pt x="98" y="0"/>
                    </a:lnTo>
                    <a:lnTo>
                      <a:pt x="146" y="40"/>
                    </a:lnTo>
                    <a:lnTo>
                      <a:pt x="186" y="40"/>
                    </a:lnTo>
                    <a:lnTo>
                      <a:pt x="146" y="72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7488360" y="4213080"/>
                <a:ext cx="25920" cy="38520"/>
              </a:xfrm>
              <a:custGeom>
                <a:avLst/>
                <a:gdLst/>
                <a:ahLst/>
                <a:rect l="0" t="0" r="r" b="b"/>
                <a:pathLst>
                  <a:path w="72" h="107">
                    <a:moveTo>
                      <a:pt x="72" y="75"/>
                    </a:moveTo>
                    <a:lnTo>
                      <a:pt x="36" y="107"/>
                    </a:lnTo>
                    <a:lnTo>
                      <a:pt x="0" y="75"/>
                    </a:lnTo>
                    <a:lnTo>
                      <a:pt x="36" y="31"/>
                    </a:lnTo>
                    <a:lnTo>
                      <a:pt x="36" y="0"/>
                    </a:lnTo>
                    <a:lnTo>
                      <a:pt x="72" y="31"/>
                    </a:lnTo>
                    <a:lnTo>
                      <a:pt x="72" y="53"/>
                    </a:lnTo>
                    <a:lnTo>
                      <a:pt x="72" y="75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7550280" y="40752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36"/>
                    </a:moveTo>
                    <a:lnTo>
                      <a:pt x="40" y="72"/>
                    </a:lnTo>
                    <a:lnTo>
                      <a:pt x="0" y="36"/>
                    </a:lnTo>
                    <a:lnTo>
                      <a:pt x="72" y="0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488360" y="4251240"/>
                <a:ext cx="117720" cy="248040"/>
              </a:xfrm>
              <a:custGeom>
                <a:avLst/>
                <a:gdLst/>
                <a:ahLst/>
                <a:rect l="0" t="0" r="r" b="b"/>
                <a:pathLst>
                  <a:path w="327" h="689">
                    <a:moveTo>
                      <a:pt x="13" y="0"/>
                    </a:moveTo>
                    <a:lnTo>
                      <a:pt x="0" y="0"/>
                    </a:lnTo>
                    <a:lnTo>
                      <a:pt x="0" y="141"/>
                    </a:lnTo>
                    <a:lnTo>
                      <a:pt x="13" y="292"/>
                    </a:lnTo>
                    <a:lnTo>
                      <a:pt x="66" y="437"/>
                    </a:lnTo>
                    <a:lnTo>
                      <a:pt x="154" y="614"/>
                    </a:lnTo>
                    <a:lnTo>
                      <a:pt x="265" y="689"/>
                    </a:lnTo>
                    <a:lnTo>
                      <a:pt x="305" y="689"/>
                    </a:lnTo>
                    <a:lnTo>
                      <a:pt x="327" y="663"/>
                    </a:lnTo>
                    <a:lnTo>
                      <a:pt x="305" y="614"/>
                    </a:lnTo>
                    <a:lnTo>
                      <a:pt x="292" y="588"/>
                    </a:lnTo>
                    <a:lnTo>
                      <a:pt x="221" y="588"/>
                    </a:lnTo>
                    <a:lnTo>
                      <a:pt x="172" y="588"/>
                    </a:lnTo>
                    <a:lnTo>
                      <a:pt x="127" y="516"/>
                    </a:lnTo>
                    <a:lnTo>
                      <a:pt x="88" y="415"/>
                    </a:lnTo>
                    <a:lnTo>
                      <a:pt x="39" y="318"/>
                    </a:lnTo>
                    <a:lnTo>
                      <a:pt x="13" y="119"/>
                    </a:lnTo>
                    <a:lnTo>
                      <a:pt x="13" y="2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7488360" y="4251240"/>
                <a:ext cx="128880" cy="257400"/>
              </a:xfrm>
              <a:custGeom>
                <a:avLst/>
                <a:gdLst/>
                <a:ahLst/>
                <a:rect l="0" t="0" r="r" b="b"/>
                <a:pathLst>
                  <a:path fill="none" w="358" h="715">
                    <a:moveTo>
                      <a:pt x="26" y="0"/>
                    </a:moveTo>
                    <a:lnTo>
                      <a:pt x="0" y="0"/>
                    </a:lnTo>
                    <a:lnTo>
                      <a:pt x="0" y="149"/>
                    </a:lnTo>
                    <a:lnTo>
                      <a:pt x="26" y="304"/>
                    </a:lnTo>
                    <a:lnTo>
                      <a:pt x="70" y="464"/>
                    </a:lnTo>
                    <a:lnTo>
                      <a:pt x="171" y="636"/>
                    </a:lnTo>
                    <a:lnTo>
                      <a:pt x="292" y="715"/>
                    </a:lnTo>
                    <a:lnTo>
                      <a:pt x="336" y="715"/>
                    </a:lnTo>
                    <a:lnTo>
                      <a:pt x="358" y="693"/>
                    </a:lnTo>
                    <a:lnTo>
                      <a:pt x="336" y="636"/>
                    </a:lnTo>
                    <a:lnTo>
                      <a:pt x="318" y="613"/>
                    </a:lnTo>
                    <a:lnTo>
                      <a:pt x="239" y="613"/>
                    </a:lnTo>
                    <a:lnTo>
                      <a:pt x="195" y="613"/>
                    </a:lnTo>
                    <a:lnTo>
                      <a:pt x="145" y="534"/>
                    </a:lnTo>
                    <a:lnTo>
                      <a:pt x="101" y="437"/>
                    </a:lnTo>
                    <a:lnTo>
                      <a:pt x="48" y="335"/>
                    </a:lnTo>
                    <a:lnTo>
                      <a:pt x="26" y="127"/>
                    </a:lnTo>
                    <a:lnTo>
                      <a:pt x="26" y="22"/>
                    </a:lnTo>
                    <a:lnTo>
                      <a:pt x="26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7481880" y="4410000"/>
                <a:ext cx="25920" cy="44640"/>
              </a:xfrm>
              <a:custGeom>
                <a:avLst/>
                <a:gdLst/>
                <a:ahLst/>
                <a:rect l="0" t="0" r="r" b="b"/>
                <a:pathLst>
                  <a:path w="72" h="124">
                    <a:moveTo>
                      <a:pt x="72" y="22"/>
                    </a:moveTo>
                    <a:lnTo>
                      <a:pt x="72" y="0"/>
                    </a:lnTo>
                    <a:lnTo>
                      <a:pt x="31" y="0"/>
                    </a:lnTo>
                    <a:lnTo>
                      <a:pt x="0" y="22"/>
                    </a:lnTo>
                    <a:lnTo>
                      <a:pt x="0" y="48"/>
                    </a:lnTo>
                    <a:lnTo>
                      <a:pt x="0" y="71"/>
                    </a:lnTo>
                    <a:lnTo>
                      <a:pt x="0" y="93"/>
                    </a:lnTo>
                    <a:lnTo>
                      <a:pt x="72" y="124"/>
                    </a:lnTo>
                    <a:lnTo>
                      <a:pt x="72" y="22"/>
                    </a:lnTo>
                    <a:close/>
                  </a:path>
                </a:pathLst>
              </a:custGeom>
              <a:solidFill>
                <a:srgbClr val="cccc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7156440" y="4334040"/>
                <a:ext cx="343440" cy="120960"/>
              </a:xfrm>
              <a:custGeom>
                <a:avLst/>
                <a:gdLst/>
                <a:ahLst/>
                <a:rect l="0" t="0" r="r" b="b"/>
                <a:pathLst>
                  <a:path w="954" h="336">
                    <a:moveTo>
                      <a:pt x="48" y="0"/>
                    </a:moveTo>
                    <a:lnTo>
                      <a:pt x="928" y="212"/>
                    </a:lnTo>
                    <a:lnTo>
                      <a:pt x="905" y="234"/>
                    </a:lnTo>
                    <a:lnTo>
                      <a:pt x="905" y="256"/>
                    </a:lnTo>
                    <a:lnTo>
                      <a:pt x="905" y="305"/>
                    </a:lnTo>
                    <a:lnTo>
                      <a:pt x="928" y="305"/>
                    </a:lnTo>
                    <a:lnTo>
                      <a:pt x="954" y="336"/>
                    </a:lnTo>
                    <a:lnTo>
                      <a:pt x="48" y="105"/>
                    </a:lnTo>
                    <a:lnTo>
                      <a:pt x="26" y="79"/>
                    </a:lnTo>
                    <a:lnTo>
                      <a:pt x="0" y="30"/>
                    </a:lnTo>
                    <a:lnTo>
                      <a:pt x="26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7167600" y="4065480"/>
                <a:ext cx="392400" cy="344880"/>
              </a:xfrm>
              <a:custGeom>
                <a:avLst/>
                <a:gdLst/>
                <a:ahLst/>
                <a:rect l="0" t="0" r="r" b="b"/>
                <a:pathLst>
                  <a:path w="1090" h="958">
                    <a:moveTo>
                      <a:pt x="1041" y="127"/>
                    </a:moveTo>
                    <a:lnTo>
                      <a:pt x="189" y="0"/>
                    </a:lnTo>
                    <a:lnTo>
                      <a:pt x="167" y="0"/>
                    </a:lnTo>
                    <a:lnTo>
                      <a:pt x="136" y="30"/>
                    </a:lnTo>
                    <a:lnTo>
                      <a:pt x="0" y="666"/>
                    </a:lnTo>
                    <a:lnTo>
                      <a:pt x="0" y="725"/>
                    </a:lnTo>
                    <a:lnTo>
                      <a:pt x="22" y="747"/>
                    </a:lnTo>
                    <a:lnTo>
                      <a:pt x="896" y="958"/>
                    </a:lnTo>
                    <a:lnTo>
                      <a:pt x="922" y="928"/>
                    </a:lnTo>
                    <a:lnTo>
                      <a:pt x="944" y="897"/>
                    </a:lnTo>
                    <a:lnTo>
                      <a:pt x="966" y="879"/>
                    </a:lnTo>
                    <a:lnTo>
                      <a:pt x="1090" y="202"/>
                    </a:lnTo>
                    <a:lnTo>
                      <a:pt x="1090" y="180"/>
                    </a:lnTo>
                    <a:lnTo>
                      <a:pt x="1068" y="149"/>
                    </a:lnTo>
                    <a:lnTo>
                      <a:pt x="1041" y="127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7488360" y="4379760"/>
                <a:ext cx="52920" cy="38520"/>
              </a:xfrm>
              <a:custGeom>
                <a:avLst/>
                <a:gdLst/>
                <a:ahLst/>
                <a:rect l="0" t="0" r="r" b="b"/>
                <a:pathLst>
                  <a:path w="147" h="107">
                    <a:moveTo>
                      <a:pt x="75" y="0"/>
                    </a:moveTo>
                    <a:lnTo>
                      <a:pt x="147" y="0"/>
                    </a:lnTo>
                    <a:lnTo>
                      <a:pt x="26" y="107"/>
                    </a:lnTo>
                    <a:lnTo>
                      <a:pt x="26" y="81"/>
                    </a:lnTo>
                    <a:lnTo>
                      <a:pt x="0" y="81"/>
                    </a:lnTo>
                    <a:lnTo>
                      <a:pt x="26" y="49"/>
                    </a:lnTo>
                    <a:lnTo>
                      <a:pt x="49" y="17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b5b5b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7007400" y="4379760"/>
                <a:ext cx="533880" cy="232200"/>
              </a:xfrm>
              <a:custGeom>
                <a:avLst/>
                <a:gdLst/>
                <a:ahLst/>
                <a:rect l="0" t="0" r="r" b="b"/>
                <a:pathLst>
                  <a:path w="1483" h="645">
                    <a:moveTo>
                      <a:pt x="1483" y="0"/>
                    </a:moveTo>
                    <a:lnTo>
                      <a:pt x="1483" y="149"/>
                    </a:lnTo>
                    <a:lnTo>
                      <a:pt x="1010" y="645"/>
                    </a:lnTo>
                    <a:lnTo>
                      <a:pt x="988" y="645"/>
                    </a:lnTo>
                    <a:lnTo>
                      <a:pt x="935" y="645"/>
                    </a:lnTo>
                    <a:lnTo>
                      <a:pt x="26" y="331"/>
                    </a:lnTo>
                    <a:lnTo>
                      <a:pt x="0" y="331"/>
                    </a:lnTo>
                    <a:lnTo>
                      <a:pt x="0" y="278"/>
                    </a:lnTo>
                    <a:lnTo>
                      <a:pt x="26" y="252"/>
                    </a:lnTo>
                    <a:lnTo>
                      <a:pt x="26" y="278"/>
                    </a:lnTo>
                    <a:lnTo>
                      <a:pt x="935" y="592"/>
                    </a:lnTo>
                    <a:lnTo>
                      <a:pt x="988" y="592"/>
                    </a:lnTo>
                    <a:lnTo>
                      <a:pt x="1032" y="592"/>
                    </a:lnTo>
                    <a:lnTo>
                      <a:pt x="1063" y="566"/>
                    </a:lnTo>
                    <a:lnTo>
                      <a:pt x="1369" y="203"/>
                    </a:lnTo>
                    <a:lnTo>
                      <a:pt x="1369" y="101"/>
                    </a:lnTo>
                    <a:lnTo>
                      <a:pt x="1483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7016760" y="4371840"/>
                <a:ext cx="483120" cy="221040"/>
              </a:xfrm>
              <a:custGeom>
                <a:avLst/>
                <a:gdLst/>
                <a:ahLst/>
                <a:rect l="0" t="0" r="r" b="b"/>
                <a:pathLst>
                  <a:path w="1342" h="614">
                    <a:moveTo>
                      <a:pt x="1342" y="230"/>
                    </a:moveTo>
                    <a:lnTo>
                      <a:pt x="441" y="0"/>
                    </a:lnTo>
                    <a:lnTo>
                      <a:pt x="0" y="278"/>
                    </a:lnTo>
                    <a:lnTo>
                      <a:pt x="909" y="614"/>
                    </a:lnTo>
                    <a:lnTo>
                      <a:pt x="962" y="614"/>
                    </a:lnTo>
                    <a:lnTo>
                      <a:pt x="984" y="614"/>
                    </a:lnTo>
                    <a:lnTo>
                      <a:pt x="1038" y="592"/>
                    </a:lnTo>
                    <a:lnTo>
                      <a:pt x="1342" y="230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7050240" y="4397400"/>
                <a:ext cx="397080" cy="167040"/>
              </a:xfrm>
              <a:custGeom>
                <a:avLst/>
                <a:gdLst/>
                <a:ahLst/>
                <a:rect l="0" t="0" r="r" b="b"/>
                <a:pathLst>
                  <a:path w="1103" h="464">
                    <a:moveTo>
                      <a:pt x="1103" y="283"/>
                    </a:moveTo>
                    <a:lnTo>
                      <a:pt x="1103" y="261"/>
                    </a:lnTo>
                    <a:lnTo>
                      <a:pt x="1081" y="261"/>
                    </a:lnTo>
                    <a:lnTo>
                      <a:pt x="1054" y="229"/>
                    </a:lnTo>
                    <a:lnTo>
                      <a:pt x="185" y="0"/>
                    </a:lnTo>
                    <a:lnTo>
                      <a:pt x="0" y="127"/>
                    </a:lnTo>
                    <a:lnTo>
                      <a:pt x="22" y="154"/>
                    </a:lnTo>
                    <a:lnTo>
                      <a:pt x="216" y="202"/>
                    </a:lnTo>
                    <a:lnTo>
                      <a:pt x="185" y="229"/>
                    </a:lnTo>
                    <a:lnTo>
                      <a:pt x="185" y="261"/>
                    </a:lnTo>
                    <a:lnTo>
                      <a:pt x="772" y="441"/>
                    </a:lnTo>
                    <a:lnTo>
                      <a:pt x="794" y="415"/>
                    </a:lnTo>
                    <a:lnTo>
                      <a:pt x="838" y="415"/>
                    </a:lnTo>
                    <a:lnTo>
                      <a:pt x="816" y="464"/>
                    </a:lnTo>
                    <a:lnTo>
                      <a:pt x="909" y="464"/>
                    </a:lnTo>
                    <a:lnTo>
                      <a:pt x="944" y="464"/>
                    </a:lnTo>
                    <a:lnTo>
                      <a:pt x="1103" y="283"/>
                    </a:lnTo>
                    <a:close/>
                  </a:path>
                </a:pathLst>
              </a:custGeom>
              <a:solidFill>
                <a:srgbClr val="c1ce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7016760" y="4433760"/>
                <a:ext cx="524160" cy="195480"/>
              </a:xfrm>
              <a:custGeom>
                <a:avLst/>
                <a:gdLst/>
                <a:ahLst/>
                <a:rect l="0" t="0" r="r" b="b"/>
                <a:pathLst>
                  <a:path w="1456" h="543">
                    <a:moveTo>
                      <a:pt x="1456" y="0"/>
                    </a:moveTo>
                    <a:lnTo>
                      <a:pt x="1006" y="494"/>
                    </a:lnTo>
                    <a:lnTo>
                      <a:pt x="962" y="494"/>
                    </a:lnTo>
                    <a:lnTo>
                      <a:pt x="909" y="494"/>
                    </a:lnTo>
                    <a:lnTo>
                      <a:pt x="0" y="180"/>
                    </a:lnTo>
                    <a:lnTo>
                      <a:pt x="0" y="233"/>
                    </a:lnTo>
                    <a:lnTo>
                      <a:pt x="22" y="233"/>
                    </a:lnTo>
                    <a:lnTo>
                      <a:pt x="931" y="543"/>
                    </a:lnTo>
                    <a:lnTo>
                      <a:pt x="962" y="543"/>
                    </a:lnTo>
                    <a:lnTo>
                      <a:pt x="1006" y="521"/>
                    </a:lnTo>
                    <a:lnTo>
                      <a:pt x="1456" y="22"/>
                    </a:lnTo>
                    <a:lnTo>
                      <a:pt x="1456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7183440" y="4075200"/>
                <a:ext cx="357480" cy="305280"/>
              </a:xfrm>
              <a:custGeom>
                <a:avLst/>
                <a:gdLst/>
                <a:ahLst/>
                <a:rect l="0" t="0" r="r" b="b"/>
                <a:pathLst>
                  <a:path w="993" h="848">
                    <a:moveTo>
                      <a:pt x="971" y="171"/>
                    </a:moveTo>
                    <a:lnTo>
                      <a:pt x="194" y="0"/>
                    </a:lnTo>
                    <a:lnTo>
                      <a:pt x="167" y="0"/>
                    </a:lnTo>
                    <a:lnTo>
                      <a:pt x="145" y="48"/>
                    </a:lnTo>
                    <a:lnTo>
                      <a:pt x="0" y="613"/>
                    </a:lnTo>
                    <a:lnTo>
                      <a:pt x="22" y="637"/>
                    </a:lnTo>
                    <a:lnTo>
                      <a:pt x="830" y="848"/>
                    </a:lnTo>
                    <a:lnTo>
                      <a:pt x="852" y="848"/>
                    </a:lnTo>
                    <a:lnTo>
                      <a:pt x="878" y="826"/>
                    </a:lnTo>
                    <a:lnTo>
                      <a:pt x="993" y="198"/>
                    </a:lnTo>
                    <a:lnTo>
                      <a:pt x="993" y="171"/>
                    </a:lnTo>
                    <a:lnTo>
                      <a:pt x="971" y="171"/>
                    </a:lnTo>
                    <a:close/>
                  </a:path>
                </a:pathLst>
              </a:cu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7227720" y="4092480"/>
                <a:ext cx="271800" cy="268560"/>
              </a:xfrm>
              <a:custGeom>
                <a:avLst/>
                <a:gdLst/>
                <a:ahLst/>
                <a:rect l="0" t="0" r="r" b="b"/>
                <a:pathLst>
                  <a:path w="755" h="746">
                    <a:moveTo>
                      <a:pt x="755" y="127"/>
                    </a:moveTo>
                    <a:lnTo>
                      <a:pt x="141" y="0"/>
                    </a:lnTo>
                    <a:lnTo>
                      <a:pt x="0" y="591"/>
                    </a:lnTo>
                    <a:lnTo>
                      <a:pt x="613" y="746"/>
                    </a:lnTo>
                    <a:lnTo>
                      <a:pt x="755" y="12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custDash>
                  <a:ds d="100000" sp="100000"/>
                </a:custDash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7396200" y="4546440"/>
                <a:ext cx="44640" cy="65520"/>
              </a:xfrm>
              <a:custGeom>
                <a:avLst/>
                <a:gdLst/>
                <a:ahLst/>
                <a:rect l="0" t="0" r="r" b="b"/>
                <a:pathLst>
                  <a:path w="124" h="182">
                    <a:moveTo>
                      <a:pt x="0" y="182"/>
                    </a:moveTo>
                    <a:lnTo>
                      <a:pt x="0" y="128"/>
                    </a:lnTo>
                    <a:lnTo>
                      <a:pt x="124" y="0"/>
                    </a:lnTo>
                    <a:lnTo>
                      <a:pt x="124" y="22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7405560" y="4592520"/>
                <a:ext cx="35280" cy="25920"/>
              </a:xfrm>
              <a:custGeom>
                <a:avLst/>
                <a:gdLst/>
                <a:ahLst/>
                <a:rect l="0" t="0" r="r" b="b"/>
                <a:pathLst>
                  <a:path w="98" h="72">
                    <a:moveTo>
                      <a:pt x="0" y="27"/>
                    </a:moveTo>
                    <a:lnTo>
                      <a:pt x="0" y="0"/>
                    </a:lnTo>
                    <a:lnTo>
                      <a:pt x="48" y="27"/>
                    </a:lnTo>
                    <a:lnTo>
                      <a:pt x="71" y="0"/>
                    </a:lnTo>
                    <a:lnTo>
                      <a:pt x="98" y="0"/>
                    </a:lnTo>
                    <a:lnTo>
                      <a:pt x="98" y="27"/>
                    </a:lnTo>
                    <a:lnTo>
                      <a:pt x="71" y="72"/>
                    </a:lnTo>
                    <a:lnTo>
                      <a:pt x="48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7405560" y="4564080"/>
                <a:ext cx="51120" cy="28800"/>
              </a:xfrm>
              <a:custGeom>
                <a:avLst/>
                <a:gdLst/>
                <a:ahLst/>
                <a:rect l="0" t="0" r="r" b="b"/>
                <a:pathLst>
                  <a:path w="142" h="80">
                    <a:moveTo>
                      <a:pt x="0" y="80"/>
                    </a:moveTo>
                    <a:lnTo>
                      <a:pt x="98" y="0"/>
                    </a:lnTo>
                    <a:lnTo>
                      <a:pt x="120" y="0"/>
                    </a:lnTo>
                    <a:lnTo>
                      <a:pt x="142" y="0"/>
                    </a:lnTo>
                    <a:lnTo>
                      <a:pt x="142" y="30"/>
                    </a:lnTo>
                    <a:lnTo>
                      <a:pt x="120" y="80"/>
                    </a:lnTo>
                    <a:lnTo>
                      <a:pt x="98" y="80"/>
                    </a:lnTo>
                    <a:lnTo>
                      <a:pt x="70" y="80"/>
                    </a:lnTo>
                    <a:lnTo>
                      <a:pt x="48" y="80"/>
                    </a:lnTo>
                    <a:lnTo>
                      <a:pt x="26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7446960" y="4575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0" y="36"/>
                    </a:lnTo>
                    <a:lnTo>
                      <a:pt x="31" y="0"/>
                    </a:lnTo>
                    <a:lnTo>
                      <a:pt x="72" y="36"/>
                    </a:lnTo>
                    <a:lnTo>
                      <a:pt x="72" y="72"/>
                    </a:lnTo>
                    <a:lnTo>
                      <a:pt x="31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333333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7566120" y="4479840"/>
                <a:ext cx="32040" cy="25920"/>
              </a:xfrm>
              <a:custGeom>
                <a:avLst/>
                <a:gdLst/>
                <a:ahLst/>
                <a:rect l="0" t="0" r="r" b="b"/>
                <a:pathLst>
                  <a:path w="89" h="72">
                    <a:moveTo>
                      <a:pt x="0" y="0"/>
                    </a:moveTo>
                    <a:lnTo>
                      <a:pt x="53" y="0"/>
                    </a:lnTo>
                    <a:lnTo>
                      <a:pt x="75" y="0"/>
                    </a:lnTo>
                    <a:lnTo>
                      <a:pt x="89" y="40"/>
                    </a:lnTo>
                    <a:lnTo>
                      <a:pt x="89" y="72"/>
                    </a:lnTo>
                    <a:lnTo>
                      <a:pt x="75" y="72"/>
                    </a:lnTo>
                    <a:lnTo>
                      <a:pt x="53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7566120" y="4479840"/>
                <a:ext cx="43200" cy="25920"/>
              </a:xfrm>
              <a:custGeom>
                <a:avLst/>
                <a:gdLst/>
                <a:ahLst/>
                <a:rect l="0" t="0" r="r" b="b"/>
                <a:pathLst>
                  <a:path fill="none" w="120" h="72">
                    <a:moveTo>
                      <a:pt x="0" y="0"/>
                    </a:moveTo>
                    <a:lnTo>
                      <a:pt x="75" y="0"/>
                    </a:lnTo>
                    <a:lnTo>
                      <a:pt x="102" y="0"/>
                    </a:lnTo>
                    <a:lnTo>
                      <a:pt x="120" y="40"/>
                    </a:lnTo>
                    <a:lnTo>
                      <a:pt x="120" y="72"/>
                    </a:lnTo>
                    <a:lnTo>
                      <a:pt x="102" y="72"/>
                    </a:lnTo>
                    <a:lnTo>
                      <a:pt x="75" y="72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7467480" y="4473720"/>
                <a:ext cx="92520" cy="119520"/>
              </a:xfrm>
              <a:custGeom>
                <a:avLst/>
                <a:gdLst/>
                <a:ahLst/>
                <a:rect l="0" t="0" r="r" b="b"/>
                <a:pathLst>
                  <a:path w="257" h="332">
                    <a:moveTo>
                      <a:pt x="235" y="0"/>
                    </a:moveTo>
                    <a:lnTo>
                      <a:pt x="257" y="22"/>
                    </a:lnTo>
                    <a:lnTo>
                      <a:pt x="209" y="52"/>
                    </a:lnTo>
                    <a:lnTo>
                      <a:pt x="209" y="102"/>
                    </a:lnTo>
                    <a:lnTo>
                      <a:pt x="209" y="177"/>
                    </a:lnTo>
                    <a:lnTo>
                      <a:pt x="186" y="257"/>
                    </a:lnTo>
                    <a:lnTo>
                      <a:pt x="137" y="310"/>
                    </a:lnTo>
                    <a:lnTo>
                      <a:pt x="44" y="332"/>
                    </a:lnTo>
                    <a:lnTo>
                      <a:pt x="0" y="332"/>
                    </a:lnTo>
                    <a:lnTo>
                      <a:pt x="0" y="310"/>
                    </a:lnTo>
                    <a:lnTo>
                      <a:pt x="115" y="284"/>
                    </a:lnTo>
                    <a:lnTo>
                      <a:pt x="164" y="257"/>
                    </a:lnTo>
                    <a:lnTo>
                      <a:pt x="186" y="208"/>
                    </a:lnTo>
                    <a:lnTo>
                      <a:pt x="186" y="102"/>
                    </a:lnTo>
                    <a:lnTo>
                      <a:pt x="186" y="74"/>
                    </a:lnTo>
                    <a:lnTo>
                      <a:pt x="209" y="5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6666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7572240" y="4065480"/>
                <a:ext cx="0" cy="25200"/>
              </a:xfrm>
              <a:custGeom>
                <a:avLst/>
                <a:gdLst/>
                <a:ahLst/>
                <a:rect l="0" t="0" r="r" b="b"/>
                <a:pathLst>
                  <a:path w="0" h="70">
                    <a:moveTo>
                      <a:pt x="0" y="70"/>
                    </a:move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572240" y="40305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36" y="0"/>
                    </a:lnTo>
                    <a:lnTo>
                      <a:pt x="72" y="0"/>
                    </a:lnTo>
                    <a:lnTo>
                      <a:pt x="36" y="72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581960" y="4017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488360" y="4075200"/>
                <a:ext cx="71640" cy="43200"/>
              </a:xfrm>
              <a:custGeom>
                <a:avLst/>
                <a:gdLst/>
                <a:ahLst/>
                <a:rect l="0" t="0" r="r" b="b"/>
                <a:pathLst>
                  <a:path w="199" h="120">
                    <a:moveTo>
                      <a:pt x="199" y="48"/>
                    </a:moveTo>
                    <a:lnTo>
                      <a:pt x="177" y="22"/>
                    </a:lnTo>
                    <a:lnTo>
                      <a:pt x="52" y="0"/>
                    </a:lnTo>
                    <a:lnTo>
                      <a:pt x="26" y="0"/>
                    </a:lnTo>
                    <a:lnTo>
                      <a:pt x="26" y="22"/>
                    </a:lnTo>
                    <a:lnTo>
                      <a:pt x="0" y="98"/>
                    </a:lnTo>
                    <a:lnTo>
                      <a:pt x="146" y="120"/>
                    </a:lnTo>
                    <a:lnTo>
                      <a:pt x="177" y="120"/>
                    </a:lnTo>
                    <a:lnTo>
                      <a:pt x="199" y="48"/>
                    </a:lnTo>
                    <a:close/>
                  </a:path>
                </a:pathLst>
              </a:custGeom>
              <a:solidFill>
                <a:srgbClr val="99999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8" name=""/>
          <p:cNvSpPr/>
          <p:nvPr/>
        </p:nvSpPr>
        <p:spPr>
          <a:xfrm flipV="1">
            <a:off x="7201080" y="22478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 flipV="1">
            <a:off x="4775040" y="198108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0" name=""/>
          <p:cNvGrpSpPr/>
          <p:nvPr/>
        </p:nvGrpSpPr>
        <p:grpSpPr>
          <a:xfrm>
            <a:off x="6988320" y="2417760"/>
            <a:ext cx="386280" cy="475200"/>
            <a:chOff x="6988320" y="2417760"/>
            <a:chExt cx="386280" cy="475200"/>
          </a:xfrm>
        </p:grpSpPr>
        <p:sp>
          <p:nvSpPr>
            <p:cNvPr id="2351" name=""/>
            <p:cNvSpPr/>
            <p:nvPr/>
          </p:nvSpPr>
          <p:spPr>
            <a:xfrm>
              <a:off x="6988320" y="2643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340760" y="2625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7343640" y="2678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7348680" y="2738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310520" y="2625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V="1">
              <a:off x="7331040" y="2608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V="1">
              <a:off x="7062840" y="2608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V="1">
              <a:off x="7310520" y="2617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V="1">
              <a:off x="7043760" y="2617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27704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01028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729288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02612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094520" y="267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196040" y="2679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277040" y="2606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010280" y="2608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277040" y="2639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010280" y="2641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043760" y="2654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066080" y="2671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128000" y="2679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V="1">
              <a:off x="7262640" y="2660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6988320" y="263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067520" y="2706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067520" y="2720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070760" y="2755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101000" y="2814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101000" y="2838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102440" y="28623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216920" y="2809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7216920" y="28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216920" y="2857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346880" y="279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346880" y="281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289640" y="2422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023240" y="241776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"/>
          <p:cNvGrpSpPr/>
          <p:nvPr/>
        </p:nvGrpSpPr>
        <p:grpSpPr>
          <a:xfrm>
            <a:off x="7661160" y="1262160"/>
            <a:ext cx="585000" cy="538200"/>
            <a:chOff x="7661160" y="1262160"/>
            <a:chExt cx="585000" cy="538200"/>
          </a:xfrm>
        </p:grpSpPr>
        <p:sp>
          <p:nvSpPr>
            <p:cNvPr id="2389" name=""/>
            <p:cNvSpPr/>
            <p:nvPr/>
          </p:nvSpPr>
          <p:spPr>
            <a:xfrm>
              <a:off x="8172360" y="132876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H="1">
              <a:off x="8166240" y="1271520"/>
              <a:ext cx="4896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8101080" y="131292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90000" y="132084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123400" y="130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132760" y="130320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123400" y="1433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82080" y="13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8123400" y="146700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23400" y="146700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8115480" y="160668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805880" y="153972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815240" y="130320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123400" y="158112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7661160" y="158112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670880" y="157320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701120" y="159696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670880" y="162864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831080" y="131292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872480" y="132876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8034480" y="172728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8042400" y="176832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042400" y="174312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808344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8196120" y="166860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8196120" y="166860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8101080" y="166212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8204040" y="1303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204040" y="1273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210520" y="126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123400" y="131292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0" name=""/>
          <p:cNvGrpSpPr/>
          <p:nvPr/>
        </p:nvGrpSpPr>
        <p:grpSpPr>
          <a:xfrm>
            <a:off x="5975280" y="1442880"/>
            <a:ext cx="584640" cy="538560"/>
            <a:chOff x="5975280" y="1442880"/>
            <a:chExt cx="584640" cy="538560"/>
          </a:xfrm>
        </p:grpSpPr>
        <p:sp>
          <p:nvSpPr>
            <p:cNvPr id="2421" name=""/>
            <p:cNvSpPr/>
            <p:nvPr/>
          </p:nvSpPr>
          <p:spPr>
            <a:xfrm>
              <a:off x="6486480" y="15098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>
              <a:off x="6480000" y="14526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6415200" y="14940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6504120" y="15019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43716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446880" y="14842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437160" y="16146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496200" y="1494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437160" y="16477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437160" y="16477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429240" y="17874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119640" y="17208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6129360" y="14842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6437160" y="17622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975280" y="17622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5985000" y="17542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6014880" y="17780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5985000" y="18097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6145200" y="14940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186600" y="15098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348240" y="19080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356520" y="19494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356520" y="1924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6397560" y="19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510240" y="1849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510240" y="18493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415200" y="18432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518160" y="14842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518160" y="145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524640" y="1442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437160" y="14940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2" name=""/>
          <p:cNvSpPr txBox="1"/>
          <p:nvPr/>
        </p:nvSpPr>
        <p:spPr>
          <a:xfrm>
            <a:off x="2952720" y="1814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 txBox="1"/>
          <p:nvPr/>
        </p:nvSpPr>
        <p:spPr>
          <a:xfrm>
            <a:off x="695160" y="386568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 txBox="1"/>
          <p:nvPr/>
        </p:nvSpPr>
        <p:spPr>
          <a:xfrm>
            <a:off x="5908680" y="19573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 txBox="1"/>
          <p:nvPr/>
        </p:nvSpPr>
        <p:spPr>
          <a:xfrm>
            <a:off x="7566120" y="1760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 txBox="1"/>
          <p:nvPr/>
        </p:nvSpPr>
        <p:spPr>
          <a:xfrm>
            <a:off x="7927920" y="375444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7" name=""/>
          <p:cNvGrpSpPr/>
          <p:nvPr/>
        </p:nvGrpSpPr>
        <p:grpSpPr>
          <a:xfrm>
            <a:off x="4587840" y="1495440"/>
            <a:ext cx="386280" cy="470160"/>
            <a:chOff x="4587840" y="1495440"/>
            <a:chExt cx="386280" cy="470160"/>
          </a:xfrm>
        </p:grpSpPr>
        <p:sp>
          <p:nvSpPr>
            <p:cNvPr id="2458" name=""/>
            <p:cNvSpPr/>
            <p:nvPr/>
          </p:nvSpPr>
          <p:spPr>
            <a:xfrm>
              <a:off x="4587840" y="1716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940280" y="169848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943520" y="1751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948200" y="181116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4910040" y="169848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V="1">
              <a:off x="4930920" y="168120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V="1">
              <a:off x="4662360" y="1681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4910040" y="1690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V="1">
              <a:off x="4643280" y="169056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87692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461016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89276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462600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4694400" y="1751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479592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4876920" y="16794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4610160" y="1681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876920" y="1712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610160" y="1714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643280" y="1727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665600" y="174456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4727520" y="175248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V="1">
              <a:off x="4862520" y="173340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4587840" y="170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4667400" y="177948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4667400" y="1793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4670280" y="1828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4700520" y="1887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4700520" y="19112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702320" y="19350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481644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4816440" y="19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4816440" y="193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4946760" y="187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4946760" y="189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88952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62276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5" name=""/>
          <p:cNvGrpSpPr/>
          <p:nvPr/>
        </p:nvGrpSpPr>
        <p:grpSpPr>
          <a:xfrm>
            <a:off x="1844640" y="2419200"/>
            <a:ext cx="386280" cy="470520"/>
            <a:chOff x="1844640" y="2419200"/>
            <a:chExt cx="386280" cy="470520"/>
          </a:xfrm>
        </p:grpSpPr>
        <p:sp>
          <p:nvSpPr>
            <p:cNvPr id="2496" name=""/>
            <p:cNvSpPr/>
            <p:nvPr/>
          </p:nvSpPr>
          <p:spPr>
            <a:xfrm>
              <a:off x="1844640" y="263988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197080" y="262260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200320" y="267480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205000" y="273528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166840" y="26226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V="1">
              <a:off x="2187720" y="260496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V="1">
              <a:off x="1919160" y="260496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V="1">
              <a:off x="2166840" y="26146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V="1">
              <a:off x="1900080" y="26146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13372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186696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14956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88280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951200" y="267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052720" y="267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133720" y="260352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1866960" y="26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133720" y="263700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866960" y="263844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900080" y="265104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1922400" y="266868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1984320" y="267660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V="1">
              <a:off x="2119320" y="265752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844640" y="2628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924200" y="270360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1924200" y="2717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1927080" y="27525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957320" y="2811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1957320" y="283536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1959120" y="28591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073240" y="28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073240" y="283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073240" y="2854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203560" y="2793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203560" y="2816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14632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188280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3" name=""/>
          <p:cNvSpPr/>
          <p:nvPr/>
        </p:nvSpPr>
        <p:spPr>
          <a:xfrm>
            <a:off x="1962000" y="1798560"/>
            <a:ext cx="4864320" cy="2417760"/>
          </a:xfrm>
          <a:prstGeom prst="line">
            <a:avLst/>
          </a:prstGeom>
          <a:ln w="203040">
            <a:solidFill>
              <a:srgbClr val="cecec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 txBox="1"/>
          <p:nvPr/>
        </p:nvSpPr>
        <p:spPr>
          <a:xfrm>
            <a:off x="757080" y="4780080"/>
            <a:ext cx="660096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stations may mo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yond the coverage area of their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within range of another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4516560" y="851040"/>
            <a:ext cx="4626000" cy="450540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0" y="312840"/>
            <a:ext cx="4795920" cy="431496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 txBox="1"/>
          <p:nvPr/>
        </p:nvSpPr>
        <p:spPr>
          <a:xfrm>
            <a:off x="703440" y="644400"/>
            <a:ext cx="7729560" cy="35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o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 flipV="1">
            <a:off x="2057400" y="224172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 txBox="1"/>
          <p:nvPr/>
        </p:nvSpPr>
        <p:spPr>
          <a:xfrm>
            <a:off x="150804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2692440" y="0"/>
            <a:ext cx="4267080" cy="42926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3" name=""/>
          <p:cNvGrpSpPr/>
          <p:nvPr/>
        </p:nvGrpSpPr>
        <p:grpSpPr>
          <a:xfrm>
            <a:off x="3222720" y="3110040"/>
            <a:ext cx="584640" cy="538200"/>
            <a:chOff x="3222720" y="3110040"/>
            <a:chExt cx="584640" cy="538200"/>
          </a:xfrm>
        </p:grpSpPr>
        <p:sp>
          <p:nvSpPr>
            <p:cNvPr id="2544" name=""/>
            <p:cNvSpPr/>
            <p:nvPr/>
          </p:nvSpPr>
          <p:spPr>
            <a:xfrm>
              <a:off x="3733920" y="31766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>
              <a:off x="3727440" y="31194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662280" y="31608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3751200" y="31687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3684600" y="3151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693960" y="31510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684600" y="32814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3743280" y="3160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3684600" y="331488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3684600" y="331488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676680" y="345456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3367080" y="33876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3376440" y="31510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3684600" y="34290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3222720" y="34290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3232080" y="34210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262320" y="34448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3232080" y="34765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392640" y="31608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3433680" y="31766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3595680" y="357516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3603600" y="36162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3603600" y="35910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3645000" y="3600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757680" y="351648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757680" y="351648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3662280" y="35100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3765600" y="31510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3765600" y="3121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377172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3684600" y="31608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5" name=""/>
          <p:cNvSpPr txBox="1"/>
          <p:nvPr/>
        </p:nvSpPr>
        <p:spPr>
          <a:xfrm>
            <a:off x="4213080" y="1201680"/>
            <a:ext cx="114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Access Point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 txBox="1"/>
          <p:nvPr/>
        </p:nvSpPr>
        <p:spPr>
          <a:xfrm>
            <a:off x="3146400" y="36241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7" name=""/>
          <p:cNvGrpSpPr/>
          <p:nvPr/>
        </p:nvGrpSpPr>
        <p:grpSpPr>
          <a:xfrm>
            <a:off x="8061480" y="3214800"/>
            <a:ext cx="584640" cy="538200"/>
            <a:chOff x="8061480" y="3214800"/>
            <a:chExt cx="584640" cy="538200"/>
          </a:xfrm>
        </p:grpSpPr>
        <p:sp>
          <p:nvSpPr>
            <p:cNvPr id="2578" name=""/>
            <p:cNvSpPr/>
            <p:nvPr/>
          </p:nvSpPr>
          <p:spPr>
            <a:xfrm>
              <a:off x="8572680" y="328140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8566200" y="322416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8501040" y="326556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8589960" y="327348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8523360" y="325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8532720" y="325584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8523360" y="338616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8582040" y="3265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8523360" y="341964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8523360" y="341964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8515440" y="355932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8205840" y="349236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8215200" y="325584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8523360" y="353376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8061480" y="353376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8070840" y="352584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8101080" y="354960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8070840" y="358128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8231040" y="326556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8272440" y="328140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8434440" y="367992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8442360" y="372096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8442360" y="369576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8483760" y="370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8596440" y="362124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8596440" y="362124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8501040" y="361476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8604360" y="325584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8604360" y="3225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8610480" y="321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8523360" y="326556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9" name=""/>
          <p:cNvSpPr txBox="1"/>
          <p:nvPr/>
        </p:nvSpPr>
        <p:spPr>
          <a:xfrm>
            <a:off x="6651720" y="294156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228600" y="2235240"/>
            <a:ext cx="8686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1" name=""/>
          <p:cNvGrpSpPr/>
          <p:nvPr/>
        </p:nvGrpSpPr>
        <p:grpSpPr>
          <a:xfrm>
            <a:off x="2971800" y="1236600"/>
            <a:ext cx="609840" cy="611640"/>
            <a:chOff x="2971800" y="1236600"/>
            <a:chExt cx="609840" cy="611640"/>
          </a:xfrm>
        </p:grpSpPr>
        <p:sp>
          <p:nvSpPr>
            <p:cNvPr id="2612" name=""/>
            <p:cNvSpPr/>
            <p:nvPr/>
          </p:nvSpPr>
          <p:spPr>
            <a:xfrm>
              <a:off x="3505320" y="131112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H="1">
              <a:off x="3498840" y="124776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3432240" y="129384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524400" y="130320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452760" y="1284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463920" y="128412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452760" y="14320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3514680" y="129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3452760" y="146988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3452760" y="146988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3446640" y="162864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121200" y="155268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132000" y="128412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452760" y="15987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971800" y="15987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981160" y="15908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3014640" y="161604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981160" y="16527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3147840" y="129384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192480" y="131112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360600" y="17654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3370320" y="181116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370320" y="178272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3411360" y="1793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3530520" y="169848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530520" y="169848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432240" y="169236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537000" y="128412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3537000" y="1249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3546360" y="123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452760" y="129384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3" name=""/>
          <p:cNvGrpSpPr/>
          <p:nvPr/>
        </p:nvGrpSpPr>
        <p:grpSpPr>
          <a:xfrm>
            <a:off x="762120" y="3274920"/>
            <a:ext cx="609840" cy="611640"/>
            <a:chOff x="762120" y="3274920"/>
            <a:chExt cx="609840" cy="611640"/>
          </a:xfrm>
        </p:grpSpPr>
        <p:sp>
          <p:nvSpPr>
            <p:cNvPr id="2644" name=""/>
            <p:cNvSpPr/>
            <p:nvPr/>
          </p:nvSpPr>
          <p:spPr>
            <a:xfrm>
              <a:off x="1295280" y="334980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H="1">
              <a:off x="1289160" y="328608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1222200" y="333216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1314360" y="334152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243080" y="332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254240" y="332280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1243080" y="347040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1305000" y="333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1243080" y="350820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1243080" y="350820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1236600" y="366696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911160" y="359100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922320" y="332280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1243080" y="363708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762120" y="363708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771480" y="362916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804960" y="365436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771480" y="369108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938160" y="333216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982800" y="334980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1150920" y="380376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1160640" y="384984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1160640" y="382104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1201680" y="3832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1320840" y="373680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1320840" y="373680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1222200" y="373068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1327320" y="33228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1327320" y="3287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1336680" y="3274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243080" y="333216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5" name=""/>
          <p:cNvGrpSpPr/>
          <p:nvPr/>
        </p:nvGrpSpPr>
        <p:grpSpPr>
          <a:xfrm>
            <a:off x="6902280" y="4017960"/>
            <a:ext cx="763560" cy="893880"/>
            <a:chOff x="6902280" y="4017960"/>
            <a:chExt cx="763560" cy="893880"/>
          </a:xfrm>
        </p:grpSpPr>
        <p:sp>
          <p:nvSpPr>
            <p:cNvPr id="2676" name=""/>
            <p:cNvSpPr txBox="1"/>
            <p:nvPr/>
          </p:nvSpPr>
          <p:spPr>
            <a:xfrm>
              <a:off x="6902280" y="4637160"/>
              <a:ext cx="7635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tio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7540560" y="409248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>
              <a:off x="7534440" y="4029120"/>
              <a:ext cx="5076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7467480" y="407520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7559640" y="408456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7488360" y="4065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7499520" y="406548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488360" y="42130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7550280" y="4075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7488360" y="425124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7488360" y="425124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7481880" y="441000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7156440" y="433404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7167600" y="406548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7488360" y="43797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7007400" y="43797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7016760" y="43718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7050240" y="439740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016760" y="44337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7183440" y="407520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7227720" y="409248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396200" y="45464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7405560" y="459252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7405560" y="456408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7446960" y="4575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7566120" y="44798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7566120" y="447984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7467480" y="447372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7572240" y="40654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7572240" y="4030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7581960" y="401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7488360" y="407520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8" name=""/>
          <p:cNvSpPr/>
          <p:nvPr/>
        </p:nvSpPr>
        <p:spPr>
          <a:xfrm flipV="1">
            <a:off x="7201080" y="224784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V="1">
            <a:off x="4775040" y="1981080"/>
            <a:ext cx="0" cy="254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0" name=""/>
          <p:cNvGrpSpPr/>
          <p:nvPr/>
        </p:nvGrpSpPr>
        <p:grpSpPr>
          <a:xfrm>
            <a:off x="6988320" y="2417760"/>
            <a:ext cx="386280" cy="475200"/>
            <a:chOff x="6988320" y="2417760"/>
            <a:chExt cx="386280" cy="475200"/>
          </a:xfrm>
        </p:grpSpPr>
        <p:sp>
          <p:nvSpPr>
            <p:cNvPr id="2711" name=""/>
            <p:cNvSpPr/>
            <p:nvPr/>
          </p:nvSpPr>
          <p:spPr>
            <a:xfrm>
              <a:off x="6988320" y="2643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7340760" y="2625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7343640" y="2678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7348680" y="2738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7310520" y="2625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 flipV="1">
              <a:off x="7331040" y="2608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7062840" y="2608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7310520" y="2617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V="1">
              <a:off x="7043760" y="2617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727704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7010280" y="2597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729288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702612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7094520" y="267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7196040" y="2679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7277040" y="2606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010280" y="2608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277040" y="2639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010280" y="2641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043760" y="2654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066080" y="2671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7128000" y="2679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V="1">
              <a:off x="7262640" y="2660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988320" y="2631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7067520" y="2706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067520" y="272088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070760" y="2755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101000" y="2814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7101000" y="2838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102440" y="286236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7216920" y="2809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216920" y="28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216920" y="2857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346880" y="279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346880" y="281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289640" y="2422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7023240" y="241776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8" name=""/>
          <p:cNvGrpSpPr/>
          <p:nvPr/>
        </p:nvGrpSpPr>
        <p:grpSpPr>
          <a:xfrm>
            <a:off x="7661160" y="1262160"/>
            <a:ext cx="585000" cy="538200"/>
            <a:chOff x="7661160" y="1262160"/>
            <a:chExt cx="585000" cy="538200"/>
          </a:xfrm>
        </p:grpSpPr>
        <p:sp>
          <p:nvSpPr>
            <p:cNvPr id="2749" name=""/>
            <p:cNvSpPr/>
            <p:nvPr/>
          </p:nvSpPr>
          <p:spPr>
            <a:xfrm>
              <a:off x="8172360" y="132876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H="1">
              <a:off x="8166240" y="1271520"/>
              <a:ext cx="4896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8101080" y="131292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8190000" y="132084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8123400" y="130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8132760" y="130320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8123400" y="143352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8182080" y="1312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8123400" y="146700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8123400" y="146700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8115480" y="160668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7805880" y="153972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7815240" y="130320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8123400" y="158112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7661160" y="158112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7670880" y="157320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7701120" y="159696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93ff9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7670880" y="162864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7831080" y="131292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00ae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872480" y="132876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8034480" y="172728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8042400" y="176832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8042400" y="174312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808344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8196120" y="166860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8196120" y="166860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8101080" y="166212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8204040" y="130320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8204040" y="1273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8210520" y="126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8123400" y="131292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5975280" y="1442880"/>
            <a:ext cx="584640" cy="538560"/>
            <a:chOff x="5975280" y="1442880"/>
            <a:chExt cx="584640" cy="538560"/>
          </a:xfrm>
        </p:grpSpPr>
        <p:sp>
          <p:nvSpPr>
            <p:cNvPr id="2781" name=""/>
            <p:cNvSpPr/>
            <p:nvPr/>
          </p:nvSpPr>
          <p:spPr>
            <a:xfrm>
              <a:off x="6486480" y="150984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H="1">
              <a:off x="6480000" y="1452600"/>
              <a:ext cx="49320" cy="268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6415200" y="149400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6504120" y="150192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6437160" y="1484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446880" y="14842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6437160" y="161460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6496200" y="1494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437160" y="16477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6437160" y="16477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429240" y="17874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6119640" y="17208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129360" y="14842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6437160" y="176220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975280" y="176220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985000" y="175428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014880" y="177804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ff94a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5985000" y="18097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145200" y="149400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6186600" y="150984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348240" y="19080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356520" y="19494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6356520" y="192420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6397560" y="1933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510240" y="18493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6510240" y="18493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6415200" y="184320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6518160" y="14842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518160" y="145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524640" y="1442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6437160" y="149400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"/>
          <p:cNvSpPr txBox="1"/>
          <p:nvPr/>
        </p:nvSpPr>
        <p:spPr>
          <a:xfrm>
            <a:off x="2952720" y="1814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695160" y="386568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5908680" y="195732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7566120" y="176040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 txBox="1"/>
          <p:nvPr/>
        </p:nvSpPr>
        <p:spPr>
          <a:xfrm>
            <a:off x="7927920" y="3754440"/>
            <a:ext cx="763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7" name=""/>
          <p:cNvGrpSpPr/>
          <p:nvPr/>
        </p:nvGrpSpPr>
        <p:grpSpPr>
          <a:xfrm>
            <a:off x="4587840" y="1495440"/>
            <a:ext cx="386280" cy="470160"/>
            <a:chOff x="4587840" y="1495440"/>
            <a:chExt cx="386280" cy="470160"/>
          </a:xfrm>
        </p:grpSpPr>
        <p:sp>
          <p:nvSpPr>
            <p:cNvPr id="2818" name=""/>
            <p:cNvSpPr/>
            <p:nvPr/>
          </p:nvSpPr>
          <p:spPr>
            <a:xfrm>
              <a:off x="4587840" y="1716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940280" y="169848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943520" y="1751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948200" y="181116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910040" y="169848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 flipV="1">
              <a:off x="4930920" y="168120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V="1">
              <a:off x="4662360" y="1681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 flipV="1">
              <a:off x="4910040" y="169056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 flipV="1">
              <a:off x="4643280" y="169056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87692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610160" y="1670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89276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626000" y="1676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694400" y="1751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795920" y="17524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876920" y="16794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610160" y="1681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876920" y="1712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610160" y="1714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643280" y="1727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665600" y="174456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727520" y="175248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 flipV="1">
              <a:off x="4862520" y="173340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587840" y="170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667400" y="177948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667400" y="1793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670280" y="1828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700520" y="18874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700520" y="19112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4702320" y="193500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4816440" y="1882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816440" y="19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4816440" y="19303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946760" y="187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4946760" y="1892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488952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622760" y="1495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5b74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5" name=""/>
          <p:cNvGrpSpPr/>
          <p:nvPr/>
        </p:nvGrpSpPr>
        <p:grpSpPr>
          <a:xfrm>
            <a:off x="1844640" y="2419200"/>
            <a:ext cx="386280" cy="470520"/>
            <a:chOff x="1844640" y="2419200"/>
            <a:chExt cx="386280" cy="470520"/>
          </a:xfrm>
        </p:grpSpPr>
        <p:sp>
          <p:nvSpPr>
            <p:cNvPr id="2856" name=""/>
            <p:cNvSpPr/>
            <p:nvPr/>
          </p:nvSpPr>
          <p:spPr>
            <a:xfrm>
              <a:off x="1844640" y="263988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2197080" y="262260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200320" y="267480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2205000" y="273528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2166840" y="262260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V="1">
              <a:off x="2187720" y="260496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 flipV="1">
              <a:off x="1919160" y="260496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V="1">
              <a:off x="2166840" y="261468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 flipV="1">
              <a:off x="1900080" y="261468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213372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1866960" y="259380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214956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1882800" y="2600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1951200" y="2674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2052720" y="2676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2133720" y="260352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1866960" y="260496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2133720" y="263700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866960" y="263844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900080" y="265104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1922400" y="266868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1984320" y="267660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V="1">
              <a:off x="2119320" y="265752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844640" y="26287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924200" y="270360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924200" y="2717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927080" y="275256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1957320" y="2811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1957320" y="283536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1959120" y="285912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2073240" y="2806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2073240" y="2830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2073240" y="2854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2203560" y="2793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2203560" y="2816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214632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1882800" y="241920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3" name=""/>
          <p:cNvSpPr/>
          <p:nvPr/>
        </p:nvSpPr>
        <p:spPr>
          <a:xfrm>
            <a:off x="1962000" y="1798560"/>
            <a:ext cx="4864320" cy="2417760"/>
          </a:xfrm>
          <a:prstGeom prst="line">
            <a:avLst/>
          </a:prstGeom>
          <a:ln w="203040">
            <a:solidFill>
              <a:srgbClr val="cecece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91520" rIns="191520" tIns="146520" bIns="14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 txBox="1"/>
          <p:nvPr/>
        </p:nvSpPr>
        <p:spPr>
          <a:xfrm>
            <a:off x="755640" y="4778280"/>
            <a:ext cx="7780320" cy="15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bile stations may mo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yond the coverage area of their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t within range of another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ssociation allows station to continu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Roaming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 txBox="1"/>
          <p:nvPr/>
        </p:nvSpPr>
        <p:spPr>
          <a:xfrm>
            <a:off x="692280" y="1160640"/>
            <a:ext cx="79693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 decides that link to its current AP is p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 uses scanning function to find another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uses information from previous s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 sends Reassociation Request to new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Reassociation Response is successf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n station has roamed to the new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se station scans for another 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P accepts Reassociatio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indicates Reassociation to the Distribu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 information is upd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rmally old AP is notified through Distribu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Sc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"/>
          <p:cNvSpPr txBox="1"/>
          <p:nvPr/>
        </p:nvSpPr>
        <p:spPr>
          <a:xfrm>
            <a:off x="692280" y="1160640"/>
            <a:ext cx="8070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nning required for many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ding and joining 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ding a new AP while ro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izing an Independent BSS (ad hoc)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2.11 MAC uses a common mechanism for all 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gle or multi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ssive or active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sive Sc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d networks simply by listening for Beac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ve Sc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 each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 a Probe, Wait for a Probe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or Probe Response contains information necessary to join new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"/>
          <p:cNvSpPr/>
          <p:nvPr/>
        </p:nvSpPr>
        <p:spPr>
          <a:xfrm>
            <a:off x="996840" y="1714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685800" y="457200"/>
            <a:ext cx="5613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tive Scann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"/>
          <p:cNvSpPr/>
          <p:nvPr/>
        </p:nvSpPr>
        <p:spPr>
          <a:xfrm flipV="1">
            <a:off x="137160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"/>
          <p:cNvSpPr/>
          <p:nvPr/>
        </p:nvSpPr>
        <p:spPr>
          <a:xfrm>
            <a:off x="685800" y="19810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"/>
          <p:cNvSpPr/>
          <p:nvPr/>
        </p:nvSpPr>
        <p:spPr>
          <a:xfrm flipV="1">
            <a:off x="396252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"/>
          <p:cNvSpPr/>
          <p:nvPr/>
        </p:nvSpPr>
        <p:spPr>
          <a:xfrm flipH="1">
            <a:off x="4802040" y="2400480"/>
            <a:ext cx="533520" cy="0"/>
          </a:xfrm>
          <a:prstGeom prst="line">
            <a:avLst/>
          </a:prstGeom>
          <a:ln w="255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"/>
          <p:cNvSpPr txBox="1"/>
          <p:nvPr/>
        </p:nvSpPr>
        <p:spPr>
          <a:xfrm>
            <a:off x="4621320" y="1406520"/>
            <a:ext cx="330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s to Assoc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"/>
          <p:cNvSpPr txBox="1"/>
          <p:nvPr/>
        </p:nvSpPr>
        <p:spPr>
          <a:xfrm>
            <a:off x="5433840" y="2201760"/>
            <a:ext cx="270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3" name=""/>
          <p:cNvGrpSpPr/>
          <p:nvPr/>
        </p:nvGrpSpPr>
        <p:grpSpPr>
          <a:xfrm>
            <a:off x="1812960" y="4967280"/>
            <a:ext cx="584640" cy="538560"/>
            <a:chOff x="1812960" y="4967280"/>
            <a:chExt cx="584640" cy="538560"/>
          </a:xfrm>
        </p:grpSpPr>
        <p:sp>
          <p:nvSpPr>
            <p:cNvPr id="2914" name=""/>
            <p:cNvSpPr/>
            <p:nvPr/>
          </p:nvSpPr>
          <p:spPr>
            <a:xfrm>
              <a:off x="2324160" y="503388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H="1">
              <a:off x="2317680" y="4976640"/>
              <a:ext cx="49320" cy="268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252520" y="501804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341440" y="502596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274840" y="5008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2284560" y="50086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2274840" y="513864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2333520" y="501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274840" y="51721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274840" y="51721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2266920" y="53118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1957320" y="52452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1967040" y="50086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2274840" y="528624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1812960" y="528624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1822320" y="527832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1852560" y="530208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1822320" y="53341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1982880" y="501804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2023920" y="503388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2185920" y="54324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2193840" y="54738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2193840" y="544824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2235240" y="545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2347920" y="5373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2347920" y="53737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2252520" y="536724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2355840" y="50086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2355840" y="4978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2362320" y="4967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2274840" y="501804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5" name=""/>
          <p:cNvGrpSpPr/>
          <p:nvPr/>
        </p:nvGrpSpPr>
        <p:grpSpPr>
          <a:xfrm>
            <a:off x="2286000" y="3273480"/>
            <a:ext cx="1219320" cy="1530360"/>
            <a:chOff x="2286000" y="3273480"/>
            <a:chExt cx="1219320" cy="1530360"/>
          </a:xfrm>
        </p:grpSpPr>
        <p:sp>
          <p:nvSpPr>
            <p:cNvPr id="2946" name=""/>
            <p:cNvSpPr/>
            <p:nvPr/>
          </p:nvSpPr>
          <p:spPr>
            <a:xfrm flipV="1">
              <a:off x="2808360" y="3273480"/>
              <a:ext cx="69696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 flipV="1">
              <a:off x="2286000" y="3903840"/>
              <a:ext cx="60948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 flipH="1">
              <a:off x="2808360" y="3903840"/>
              <a:ext cx="87120" cy="269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9" name=""/>
          <p:cNvGrpSpPr/>
          <p:nvPr/>
        </p:nvGrpSpPr>
        <p:grpSpPr>
          <a:xfrm>
            <a:off x="1671480" y="3201840"/>
            <a:ext cx="530280" cy="1514520"/>
            <a:chOff x="1671480" y="3201840"/>
            <a:chExt cx="530280" cy="1514520"/>
          </a:xfrm>
        </p:grpSpPr>
        <p:sp>
          <p:nvSpPr>
            <p:cNvPr id="2950" name=""/>
            <p:cNvSpPr/>
            <p:nvPr/>
          </p:nvSpPr>
          <p:spPr>
            <a:xfrm flipH="1" flipV="1">
              <a:off x="1671480" y="3201840"/>
              <a:ext cx="30348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H="1" flipV="1">
              <a:off x="1936800" y="3825720"/>
              <a:ext cx="26496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1936800" y="3825720"/>
              <a:ext cx="38160" cy="2667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3" name=""/>
          <p:cNvSpPr txBox="1"/>
          <p:nvPr/>
        </p:nvSpPr>
        <p:spPr>
          <a:xfrm>
            <a:off x="442800" y="5745240"/>
            <a:ext cx="4616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connection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 txBox="1"/>
          <p:nvPr/>
        </p:nvSpPr>
        <p:spPr>
          <a:xfrm>
            <a:off x="3451320" y="28656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5" name=""/>
          <p:cNvGrpSpPr/>
          <p:nvPr/>
        </p:nvGrpSpPr>
        <p:grpSpPr>
          <a:xfrm>
            <a:off x="3787920" y="2341440"/>
            <a:ext cx="386280" cy="475200"/>
            <a:chOff x="3787920" y="2341440"/>
            <a:chExt cx="386280" cy="475200"/>
          </a:xfrm>
        </p:grpSpPr>
        <p:sp>
          <p:nvSpPr>
            <p:cNvPr id="2956" name=""/>
            <p:cNvSpPr/>
            <p:nvPr/>
          </p:nvSpPr>
          <p:spPr>
            <a:xfrm>
              <a:off x="3787920" y="256716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140360" y="254952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143240" y="260208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148280" y="266220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110120" y="2549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V="1">
              <a:off x="4130640" y="253224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V="1">
              <a:off x="3862440" y="25322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 flipV="1">
              <a:off x="4110120" y="254160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 flipV="1">
              <a:off x="3843360" y="25416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07664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80988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09248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382572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3894120" y="260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399564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076640" y="25304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3809880" y="253224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076640" y="256392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3809880" y="256536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3843360" y="25779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3865680" y="259560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3927600" y="260352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 flipV="1">
              <a:off x="4062240" y="258444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3787920" y="255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3867120" y="263052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3867120" y="2644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3870360" y="267984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3900600" y="2738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3900600" y="2762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3902040" y="278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016520" y="273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0165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016520" y="27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14648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14648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089240" y="234648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3822840" y="2341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3" name=""/>
          <p:cNvSpPr txBox="1"/>
          <p:nvPr/>
        </p:nvSpPr>
        <p:spPr>
          <a:xfrm>
            <a:off x="835200" y="28908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4" name=""/>
          <p:cNvGrpSpPr/>
          <p:nvPr/>
        </p:nvGrpSpPr>
        <p:grpSpPr>
          <a:xfrm>
            <a:off x="1171440" y="2368440"/>
            <a:ext cx="386280" cy="470520"/>
            <a:chOff x="1171440" y="2368440"/>
            <a:chExt cx="386280" cy="470520"/>
          </a:xfrm>
        </p:grpSpPr>
        <p:sp>
          <p:nvSpPr>
            <p:cNvPr id="2995" name=""/>
            <p:cNvSpPr/>
            <p:nvPr/>
          </p:nvSpPr>
          <p:spPr>
            <a:xfrm>
              <a:off x="1171440" y="2589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1523880" y="2571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1527120" y="2624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1531800" y="2684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1494000" y="2571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V="1">
              <a:off x="1514520" y="2554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 flipV="1">
              <a:off x="1246320" y="2554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1494000" y="2563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 flipV="1">
              <a:off x="1227240" y="2563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146052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119376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147636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120960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1278000" y="262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1379520" y="262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1460520" y="2552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1193760" y="2554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1460520" y="2585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1193760" y="2587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1227240" y="2600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1249200" y="2617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1311120" y="2625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V="1">
              <a:off x="1446120" y="2606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1171440" y="257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1251000" y="2652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1251000" y="2666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254240" y="2701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1284120" y="2760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1284120" y="2784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1285920" y="2808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1400040" y="2755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1400040" y="2779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1400040" y="280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153036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1530360" y="2765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147312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120960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"/>
          <p:cNvSpPr txBox="1"/>
          <p:nvPr/>
        </p:nvSpPr>
        <p:spPr>
          <a:xfrm>
            <a:off x="685800" y="457200"/>
            <a:ext cx="5613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tive Scann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 flipV="1">
            <a:off x="137160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685800" y="19810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 flipV="1">
            <a:off x="396252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 flipH="1">
            <a:off x="4802040" y="2400480"/>
            <a:ext cx="533520" cy="0"/>
          </a:xfrm>
          <a:prstGeom prst="line">
            <a:avLst/>
          </a:prstGeom>
          <a:ln w="255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"/>
          <p:cNvSpPr txBox="1"/>
          <p:nvPr/>
        </p:nvSpPr>
        <p:spPr>
          <a:xfrm>
            <a:off x="4621320" y="1406520"/>
            <a:ext cx="330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s to Assoc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 txBox="1"/>
          <p:nvPr/>
        </p:nvSpPr>
        <p:spPr>
          <a:xfrm>
            <a:off x="5433840" y="2201760"/>
            <a:ext cx="270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"/>
          <p:cNvSpPr/>
          <p:nvPr/>
        </p:nvSpPr>
        <p:spPr>
          <a:xfrm flipH="1">
            <a:off x="4802040" y="2832120"/>
            <a:ext cx="533520" cy="0"/>
          </a:xfrm>
          <a:prstGeom prst="line">
            <a:avLst/>
          </a:prstGeom>
          <a:ln w="255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"/>
          <p:cNvSpPr txBox="1"/>
          <p:nvPr/>
        </p:nvSpPr>
        <p:spPr>
          <a:xfrm>
            <a:off x="5433840" y="2633760"/>
            <a:ext cx="34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s send Prob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3" name=""/>
          <p:cNvGrpSpPr/>
          <p:nvPr/>
        </p:nvGrpSpPr>
        <p:grpSpPr>
          <a:xfrm>
            <a:off x="1812960" y="4967280"/>
            <a:ext cx="584640" cy="538560"/>
            <a:chOff x="1812960" y="4967280"/>
            <a:chExt cx="584640" cy="538560"/>
          </a:xfrm>
        </p:grpSpPr>
        <p:sp>
          <p:nvSpPr>
            <p:cNvPr id="3044" name=""/>
            <p:cNvSpPr/>
            <p:nvPr/>
          </p:nvSpPr>
          <p:spPr>
            <a:xfrm>
              <a:off x="2324160" y="503388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>
              <a:off x="2317680" y="4976640"/>
              <a:ext cx="49320" cy="268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2252520" y="501804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2341440" y="502596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2274840" y="5008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284560" y="50086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2274840" y="513864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333520" y="501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2274840" y="51721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274840" y="51721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2266920" y="53118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957320" y="52452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1967040" y="50086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274840" y="528624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1812960" y="528624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822320" y="527832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852560" y="530208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822320" y="53341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1982880" y="501804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023920" y="503388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185920" y="54324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193840" y="54738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2193840" y="544824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2235240" y="545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347920" y="5373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347920" y="53737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2252520" y="536724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2355840" y="50086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2355840" y="4978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2362320" y="4967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2274840" y="501804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5" name=""/>
          <p:cNvGrpSpPr/>
          <p:nvPr/>
        </p:nvGrpSpPr>
        <p:grpSpPr>
          <a:xfrm>
            <a:off x="2514600" y="3429000"/>
            <a:ext cx="1219320" cy="1444680"/>
            <a:chOff x="2514600" y="3429000"/>
            <a:chExt cx="1219320" cy="1444680"/>
          </a:xfrm>
        </p:grpSpPr>
        <p:sp>
          <p:nvSpPr>
            <p:cNvPr id="3076" name=""/>
            <p:cNvSpPr/>
            <p:nvPr/>
          </p:nvSpPr>
          <p:spPr>
            <a:xfrm flipV="1">
              <a:off x="2514600" y="40068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V="1">
              <a:off x="3084480" y="34290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H="1">
              <a:off x="3084480" y="4006800"/>
              <a:ext cx="7956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9" name=""/>
          <p:cNvGrpSpPr/>
          <p:nvPr/>
        </p:nvGrpSpPr>
        <p:grpSpPr>
          <a:xfrm>
            <a:off x="2286000" y="3273480"/>
            <a:ext cx="1219320" cy="1530360"/>
            <a:chOff x="2286000" y="3273480"/>
            <a:chExt cx="1219320" cy="1530360"/>
          </a:xfrm>
        </p:grpSpPr>
        <p:sp>
          <p:nvSpPr>
            <p:cNvPr id="3080" name=""/>
            <p:cNvSpPr/>
            <p:nvPr/>
          </p:nvSpPr>
          <p:spPr>
            <a:xfrm flipV="1">
              <a:off x="2808360" y="3273480"/>
              <a:ext cx="69696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2286000" y="3903840"/>
              <a:ext cx="60948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H="1">
              <a:off x="2808360" y="3903840"/>
              <a:ext cx="87120" cy="269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3" name=""/>
          <p:cNvGrpSpPr/>
          <p:nvPr/>
        </p:nvGrpSpPr>
        <p:grpSpPr>
          <a:xfrm>
            <a:off x="1671480" y="3201840"/>
            <a:ext cx="530280" cy="1514520"/>
            <a:chOff x="1671480" y="3201840"/>
            <a:chExt cx="530280" cy="1514520"/>
          </a:xfrm>
        </p:grpSpPr>
        <p:sp>
          <p:nvSpPr>
            <p:cNvPr id="3084" name=""/>
            <p:cNvSpPr/>
            <p:nvPr/>
          </p:nvSpPr>
          <p:spPr>
            <a:xfrm flipH="1" flipV="1">
              <a:off x="1671480" y="3201840"/>
              <a:ext cx="30348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H="1" flipV="1">
              <a:off x="1936800" y="3825720"/>
              <a:ext cx="26496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1936800" y="3825720"/>
              <a:ext cx="38160" cy="2667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7" name=""/>
          <p:cNvGrpSpPr/>
          <p:nvPr/>
        </p:nvGrpSpPr>
        <p:grpSpPr>
          <a:xfrm>
            <a:off x="1527120" y="3352680"/>
            <a:ext cx="539640" cy="1444680"/>
            <a:chOff x="1527120" y="3352680"/>
            <a:chExt cx="539640" cy="1444680"/>
          </a:xfrm>
        </p:grpSpPr>
        <p:sp>
          <p:nvSpPr>
            <p:cNvPr id="3088" name=""/>
            <p:cNvSpPr/>
            <p:nvPr/>
          </p:nvSpPr>
          <p:spPr>
            <a:xfrm flipH="1" flipV="1">
              <a:off x="1779480" y="39304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H="1" flipV="1">
              <a:off x="1527120" y="33526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1779480" y="3930480"/>
              <a:ext cx="3492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1" name=""/>
          <p:cNvSpPr txBox="1"/>
          <p:nvPr/>
        </p:nvSpPr>
        <p:spPr>
          <a:xfrm>
            <a:off x="442800" y="5745240"/>
            <a:ext cx="4616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connection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"/>
          <p:cNvSpPr txBox="1"/>
          <p:nvPr/>
        </p:nvSpPr>
        <p:spPr>
          <a:xfrm>
            <a:off x="3451320" y="28656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3" name=""/>
          <p:cNvGrpSpPr/>
          <p:nvPr/>
        </p:nvGrpSpPr>
        <p:grpSpPr>
          <a:xfrm>
            <a:off x="3787920" y="2341440"/>
            <a:ext cx="386280" cy="475200"/>
            <a:chOff x="3787920" y="2341440"/>
            <a:chExt cx="386280" cy="475200"/>
          </a:xfrm>
        </p:grpSpPr>
        <p:sp>
          <p:nvSpPr>
            <p:cNvPr id="3094" name=""/>
            <p:cNvSpPr/>
            <p:nvPr/>
          </p:nvSpPr>
          <p:spPr>
            <a:xfrm>
              <a:off x="3787920" y="256716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4140360" y="254952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143240" y="260208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148280" y="266220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4110120" y="2549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 flipV="1">
              <a:off x="4130640" y="253224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flipV="1">
              <a:off x="3862440" y="25322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V="1">
              <a:off x="4110120" y="254160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V="1">
              <a:off x="3843360" y="25416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407664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380988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09248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382572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3894120" y="260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399564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4076640" y="25304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3809880" y="253224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4076640" y="256392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809880" y="256536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3843360" y="25779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3865680" y="259560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927600" y="260352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flipV="1">
              <a:off x="4062240" y="258444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3787920" y="255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3867120" y="263052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3867120" y="2644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3870360" y="267984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3900600" y="2738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900600" y="2762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3902040" y="278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4016520" y="273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40165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4016520" y="27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414648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14648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089240" y="234648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3822840" y="2341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1" name=""/>
          <p:cNvSpPr txBox="1"/>
          <p:nvPr/>
        </p:nvSpPr>
        <p:spPr>
          <a:xfrm>
            <a:off x="835200" y="28908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2" name=""/>
          <p:cNvGrpSpPr/>
          <p:nvPr/>
        </p:nvGrpSpPr>
        <p:grpSpPr>
          <a:xfrm>
            <a:off x="1171440" y="2368440"/>
            <a:ext cx="386280" cy="470520"/>
            <a:chOff x="1171440" y="2368440"/>
            <a:chExt cx="386280" cy="470520"/>
          </a:xfrm>
        </p:grpSpPr>
        <p:sp>
          <p:nvSpPr>
            <p:cNvPr id="3133" name=""/>
            <p:cNvSpPr/>
            <p:nvPr/>
          </p:nvSpPr>
          <p:spPr>
            <a:xfrm>
              <a:off x="1171440" y="2589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1523880" y="2571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1527120" y="2624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1531800" y="2684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1494000" y="2571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V="1">
              <a:off x="1514520" y="2554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V="1">
              <a:off x="1246320" y="2554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V="1">
              <a:off x="1494000" y="2563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V="1">
              <a:off x="1227240" y="2563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46052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119376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147636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120960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1278000" y="262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1379520" y="262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1460520" y="2552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1193760" y="2554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1460520" y="2585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1193760" y="2587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1227240" y="2600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1249200" y="2617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1311120" y="2625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1446120" y="2606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1171440" y="257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1251000" y="2652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1251000" y="2666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1254240" y="2701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284120" y="2760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284120" y="2784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285920" y="2808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400040" y="2755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400040" y="2779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400040" y="280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53036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1530360" y="2765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147312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120960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 txBox="1"/>
          <p:nvPr/>
        </p:nvSpPr>
        <p:spPr>
          <a:xfrm>
            <a:off x="685800" y="457200"/>
            <a:ext cx="5613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tive Scann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 flipV="1">
            <a:off x="137160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685800" y="19810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 flipV="1">
            <a:off x="396252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 flipH="1">
            <a:off x="4802040" y="2400480"/>
            <a:ext cx="533520" cy="0"/>
          </a:xfrm>
          <a:prstGeom prst="line">
            <a:avLst/>
          </a:prstGeom>
          <a:ln w="255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 txBox="1"/>
          <p:nvPr/>
        </p:nvSpPr>
        <p:spPr>
          <a:xfrm>
            <a:off x="4621320" y="1406520"/>
            <a:ext cx="330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s to Assoc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 txBox="1"/>
          <p:nvPr/>
        </p:nvSpPr>
        <p:spPr>
          <a:xfrm>
            <a:off x="5433840" y="2201760"/>
            <a:ext cx="270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 flipH="1">
            <a:off x="4802040" y="2832120"/>
            <a:ext cx="533520" cy="0"/>
          </a:xfrm>
          <a:prstGeom prst="line">
            <a:avLst/>
          </a:prstGeom>
          <a:ln w="255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 txBox="1"/>
          <p:nvPr/>
        </p:nvSpPr>
        <p:spPr>
          <a:xfrm>
            <a:off x="5433840" y="2633760"/>
            <a:ext cx="34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s send Prob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 txBox="1"/>
          <p:nvPr/>
        </p:nvSpPr>
        <p:spPr>
          <a:xfrm>
            <a:off x="5435640" y="3116160"/>
            <a:ext cx="306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lects best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2" name=""/>
          <p:cNvGrpSpPr/>
          <p:nvPr/>
        </p:nvGrpSpPr>
        <p:grpSpPr>
          <a:xfrm>
            <a:off x="1812960" y="4967280"/>
            <a:ext cx="584640" cy="538560"/>
            <a:chOff x="1812960" y="4967280"/>
            <a:chExt cx="584640" cy="538560"/>
          </a:xfrm>
        </p:grpSpPr>
        <p:sp>
          <p:nvSpPr>
            <p:cNvPr id="3183" name=""/>
            <p:cNvSpPr/>
            <p:nvPr/>
          </p:nvSpPr>
          <p:spPr>
            <a:xfrm>
              <a:off x="2324160" y="503388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H="1">
              <a:off x="2317680" y="4976640"/>
              <a:ext cx="49320" cy="268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252520" y="501804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2341440" y="502596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2274840" y="5008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2284560" y="50086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2274840" y="513864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2333520" y="501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2274840" y="51721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2274840" y="51721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2266920" y="53118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957320" y="52452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1967040" y="50086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2274840" y="528624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1812960" y="528624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1822320" y="527832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1852560" y="530208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1822320" y="53341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1982880" y="501804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2023920" y="503388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2185920" y="54324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2193840" y="54738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193840" y="544824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235240" y="545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347920" y="5373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347920" y="53737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52520" y="536724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55840" y="50086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355840" y="4978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362320" y="4967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2274840" y="501804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4" name=""/>
          <p:cNvGrpSpPr/>
          <p:nvPr/>
        </p:nvGrpSpPr>
        <p:grpSpPr>
          <a:xfrm>
            <a:off x="2514600" y="3429000"/>
            <a:ext cx="1219320" cy="1444680"/>
            <a:chOff x="2514600" y="3429000"/>
            <a:chExt cx="1219320" cy="1444680"/>
          </a:xfrm>
        </p:grpSpPr>
        <p:sp>
          <p:nvSpPr>
            <p:cNvPr id="3215" name=""/>
            <p:cNvSpPr/>
            <p:nvPr/>
          </p:nvSpPr>
          <p:spPr>
            <a:xfrm flipV="1">
              <a:off x="2514600" y="40068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3084480" y="34290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 flipH="1">
              <a:off x="3084480" y="4006800"/>
              <a:ext cx="7956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8" name=""/>
          <p:cNvGrpSpPr/>
          <p:nvPr/>
        </p:nvGrpSpPr>
        <p:grpSpPr>
          <a:xfrm>
            <a:off x="2286000" y="3273480"/>
            <a:ext cx="1219320" cy="1530360"/>
            <a:chOff x="2286000" y="3273480"/>
            <a:chExt cx="1219320" cy="1530360"/>
          </a:xfrm>
        </p:grpSpPr>
        <p:sp>
          <p:nvSpPr>
            <p:cNvPr id="3219" name=""/>
            <p:cNvSpPr/>
            <p:nvPr/>
          </p:nvSpPr>
          <p:spPr>
            <a:xfrm flipV="1">
              <a:off x="2808360" y="3273480"/>
              <a:ext cx="69696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 flipV="1">
              <a:off x="2286000" y="3903840"/>
              <a:ext cx="60948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 flipH="1">
              <a:off x="2808360" y="3903840"/>
              <a:ext cx="87120" cy="269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2" name=""/>
          <p:cNvGrpSpPr/>
          <p:nvPr/>
        </p:nvGrpSpPr>
        <p:grpSpPr>
          <a:xfrm>
            <a:off x="1671480" y="3201840"/>
            <a:ext cx="530280" cy="1514520"/>
            <a:chOff x="1671480" y="3201840"/>
            <a:chExt cx="530280" cy="1514520"/>
          </a:xfrm>
        </p:grpSpPr>
        <p:sp>
          <p:nvSpPr>
            <p:cNvPr id="3223" name=""/>
            <p:cNvSpPr/>
            <p:nvPr/>
          </p:nvSpPr>
          <p:spPr>
            <a:xfrm flipH="1" flipV="1">
              <a:off x="1671480" y="3201840"/>
              <a:ext cx="30348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 flipH="1" flipV="1">
              <a:off x="1936800" y="3825720"/>
              <a:ext cx="26496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936800" y="3825720"/>
              <a:ext cx="38160" cy="2667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6" name=""/>
          <p:cNvGrpSpPr/>
          <p:nvPr/>
        </p:nvGrpSpPr>
        <p:grpSpPr>
          <a:xfrm>
            <a:off x="1527120" y="3352680"/>
            <a:ext cx="539640" cy="1444680"/>
            <a:chOff x="1527120" y="3352680"/>
            <a:chExt cx="539640" cy="1444680"/>
          </a:xfrm>
        </p:grpSpPr>
        <p:sp>
          <p:nvSpPr>
            <p:cNvPr id="3227" name=""/>
            <p:cNvSpPr/>
            <p:nvPr/>
          </p:nvSpPr>
          <p:spPr>
            <a:xfrm flipH="1" flipV="1">
              <a:off x="1779480" y="39304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 flipH="1" flipV="1">
              <a:off x="1527120" y="33526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1779480" y="3930480"/>
              <a:ext cx="3492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0" name=""/>
          <p:cNvSpPr txBox="1"/>
          <p:nvPr/>
        </p:nvSpPr>
        <p:spPr>
          <a:xfrm>
            <a:off x="442800" y="5745240"/>
            <a:ext cx="4616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connection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3451320" y="28656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2" name=""/>
          <p:cNvGrpSpPr/>
          <p:nvPr/>
        </p:nvGrpSpPr>
        <p:grpSpPr>
          <a:xfrm>
            <a:off x="3787920" y="2341440"/>
            <a:ext cx="386280" cy="475200"/>
            <a:chOff x="3787920" y="2341440"/>
            <a:chExt cx="386280" cy="475200"/>
          </a:xfrm>
        </p:grpSpPr>
        <p:sp>
          <p:nvSpPr>
            <p:cNvPr id="3233" name=""/>
            <p:cNvSpPr/>
            <p:nvPr/>
          </p:nvSpPr>
          <p:spPr>
            <a:xfrm>
              <a:off x="3787920" y="256716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140360" y="254952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143240" y="260208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148280" y="266220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110120" y="2549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 flipV="1">
              <a:off x="4130640" y="253224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 flipV="1">
              <a:off x="3862440" y="25322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 flipV="1">
              <a:off x="4110120" y="254160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 flipV="1">
              <a:off x="3843360" y="25416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07664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380988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09248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382572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3894120" y="260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399564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076640" y="25304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3809880" y="253224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076640" y="256392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3809880" y="256536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3843360" y="25779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3865680" y="259560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3927600" y="260352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 flipV="1">
              <a:off x="4062240" y="258444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3787920" y="255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3867120" y="263052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3867120" y="2644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3870360" y="267984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3900600" y="2738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3900600" y="2762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3902040" y="278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016520" y="273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40165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4016520" y="27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14648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414648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4089240" y="234648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3822840" y="2341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0" name=""/>
          <p:cNvSpPr txBox="1"/>
          <p:nvPr/>
        </p:nvSpPr>
        <p:spPr>
          <a:xfrm>
            <a:off x="835200" y="28908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1" name=""/>
          <p:cNvGrpSpPr/>
          <p:nvPr/>
        </p:nvGrpSpPr>
        <p:grpSpPr>
          <a:xfrm>
            <a:off x="1171440" y="2368440"/>
            <a:ext cx="386280" cy="470520"/>
            <a:chOff x="1171440" y="2368440"/>
            <a:chExt cx="386280" cy="470520"/>
          </a:xfrm>
        </p:grpSpPr>
        <p:sp>
          <p:nvSpPr>
            <p:cNvPr id="3272" name=""/>
            <p:cNvSpPr/>
            <p:nvPr/>
          </p:nvSpPr>
          <p:spPr>
            <a:xfrm>
              <a:off x="1171440" y="2589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1523880" y="2571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527120" y="2624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1531800" y="2684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1494000" y="2571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V="1">
              <a:off x="1514520" y="2554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 flipV="1">
              <a:off x="1246320" y="2554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1494000" y="2563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 flipV="1">
              <a:off x="1227240" y="2563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146052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119376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147636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120960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1278000" y="262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1379520" y="262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1460520" y="2552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1193760" y="2554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1460520" y="2585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1193760" y="2587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1227240" y="2600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1249200" y="2617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1311120" y="2625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 flipV="1">
              <a:off x="1446120" y="2606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1171440" y="257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1251000" y="2652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1251000" y="2666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254240" y="2701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1284120" y="2760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284120" y="2784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1285920" y="2808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1400040" y="2755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1400040" y="2779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1400040" y="280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153036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1530360" y="2765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47312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20960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 txBox="1"/>
          <p:nvPr/>
        </p:nvSpPr>
        <p:spPr>
          <a:xfrm>
            <a:off x="685800" y="457200"/>
            <a:ext cx="5613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tive Scann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 flipV="1">
            <a:off x="137160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685800" y="19810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 flipV="1">
            <a:off x="396252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 flipH="1">
            <a:off x="4802040" y="2400480"/>
            <a:ext cx="533520" cy="0"/>
          </a:xfrm>
          <a:prstGeom prst="line">
            <a:avLst/>
          </a:prstGeom>
          <a:ln w="255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 txBox="1"/>
          <p:nvPr/>
        </p:nvSpPr>
        <p:spPr>
          <a:xfrm>
            <a:off x="4621320" y="1406520"/>
            <a:ext cx="330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s to Assoc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 txBox="1"/>
          <p:nvPr/>
        </p:nvSpPr>
        <p:spPr>
          <a:xfrm>
            <a:off x="5433840" y="2201760"/>
            <a:ext cx="270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 flipH="1">
            <a:off x="4802040" y="2832120"/>
            <a:ext cx="533520" cy="0"/>
          </a:xfrm>
          <a:prstGeom prst="line">
            <a:avLst/>
          </a:prstGeom>
          <a:ln w="255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 txBox="1"/>
          <p:nvPr/>
        </p:nvSpPr>
        <p:spPr>
          <a:xfrm>
            <a:off x="5433840" y="2633760"/>
            <a:ext cx="34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s send Prob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 txBox="1"/>
          <p:nvPr/>
        </p:nvSpPr>
        <p:spPr>
          <a:xfrm>
            <a:off x="5435640" y="3116160"/>
            <a:ext cx="306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lects best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 flipH="1">
            <a:off x="4802040" y="3772080"/>
            <a:ext cx="609840" cy="0"/>
          </a:xfrm>
          <a:prstGeom prst="line">
            <a:avLst/>
          </a:prstGeom>
          <a:ln w="255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 txBox="1"/>
          <p:nvPr/>
        </p:nvSpPr>
        <p:spPr>
          <a:xfrm>
            <a:off x="5435640" y="3573360"/>
            <a:ext cx="3359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est to selected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3" name=""/>
          <p:cNvGrpSpPr/>
          <p:nvPr/>
        </p:nvGrpSpPr>
        <p:grpSpPr>
          <a:xfrm>
            <a:off x="1812960" y="4967280"/>
            <a:ext cx="584640" cy="538560"/>
            <a:chOff x="1812960" y="4967280"/>
            <a:chExt cx="584640" cy="538560"/>
          </a:xfrm>
        </p:grpSpPr>
        <p:sp>
          <p:nvSpPr>
            <p:cNvPr id="3324" name=""/>
            <p:cNvSpPr/>
            <p:nvPr/>
          </p:nvSpPr>
          <p:spPr>
            <a:xfrm>
              <a:off x="2324160" y="503388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H="1">
              <a:off x="2317680" y="4976640"/>
              <a:ext cx="49320" cy="268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252520" y="501804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2341440" y="502596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274840" y="5008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284560" y="50086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274840" y="513864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2333520" y="501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2274840" y="51721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2274840" y="51721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266920" y="53118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1957320" y="52452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1967040" y="50086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274840" y="528624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1812960" y="528624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1822320" y="527832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1852560" y="530208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1822320" y="53341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1982880" y="501804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2023920" y="503388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185920" y="54324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2193840" y="54738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2193840" y="544824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235240" y="545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2347920" y="5373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347920" y="53737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252520" y="536724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2355840" y="50086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355840" y="4978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2362320" y="4967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2274840" y="501804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5" name=""/>
          <p:cNvGrpSpPr/>
          <p:nvPr/>
        </p:nvGrpSpPr>
        <p:grpSpPr>
          <a:xfrm>
            <a:off x="2514600" y="3429000"/>
            <a:ext cx="1219320" cy="1444680"/>
            <a:chOff x="2514600" y="3429000"/>
            <a:chExt cx="1219320" cy="1444680"/>
          </a:xfrm>
        </p:grpSpPr>
        <p:sp>
          <p:nvSpPr>
            <p:cNvPr id="3356" name=""/>
            <p:cNvSpPr/>
            <p:nvPr/>
          </p:nvSpPr>
          <p:spPr>
            <a:xfrm flipV="1">
              <a:off x="2514600" y="40068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V="1">
              <a:off x="3084480" y="34290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 flipH="1">
              <a:off x="3084480" y="4006800"/>
              <a:ext cx="7956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9" name=""/>
          <p:cNvGrpSpPr/>
          <p:nvPr/>
        </p:nvGrpSpPr>
        <p:grpSpPr>
          <a:xfrm>
            <a:off x="2286000" y="3273480"/>
            <a:ext cx="1219320" cy="1530360"/>
            <a:chOff x="2286000" y="3273480"/>
            <a:chExt cx="1219320" cy="1530360"/>
          </a:xfrm>
        </p:grpSpPr>
        <p:sp>
          <p:nvSpPr>
            <p:cNvPr id="3360" name=""/>
            <p:cNvSpPr/>
            <p:nvPr/>
          </p:nvSpPr>
          <p:spPr>
            <a:xfrm flipV="1">
              <a:off x="2808360" y="3273480"/>
              <a:ext cx="69696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 flipV="1">
              <a:off x="2286000" y="3903840"/>
              <a:ext cx="60948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 flipH="1">
              <a:off x="2808360" y="3903840"/>
              <a:ext cx="87120" cy="269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3" name=""/>
          <p:cNvGrpSpPr/>
          <p:nvPr/>
        </p:nvGrpSpPr>
        <p:grpSpPr>
          <a:xfrm>
            <a:off x="1671480" y="3201840"/>
            <a:ext cx="530280" cy="1514520"/>
            <a:chOff x="1671480" y="3201840"/>
            <a:chExt cx="530280" cy="1514520"/>
          </a:xfrm>
        </p:grpSpPr>
        <p:sp>
          <p:nvSpPr>
            <p:cNvPr id="3364" name=""/>
            <p:cNvSpPr/>
            <p:nvPr/>
          </p:nvSpPr>
          <p:spPr>
            <a:xfrm flipH="1" flipV="1">
              <a:off x="1671480" y="3201840"/>
              <a:ext cx="30348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 flipH="1" flipV="1">
              <a:off x="1936800" y="3825720"/>
              <a:ext cx="26496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1936800" y="3825720"/>
              <a:ext cx="38160" cy="2667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7" name=""/>
          <p:cNvGrpSpPr/>
          <p:nvPr/>
        </p:nvGrpSpPr>
        <p:grpSpPr>
          <a:xfrm>
            <a:off x="1290600" y="3430440"/>
            <a:ext cx="530280" cy="1514520"/>
            <a:chOff x="1290600" y="3430440"/>
            <a:chExt cx="530280" cy="1514520"/>
          </a:xfrm>
        </p:grpSpPr>
        <p:sp>
          <p:nvSpPr>
            <p:cNvPr id="3368" name=""/>
            <p:cNvSpPr/>
            <p:nvPr/>
          </p:nvSpPr>
          <p:spPr>
            <a:xfrm flipH="1" flipV="1">
              <a:off x="1290600" y="3430440"/>
              <a:ext cx="303120" cy="89064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H="1" flipV="1">
              <a:off x="1555920" y="4054320"/>
              <a:ext cx="264960" cy="89064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1555920" y="4054320"/>
              <a:ext cx="37800" cy="26676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1" name=""/>
          <p:cNvGrpSpPr/>
          <p:nvPr/>
        </p:nvGrpSpPr>
        <p:grpSpPr>
          <a:xfrm>
            <a:off x="1527120" y="3352680"/>
            <a:ext cx="539640" cy="1444680"/>
            <a:chOff x="1527120" y="3352680"/>
            <a:chExt cx="539640" cy="1444680"/>
          </a:xfrm>
        </p:grpSpPr>
        <p:sp>
          <p:nvSpPr>
            <p:cNvPr id="3372" name=""/>
            <p:cNvSpPr/>
            <p:nvPr/>
          </p:nvSpPr>
          <p:spPr>
            <a:xfrm flipH="1" flipV="1">
              <a:off x="1779480" y="39304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 flipH="1" flipV="1">
              <a:off x="1527120" y="33526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1779480" y="3930480"/>
              <a:ext cx="3492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5" name=""/>
          <p:cNvSpPr txBox="1"/>
          <p:nvPr/>
        </p:nvSpPr>
        <p:spPr>
          <a:xfrm>
            <a:off x="442800" y="5745240"/>
            <a:ext cx="4616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connection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 txBox="1"/>
          <p:nvPr/>
        </p:nvSpPr>
        <p:spPr>
          <a:xfrm>
            <a:off x="3451320" y="28656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7" name=""/>
          <p:cNvGrpSpPr/>
          <p:nvPr/>
        </p:nvGrpSpPr>
        <p:grpSpPr>
          <a:xfrm>
            <a:off x="3787920" y="2341440"/>
            <a:ext cx="386280" cy="475200"/>
            <a:chOff x="3787920" y="2341440"/>
            <a:chExt cx="386280" cy="475200"/>
          </a:xfrm>
        </p:grpSpPr>
        <p:sp>
          <p:nvSpPr>
            <p:cNvPr id="3378" name=""/>
            <p:cNvSpPr/>
            <p:nvPr/>
          </p:nvSpPr>
          <p:spPr>
            <a:xfrm>
              <a:off x="3787920" y="256716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140360" y="254952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4143240" y="260208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4148280" y="266220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4110120" y="2549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 flipV="1">
              <a:off x="4130640" y="253224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 flipV="1">
              <a:off x="3862440" y="25322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V="1">
              <a:off x="4110120" y="254160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 flipV="1">
              <a:off x="3843360" y="25416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407664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80988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409248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82572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894120" y="260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99564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4076640" y="25304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3809880" y="253224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4076640" y="256392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809880" y="256536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3843360" y="25779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3865680" y="259560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3927600" y="260352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 flipV="1">
              <a:off x="4062240" y="258444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3787920" y="255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3867120" y="263052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3867120" y="2644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3870360" y="267984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3900600" y="2738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3900600" y="2762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902040" y="278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4016520" y="273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40165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4016520" y="27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414648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414648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4089240" y="234648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3822840" y="2341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5" name=""/>
          <p:cNvSpPr txBox="1"/>
          <p:nvPr/>
        </p:nvSpPr>
        <p:spPr>
          <a:xfrm>
            <a:off x="835200" y="28908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6" name=""/>
          <p:cNvGrpSpPr/>
          <p:nvPr/>
        </p:nvGrpSpPr>
        <p:grpSpPr>
          <a:xfrm>
            <a:off x="1171440" y="2368440"/>
            <a:ext cx="386280" cy="470520"/>
            <a:chOff x="1171440" y="2368440"/>
            <a:chExt cx="386280" cy="470520"/>
          </a:xfrm>
        </p:grpSpPr>
        <p:sp>
          <p:nvSpPr>
            <p:cNvPr id="3417" name=""/>
            <p:cNvSpPr/>
            <p:nvPr/>
          </p:nvSpPr>
          <p:spPr>
            <a:xfrm>
              <a:off x="1171440" y="2589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1523880" y="2571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1527120" y="2624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531800" y="2684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1494000" y="2571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V="1">
              <a:off x="1514520" y="2554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V="1">
              <a:off x="1246320" y="2554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 flipV="1">
              <a:off x="1494000" y="2563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 flipV="1">
              <a:off x="1227240" y="2563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146052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119376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147636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120960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1278000" y="262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1379520" y="262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1460520" y="2552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1193760" y="2554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1460520" y="2585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1193760" y="2587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1227240" y="2600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1249200" y="2617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1311120" y="2625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 flipV="1">
              <a:off x="1446120" y="2606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171440" y="257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1251000" y="2652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1251000" y="2666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1254240" y="2701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1284120" y="2760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1284120" y="2784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1285920" y="2808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400040" y="2755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1400040" y="2779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1400040" y="280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153036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1530360" y="2765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147312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120960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Basic Access Protocol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88880" y="1147680"/>
            <a:ext cx="8629560" cy="48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Distributed Coordination Function (DCF) for efficient medium sharing without overlap restri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CSMA with Collision Avoidance deriv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rier S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unction in PHY called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lear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Channel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Assessment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C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bust for interfer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CSMA/CA + A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unicast frames,  with MAC level recov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MA/CA for Broadcast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rameterized use of RTS / CTS to provide a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Virtual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Carrier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Sense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nction to protect against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dden Nod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Du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ation is distributed by both transmitter and receiver through separate RTS and CTS Control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udes fragmentation to cope with different PHY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me formats to support the access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Infrastructure and Ad-Hoc Network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reless Distribution Syst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749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 txBox="1"/>
          <p:nvPr/>
        </p:nvSpPr>
        <p:spPr>
          <a:xfrm>
            <a:off x="685800" y="457200"/>
            <a:ext cx="5613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tive Scann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 flipV="1">
            <a:off x="137160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685800" y="19810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 flipV="1">
            <a:off x="396252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 flipH="1">
            <a:off x="4802040" y="2400480"/>
            <a:ext cx="533520" cy="0"/>
          </a:xfrm>
          <a:prstGeom prst="line">
            <a:avLst/>
          </a:prstGeom>
          <a:ln w="255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 txBox="1"/>
          <p:nvPr/>
        </p:nvSpPr>
        <p:spPr>
          <a:xfrm>
            <a:off x="4621320" y="1406520"/>
            <a:ext cx="330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s to Assoc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 txBox="1"/>
          <p:nvPr/>
        </p:nvSpPr>
        <p:spPr>
          <a:xfrm>
            <a:off x="5433840" y="2201760"/>
            <a:ext cx="270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 flipH="1">
            <a:off x="4802040" y="2832120"/>
            <a:ext cx="533520" cy="0"/>
          </a:xfrm>
          <a:prstGeom prst="line">
            <a:avLst/>
          </a:prstGeom>
          <a:ln w="255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 txBox="1"/>
          <p:nvPr/>
        </p:nvSpPr>
        <p:spPr>
          <a:xfrm>
            <a:off x="5433840" y="2633760"/>
            <a:ext cx="34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s send Prob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 txBox="1"/>
          <p:nvPr/>
        </p:nvSpPr>
        <p:spPr>
          <a:xfrm>
            <a:off x="5435640" y="3116160"/>
            <a:ext cx="306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lects best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 flipH="1">
            <a:off x="4802040" y="3772080"/>
            <a:ext cx="609840" cy="0"/>
          </a:xfrm>
          <a:prstGeom prst="line">
            <a:avLst/>
          </a:prstGeom>
          <a:ln w="255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 txBox="1"/>
          <p:nvPr/>
        </p:nvSpPr>
        <p:spPr>
          <a:xfrm>
            <a:off x="5435640" y="3573360"/>
            <a:ext cx="3359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est to selected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 flipH="1">
            <a:off x="4802040" y="4533840"/>
            <a:ext cx="609840" cy="0"/>
          </a:xfrm>
          <a:prstGeom prst="line">
            <a:avLst/>
          </a:prstGeom>
          <a:ln w="25560">
            <a:solidFill>
              <a:srgbClr val="618ff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 txBox="1"/>
          <p:nvPr/>
        </p:nvSpPr>
        <p:spPr>
          <a:xfrm>
            <a:off x="5433840" y="4335480"/>
            <a:ext cx="2851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sends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0" name=""/>
          <p:cNvGrpSpPr/>
          <p:nvPr/>
        </p:nvGrpSpPr>
        <p:grpSpPr>
          <a:xfrm>
            <a:off x="1812960" y="4967280"/>
            <a:ext cx="584640" cy="538560"/>
            <a:chOff x="1812960" y="4967280"/>
            <a:chExt cx="584640" cy="538560"/>
          </a:xfrm>
        </p:grpSpPr>
        <p:sp>
          <p:nvSpPr>
            <p:cNvPr id="3471" name=""/>
            <p:cNvSpPr/>
            <p:nvPr/>
          </p:nvSpPr>
          <p:spPr>
            <a:xfrm>
              <a:off x="2324160" y="5033880"/>
              <a:ext cx="51120" cy="128880"/>
            </a:xfrm>
            <a:custGeom>
              <a:avLst/>
              <a:gdLst/>
              <a:ahLst/>
              <a:rect l="0" t="0" r="r" b="b"/>
              <a:pathLst>
                <a:path w="142" h="358">
                  <a:moveTo>
                    <a:pt x="0" y="358"/>
                  </a:moveTo>
                  <a:lnTo>
                    <a:pt x="0" y="336"/>
                  </a:lnTo>
                  <a:lnTo>
                    <a:pt x="93" y="0"/>
                  </a:lnTo>
                  <a:lnTo>
                    <a:pt x="142" y="0"/>
                  </a:lnTo>
                  <a:lnTo>
                    <a:pt x="120" y="88"/>
                  </a:lnTo>
                  <a:lnTo>
                    <a:pt x="93" y="88"/>
                  </a:lnTo>
                  <a:lnTo>
                    <a:pt x="48" y="358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 flipH="1">
              <a:off x="2317680" y="4976640"/>
              <a:ext cx="49320" cy="268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252520" y="5018040"/>
              <a:ext cx="105120" cy="144720"/>
            </a:xfrm>
            <a:custGeom>
              <a:avLst/>
              <a:gdLst/>
              <a:ahLst/>
              <a:rect l="0" t="0" r="r" b="b"/>
              <a:pathLst>
                <a:path w="292" h="402">
                  <a:moveTo>
                    <a:pt x="110" y="402"/>
                  </a:moveTo>
                  <a:lnTo>
                    <a:pt x="159" y="402"/>
                  </a:lnTo>
                  <a:lnTo>
                    <a:pt x="203" y="402"/>
                  </a:lnTo>
                  <a:lnTo>
                    <a:pt x="203" y="380"/>
                  </a:lnTo>
                  <a:lnTo>
                    <a:pt x="265" y="132"/>
                  </a:lnTo>
                  <a:lnTo>
                    <a:pt x="292" y="105"/>
                  </a:lnTo>
                  <a:lnTo>
                    <a:pt x="292" y="44"/>
                  </a:lnTo>
                  <a:lnTo>
                    <a:pt x="265" y="44"/>
                  </a:lnTo>
                  <a:lnTo>
                    <a:pt x="247" y="44"/>
                  </a:lnTo>
                  <a:lnTo>
                    <a:pt x="230" y="132"/>
                  </a:lnTo>
                  <a:lnTo>
                    <a:pt x="203" y="154"/>
                  </a:lnTo>
                  <a:lnTo>
                    <a:pt x="132" y="154"/>
                  </a:lnTo>
                  <a:lnTo>
                    <a:pt x="61" y="132"/>
                  </a:lnTo>
                  <a:lnTo>
                    <a:pt x="88" y="70"/>
                  </a:lnTo>
                  <a:lnTo>
                    <a:pt x="88" y="22"/>
                  </a:lnTo>
                  <a:lnTo>
                    <a:pt x="61" y="0"/>
                  </a:lnTo>
                  <a:lnTo>
                    <a:pt x="44" y="70"/>
                  </a:lnTo>
                  <a:lnTo>
                    <a:pt x="0" y="221"/>
                  </a:lnTo>
                  <a:lnTo>
                    <a:pt x="0" y="358"/>
                  </a:lnTo>
                  <a:lnTo>
                    <a:pt x="0" y="380"/>
                  </a:lnTo>
                  <a:lnTo>
                    <a:pt x="44" y="380"/>
                  </a:lnTo>
                  <a:lnTo>
                    <a:pt x="61" y="380"/>
                  </a:lnTo>
                  <a:lnTo>
                    <a:pt x="110" y="4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2341440" y="5025960"/>
              <a:ext cx="33840" cy="25920"/>
            </a:xfrm>
            <a:custGeom>
              <a:avLst/>
              <a:gdLst/>
              <a:ahLst/>
              <a:rect l="0" t="0" r="r" b="b"/>
              <a:pathLst>
                <a:path fill="none" w="94" h="72">
                  <a:moveTo>
                    <a:pt x="45" y="72"/>
                  </a:moveTo>
                  <a:lnTo>
                    <a:pt x="94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5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2274840" y="5008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2284560" y="5008680"/>
              <a:ext cx="63720" cy="25920"/>
            </a:xfrm>
            <a:custGeom>
              <a:avLst/>
              <a:gdLst/>
              <a:ahLst/>
              <a:rect l="0" t="0" r="r" b="b"/>
              <a:pathLst>
                <a:path w="177" h="72">
                  <a:moveTo>
                    <a:pt x="0" y="36"/>
                  </a:moveTo>
                  <a:lnTo>
                    <a:pt x="44" y="0"/>
                  </a:lnTo>
                  <a:lnTo>
                    <a:pt x="93" y="0"/>
                  </a:lnTo>
                  <a:lnTo>
                    <a:pt x="142" y="36"/>
                  </a:lnTo>
                  <a:lnTo>
                    <a:pt x="177" y="36"/>
                  </a:lnTo>
                  <a:lnTo>
                    <a:pt x="142" y="72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2274840" y="5138640"/>
              <a:ext cx="25920" cy="33840"/>
            </a:xfrm>
            <a:custGeom>
              <a:avLst/>
              <a:gdLst/>
              <a:ahLst/>
              <a:rect l="0" t="0" r="r" b="b"/>
              <a:pathLst>
                <a:path w="72" h="94">
                  <a:moveTo>
                    <a:pt x="72" y="67"/>
                  </a:moveTo>
                  <a:lnTo>
                    <a:pt x="36" y="94"/>
                  </a:lnTo>
                  <a:lnTo>
                    <a:pt x="0" y="67"/>
                  </a:lnTo>
                  <a:lnTo>
                    <a:pt x="36" y="27"/>
                  </a:lnTo>
                  <a:lnTo>
                    <a:pt x="36" y="0"/>
                  </a:lnTo>
                  <a:lnTo>
                    <a:pt x="72" y="27"/>
                  </a:lnTo>
                  <a:lnTo>
                    <a:pt x="72" y="49"/>
                  </a:lnTo>
                  <a:lnTo>
                    <a:pt x="72" y="6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2333520" y="5018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36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2274840" y="5172120"/>
              <a:ext cx="111600" cy="219600"/>
            </a:xfrm>
            <a:custGeom>
              <a:avLst/>
              <a:gdLst/>
              <a:ahLst/>
              <a:rect l="0" t="0" r="r" b="b"/>
              <a:pathLst>
                <a:path w="310" h="610">
                  <a:moveTo>
                    <a:pt x="13" y="0"/>
                  </a:moveTo>
                  <a:lnTo>
                    <a:pt x="0" y="0"/>
                  </a:lnTo>
                  <a:lnTo>
                    <a:pt x="0" y="127"/>
                  </a:lnTo>
                  <a:lnTo>
                    <a:pt x="13" y="256"/>
                  </a:lnTo>
                  <a:lnTo>
                    <a:pt x="61" y="389"/>
                  </a:lnTo>
                  <a:lnTo>
                    <a:pt x="146" y="544"/>
                  </a:lnTo>
                  <a:lnTo>
                    <a:pt x="253" y="610"/>
                  </a:lnTo>
                  <a:lnTo>
                    <a:pt x="293" y="610"/>
                  </a:lnTo>
                  <a:lnTo>
                    <a:pt x="310" y="584"/>
                  </a:lnTo>
                  <a:lnTo>
                    <a:pt x="293" y="544"/>
                  </a:lnTo>
                  <a:lnTo>
                    <a:pt x="275" y="517"/>
                  </a:lnTo>
                  <a:lnTo>
                    <a:pt x="208" y="517"/>
                  </a:lnTo>
                  <a:lnTo>
                    <a:pt x="164" y="517"/>
                  </a:lnTo>
                  <a:lnTo>
                    <a:pt x="120" y="460"/>
                  </a:lnTo>
                  <a:lnTo>
                    <a:pt x="84" y="367"/>
                  </a:lnTo>
                  <a:lnTo>
                    <a:pt x="39" y="283"/>
                  </a:lnTo>
                  <a:lnTo>
                    <a:pt x="13" y="105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2274840" y="5172120"/>
              <a:ext cx="122760" cy="227520"/>
            </a:xfrm>
            <a:custGeom>
              <a:avLst/>
              <a:gdLst/>
              <a:ahLst/>
              <a:rect l="0" t="0" r="r" b="b"/>
              <a:pathLst>
                <a:path fill="none" w="341" h="632">
                  <a:moveTo>
                    <a:pt x="26" y="0"/>
                  </a:moveTo>
                  <a:lnTo>
                    <a:pt x="0" y="0"/>
                  </a:lnTo>
                  <a:lnTo>
                    <a:pt x="0" y="132"/>
                  </a:lnTo>
                  <a:lnTo>
                    <a:pt x="26" y="269"/>
                  </a:lnTo>
                  <a:lnTo>
                    <a:pt x="70" y="411"/>
                  </a:lnTo>
                  <a:lnTo>
                    <a:pt x="164" y="562"/>
                  </a:lnTo>
                  <a:lnTo>
                    <a:pt x="279" y="632"/>
                  </a:lnTo>
                  <a:lnTo>
                    <a:pt x="319" y="632"/>
                  </a:lnTo>
                  <a:lnTo>
                    <a:pt x="341" y="610"/>
                  </a:lnTo>
                  <a:lnTo>
                    <a:pt x="319" y="562"/>
                  </a:lnTo>
                  <a:lnTo>
                    <a:pt x="306" y="544"/>
                  </a:lnTo>
                  <a:lnTo>
                    <a:pt x="230" y="544"/>
                  </a:lnTo>
                  <a:lnTo>
                    <a:pt x="186" y="544"/>
                  </a:lnTo>
                  <a:lnTo>
                    <a:pt x="137" y="472"/>
                  </a:lnTo>
                  <a:lnTo>
                    <a:pt x="98" y="389"/>
                  </a:lnTo>
                  <a:lnTo>
                    <a:pt x="48" y="296"/>
                  </a:lnTo>
                  <a:lnTo>
                    <a:pt x="26" y="110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2266920" y="5311800"/>
              <a:ext cx="25920" cy="39960"/>
            </a:xfrm>
            <a:custGeom>
              <a:avLst/>
              <a:gdLst/>
              <a:ahLst/>
              <a:rect l="0" t="0" r="r" b="b"/>
              <a:pathLst>
                <a:path w="72" h="111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4"/>
                  </a:lnTo>
                  <a:lnTo>
                    <a:pt x="0" y="62"/>
                  </a:lnTo>
                  <a:lnTo>
                    <a:pt x="0" y="84"/>
                  </a:lnTo>
                  <a:lnTo>
                    <a:pt x="72" y="111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1957320" y="5245200"/>
              <a:ext cx="327240" cy="106560"/>
            </a:xfrm>
            <a:custGeom>
              <a:avLst/>
              <a:gdLst/>
              <a:ahLst/>
              <a:rect l="0" t="0" r="r" b="b"/>
              <a:pathLst>
                <a:path w="909" h="296">
                  <a:moveTo>
                    <a:pt x="48" y="0"/>
                  </a:moveTo>
                  <a:lnTo>
                    <a:pt x="882" y="186"/>
                  </a:lnTo>
                  <a:lnTo>
                    <a:pt x="860" y="208"/>
                  </a:lnTo>
                  <a:lnTo>
                    <a:pt x="860" y="225"/>
                  </a:lnTo>
                  <a:lnTo>
                    <a:pt x="860" y="269"/>
                  </a:lnTo>
                  <a:lnTo>
                    <a:pt x="882" y="269"/>
                  </a:lnTo>
                  <a:lnTo>
                    <a:pt x="909" y="296"/>
                  </a:lnTo>
                  <a:lnTo>
                    <a:pt x="48" y="97"/>
                  </a:lnTo>
                  <a:lnTo>
                    <a:pt x="26" y="70"/>
                  </a:lnTo>
                  <a:lnTo>
                    <a:pt x="0" y="26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1967040" y="5008680"/>
              <a:ext cx="375120" cy="303480"/>
            </a:xfrm>
            <a:custGeom>
              <a:avLst/>
              <a:gdLst/>
              <a:ahLst/>
              <a:rect l="0" t="0" r="r" b="b"/>
              <a:pathLst>
                <a:path w="1042" h="843">
                  <a:moveTo>
                    <a:pt x="994" y="110"/>
                  </a:moveTo>
                  <a:lnTo>
                    <a:pt x="180" y="0"/>
                  </a:lnTo>
                  <a:lnTo>
                    <a:pt x="158" y="0"/>
                  </a:lnTo>
                  <a:lnTo>
                    <a:pt x="132" y="26"/>
                  </a:lnTo>
                  <a:lnTo>
                    <a:pt x="0" y="587"/>
                  </a:lnTo>
                  <a:lnTo>
                    <a:pt x="0" y="636"/>
                  </a:lnTo>
                  <a:lnTo>
                    <a:pt x="22" y="658"/>
                  </a:lnTo>
                  <a:lnTo>
                    <a:pt x="857" y="843"/>
                  </a:lnTo>
                  <a:lnTo>
                    <a:pt x="883" y="816"/>
                  </a:lnTo>
                  <a:lnTo>
                    <a:pt x="905" y="790"/>
                  </a:lnTo>
                  <a:lnTo>
                    <a:pt x="928" y="772"/>
                  </a:lnTo>
                  <a:lnTo>
                    <a:pt x="1042" y="180"/>
                  </a:lnTo>
                  <a:lnTo>
                    <a:pt x="1042" y="158"/>
                  </a:lnTo>
                  <a:lnTo>
                    <a:pt x="1020" y="132"/>
                  </a:lnTo>
                  <a:lnTo>
                    <a:pt x="994" y="11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2274840" y="5286240"/>
              <a:ext cx="49680" cy="33840"/>
            </a:xfrm>
            <a:custGeom>
              <a:avLst/>
              <a:gdLst/>
              <a:ahLst/>
              <a:rect l="0" t="0" r="r" b="b"/>
              <a:pathLst>
                <a:path w="138" h="94">
                  <a:moveTo>
                    <a:pt x="71" y="0"/>
                  </a:moveTo>
                  <a:lnTo>
                    <a:pt x="138" y="0"/>
                  </a:lnTo>
                  <a:lnTo>
                    <a:pt x="26" y="94"/>
                  </a:lnTo>
                  <a:lnTo>
                    <a:pt x="26" y="72"/>
                  </a:lnTo>
                  <a:lnTo>
                    <a:pt x="0" y="72"/>
                  </a:lnTo>
                  <a:lnTo>
                    <a:pt x="26" y="45"/>
                  </a:lnTo>
                  <a:lnTo>
                    <a:pt x="49" y="17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1812960" y="5286240"/>
              <a:ext cx="511560" cy="203400"/>
            </a:xfrm>
            <a:custGeom>
              <a:avLst/>
              <a:gdLst/>
              <a:ahLst/>
              <a:rect l="0" t="0" r="r" b="b"/>
              <a:pathLst>
                <a:path w="1421" h="565">
                  <a:moveTo>
                    <a:pt x="1421" y="0"/>
                  </a:moveTo>
                  <a:lnTo>
                    <a:pt x="1421" y="132"/>
                  </a:lnTo>
                  <a:lnTo>
                    <a:pt x="966" y="565"/>
                  </a:lnTo>
                  <a:lnTo>
                    <a:pt x="944" y="565"/>
                  </a:lnTo>
                  <a:lnTo>
                    <a:pt x="896" y="565"/>
                  </a:lnTo>
                  <a:lnTo>
                    <a:pt x="26" y="292"/>
                  </a:lnTo>
                  <a:lnTo>
                    <a:pt x="0" y="292"/>
                  </a:lnTo>
                  <a:lnTo>
                    <a:pt x="0" y="242"/>
                  </a:lnTo>
                  <a:lnTo>
                    <a:pt x="26" y="220"/>
                  </a:lnTo>
                  <a:lnTo>
                    <a:pt x="26" y="242"/>
                  </a:lnTo>
                  <a:lnTo>
                    <a:pt x="896" y="516"/>
                  </a:lnTo>
                  <a:lnTo>
                    <a:pt x="944" y="516"/>
                  </a:lnTo>
                  <a:lnTo>
                    <a:pt x="988" y="516"/>
                  </a:lnTo>
                  <a:lnTo>
                    <a:pt x="1019" y="494"/>
                  </a:lnTo>
                  <a:lnTo>
                    <a:pt x="1311" y="180"/>
                  </a:lnTo>
                  <a:lnTo>
                    <a:pt x="1311" y="88"/>
                  </a:lnTo>
                  <a:lnTo>
                    <a:pt x="1421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1822320" y="5278320"/>
              <a:ext cx="462240" cy="195480"/>
            </a:xfrm>
            <a:custGeom>
              <a:avLst/>
              <a:gdLst/>
              <a:ahLst/>
              <a:rect l="0" t="0" r="r" b="b"/>
              <a:pathLst>
                <a:path w="1284" h="543">
                  <a:moveTo>
                    <a:pt x="1284" y="202"/>
                  </a:moveTo>
                  <a:lnTo>
                    <a:pt x="423" y="0"/>
                  </a:lnTo>
                  <a:lnTo>
                    <a:pt x="0" y="242"/>
                  </a:lnTo>
                  <a:lnTo>
                    <a:pt x="874" y="543"/>
                  </a:lnTo>
                  <a:lnTo>
                    <a:pt x="918" y="543"/>
                  </a:lnTo>
                  <a:lnTo>
                    <a:pt x="940" y="543"/>
                  </a:lnTo>
                  <a:lnTo>
                    <a:pt x="993" y="521"/>
                  </a:lnTo>
                  <a:lnTo>
                    <a:pt x="1284" y="20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1852560" y="5302080"/>
              <a:ext cx="383040" cy="146520"/>
            </a:xfrm>
            <a:custGeom>
              <a:avLst/>
              <a:gdLst/>
              <a:ahLst/>
              <a:rect l="0" t="0" r="r" b="b"/>
              <a:pathLst>
                <a:path w="1064" h="407">
                  <a:moveTo>
                    <a:pt x="1064" y="247"/>
                  </a:moveTo>
                  <a:lnTo>
                    <a:pt x="1064" y="225"/>
                  </a:lnTo>
                  <a:lnTo>
                    <a:pt x="1042" y="225"/>
                  </a:lnTo>
                  <a:lnTo>
                    <a:pt x="1016" y="199"/>
                  </a:lnTo>
                  <a:lnTo>
                    <a:pt x="180" y="0"/>
                  </a:lnTo>
                  <a:lnTo>
                    <a:pt x="0" y="111"/>
                  </a:lnTo>
                  <a:lnTo>
                    <a:pt x="22" y="137"/>
                  </a:lnTo>
                  <a:lnTo>
                    <a:pt x="207" y="181"/>
                  </a:lnTo>
                  <a:lnTo>
                    <a:pt x="180" y="199"/>
                  </a:lnTo>
                  <a:lnTo>
                    <a:pt x="180" y="225"/>
                  </a:lnTo>
                  <a:lnTo>
                    <a:pt x="746" y="385"/>
                  </a:lnTo>
                  <a:lnTo>
                    <a:pt x="768" y="363"/>
                  </a:lnTo>
                  <a:lnTo>
                    <a:pt x="808" y="363"/>
                  </a:lnTo>
                  <a:lnTo>
                    <a:pt x="790" y="407"/>
                  </a:lnTo>
                  <a:lnTo>
                    <a:pt x="879" y="407"/>
                  </a:lnTo>
                  <a:lnTo>
                    <a:pt x="910" y="407"/>
                  </a:lnTo>
                  <a:lnTo>
                    <a:pt x="1064" y="247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1822320" y="5334120"/>
              <a:ext cx="501840" cy="171720"/>
            </a:xfrm>
            <a:custGeom>
              <a:avLst/>
              <a:gdLst/>
              <a:ahLst/>
              <a:rect l="0" t="0" r="r" b="b"/>
              <a:pathLst>
                <a:path w="1394" h="477">
                  <a:moveTo>
                    <a:pt x="1394" y="0"/>
                  </a:moveTo>
                  <a:lnTo>
                    <a:pt x="962" y="433"/>
                  </a:lnTo>
                  <a:lnTo>
                    <a:pt x="918" y="433"/>
                  </a:lnTo>
                  <a:lnTo>
                    <a:pt x="874" y="433"/>
                  </a:lnTo>
                  <a:lnTo>
                    <a:pt x="0" y="158"/>
                  </a:lnTo>
                  <a:lnTo>
                    <a:pt x="0" y="207"/>
                  </a:lnTo>
                  <a:lnTo>
                    <a:pt x="22" y="207"/>
                  </a:lnTo>
                  <a:lnTo>
                    <a:pt x="891" y="477"/>
                  </a:lnTo>
                  <a:lnTo>
                    <a:pt x="918" y="477"/>
                  </a:lnTo>
                  <a:lnTo>
                    <a:pt x="962" y="455"/>
                  </a:lnTo>
                  <a:lnTo>
                    <a:pt x="1394" y="22"/>
                  </a:lnTo>
                  <a:lnTo>
                    <a:pt x="1394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1982880" y="5018040"/>
              <a:ext cx="341640" cy="268560"/>
            </a:xfrm>
            <a:custGeom>
              <a:avLst/>
              <a:gdLst/>
              <a:ahLst/>
              <a:rect l="0" t="0" r="r" b="b"/>
              <a:pathLst>
                <a:path w="949" h="746">
                  <a:moveTo>
                    <a:pt x="927" y="154"/>
                  </a:moveTo>
                  <a:lnTo>
                    <a:pt x="185" y="0"/>
                  </a:lnTo>
                  <a:lnTo>
                    <a:pt x="158" y="0"/>
                  </a:lnTo>
                  <a:lnTo>
                    <a:pt x="136" y="44"/>
                  </a:lnTo>
                  <a:lnTo>
                    <a:pt x="0" y="538"/>
                  </a:lnTo>
                  <a:lnTo>
                    <a:pt x="22" y="561"/>
                  </a:lnTo>
                  <a:lnTo>
                    <a:pt x="790" y="746"/>
                  </a:lnTo>
                  <a:lnTo>
                    <a:pt x="812" y="746"/>
                  </a:lnTo>
                  <a:lnTo>
                    <a:pt x="838" y="724"/>
                  </a:lnTo>
                  <a:lnTo>
                    <a:pt x="949" y="176"/>
                  </a:lnTo>
                  <a:lnTo>
                    <a:pt x="949" y="154"/>
                  </a:lnTo>
                  <a:lnTo>
                    <a:pt x="927" y="154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2023920" y="5033880"/>
              <a:ext cx="260640" cy="235440"/>
            </a:xfrm>
            <a:custGeom>
              <a:avLst/>
              <a:gdLst/>
              <a:ahLst/>
              <a:rect l="0" t="0" r="r" b="b"/>
              <a:pathLst>
                <a:path w="724" h="654">
                  <a:moveTo>
                    <a:pt x="724" y="110"/>
                  </a:moveTo>
                  <a:lnTo>
                    <a:pt x="136" y="0"/>
                  </a:lnTo>
                  <a:lnTo>
                    <a:pt x="0" y="517"/>
                  </a:lnTo>
                  <a:lnTo>
                    <a:pt x="587" y="654"/>
                  </a:lnTo>
                  <a:lnTo>
                    <a:pt x="724" y="11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2185920" y="5432400"/>
              <a:ext cx="41760" cy="57600"/>
            </a:xfrm>
            <a:custGeom>
              <a:avLst/>
              <a:gdLst/>
              <a:ahLst/>
              <a:rect l="0" t="0" r="r" b="b"/>
              <a:pathLst>
                <a:path w="116" h="160">
                  <a:moveTo>
                    <a:pt x="0" y="160"/>
                  </a:moveTo>
                  <a:lnTo>
                    <a:pt x="0" y="111"/>
                  </a:lnTo>
                  <a:lnTo>
                    <a:pt x="116" y="0"/>
                  </a:lnTo>
                  <a:lnTo>
                    <a:pt x="116" y="2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193840" y="54738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0" y="27"/>
                  </a:moveTo>
                  <a:lnTo>
                    <a:pt x="0" y="0"/>
                  </a:lnTo>
                  <a:lnTo>
                    <a:pt x="49" y="27"/>
                  </a:lnTo>
                  <a:lnTo>
                    <a:pt x="67" y="0"/>
                  </a:lnTo>
                  <a:lnTo>
                    <a:pt x="94" y="0"/>
                  </a:lnTo>
                  <a:lnTo>
                    <a:pt x="94" y="27"/>
                  </a:lnTo>
                  <a:lnTo>
                    <a:pt x="67" y="72"/>
                  </a:lnTo>
                  <a:lnTo>
                    <a:pt x="49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2193840" y="5448240"/>
              <a:ext cx="49680" cy="25920"/>
            </a:xfrm>
            <a:custGeom>
              <a:avLst/>
              <a:gdLst/>
              <a:ahLst/>
              <a:rect l="0" t="0" r="r" b="b"/>
              <a:pathLst>
                <a:path w="138" h="72">
                  <a:moveTo>
                    <a:pt x="0" y="72"/>
                  </a:moveTo>
                  <a:lnTo>
                    <a:pt x="93" y="0"/>
                  </a:lnTo>
                  <a:lnTo>
                    <a:pt x="116" y="0"/>
                  </a:lnTo>
                  <a:lnTo>
                    <a:pt x="138" y="0"/>
                  </a:lnTo>
                  <a:lnTo>
                    <a:pt x="138" y="27"/>
                  </a:lnTo>
                  <a:lnTo>
                    <a:pt x="116" y="72"/>
                  </a:lnTo>
                  <a:lnTo>
                    <a:pt x="93" y="72"/>
                  </a:lnTo>
                  <a:lnTo>
                    <a:pt x="71" y="72"/>
                  </a:lnTo>
                  <a:lnTo>
                    <a:pt x="49" y="72"/>
                  </a:lnTo>
                  <a:lnTo>
                    <a:pt x="2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2235240" y="545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2347920" y="5373720"/>
              <a:ext cx="30600" cy="25920"/>
            </a:xfrm>
            <a:custGeom>
              <a:avLst/>
              <a:gdLst/>
              <a:ahLst/>
              <a:rect l="0" t="0" r="r" b="b"/>
              <a:pathLst>
                <a:path w="85" h="72">
                  <a:moveTo>
                    <a:pt x="0" y="0"/>
                  </a:moveTo>
                  <a:lnTo>
                    <a:pt x="49" y="0"/>
                  </a:lnTo>
                  <a:lnTo>
                    <a:pt x="72" y="0"/>
                  </a:lnTo>
                  <a:lnTo>
                    <a:pt x="85" y="40"/>
                  </a:lnTo>
                  <a:lnTo>
                    <a:pt x="85" y="72"/>
                  </a:lnTo>
                  <a:lnTo>
                    <a:pt x="72" y="72"/>
                  </a:lnTo>
                  <a:lnTo>
                    <a:pt x="49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2347920" y="5373720"/>
              <a:ext cx="41760" cy="25920"/>
            </a:xfrm>
            <a:custGeom>
              <a:avLst/>
              <a:gdLst/>
              <a:ahLst/>
              <a:rect l="0" t="0" r="r" b="b"/>
              <a:pathLst>
                <a:path fill="none" w="116" h="72">
                  <a:moveTo>
                    <a:pt x="0" y="0"/>
                  </a:moveTo>
                  <a:lnTo>
                    <a:pt x="75" y="0"/>
                  </a:lnTo>
                  <a:lnTo>
                    <a:pt x="99" y="0"/>
                  </a:lnTo>
                  <a:lnTo>
                    <a:pt x="116" y="36"/>
                  </a:lnTo>
                  <a:lnTo>
                    <a:pt x="116" y="72"/>
                  </a:lnTo>
                  <a:lnTo>
                    <a:pt x="99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2252520" y="5367240"/>
              <a:ext cx="89280" cy="106560"/>
            </a:xfrm>
            <a:custGeom>
              <a:avLst/>
              <a:gdLst/>
              <a:ahLst/>
              <a:rect l="0" t="0" r="r" b="b"/>
              <a:pathLst>
                <a:path w="248" h="296">
                  <a:moveTo>
                    <a:pt x="226" y="0"/>
                  </a:moveTo>
                  <a:lnTo>
                    <a:pt x="248" y="22"/>
                  </a:lnTo>
                  <a:lnTo>
                    <a:pt x="200" y="48"/>
                  </a:lnTo>
                  <a:lnTo>
                    <a:pt x="200" y="88"/>
                  </a:lnTo>
                  <a:lnTo>
                    <a:pt x="200" y="159"/>
                  </a:lnTo>
                  <a:lnTo>
                    <a:pt x="181" y="225"/>
                  </a:lnTo>
                  <a:lnTo>
                    <a:pt x="133" y="274"/>
                  </a:lnTo>
                  <a:lnTo>
                    <a:pt x="44" y="296"/>
                  </a:lnTo>
                  <a:lnTo>
                    <a:pt x="0" y="296"/>
                  </a:lnTo>
                  <a:lnTo>
                    <a:pt x="0" y="274"/>
                  </a:lnTo>
                  <a:lnTo>
                    <a:pt x="111" y="252"/>
                  </a:lnTo>
                  <a:lnTo>
                    <a:pt x="159" y="225"/>
                  </a:lnTo>
                  <a:lnTo>
                    <a:pt x="181" y="186"/>
                  </a:lnTo>
                  <a:lnTo>
                    <a:pt x="181" y="88"/>
                  </a:lnTo>
                  <a:lnTo>
                    <a:pt x="181" y="70"/>
                  </a:lnTo>
                  <a:lnTo>
                    <a:pt x="200" y="48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2355840" y="50086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2355840" y="49784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2362320" y="49672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2274840" y="5018040"/>
              <a:ext cx="66960" cy="38520"/>
            </a:xfrm>
            <a:custGeom>
              <a:avLst/>
              <a:gdLst/>
              <a:ahLst/>
              <a:rect l="0" t="0" r="r" b="b"/>
              <a:pathLst>
                <a:path w="186" h="107">
                  <a:moveTo>
                    <a:pt x="186" y="45"/>
                  </a:moveTo>
                  <a:lnTo>
                    <a:pt x="164" y="22"/>
                  </a:lnTo>
                  <a:lnTo>
                    <a:pt x="48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85"/>
                  </a:lnTo>
                  <a:lnTo>
                    <a:pt x="137" y="107"/>
                  </a:lnTo>
                  <a:lnTo>
                    <a:pt x="164" y="107"/>
                  </a:lnTo>
                  <a:lnTo>
                    <a:pt x="186" y="4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2" name=""/>
          <p:cNvGrpSpPr/>
          <p:nvPr/>
        </p:nvGrpSpPr>
        <p:grpSpPr>
          <a:xfrm>
            <a:off x="2514600" y="3429000"/>
            <a:ext cx="1219320" cy="1444680"/>
            <a:chOff x="2514600" y="3429000"/>
            <a:chExt cx="1219320" cy="1444680"/>
          </a:xfrm>
        </p:grpSpPr>
        <p:sp>
          <p:nvSpPr>
            <p:cNvPr id="3503" name=""/>
            <p:cNvSpPr/>
            <p:nvPr/>
          </p:nvSpPr>
          <p:spPr>
            <a:xfrm flipV="1">
              <a:off x="2514600" y="40068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 flipV="1">
              <a:off x="3084480" y="34290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 flipH="1">
              <a:off x="3084480" y="4006800"/>
              <a:ext cx="7956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6" name=""/>
          <p:cNvGrpSpPr/>
          <p:nvPr/>
        </p:nvGrpSpPr>
        <p:grpSpPr>
          <a:xfrm>
            <a:off x="2286000" y="3273480"/>
            <a:ext cx="1219320" cy="1530360"/>
            <a:chOff x="2286000" y="3273480"/>
            <a:chExt cx="1219320" cy="1530360"/>
          </a:xfrm>
        </p:grpSpPr>
        <p:sp>
          <p:nvSpPr>
            <p:cNvPr id="3507" name=""/>
            <p:cNvSpPr/>
            <p:nvPr/>
          </p:nvSpPr>
          <p:spPr>
            <a:xfrm flipV="1">
              <a:off x="2808360" y="3273480"/>
              <a:ext cx="69696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 flipV="1">
              <a:off x="2286000" y="3903840"/>
              <a:ext cx="60948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 flipH="1">
              <a:off x="2808360" y="3903840"/>
              <a:ext cx="87120" cy="269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0" name=""/>
          <p:cNvGrpSpPr/>
          <p:nvPr/>
        </p:nvGrpSpPr>
        <p:grpSpPr>
          <a:xfrm>
            <a:off x="1671480" y="3201840"/>
            <a:ext cx="530280" cy="1514520"/>
            <a:chOff x="1671480" y="3201840"/>
            <a:chExt cx="530280" cy="1514520"/>
          </a:xfrm>
        </p:grpSpPr>
        <p:sp>
          <p:nvSpPr>
            <p:cNvPr id="3511" name=""/>
            <p:cNvSpPr/>
            <p:nvPr/>
          </p:nvSpPr>
          <p:spPr>
            <a:xfrm flipH="1" flipV="1">
              <a:off x="1671480" y="3201840"/>
              <a:ext cx="30348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 flipH="1" flipV="1">
              <a:off x="1936800" y="3825720"/>
              <a:ext cx="26496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1936800" y="3825720"/>
              <a:ext cx="38160" cy="2667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4" name=""/>
          <p:cNvGrpSpPr/>
          <p:nvPr/>
        </p:nvGrpSpPr>
        <p:grpSpPr>
          <a:xfrm>
            <a:off x="1290600" y="3430440"/>
            <a:ext cx="530280" cy="1514520"/>
            <a:chOff x="1290600" y="3430440"/>
            <a:chExt cx="530280" cy="1514520"/>
          </a:xfrm>
        </p:grpSpPr>
        <p:sp>
          <p:nvSpPr>
            <p:cNvPr id="3515" name=""/>
            <p:cNvSpPr/>
            <p:nvPr/>
          </p:nvSpPr>
          <p:spPr>
            <a:xfrm flipH="1" flipV="1">
              <a:off x="1290600" y="3430440"/>
              <a:ext cx="303120" cy="89064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 flipH="1" flipV="1">
              <a:off x="1555920" y="4054320"/>
              <a:ext cx="264960" cy="89064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1555920" y="4054320"/>
              <a:ext cx="37800" cy="26676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8" name=""/>
          <p:cNvGrpSpPr/>
          <p:nvPr/>
        </p:nvGrpSpPr>
        <p:grpSpPr>
          <a:xfrm>
            <a:off x="1527120" y="3352680"/>
            <a:ext cx="539640" cy="1444680"/>
            <a:chOff x="1527120" y="3352680"/>
            <a:chExt cx="539640" cy="1444680"/>
          </a:xfrm>
        </p:grpSpPr>
        <p:sp>
          <p:nvSpPr>
            <p:cNvPr id="3519" name=""/>
            <p:cNvSpPr/>
            <p:nvPr/>
          </p:nvSpPr>
          <p:spPr>
            <a:xfrm flipH="1" flipV="1">
              <a:off x="1779480" y="39304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 flipH="1" flipV="1">
              <a:off x="1527120" y="33526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779480" y="3930480"/>
              <a:ext cx="3492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2" name=""/>
          <p:cNvGrpSpPr/>
          <p:nvPr/>
        </p:nvGrpSpPr>
        <p:grpSpPr>
          <a:xfrm>
            <a:off x="1069920" y="3505320"/>
            <a:ext cx="539640" cy="1444680"/>
            <a:chOff x="1069920" y="3505320"/>
            <a:chExt cx="539640" cy="1444680"/>
          </a:xfrm>
        </p:grpSpPr>
        <p:sp>
          <p:nvSpPr>
            <p:cNvPr id="3523" name=""/>
            <p:cNvSpPr/>
            <p:nvPr/>
          </p:nvSpPr>
          <p:spPr>
            <a:xfrm flipH="1" flipV="1">
              <a:off x="1322280" y="4083120"/>
              <a:ext cx="287280" cy="86688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H="1" flipV="1">
              <a:off x="1069920" y="3505320"/>
              <a:ext cx="287280" cy="8665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1322280" y="4083120"/>
              <a:ext cx="34920" cy="2887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6" name=""/>
          <p:cNvSpPr txBox="1"/>
          <p:nvPr/>
        </p:nvSpPr>
        <p:spPr>
          <a:xfrm>
            <a:off x="442800" y="5745240"/>
            <a:ext cx="4616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connection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"/>
          <p:cNvSpPr txBox="1"/>
          <p:nvPr/>
        </p:nvSpPr>
        <p:spPr>
          <a:xfrm>
            <a:off x="3451320" y="28656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8" name=""/>
          <p:cNvGrpSpPr/>
          <p:nvPr/>
        </p:nvGrpSpPr>
        <p:grpSpPr>
          <a:xfrm>
            <a:off x="3787920" y="2341440"/>
            <a:ext cx="386280" cy="475200"/>
            <a:chOff x="3787920" y="2341440"/>
            <a:chExt cx="386280" cy="475200"/>
          </a:xfrm>
        </p:grpSpPr>
        <p:sp>
          <p:nvSpPr>
            <p:cNvPr id="3529" name=""/>
            <p:cNvSpPr/>
            <p:nvPr/>
          </p:nvSpPr>
          <p:spPr>
            <a:xfrm>
              <a:off x="3787920" y="256716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4140360" y="254952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4143240" y="260208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4148280" y="266220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4110120" y="2549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 flipV="1">
              <a:off x="4130640" y="253224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 flipV="1">
              <a:off x="3862440" y="25322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 flipV="1">
              <a:off x="4110120" y="254160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V="1">
              <a:off x="3843360" y="25416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407664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380988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09248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382572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3894120" y="260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399564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076640" y="25304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3809880" y="253224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4076640" y="256392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3809880" y="256536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843360" y="25779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3865680" y="259560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3927600" y="260352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 flipV="1">
              <a:off x="4062240" y="258444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3787920" y="255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3867120" y="263052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867120" y="2644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3870360" y="267984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3900600" y="2738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900600" y="2762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902040" y="278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4016520" y="273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40165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4016520" y="27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414648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414648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089240" y="234648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822840" y="2341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6" name=""/>
          <p:cNvSpPr txBox="1"/>
          <p:nvPr/>
        </p:nvSpPr>
        <p:spPr>
          <a:xfrm>
            <a:off x="835200" y="28908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7" name=""/>
          <p:cNvGrpSpPr/>
          <p:nvPr/>
        </p:nvGrpSpPr>
        <p:grpSpPr>
          <a:xfrm>
            <a:off x="1171440" y="2368440"/>
            <a:ext cx="386280" cy="470520"/>
            <a:chOff x="1171440" y="2368440"/>
            <a:chExt cx="386280" cy="470520"/>
          </a:xfrm>
        </p:grpSpPr>
        <p:sp>
          <p:nvSpPr>
            <p:cNvPr id="3568" name=""/>
            <p:cNvSpPr/>
            <p:nvPr/>
          </p:nvSpPr>
          <p:spPr>
            <a:xfrm>
              <a:off x="1171440" y="2589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1523880" y="2571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1527120" y="2624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1531800" y="2684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1494000" y="2571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 flipV="1">
              <a:off x="1514520" y="2554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 flipV="1">
              <a:off x="1246320" y="2554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 flipV="1">
              <a:off x="1494000" y="2563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 flipV="1">
              <a:off x="1227240" y="2563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146052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119376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147636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120960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1278000" y="262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1379520" y="262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1460520" y="2552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1193760" y="2554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1460520" y="2585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1193760" y="2587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1227240" y="2600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1249200" y="2617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1311120" y="2625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 flipV="1">
              <a:off x="1446120" y="2606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1171440" y="257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1251000" y="2652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1251000" y="2666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1254240" y="2701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1284120" y="2760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1284120" y="2784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1285920" y="2808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1400040" y="2755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1400040" y="2779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1400040" y="280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153036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1530360" y="2765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147312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120960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7" name=""/>
          <p:cNvGrpSpPr/>
          <p:nvPr/>
        </p:nvGrpSpPr>
        <p:grpSpPr>
          <a:xfrm>
            <a:off x="1803240" y="4932360"/>
            <a:ext cx="610200" cy="611280"/>
            <a:chOff x="1803240" y="4932360"/>
            <a:chExt cx="610200" cy="611280"/>
          </a:xfrm>
        </p:grpSpPr>
        <p:sp>
          <p:nvSpPr>
            <p:cNvPr id="3608" name=""/>
            <p:cNvSpPr/>
            <p:nvPr/>
          </p:nvSpPr>
          <p:spPr>
            <a:xfrm>
              <a:off x="2336760" y="5006880"/>
              <a:ext cx="54360" cy="146520"/>
            </a:xfrm>
            <a:custGeom>
              <a:avLst/>
              <a:gdLst/>
              <a:ahLst/>
              <a:rect l="0" t="0" r="r" b="b"/>
              <a:pathLst>
                <a:path w="151" h="407">
                  <a:moveTo>
                    <a:pt x="0" y="407"/>
                  </a:moveTo>
                  <a:lnTo>
                    <a:pt x="0" y="385"/>
                  </a:lnTo>
                  <a:lnTo>
                    <a:pt x="98" y="0"/>
                  </a:lnTo>
                  <a:lnTo>
                    <a:pt x="151" y="0"/>
                  </a:lnTo>
                  <a:lnTo>
                    <a:pt x="129" y="101"/>
                  </a:lnTo>
                  <a:lnTo>
                    <a:pt x="98" y="101"/>
                  </a:lnTo>
                  <a:lnTo>
                    <a:pt x="53" y="407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 flipH="1">
              <a:off x="2330280" y="4943520"/>
              <a:ext cx="51120" cy="30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2263680" y="4989600"/>
              <a:ext cx="106560" cy="163800"/>
            </a:xfrm>
            <a:custGeom>
              <a:avLst/>
              <a:gdLst/>
              <a:ahLst/>
              <a:rect l="0" t="0" r="r" b="b"/>
              <a:pathLst>
                <a:path w="296" h="455">
                  <a:moveTo>
                    <a:pt x="114" y="455"/>
                  </a:moveTo>
                  <a:lnTo>
                    <a:pt x="164" y="455"/>
                  </a:lnTo>
                  <a:lnTo>
                    <a:pt x="203" y="455"/>
                  </a:lnTo>
                  <a:lnTo>
                    <a:pt x="203" y="433"/>
                  </a:lnTo>
                  <a:lnTo>
                    <a:pt x="269" y="149"/>
                  </a:lnTo>
                  <a:lnTo>
                    <a:pt x="296" y="119"/>
                  </a:lnTo>
                  <a:lnTo>
                    <a:pt x="296" y="48"/>
                  </a:lnTo>
                  <a:lnTo>
                    <a:pt x="269" y="48"/>
                  </a:lnTo>
                  <a:lnTo>
                    <a:pt x="252" y="48"/>
                  </a:lnTo>
                  <a:lnTo>
                    <a:pt x="230" y="149"/>
                  </a:lnTo>
                  <a:lnTo>
                    <a:pt x="203" y="171"/>
                  </a:lnTo>
                  <a:lnTo>
                    <a:pt x="132" y="171"/>
                  </a:lnTo>
                  <a:lnTo>
                    <a:pt x="66" y="149"/>
                  </a:lnTo>
                  <a:lnTo>
                    <a:pt x="92" y="79"/>
                  </a:lnTo>
                  <a:lnTo>
                    <a:pt x="92" y="22"/>
                  </a:lnTo>
                  <a:lnTo>
                    <a:pt x="66" y="0"/>
                  </a:lnTo>
                  <a:lnTo>
                    <a:pt x="44" y="79"/>
                  </a:lnTo>
                  <a:lnTo>
                    <a:pt x="0" y="252"/>
                  </a:lnTo>
                  <a:lnTo>
                    <a:pt x="0" y="406"/>
                  </a:lnTo>
                  <a:lnTo>
                    <a:pt x="0" y="433"/>
                  </a:lnTo>
                  <a:lnTo>
                    <a:pt x="44" y="433"/>
                  </a:lnTo>
                  <a:lnTo>
                    <a:pt x="66" y="433"/>
                  </a:lnTo>
                  <a:lnTo>
                    <a:pt x="114" y="45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2355840" y="4998960"/>
              <a:ext cx="35280" cy="25920"/>
            </a:xfrm>
            <a:custGeom>
              <a:avLst/>
              <a:gdLst/>
              <a:ahLst/>
              <a:rect l="0" t="0" r="r" b="b"/>
              <a:pathLst>
                <a:path fill="none" w="98" h="72">
                  <a:moveTo>
                    <a:pt x="44" y="72"/>
                  </a:moveTo>
                  <a:lnTo>
                    <a:pt x="98" y="72"/>
                  </a:lnTo>
                  <a:lnTo>
                    <a:pt x="17" y="0"/>
                  </a:lnTo>
                  <a:lnTo>
                    <a:pt x="0" y="72"/>
                  </a:lnTo>
                  <a:lnTo>
                    <a:pt x="44" y="7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2284560" y="4979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2295360" y="4979880"/>
              <a:ext cx="66960" cy="25920"/>
            </a:xfrm>
            <a:custGeom>
              <a:avLst/>
              <a:gdLst/>
              <a:ahLst/>
              <a:rect l="0" t="0" r="r" b="b"/>
              <a:pathLst>
                <a:path w="186" h="72">
                  <a:moveTo>
                    <a:pt x="0" y="40"/>
                  </a:moveTo>
                  <a:lnTo>
                    <a:pt x="44" y="0"/>
                  </a:lnTo>
                  <a:lnTo>
                    <a:pt x="98" y="0"/>
                  </a:lnTo>
                  <a:lnTo>
                    <a:pt x="146" y="40"/>
                  </a:lnTo>
                  <a:lnTo>
                    <a:pt x="186" y="40"/>
                  </a:lnTo>
                  <a:lnTo>
                    <a:pt x="146" y="72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2284560" y="5127480"/>
              <a:ext cx="25920" cy="38520"/>
            </a:xfrm>
            <a:custGeom>
              <a:avLst/>
              <a:gdLst/>
              <a:ahLst/>
              <a:rect l="0" t="0" r="r" b="b"/>
              <a:pathLst>
                <a:path w="72" h="107">
                  <a:moveTo>
                    <a:pt x="72" y="75"/>
                  </a:moveTo>
                  <a:lnTo>
                    <a:pt x="36" y="107"/>
                  </a:lnTo>
                  <a:lnTo>
                    <a:pt x="0" y="75"/>
                  </a:lnTo>
                  <a:lnTo>
                    <a:pt x="36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72" y="53"/>
                  </a:lnTo>
                  <a:lnTo>
                    <a:pt x="72" y="75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2346480" y="4989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40" y="72"/>
                  </a:lnTo>
                  <a:lnTo>
                    <a:pt x="0" y="36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284560" y="5165640"/>
              <a:ext cx="117720" cy="248040"/>
            </a:xfrm>
            <a:custGeom>
              <a:avLst/>
              <a:gdLst/>
              <a:ahLst/>
              <a:rect l="0" t="0" r="r" b="b"/>
              <a:pathLst>
                <a:path w="327" h="689">
                  <a:moveTo>
                    <a:pt x="13" y="0"/>
                  </a:moveTo>
                  <a:lnTo>
                    <a:pt x="0" y="0"/>
                  </a:lnTo>
                  <a:lnTo>
                    <a:pt x="0" y="141"/>
                  </a:lnTo>
                  <a:lnTo>
                    <a:pt x="13" y="292"/>
                  </a:lnTo>
                  <a:lnTo>
                    <a:pt x="66" y="437"/>
                  </a:lnTo>
                  <a:lnTo>
                    <a:pt x="154" y="614"/>
                  </a:lnTo>
                  <a:lnTo>
                    <a:pt x="265" y="689"/>
                  </a:lnTo>
                  <a:lnTo>
                    <a:pt x="305" y="689"/>
                  </a:lnTo>
                  <a:lnTo>
                    <a:pt x="327" y="663"/>
                  </a:lnTo>
                  <a:lnTo>
                    <a:pt x="305" y="614"/>
                  </a:lnTo>
                  <a:lnTo>
                    <a:pt x="292" y="588"/>
                  </a:lnTo>
                  <a:lnTo>
                    <a:pt x="221" y="588"/>
                  </a:lnTo>
                  <a:lnTo>
                    <a:pt x="172" y="588"/>
                  </a:lnTo>
                  <a:lnTo>
                    <a:pt x="127" y="516"/>
                  </a:lnTo>
                  <a:lnTo>
                    <a:pt x="88" y="415"/>
                  </a:lnTo>
                  <a:lnTo>
                    <a:pt x="39" y="318"/>
                  </a:lnTo>
                  <a:lnTo>
                    <a:pt x="13" y="119"/>
                  </a:lnTo>
                  <a:lnTo>
                    <a:pt x="13" y="2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284560" y="5165640"/>
              <a:ext cx="128880" cy="257400"/>
            </a:xfrm>
            <a:custGeom>
              <a:avLst/>
              <a:gdLst/>
              <a:ahLst/>
              <a:rect l="0" t="0" r="r" b="b"/>
              <a:pathLst>
                <a:path fill="none" w="358" h="715">
                  <a:moveTo>
                    <a:pt x="26" y="0"/>
                  </a:moveTo>
                  <a:lnTo>
                    <a:pt x="0" y="0"/>
                  </a:lnTo>
                  <a:lnTo>
                    <a:pt x="0" y="149"/>
                  </a:lnTo>
                  <a:lnTo>
                    <a:pt x="26" y="304"/>
                  </a:lnTo>
                  <a:lnTo>
                    <a:pt x="70" y="464"/>
                  </a:lnTo>
                  <a:lnTo>
                    <a:pt x="171" y="636"/>
                  </a:lnTo>
                  <a:lnTo>
                    <a:pt x="292" y="715"/>
                  </a:lnTo>
                  <a:lnTo>
                    <a:pt x="336" y="715"/>
                  </a:lnTo>
                  <a:lnTo>
                    <a:pt x="358" y="693"/>
                  </a:lnTo>
                  <a:lnTo>
                    <a:pt x="336" y="636"/>
                  </a:lnTo>
                  <a:lnTo>
                    <a:pt x="318" y="613"/>
                  </a:lnTo>
                  <a:lnTo>
                    <a:pt x="239" y="613"/>
                  </a:lnTo>
                  <a:lnTo>
                    <a:pt x="195" y="613"/>
                  </a:lnTo>
                  <a:lnTo>
                    <a:pt x="145" y="534"/>
                  </a:lnTo>
                  <a:lnTo>
                    <a:pt x="101" y="437"/>
                  </a:lnTo>
                  <a:lnTo>
                    <a:pt x="48" y="335"/>
                  </a:lnTo>
                  <a:lnTo>
                    <a:pt x="26" y="127"/>
                  </a:lnTo>
                  <a:lnTo>
                    <a:pt x="26" y="22"/>
                  </a:lnTo>
                  <a:lnTo>
                    <a:pt x="2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278080" y="5324400"/>
              <a:ext cx="25920" cy="44640"/>
            </a:xfrm>
            <a:custGeom>
              <a:avLst/>
              <a:gdLst/>
              <a:ahLst/>
              <a:rect l="0" t="0" r="r" b="b"/>
              <a:pathLst>
                <a:path w="72" h="124">
                  <a:moveTo>
                    <a:pt x="72" y="22"/>
                  </a:moveTo>
                  <a:lnTo>
                    <a:pt x="72" y="0"/>
                  </a:lnTo>
                  <a:lnTo>
                    <a:pt x="31" y="0"/>
                  </a:lnTo>
                  <a:lnTo>
                    <a:pt x="0" y="22"/>
                  </a:lnTo>
                  <a:lnTo>
                    <a:pt x="0" y="48"/>
                  </a:lnTo>
                  <a:lnTo>
                    <a:pt x="0" y="71"/>
                  </a:lnTo>
                  <a:lnTo>
                    <a:pt x="0" y="93"/>
                  </a:lnTo>
                  <a:lnTo>
                    <a:pt x="72" y="124"/>
                  </a:lnTo>
                  <a:lnTo>
                    <a:pt x="72" y="22"/>
                  </a:lnTo>
                  <a:close/>
                </a:path>
              </a:pathLst>
            </a:custGeom>
            <a:solidFill>
              <a:srgbClr val="cccc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1952640" y="5248440"/>
              <a:ext cx="343440" cy="120960"/>
            </a:xfrm>
            <a:custGeom>
              <a:avLst/>
              <a:gdLst/>
              <a:ahLst/>
              <a:rect l="0" t="0" r="r" b="b"/>
              <a:pathLst>
                <a:path w="954" h="336">
                  <a:moveTo>
                    <a:pt x="48" y="0"/>
                  </a:moveTo>
                  <a:lnTo>
                    <a:pt x="928" y="212"/>
                  </a:lnTo>
                  <a:lnTo>
                    <a:pt x="905" y="234"/>
                  </a:lnTo>
                  <a:lnTo>
                    <a:pt x="905" y="256"/>
                  </a:lnTo>
                  <a:lnTo>
                    <a:pt x="905" y="305"/>
                  </a:lnTo>
                  <a:lnTo>
                    <a:pt x="928" y="305"/>
                  </a:lnTo>
                  <a:lnTo>
                    <a:pt x="954" y="336"/>
                  </a:lnTo>
                  <a:lnTo>
                    <a:pt x="48" y="105"/>
                  </a:lnTo>
                  <a:lnTo>
                    <a:pt x="26" y="79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1963800" y="4979880"/>
              <a:ext cx="392400" cy="344880"/>
            </a:xfrm>
            <a:custGeom>
              <a:avLst/>
              <a:gdLst/>
              <a:ahLst/>
              <a:rect l="0" t="0" r="r" b="b"/>
              <a:pathLst>
                <a:path w="1090" h="958">
                  <a:moveTo>
                    <a:pt x="1041" y="127"/>
                  </a:moveTo>
                  <a:lnTo>
                    <a:pt x="189" y="0"/>
                  </a:lnTo>
                  <a:lnTo>
                    <a:pt x="167" y="0"/>
                  </a:lnTo>
                  <a:lnTo>
                    <a:pt x="136" y="30"/>
                  </a:lnTo>
                  <a:lnTo>
                    <a:pt x="0" y="666"/>
                  </a:lnTo>
                  <a:lnTo>
                    <a:pt x="0" y="725"/>
                  </a:lnTo>
                  <a:lnTo>
                    <a:pt x="22" y="747"/>
                  </a:lnTo>
                  <a:lnTo>
                    <a:pt x="896" y="958"/>
                  </a:lnTo>
                  <a:lnTo>
                    <a:pt x="922" y="928"/>
                  </a:lnTo>
                  <a:lnTo>
                    <a:pt x="944" y="897"/>
                  </a:lnTo>
                  <a:lnTo>
                    <a:pt x="966" y="879"/>
                  </a:lnTo>
                  <a:lnTo>
                    <a:pt x="1090" y="202"/>
                  </a:lnTo>
                  <a:lnTo>
                    <a:pt x="1090" y="180"/>
                  </a:lnTo>
                  <a:lnTo>
                    <a:pt x="1068" y="149"/>
                  </a:lnTo>
                  <a:lnTo>
                    <a:pt x="1041" y="127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2284560" y="5294160"/>
              <a:ext cx="52920" cy="38520"/>
            </a:xfrm>
            <a:custGeom>
              <a:avLst/>
              <a:gdLst/>
              <a:ahLst/>
              <a:rect l="0" t="0" r="r" b="b"/>
              <a:pathLst>
                <a:path w="147" h="107">
                  <a:moveTo>
                    <a:pt x="75" y="0"/>
                  </a:moveTo>
                  <a:lnTo>
                    <a:pt x="147" y="0"/>
                  </a:lnTo>
                  <a:lnTo>
                    <a:pt x="26" y="107"/>
                  </a:lnTo>
                  <a:lnTo>
                    <a:pt x="26" y="81"/>
                  </a:lnTo>
                  <a:lnTo>
                    <a:pt x="0" y="81"/>
                  </a:lnTo>
                  <a:lnTo>
                    <a:pt x="26" y="49"/>
                  </a:lnTo>
                  <a:lnTo>
                    <a:pt x="49" y="17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b5b5b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1803240" y="5294160"/>
              <a:ext cx="533880" cy="232200"/>
            </a:xfrm>
            <a:custGeom>
              <a:avLst/>
              <a:gdLst/>
              <a:ahLst/>
              <a:rect l="0" t="0" r="r" b="b"/>
              <a:pathLst>
                <a:path w="1483" h="645">
                  <a:moveTo>
                    <a:pt x="1483" y="0"/>
                  </a:moveTo>
                  <a:lnTo>
                    <a:pt x="1483" y="149"/>
                  </a:lnTo>
                  <a:lnTo>
                    <a:pt x="1010" y="645"/>
                  </a:lnTo>
                  <a:lnTo>
                    <a:pt x="988" y="645"/>
                  </a:lnTo>
                  <a:lnTo>
                    <a:pt x="935" y="645"/>
                  </a:lnTo>
                  <a:lnTo>
                    <a:pt x="26" y="331"/>
                  </a:lnTo>
                  <a:lnTo>
                    <a:pt x="0" y="331"/>
                  </a:lnTo>
                  <a:lnTo>
                    <a:pt x="0" y="278"/>
                  </a:lnTo>
                  <a:lnTo>
                    <a:pt x="26" y="252"/>
                  </a:lnTo>
                  <a:lnTo>
                    <a:pt x="26" y="278"/>
                  </a:lnTo>
                  <a:lnTo>
                    <a:pt x="935" y="592"/>
                  </a:lnTo>
                  <a:lnTo>
                    <a:pt x="988" y="592"/>
                  </a:lnTo>
                  <a:lnTo>
                    <a:pt x="1032" y="592"/>
                  </a:lnTo>
                  <a:lnTo>
                    <a:pt x="1063" y="566"/>
                  </a:lnTo>
                  <a:lnTo>
                    <a:pt x="1369" y="203"/>
                  </a:lnTo>
                  <a:lnTo>
                    <a:pt x="1369" y="101"/>
                  </a:lnTo>
                  <a:lnTo>
                    <a:pt x="1483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1812960" y="5286240"/>
              <a:ext cx="483120" cy="221040"/>
            </a:xfrm>
            <a:custGeom>
              <a:avLst/>
              <a:gdLst/>
              <a:ahLst/>
              <a:rect l="0" t="0" r="r" b="b"/>
              <a:pathLst>
                <a:path w="1342" h="614">
                  <a:moveTo>
                    <a:pt x="1342" y="230"/>
                  </a:moveTo>
                  <a:lnTo>
                    <a:pt x="441" y="0"/>
                  </a:lnTo>
                  <a:lnTo>
                    <a:pt x="0" y="278"/>
                  </a:lnTo>
                  <a:lnTo>
                    <a:pt x="909" y="614"/>
                  </a:lnTo>
                  <a:lnTo>
                    <a:pt x="962" y="614"/>
                  </a:lnTo>
                  <a:lnTo>
                    <a:pt x="984" y="614"/>
                  </a:lnTo>
                  <a:lnTo>
                    <a:pt x="1038" y="592"/>
                  </a:lnTo>
                  <a:lnTo>
                    <a:pt x="1342" y="23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1846440" y="5311800"/>
              <a:ext cx="397080" cy="167040"/>
            </a:xfrm>
            <a:custGeom>
              <a:avLst/>
              <a:gdLst/>
              <a:ahLst/>
              <a:rect l="0" t="0" r="r" b="b"/>
              <a:pathLst>
                <a:path w="1103" h="464">
                  <a:moveTo>
                    <a:pt x="1103" y="283"/>
                  </a:moveTo>
                  <a:lnTo>
                    <a:pt x="1103" y="261"/>
                  </a:lnTo>
                  <a:lnTo>
                    <a:pt x="1081" y="261"/>
                  </a:lnTo>
                  <a:lnTo>
                    <a:pt x="1054" y="229"/>
                  </a:lnTo>
                  <a:lnTo>
                    <a:pt x="185" y="0"/>
                  </a:lnTo>
                  <a:lnTo>
                    <a:pt x="0" y="127"/>
                  </a:lnTo>
                  <a:lnTo>
                    <a:pt x="22" y="154"/>
                  </a:lnTo>
                  <a:lnTo>
                    <a:pt x="216" y="202"/>
                  </a:lnTo>
                  <a:lnTo>
                    <a:pt x="185" y="229"/>
                  </a:lnTo>
                  <a:lnTo>
                    <a:pt x="185" y="261"/>
                  </a:lnTo>
                  <a:lnTo>
                    <a:pt x="772" y="441"/>
                  </a:lnTo>
                  <a:lnTo>
                    <a:pt x="794" y="415"/>
                  </a:lnTo>
                  <a:lnTo>
                    <a:pt x="838" y="415"/>
                  </a:lnTo>
                  <a:lnTo>
                    <a:pt x="816" y="464"/>
                  </a:lnTo>
                  <a:lnTo>
                    <a:pt x="909" y="464"/>
                  </a:lnTo>
                  <a:lnTo>
                    <a:pt x="944" y="464"/>
                  </a:lnTo>
                  <a:lnTo>
                    <a:pt x="1103" y="283"/>
                  </a:lnTo>
                  <a:close/>
                </a:path>
              </a:pathLst>
            </a:custGeom>
            <a:solidFill>
              <a:srgbClr val="c1ce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1812960" y="5348160"/>
              <a:ext cx="524160" cy="195480"/>
            </a:xfrm>
            <a:custGeom>
              <a:avLst/>
              <a:gdLst/>
              <a:ahLst/>
              <a:rect l="0" t="0" r="r" b="b"/>
              <a:pathLst>
                <a:path w="1456" h="543">
                  <a:moveTo>
                    <a:pt x="1456" y="0"/>
                  </a:moveTo>
                  <a:lnTo>
                    <a:pt x="1006" y="494"/>
                  </a:lnTo>
                  <a:lnTo>
                    <a:pt x="962" y="494"/>
                  </a:lnTo>
                  <a:lnTo>
                    <a:pt x="909" y="494"/>
                  </a:lnTo>
                  <a:lnTo>
                    <a:pt x="0" y="180"/>
                  </a:lnTo>
                  <a:lnTo>
                    <a:pt x="0" y="233"/>
                  </a:lnTo>
                  <a:lnTo>
                    <a:pt x="22" y="233"/>
                  </a:lnTo>
                  <a:lnTo>
                    <a:pt x="931" y="543"/>
                  </a:lnTo>
                  <a:lnTo>
                    <a:pt x="962" y="543"/>
                  </a:lnTo>
                  <a:lnTo>
                    <a:pt x="1006" y="521"/>
                  </a:lnTo>
                  <a:lnTo>
                    <a:pt x="1456" y="22"/>
                  </a:lnTo>
                  <a:lnTo>
                    <a:pt x="1456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1979640" y="4989600"/>
              <a:ext cx="357480" cy="305280"/>
            </a:xfrm>
            <a:custGeom>
              <a:avLst/>
              <a:gdLst/>
              <a:ahLst/>
              <a:rect l="0" t="0" r="r" b="b"/>
              <a:pathLst>
                <a:path w="993" h="848">
                  <a:moveTo>
                    <a:pt x="971" y="171"/>
                  </a:moveTo>
                  <a:lnTo>
                    <a:pt x="194" y="0"/>
                  </a:lnTo>
                  <a:lnTo>
                    <a:pt x="167" y="0"/>
                  </a:lnTo>
                  <a:lnTo>
                    <a:pt x="145" y="48"/>
                  </a:lnTo>
                  <a:lnTo>
                    <a:pt x="0" y="613"/>
                  </a:lnTo>
                  <a:lnTo>
                    <a:pt x="22" y="637"/>
                  </a:lnTo>
                  <a:lnTo>
                    <a:pt x="830" y="848"/>
                  </a:lnTo>
                  <a:lnTo>
                    <a:pt x="852" y="848"/>
                  </a:lnTo>
                  <a:lnTo>
                    <a:pt x="878" y="826"/>
                  </a:lnTo>
                  <a:lnTo>
                    <a:pt x="993" y="198"/>
                  </a:lnTo>
                  <a:lnTo>
                    <a:pt x="993" y="171"/>
                  </a:lnTo>
                  <a:lnTo>
                    <a:pt x="971" y="171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023920" y="5006880"/>
              <a:ext cx="271800" cy="268560"/>
            </a:xfrm>
            <a:custGeom>
              <a:avLst/>
              <a:gdLst/>
              <a:ahLst/>
              <a:rect l="0" t="0" r="r" b="b"/>
              <a:pathLst>
                <a:path w="755" h="746">
                  <a:moveTo>
                    <a:pt x="755" y="127"/>
                  </a:moveTo>
                  <a:lnTo>
                    <a:pt x="141" y="0"/>
                  </a:lnTo>
                  <a:lnTo>
                    <a:pt x="0" y="591"/>
                  </a:lnTo>
                  <a:lnTo>
                    <a:pt x="613" y="746"/>
                  </a:lnTo>
                  <a:lnTo>
                    <a:pt x="755" y="12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192400" y="5460840"/>
              <a:ext cx="44640" cy="65520"/>
            </a:xfrm>
            <a:custGeom>
              <a:avLst/>
              <a:gdLst/>
              <a:ahLst/>
              <a:rect l="0" t="0" r="r" b="b"/>
              <a:pathLst>
                <a:path w="124" h="182">
                  <a:moveTo>
                    <a:pt x="0" y="182"/>
                  </a:moveTo>
                  <a:lnTo>
                    <a:pt x="0" y="128"/>
                  </a:lnTo>
                  <a:lnTo>
                    <a:pt x="124" y="0"/>
                  </a:lnTo>
                  <a:lnTo>
                    <a:pt x="124" y="22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201760" y="5506920"/>
              <a:ext cx="35280" cy="25920"/>
            </a:xfrm>
            <a:custGeom>
              <a:avLst/>
              <a:gdLst/>
              <a:ahLst/>
              <a:rect l="0" t="0" r="r" b="b"/>
              <a:pathLst>
                <a:path w="98" h="72">
                  <a:moveTo>
                    <a:pt x="0" y="27"/>
                  </a:moveTo>
                  <a:lnTo>
                    <a:pt x="0" y="0"/>
                  </a:lnTo>
                  <a:lnTo>
                    <a:pt x="48" y="27"/>
                  </a:lnTo>
                  <a:lnTo>
                    <a:pt x="71" y="0"/>
                  </a:lnTo>
                  <a:lnTo>
                    <a:pt x="98" y="0"/>
                  </a:lnTo>
                  <a:lnTo>
                    <a:pt x="98" y="27"/>
                  </a:lnTo>
                  <a:lnTo>
                    <a:pt x="71" y="72"/>
                  </a:lnTo>
                  <a:lnTo>
                    <a:pt x="48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2201760" y="5478480"/>
              <a:ext cx="51120" cy="28800"/>
            </a:xfrm>
            <a:custGeom>
              <a:avLst/>
              <a:gdLst/>
              <a:ahLst/>
              <a:rect l="0" t="0" r="r" b="b"/>
              <a:pathLst>
                <a:path w="142" h="80">
                  <a:moveTo>
                    <a:pt x="0" y="80"/>
                  </a:moveTo>
                  <a:lnTo>
                    <a:pt x="98" y="0"/>
                  </a:lnTo>
                  <a:lnTo>
                    <a:pt x="120" y="0"/>
                  </a:lnTo>
                  <a:lnTo>
                    <a:pt x="142" y="0"/>
                  </a:lnTo>
                  <a:lnTo>
                    <a:pt x="142" y="30"/>
                  </a:lnTo>
                  <a:lnTo>
                    <a:pt x="120" y="80"/>
                  </a:lnTo>
                  <a:lnTo>
                    <a:pt x="98" y="80"/>
                  </a:lnTo>
                  <a:lnTo>
                    <a:pt x="70" y="80"/>
                  </a:lnTo>
                  <a:lnTo>
                    <a:pt x="48" y="80"/>
                  </a:lnTo>
                  <a:lnTo>
                    <a:pt x="26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2243160" y="5489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0" y="36"/>
                  </a:lnTo>
                  <a:lnTo>
                    <a:pt x="31" y="0"/>
                  </a:lnTo>
                  <a:lnTo>
                    <a:pt x="72" y="36"/>
                  </a:lnTo>
                  <a:lnTo>
                    <a:pt x="72" y="72"/>
                  </a:lnTo>
                  <a:lnTo>
                    <a:pt x="31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333333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362320" y="5394240"/>
              <a:ext cx="32040" cy="25920"/>
            </a:xfrm>
            <a:custGeom>
              <a:avLst/>
              <a:gdLst/>
              <a:ahLst/>
              <a:rect l="0" t="0" r="r" b="b"/>
              <a:pathLst>
                <a:path w="89" h="72">
                  <a:moveTo>
                    <a:pt x="0" y="0"/>
                  </a:moveTo>
                  <a:lnTo>
                    <a:pt x="53" y="0"/>
                  </a:lnTo>
                  <a:lnTo>
                    <a:pt x="75" y="0"/>
                  </a:lnTo>
                  <a:lnTo>
                    <a:pt x="89" y="40"/>
                  </a:lnTo>
                  <a:lnTo>
                    <a:pt x="89" y="72"/>
                  </a:lnTo>
                  <a:lnTo>
                    <a:pt x="75" y="72"/>
                  </a:lnTo>
                  <a:lnTo>
                    <a:pt x="53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2362320" y="5394240"/>
              <a:ext cx="43200" cy="25920"/>
            </a:xfrm>
            <a:custGeom>
              <a:avLst/>
              <a:gdLst/>
              <a:ahLst/>
              <a:rect l="0" t="0" r="r" b="b"/>
              <a:pathLst>
                <a:path fill="none" w="120" h="72">
                  <a:moveTo>
                    <a:pt x="0" y="0"/>
                  </a:moveTo>
                  <a:lnTo>
                    <a:pt x="75" y="0"/>
                  </a:lnTo>
                  <a:lnTo>
                    <a:pt x="102" y="0"/>
                  </a:lnTo>
                  <a:lnTo>
                    <a:pt x="120" y="40"/>
                  </a:lnTo>
                  <a:lnTo>
                    <a:pt x="120" y="72"/>
                  </a:lnTo>
                  <a:lnTo>
                    <a:pt x="102" y="72"/>
                  </a:lnTo>
                  <a:lnTo>
                    <a:pt x="75" y="72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2263680" y="5388120"/>
              <a:ext cx="92520" cy="119520"/>
            </a:xfrm>
            <a:custGeom>
              <a:avLst/>
              <a:gdLst/>
              <a:ahLst/>
              <a:rect l="0" t="0" r="r" b="b"/>
              <a:pathLst>
                <a:path w="257" h="332">
                  <a:moveTo>
                    <a:pt x="235" y="0"/>
                  </a:moveTo>
                  <a:lnTo>
                    <a:pt x="257" y="22"/>
                  </a:lnTo>
                  <a:lnTo>
                    <a:pt x="209" y="52"/>
                  </a:lnTo>
                  <a:lnTo>
                    <a:pt x="209" y="102"/>
                  </a:lnTo>
                  <a:lnTo>
                    <a:pt x="209" y="177"/>
                  </a:lnTo>
                  <a:lnTo>
                    <a:pt x="186" y="257"/>
                  </a:lnTo>
                  <a:lnTo>
                    <a:pt x="137" y="310"/>
                  </a:lnTo>
                  <a:lnTo>
                    <a:pt x="44" y="332"/>
                  </a:lnTo>
                  <a:lnTo>
                    <a:pt x="0" y="332"/>
                  </a:lnTo>
                  <a:lnTo>
                    <a:pt x="0" y="310"/>
                  </a:lnTo>
                  <a:lnTo>
                    <a:pt x="115" y="284"/>
                  </a:lnTo>
                  <a:lnTo>
                    <a:pt x="164" y="257"/>
                  </a:lnTo>
                  <a:lnTo>
                    <a:pt x="186" y="208"/>
                  </a:lnTo>
                  <a:lnTo>
                    <a:pt x="186" y="102"/>
                  </a:lnTo>
                  <a:lnTo>
                    <a:pt x="186" y="74"/>
                  </a:lnTo>
                  <a:lnTo>
                    <a:pt x="209" y="52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6666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2368440" y="4979880"/>
              <a:ext cx="0" cy="25200"/>
            </a:xfrm>
            <a:custGeom>
              <a:avLst/>
              <a:gdLst/>
              <a:ahLst/>
              <a:rect l="0" t="0" r="r" b="b"/>
              <a:pathLst>
                <a:path w="0" h="70">
                  <a:moveTo>
                    <a:pt x="0" y="70"/>
                  </a:move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2368440" y="49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7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36" y="72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2378160" y="4932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2284560" y="4989600"/>
              <a:ext cx="71640" cy="43200"/>
            </a:xfrm>
            <a:custGeom>
              <a:avLst/>
              <a:gdLst/>
              <a:ahLst/>
              <a:rect l="0" t="0" r="r" b="b"/>
              <a:pathLst>
                <a:path w="199" h="120">
                  <a:moveTo>
                    <a:pt x="199" y="48"/>
                  </a:moveTo>
                  <a:lnTo>
                    <a:pt x="177" y="22"/>
                  </a:lnTo>
                  <a:lnTo>
                    <a:pt x="52" y="0"/>
                  </a:lnTo>
                  <a:lnTo>
                    <a:pt x="26" y="0"/>
                  </a:lnTo>
                  <a:lnTo>
                    <a:pt x="26" y="22"/>
                  </a:lnTo>
                  <a:lnTo>
                    <a:pt x="0" y="98"/>
                  </a:lnTo>
                  <a:lnTo>
                    <a:pt x="146" y="120"/>
                  </a:lnTo>
                  <a:lnTo>
                    <a:pt x="177" y="120"/>
                  </a:lnTo>
                  <a:lnTo>
                    <a:pt x="199" y="48"/>
                  </a:lnTo>
                  <a:close/>
                </a:path>
              </a:pathLst>
            </a:custGeom>
            <a:solidFill>
              <a:srgbClr val="99999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9" name=""/>
          <p:cNvSpPr txBox="1"/>
          <p:nvPr/>
        </p:nvSpPr>
        <p:spPr>
          <a:xfrm>
            <a:off x="685800" y="457200"/>
            <a:ext cx="5613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Active Scanning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 flipV="1">
            <a:off x="137160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685800" y="198108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 flipV="1">
            <a:off x="3962520" y="19810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 flipH="1">
            <a:off x="4802040" y="2400480"/>
            <a:ext cx="533520" cy="0"/>
          </a:xfrm>
          <a:prstGeom prst="line">
            <a:avLst/>
          </a:prstGeom>
          <a:ln w="25560">
            <a:solidFill>
              <a:srgbClr val="00ae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 txBox="1"/>
          <p:nvPr/>
        </p:nvSpPr>
        <p:spPr>
          <a:xfrm>
            <a:off x="4621320" y="1406520"/>
            <a:ext cx="3300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eps to Assoc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 txBox="1"/>
          <p:nvPr/>
        </p:nvSpPr>
        <p:spPr>
          <a:xfrm>
            <a:off x="5433840" y="2201760"/>
            <a:ext cx="2709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Pro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 flipH="1">
            <a:off x="4802040" y="2832120"/>
            <a:ext cx="533520" cy="0"/>
          </a:xfrm>
          <a:prstGeom prst="line">
            <a:avLst/>
          </a:prstGeom>
          <a:ln w="255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 txBox="1"/>
          <p:nvPr/>
        </p:nvSpPr>
        <p:spPr>
          <a:xfrm>
            <a:off x="5433840" y="2633760"/>
            <a:ext cx="34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s send Prob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 txBox="1"/>
          <p:nvPr/>
        </p:nvSpPr>
        <p:spPr>
          <a:xfrm>
            <a:off x="5435640" y="3116160"/>
            <a:ext cx="3063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lects best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 flipH="1">
            <a:off x="4802040" y="3772080"/>
            <a:ext cx="609840" cy="0"/>
          </a:xfrm>
          <a:prstGeom prst="line">
            <a:avLst/>
          </a:prstGeom>
          <a:ln w="25560">
            <a:solidFill>
              <a:srgbClr val="91919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 txBox="1"/>
          <p:nvPr/>
        </p:nvSpPr>
        <p:spPr>
          <a:xfrm>
            <a:off x="5435640" y="3573360"/>
            <a:ext cx="3359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ends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est to selected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 flipH="1">
            <a:off x="4802040" y="4533840"/>
            <a:ext cx="609840" cy="0"/>
          </a:xfrm>
          <a:prstGeom prst="line">
            <a:avLst/>
          </a:prstGeom>
          <a:ln w="25560">
            <a:solidFill>
              <a:srgbClr val="618ff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 txBox="1"/>
          <p:nvPr/>
        </p:nvSpPr>
        <p:spPr>
          <a:xfrm>
            <a:off x="5433840" y="4335480"/>
            <a:ext cx="2851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sends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3" name=""/>
          <p:cNvGrpSpPr/>
          <p:nvPr/>
        </p:nvGrpSpPr>
        <p:grpSpPr>
          <a:xfrm>
            <a:off x="2514600" y="3429000"/>
            <a:ext cx="1219320" cy="1444680"/>
            <a:chOff x="2514600" y="3429000"/>
            <a:chExt cx="1219320" cy="1444680"/>
          </a:xfrm>
        </p:grpSpPr>
        <p:sp>
          <p:nvSpPr>
            <p:cNvPr id="3654" name=""/>
            <p:cNvSpPr/>
            <p:nvPr/>
          </p:nvSpPr>
          <p:spPr>
            <a:xfrm flipV="1">
              <a:off x="2514600" y="40068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 flipV="1">
              <a:off x="3084480" y="3429000"/>
              <a:ext cx="64944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H="1">
              <a:off x="3084480" y="4006800"/>
              <a:ext cx="7956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7" name=""/>
          <p:cNvGrpSpPr/>
          <p:nvPr/>
        </p:nvGrpSpPr>
        <p:grpSpPr>
          <a:xfrm>
            <a:off x="2286000" y="3273480"/>
            <a:ext cx="1219320" cy="1530360"/>
            <a:chOff x="2286000" y="3273480"/>
            <a:chExt cx="1219320" cy="1530360"/>
          </a:xfrm>
        </p:grpSpPr>
        <p:sp>
          <p:nvSpPr>
            <p:cNvPr id="3658" name=""/>
            <p:cNvSpPr/>
            <p:nvPr/>
          </p:nvSpPr>
          <p:spPr>
            <a:xfrm flipV="1">
              <a:off x="2808360" y="3273480"/>
              <a:ext cx="69696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"/>
            <p:cNvSpPr/>
            <p:nvPr/>
          </p:nvSpPr>
          <p:spPr>
            <a:xfrm flipV="1">
              <a:off x="2286000" y="3903840"/>
              <a:ext cx="609480" cy="90000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"/>
            <p:cNvSpPr/>
            <p:nvPr/>
          </p:nvSpPr>
          <p:spPr>
            <a:xfrm flipH="1">
              <a:off x="2808360" y="3903840"/>
              <a:ext cx="87120" cy="269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1" name=""/>
          <p:cNvGrpSpPr/>
          <p:nvPr/>
        </p:nvGrpSpPr>
        <p:grpSpPr>
          <a:xfrm>
            <a:off x="1671480" y="3201840"/>
            <a:ext cx="530280" cy="1514520"/>
            <a:chOff x="1671480" y="3201840"/>
            <a:chExt cx="530280" cy="1514520"/>
          </a:xfrm>
        </p:grpSpPr>
        <p:sp>
          <p:nvSpPr>
            <p:cNvPr id="3662" name=""/>
            <p:cNvSpPr/>
            <p:nvPr/>
          </p:nvSpPr>
          <p:spPr>
            <a:xfrm flipH="1" flipV="1">
              <a:off x="1671480" y="3201840"/>
              <a:ext cx="30348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 flipH="1" flipV="1">
              <a:off x="1936800" y="3825720"/>
              <a:ext cx="264960" cy="89064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1936800" y="3825720"/>
              <a:ext cx="38160" cy="266760"/>
            </a:xfrm>
            <a:prstGeom prst="line">
              <a:avLst/>
            </a:prstGeom>
            <a:ln w="25560">
              <a:solidFill>
                <a:srgbClr val="00a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5" name=""/>
          <p:cNvGrpSpPr/>
          <p:nvPr/>
        </p:nvGrpSpPr>
        <p:grpSpPr>
          <a:xfrm>
            <a:off x="1290600" y="3430440"/>
            <a:ext cx="530280" cy="1514520"/>
            <a:chOff x="1290600" y="3430440"/>
            <a:chExt cx="530280" cy="1514520"/>
          </a:xfrm>
        </p:grpSpPr>
        <p:sp>
          <p:nvSpPr>
            <p:cNvPr id="3666" name=""/>
            <p:cNvSpPr/>
            <p:nvPr/>
          </p:nvSpPr>
          <p:spPr>
            <a:xfrm flipH="1" flipV="1">
              <a:off x="1290600" y="3430440"/>
              <a:ext cx="303120" cy="89064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H="1" flipV="1">
              <a:off x="1555920" y="4054320"/>
              <a:ext cx="264960" cy="89064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1555920" y="4054320"/>
              <a:ext cx="37800" cy="26676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9" name=""/>
          <p:cNvGrpSpPr/>
          <p:nvPr/>
        </p:nvGrpSpPr>
        <p:grpSpPr>
          <a:xfrm>
            <a:off x="1527120" y="3352680"/>
            <a:ext cx="539640" cy="1444680"/>
            <a:chOff x="1527120" y="3352680"/>
            <a:chExt cx="539640" cy="1444680"/>
          </a:xfrm>
        </p:grpSpPr>
        <p:sp>
          <p:nvSpPr>
            <p:cNvPr id="3670" name=""/>
            <p:cNvSpPr/>
            <p:nvPr/>
          </p:nvSpPr>
          <p:spPr>
            <a:xfrm flipH="1" flipV="1">
              <a:off x="1779480" y="39304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 flipH="1" flipV="1">
              <a:off x="1527120" y="3352680"/>
              <a:ext cx="287280" cy="8668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1779480" y="3930480"/>
              <a:ext cx="34920" cy="28908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3" name=""/>
          <p:cNvGrpSpPr/>
          <p:nvPr/>
        </p:nvGrpSpPr>
        <p:grpSpPr>
          <a:xfrm>
            <a:off x="1069920" y="3505320"/>
            <a:ext cx="539640" cy="1444680"/>
            <a:chOff x="1069920" y="3505320"/>
            <a:chExt cx="539640" cy="1444680"/>
          </a:xfrm>
        </p:grpSpPr>
        <p:sp>
          <p:nvSpPr>
            <p:cNvPr id="3674" name=""/>
            <p:cNvSpPr/>
            <p:nvPr/>
          </p:nvSpPr>
          <p:spPr>
            <a:xfrm flipH="1" flipV="1">
              <a:off x="1322280" y="4083120"/>
              <a:ext cx="287280" cy="86688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 flipH="1" flipV="1">
              <a:off x="1069920" y="3505320"/>
              <a:ext cx="287280" cy="8665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1322280" y="4083120"/>
              <a:ext cx="34920" cy="2887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7" name=""/>
          <p:cNvSpPr txBox="1"/>
          <p:nvPr/>
        </p:nvSpPr>
        <p:spPr>
          <a:xfrm>
            <a:off x="441360" y="5745240"/>
            <a:ext cx="5616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 connection to an Access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ReAssociation follows a similar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 txBox="1"/>
          <p:nvPr/>
        </p:nvSpPr>
        <p:spPr>
          <a:xfrm>
            <a:off x="3451320" y="28656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ae00"/>
                </a:solidFill>
                <a:latin typeface="Times New Roman"/>
                <a:ea typeface="Times New Roman"/>
              </a:rPr>
              <a:t>Access Point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9" name=""/>
          <p:cNvGrpSpPr/>
          <p:nvPr/>
        </p:nvGrpSpPr>
        <p:grpSpPr>
          <a:xfrm>
            <a:off x="3787920" y="2341440"/>
            <a:ext cx="386280" cy="475200"/>
            <a:chOff x="3787920" y="2341440"/>
            <a:chExt cx="386280" cy="475200"/>
          </a:xfrm>
        </p:grpSpPr>
        <p:sp>
          <p:nvSpPr>
            <p:cNvPr id="3680" name=""/>
            <p:cNvSpPr/>
            <p:nvPr/>
          </p:nvSpPr>
          <p:spPr>
            <a:xfrm>
              <a:off x="3787920" y="256716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4140360" y="254952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4143240" y="260208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4148280" y="266220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4110120" y="254952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 flipV="1">
              <a:off x="4130640" y="2532240"/>
              <a:ext cx="0" cy="17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 flipV="1">
              <a:off x="3862440" y="2532240"/>
              <a:ext cx="0" cy="45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 flipV="1">
              <a:off x="4110120" y="2541600"/>
              <a:ext cx="0" cy="2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 flipV="1">
              <a:off x="3843360" y="254160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407664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3809880" y="252108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409248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3825720" y="2527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3894120" y="260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3995640" y="2603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4076640" y="253044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3809880" y="253224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4076640" y="256392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809880" y="256536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843360" y="257796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865680" y="259560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3927600" y="260352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 flipV="1">
              <a:off x="4062240" y="258444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3787920" y="25560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3867120" y="263052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3867120" y="264492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3870360" y="267984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900600" y="273852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900600" y="276228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902040" y="2786040"/>
              <a:ext cx="238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4016520" y="2733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4016520" y="27576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4016520" y="2781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146480" y="27208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14648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4089240" y="234648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3822840" y="2341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6ff0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7" name=""/>
          <p:cNvSpPr txBox="1"/>
          <p:nvPr/>
        </p:nvSpPr>
        <p:spPr>
          <a:xfrm>
            <a:off x="835200" y="2890800"/>
            <a:ext cx="1149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Access Point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8" name=""/>
          <p:cNvGrpSpPr/>
          <p:nvPr/>
        </p:nvGrpSpPr>
        <p:grpSpPr>
          <a:xfrm>
            <a:off x="1171440" y="2368440"/>
            <a:ext cx="386280" cy="470520"/>
            <a:chOff x="1171440" y="2368440"/>
            <a:chExt cx="386280" cy="470520"/>
          </a:xfrm>
        </p:grpSpPr>
        <p:sp>
          <p:nvSpPr>
            <p:cNvPr id="3719" name=""/>
            <p:cNvSpPr/>
            <p:nvPr/>
          </p:nvSpPr>
          <p:spPr>
            <a:xfrm>
              <a:off x="1171440" y="2589120"/>
              <a:ext cx="352800" cy="249480"/>
            </a:xfrm>
            <a:custGeom>
              <a:avLst/>
              <a:gdLst/>
              <a:ahLst/>
              <a:rect l="0" t="0" r="r" b="b"/>
              <a:pathLst>
                <a:path w="980" h="693">
                  <a:moveTo>
                    <a:pt x="980" y="0"/>
                  </a:moveTo>
                  <a:lnTo>
                    <a:pt x="980" y="693"/>
                  </a:lnTo>
                  <a:lnTo>
                    <a:pt x="0" y="693"/>
                  </a:lnTo>
                  <a:lnTo>
                    <a:pt x="0" y="0"/>
                  </a:lnTo>
                  <a:lnTo>
                    <a:pt x="98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1523880" y="2571840"/>
              <a:ext cx="25920" cy="267120"/>
            </a:xfrm>
            <a:custGeom>
              <a:avLst/>
              <a:gdLst/>
              <a:ahLst/>
              <a:rect l="0" t="0" r="r" b="b"/>
              <a:pathLst>
                <a:path w="72" h="742">
                  <a:moveTo>
                    <a:pt x="0" y="48"/>
                  </a:moveTo>
                  <a:lnTo>
                    <a:pt x="72" y="0"/>
                  </a:lnTo>
                  <a:lnTo>
                    <a:pt x="72" y="698"/>
                  </a:lnTo>
                  <a:lnTo>
                    <a:pt x="0" y="742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527120" y="2624040"/>
              <a:ext cx="25920" cy="174960"/>
            </a:xfrm>
            <a:custGeom>
              <a:avLst/>
              <a:gdLst/>
              <a:ahLst/>
              <a:rect l="0" t="0" r="r" b="b"/>
              <a:pathLst>
                <a:path w="72" h="486">
                  <a:moveTo>
                    <a:pt x="0" y="26"/>
                  </a:moveTo>
                  <a:lnTo>
                    <a:pt x="72" y="0"/>
                  </a:lnTo>
                  <a:lnTo>
                    <a:pt x="72" y="459"/>
                  </a:lnTo>
                  <a:lnTo>
                    <a:pt x="0" y="48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531800" y="2684520"/>
              <a:ext cx="25920" cy="41760"/>
            </a:xfrm>
            <a:custGeom>
              <a:avLst/>
              <a:gdLst/>
              <a:ahLst/>
              <a:rect l="0" t="0" r="r" b="b"/>
              <a:pathLst>
                <a:path w="72" h="116">
                  <a:moveTo>
                    <a:pt x="0" y="4"/>
                  </a:moveTo>
                  <a:lnTo>
                    <a:pt x="72" y="0"/>
                  </a:lnTo>
                  <a:lnTo>
                    <a:pt x="72" y="112"/>
                  </a:lnTo>
                  <a:lnTo>
                    <a:pt x="0" y="11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494000" y="2571840"/>
              <a:ext cx="47880" cy="25920"/>
            </a:xfrm>
            <a:custGeom>
              <a:avLst/>
              <a:gdLst/>
              <a:ahLst/>
              <a:rect l="0" t="0" r="r" b="b"/>
              <a:pathLst>
                <a:path w="133" h="72">
                  <a:moveTo>
                    <a:pt x="84" y="72"/>
                  </a:moveTo>
                  <a:lnTo>
                    <a:pt x="0" y="72"/>
                  </a:lnTo>
                  <a:lnTo>
                    <a:pt x="57" y="0"/>
                  </a:lnTo>
                  <a:lnTo>
                    <a:pt x="133" y="0"/>
                  </a:lnTo>
                  <a:lnTo>
                    <a:pt x="84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 flipV="1">
              <a:off x="1514520" y="2554200"/>
              <a:ext cx="0" cy="176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 flipV="1">
              <a:off x="1246320" y="2554200"/>
              <a:ext cx="0" cy="46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 flipV="1">
              <a:off x="1494000" y="2563920"/>
              <a:ext cx="0" cy="21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V="1">
              <a:off x="1227240" y="2563920"/>
              <a:ext cx="0" cy="23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146052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2" y="0"/>
                  </a:lnTo>
                  <a:lnTo>
                    <a:pt x="116" y="0"/>
                  </a:lnTo>
                  <a:lnTo>
                    <a:pt x="129" y="4"/>
                  </a:lnTo>
                  <a:lnTo>
                    <a:pt x="134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27"/>
                  </a:lnTo>
                  <a:lnTo>
                    <a:pt x="151" y="31"/>
                  </a:lnTo>
                  <a:lnTo>
                    <a:pt x="147" y="36"/>
                  </a:lnTo>
                  <a:lnTo>
                    <a:pt x="143" y="36"/>
                  </a:lnTo>
                  <a:lnTo>
                    <a:pt x="134" y="49"/>
                  </a:lnTo>
                  <a:lnTo>
                    <a:pt x="129" y="59"/>
                  </a:lnTo>
                  <a:lnTo>
                    <a:pt x="116" y="59"/>
                  </a:lnTo>
                  <a:lnTo>
                    <a:pt x="102" y="63"/>
                  </a:lnTo>
                  <a:lnTo>
                    <a:pt x="93" y="63"/>
                  </a:lnTo>
                  <a:lnTo>
                    <a:pt x="75" y="72"/>
                  </a:lnTo>
                  <a:lnTo>
                    <a:pt x="45" y="63"/>
                  </a:lnTo>
                  <a:lnTo>
                    <a:pt x="30" y="59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4" y="17"/>
                  </a:lnTo>
                  <a:lnTo>
                    <a:pt x="8" y="8"/>
                  </a:lnTo>
                  <a:lnTo>
                    <a:pt x="22" y="4"/>
                  </a:lnTo>
                  <a:lnTo>
                    <a:pt x="3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1193760" y="2543040"/>
              <a:ext cx="54360" cy="25920"/>
            </a:xfrm>
            <a:custGeom>
              <a:avLst/>
              <a:gdLst/>
              <a:ahLst/>
              <a:rect l="0" t="0" r="r" b="b"/>
              <a:pathLst>
                <a:path w="151" h="72">
                  <a:moveTo>
                    <a:pt x="75" y="0"/>
                  </a:moveTo>
                  <a:lnTo>
                    <a:pt x="93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9" y="8"/>
                  </a:lnTo>
                  <a:lnTo>
                    <a:pt x="143" y="17"/>
                  </a:lnTo>
                  <a:lnTo>
                    <a:pt x="147" y="27"/>
                  </a:lnTo>
                  <a:lnTo>
                    <a:pt x="151" y="36"/>
                  </a:lnTo>
                  <a:lnTo>
                    <a:pt x="147" y="36"/>
                  </a:lnTo>
                  <a:lnTo>
                    <a:pt x="143" y="40"/>
                  </a:lnTo>
                  <a:lnTo>
                    <a:pt x="143" y="49"/>
                  </a:lnTo>
                  <a:lnTo>
                    <a:pt x="129" y="59"/>
                  </a:lnTo>
                  <a:lnTo>
                    <a:pt x="116" y="63"/>
                  </a:lnTo>
                  <a:lnTo>
                    <a:pt x="106" y="72"/>
                  </a:lnTo>
                  <a:lnTo>
                    <a:pt x="75" y="72"/>
                  </a:lnTo>
                  <a:lnTo>
                    <a:pt x="58" y="72"/>
                  </a:lnTo>
                  <a:lnTo>
                    <a:pt x="45" y="72"/>
                  </a:lnTo>
                  <a:lnTo>
                    <a:pt x="40" y="63"/>
                  </a:lnTo>
                  <a:lnTo>
                    <a:pt x="22" y="59"/>
                  </a:lnTo>
                  <a:lnTo>
                    <a:pt x="8" y="49"/>
                  </a:lnTo>
                  <a:lnTo>
                    <a:pt x="8" y="40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4" y="27"/>
                  </a:lnTo>
                  <a:lnTo>
                    <a:pt x="8" y="17"/>
                  </a:lnTo>
                  <a:lnTo>
                    <a:pt x="22" y="8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147636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9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3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63" y="53"/>
                  </a:lnTo>
                  <a:lnTo>
                    <a:pt x="49" y="53"/>
                  </a:lnTo>
                  <a:lnTo>
                    <a:pt x="36" y="72"/>
                  </a:lnTo>
                  <a:lnTo>
                    <a:pt x="27" y="53"/>
                  </a:lnTo>
                  <a:lnTo>
                    <a:pt x="8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0" y="13"/>
                  </a:lnTo>
                  <a:lnTo>
                    <a:pt x="4" y="13"/>
                  </a:lnTo>
                  <a:lnTo>
                    <a:pt x="8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1209600" y="2549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13"/>
                  </a:lnTo>
                  <a:lnTo>
                    <a:pt x="72" y="13"/>
                  </a:lnTo>
                  <a:lnTo>
                    <a:pt x="72" y="40"/>
                  </a:lnTo>
                  <a:lnTo>
                    <a:pt x="72" y="53"/>
                  </a:lnTo>
                  <a:lnTo>
                    <a:pt x="59" y="53"/>
                  </a:lnTo>
                  <a:lnTo>
                    <a:pt x="45" y="72"/>
                  </a:lnTo>
                  <a:lnTo>
                    <a:pt x="36" y="72"/>
                  </a:lnTo>
                  <a:lnTo>
                    <a:pt x="23" y="72"/>
                  </a:lnTo>
                  <a:lnTo>
                    <a:pt x="8" y="53"/>
                  </a:lnTo>
                  <a:lnTo>
                    <a:pt x="4" y="53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4" y="13"/>
                  </a:lnTo>
                  <a:lnTo>
                    <a:pt x="8" y="13"/>
                  </a:lnTo>
                  <a:lnTo>
                    <a:pt x="23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1278000" y="2624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63" y="23"/>
                  </a:lnTo>
                  <a:lnTo>
                    <a:pt x="72" y="23"/>
                  </a:lnTo>
                  <a:lnTo>
                    <a:pt x="72" y="45"/>
                  </a:lnTo>
                  <a:lnTo>
                    <a:pt x="63" y="45"/>
                  </a:lnTo>
                  <a:lnTo>
                    <a:pt x="53" y="72"/>
                  </a:lnTo>
                  <a:lnTo>
                    <a:pt x="36" y="72"/>
                  </a:lnTo>
                  <a:lnTo>
                    <a:pt x="4" y="72"/>
                  </a:lnTo>
                  <a:lnTo>
                    <a:pt x="4" y="45"/>
                  </a:lnTo>
                  <a:lnTo>
                    <a:pt x="0" y="45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1379520" y="26258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45" y="0"/>
                  </a:lnTo>
                  <a:lnTo>
                    <a:pt x="59" y="0"/>
                  </a:lnTo>
                  <a:lnTo>
                    <a:pt x="72" y="0"/>
                  </a:lnTo>
                  <a:lnTo>
                    <a:pt x="72" y="23"/>
                  </a:lnTo>
                  <a:lnTo>
                    <a:pt x="59" y="45"/>
                  </a:lnTo>
                  <a:lnTo>
                    <a:pt x="45" y="45"/>
                  </a:lnTo>
                  <a:lnTo>
                    <a:pt x="36" y="72"/>
                  </a:lnTo>
                  <a:lnTo>
                    <a:pt x="27" y="45"/>
                  </a:lnTo>
                  <a:lnTo>
                    <a:pt x="23" y="45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4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1460520" y="25527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1193760" y="2554200"/>
              <a:ext cx="0" cy="33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1460520" y="2585880"/>
              <a:ext cx="33840" cy="63720"/>
            </a:xfrm>
            <a:custGeom>
              <a:avLst/>
              <a:gdLst/>
              <a:ahLst/>
              <a:rect l="0" t="0" r="r" b="b"/>
              <a:pathLst>
                <a:path w="94" h="177">
                  <a:moveTo>
                    <a:pt x="94" y="0"/>
                  </a:moveTo>
                  <a:lnTo>
                    <a:pt x="94" y="115"/>
                  </a:lnTo>
                  <a:lnTo>
                    <a:pt x="85" y="137"/>
                  </a:lnTo>
                  <a:lnTo>
                    <a:pt x="76" y="142"/>
                  </a:lnTo>
                  <a:lnTo>
                    <a:pt x="76" y="150"/>
                  </a:lnTo>
                  <a:lnTo>
                    <a:pt x="67" y="168"/>
                  </a:lnTo>
                  <a:lnTo>
                    <a:pt x="62" y="177"/>
                  </a:lnTo>
                  <a:lnTo>
                    <a:pt x="53" y="177"/>
                  </a:lnTo>
                  <a:lnTo>
                    <a:pt x="45" y="177"/>
                  </a:lnTo>
                  <a:lnTo>
                    <a:pt x="31" y="177"/>
                  </a:lnTo>
                  <a:lnTo>
                    <a:pt x="27" y="177"/>
                  </a:lnTo>
                  <a:lnTo>
                    <a:pt x="22" y="159"/>
                  </a:lnTo>
                  <a:lnTo>
                    <a:pt x="8" y="150"/>
                  </a:lnTo>
                  <a:lnTo>
                    <a:pt x="4" y="137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1193760" y="2587680"/>
              <a:ext cx="33840" cy="62280"/>
            </a:xfrm>
            <a:custGeom>
              <a:avLst/>
              <a:gdLst/>
              <a:ahLst/>
              <a:rect l="0" t="0" r="r" b="b"/>
              <a:pathLst>
                <a:path w="94" h="173">
                  <a:moveTo>
                    <a:pt x="94" y="0"/>
                  </a:moveTo>
                  <a:lnTo>
                    <a:pt x="94" y="115"/>
                  </a:lnTo>
                  <a:lnTo>
                    <a:pt x="85" y="138"/>
                  </a:lnTo>
                  <a:lnTo>
                    <a:pt x="76" y="151"/>
                  </a:lnTo>
                  <a:lnTo>
                    <a:pt x="67" y="165"/>
                  </a:lnTo>
                  <a:lnTo>
                    <a:pt x="62" y="173"/>
                  </a:lnTo>
                  <a:lnTo>
                    <a:pt x="49" y="173"/>
                  </a:lnTo>
                  <a:lnTo>
                    <a:pt x="45" y="173"/>
                  </a:lnTo>
                  <a:lnTo>
                    <a:pt x="40" y="173"/>
                  </a:lnTo>
                  <a:lnTo>
                    <a:pt x="27" y="173"/>
                  </a:lnTo>
                  <a:lnTo>
                    <a:pt x="22" y="165"/>
                  </a:lnTo>
                  <a:lnTo>
                    <a:pt x="17" y="147"/>
                  </a:lnTo>
                  <a:lnTo>
                    <a:pt x="8" y="138"/>
                  </a:lnTo>
                  <a:lnTo>
                    <a:pt x="0" y="115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1227240" y="2600280"/>
              <a:ext cx="39960" cy="35280"/>
            </a:xfrm>
            <a:custGeom>
              <a:avLst/>
              <a:gdLst/>
              <a:ahLst/>
              <a:rect l="0" t="0" r="r" b="b"/>
              <a:pathLst>
                <a:path w="111" h="98">
                  <a:moveTo>
                    <a:pt x="62" y="98"/>
                  </a:moveTo>
                  <a:lnTo>
                    <a:pt x="0" y="44"/>
                  </a:lnTo>
                  <a:lnTo>
                    <a:pt x="52" y="0"/>
                  </a:lnTo>
                  <a:lnTo>
                    <a:pt x="111" y="48"/>
                  </a:lnTo>
                  <a:lnTo>
                    <a:pt x="62" y="98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1249200" y="2617920"/>
              <a:ext cx="197280" cy="25920"/>
            </a:xfrm>
            <a:custGeom>
              <a:avLst/>
              <a:gdLst/>
              <a:ahLst/>
              <a:rect l="0" t="0" r="r" b="b"/>
              <a:pathLst>
                <a:path w="548" h="72">
                  <a:moveTo>
                    <a:pt x="48" y="0"/>
                  </a:moveTo>
                  <a:lnTo>
                    <a:pt x="548" y="0"/>
                  </a:lnTo>
                  <a:lnTo>
                    <a:pt x="495" y="72"/>
                  </a:lnTo>
                  <a:lnTo>
                    <a:pt x="0" y="7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311120" y="2625840"/>
              <a:ext cx="57600" cy="25920"/>
            </a:xfrm>
            <a:custGeom>
              <a:avLst/>
              <a:gdLst/>
              <a:ahLst/>
              <a:rect l="0" t="0" r="r" b="b"/>
              <a:pathLst>
                <a:path w="160" h="72">
                  <a:moveTo>
                    <a:pt x="22" y="0"/>
                  </a:moveTo>
                  <a:lnTo>
                    <a:pt x="160" y="0"/>
                  </a:lnTo>
                  <a:lnTo>
                    <a:pt x="151" y="72"/>
                  </a:lnTo>
                  <a:lnTo>
                    <a:pt x="0" y="7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 flipV="1">
              <a:off x="1446120" y="2606760"/>
              <a:ext cx="14400" cy="11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1171440" y="2577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0" y="72"/>
                  </a:lnTo>
                  <a:lnTo>
                    <a:pt x="27" y="0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1251000" y="2652840"/>
              <a:ext cx="176400" cy="68760"/>
            </a:xfrm>
            <a:custGeom>
              <a:avLst/>
              <a:gdLst/>
              <a:ahLst/>
              <a:rect l="0" t="0" r="r" b="b"/>
              <a:pathLst>
                <a:path w="490" h="191">
                  <a:moveTo>
                    <a:pt x="0" y="0"/>
                  </a:moveTo>
                  <a:lnTo>
                    <a:pt x="490" y="0"/>
                  </a:lnTo>
                  <a:lnTo>
                    <a:pt x="490" y="191"/>
                  </a:lnTo>
                  <a:lnTo>
                    <a:pt x="0" y="1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1251000" y="266688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1254240" y="270180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1284120" y="276084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1284120" y="2784600"/>
              <a:ext cx="239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1285920" y="2808360"/>
              <a:ext cx="237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1400040" y="2755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1400040" y="27795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1400040" y="28036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72" y="0"/>
                  </a:lnTo>
                  <a:lnTo>
                    <a:pt x="72" y="72"/>
                  </a:lnTo>
                  <a:lnTo>
                    <a:pt x="0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1530360" y="2743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0"/>
                  </a:lnTo>
                  <a:lnTo>
                    <a:pt x="72" y="17"/>
                  </a:lnTo>
                  <a:lnTo>
                    <a:pt x="72" y="27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27"/>
                  </a:lnTo>
                  <a:lnTo>
                    <a:pt x="17" y="17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1530360" y="2765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53" y="0"/>
                  </a:lnTo>
                  <a:lnTo>
                    <a:pt x="72" y="4"/>
                  </a:lnTo>
                  <a:lnTo>
                    <a:pt x="72" y="23"/>
                  </a:lnTo>
                  <a:lnTo>
                    <a:pt x="72" y="31"/>
                  </a:lnTo>
                  <a:lnTo>
                    <a:pt x="72" y="45"/>
                  </a:lnTo>
                  <a:lnTo>
                    <a:pt x="72" y="63"/>
                  </a:lnTo>
                  <a:lnTo>
                    <a:pt x="53" y="63"/>
                  </a:lnTo>
                  <a:lnTo>
                    <a:pt x="36" y="72"/>
                  </a:lnTo>
                  <a:lnTo>
                    <a:pt x="17" y="63"/>
                  </a:lnTo>
                  <a:lnTo>
                    <a:pt x="17" y="45"/>
                  </a:lnTo>
                  <a:lnTo>
                    <a:pt x="0" y="31"/>
                  </a:lnTo>
                  <a:lnTo>
                    <a:pt x="17" y="23"/>
                  </a:lnTo>
                  <a:lnTo>
                    <a:pt x="17" y="4"/>
                  </a:lnTo>
                  <a:lnTo>
                    <a:pt x="17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47312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1209600" y="2368440"/>
              <a:ext cx="25920" cy="186120"/>
            </a:xfrm>
            <a:custGeom>
              <a:avLst/>
              <a:gdLst/>
              <a:ahLst/>
              <a:rect l="0" t="0" r="r" b="b"/>
              <a:pathLst>
                <a:path w="72" h="517">
                  <a:moveTo>
                    <a:pt x="36" y="0"/>
                  </a:moveTo>
                  <a:lnTo>
                    <a:pt x="72" y="35"/>
                  </a:lnTo>
                  <a:lnTo>
                    <a:pt x="59" y="70"/>
                  </a:lnTo>
                  <a:lnTo>
                    <a:pt x="59" y="371"/>
                  </a:lnTo>
                  <a:lnTo>
                    <a:pt x="68" y="390"/>
                  </a:lnTo>
                  <a:lnTo>
                    <a:pt x="68" y="517"/>
                  </a:lnTo>
                  <a:lnTo>
                    <a:pt x="0" y="517"/>
                  </a:lnTo>
                  <a:lnTo>
                    <a:pt x="0" y="390"/>
                  </a:lnTo>
                  <a:lnTo>
                    <a:pt x="23" y="362"/>
                  </a:lnTo>
                  <a:lnTo>
                    <a:pt x="23" y="70"/>
                  </a:lnTo>
                  <a:lnTo>
                    <a:pt x="0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AC 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stamp, Beacon Interval, Capabilities, ESSID, Supported Rates,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ffic Indication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SID, Capabilities, Supporte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stamp, Beacon Interval, Capabilities, ESSID, Supported Rates,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me for Beacon except for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ociatio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ability, Listen Interval, ESSID, Supporte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ociation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ability, Status Code, Station ID, Supporte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More MAC 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 txBox="1"/>
          <p:nvPr/>
        </p:nvSpPr>
        <p:spPr>
          <a:xfrm>
            <a:off x="692280" y="1160640"/>
            <a:ext cx="774072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ssociatio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ability, Listen Interval, ESSID, Supported Rates, Current A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ssociation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pability, Status Code, Station ID, Supporte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s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, Sequence, Status, Challenge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802.11 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 txBox="1"/>
          <p:nvPr/>
        </p:nvSpPr>
        <p:spPr>
          <a:xfrm>
            <a:off x="3867120" y="3314880"/>
            <a:ext cx="36892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CSMA/CA Expl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127160"/>
            <a:ext cx="8039160" cy="237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90880" y="1622520"/>
            <a:ext cx="790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640" y="2562120"/>
            <a:ext cx="72835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1440" y="2155680"/>
            <a:ext cx="3340440" cy="406800"/>
          </a:xfrm>
          <a:custGeom>
            <a:avLst/>
            <a:gdLst/>
            <a:ahLst/>
            <a:rect l="0" t="0" r="r" b="b"/>
            <a:pathLst>
              <a:path fill="none" w="9279" h="1130">
                <a:moveTo>
                  <a:pt x="0" y="1130"/>
                </a:moveTo>
                <a:lnTo>
                  <a:pt x="246" y="0"/>
                </a:lnTo>
                <a:lnTo>
                  <a:pt x="9279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6067440" y="2155680"/>
            <a:ext cx="87120" cy="406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133880" y="2155680"/>
            <a:ext cx="8712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957480" y="2155680"/>
            <a:ext cx="8748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308480" y="2155680"/>
            <a:ext cx="8892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484520" y="2155680"/>
            <a:ext cx="8892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60920" y="2155680"/>
            <a:ext cx="8712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891040" y="2155680"/>
            <a:ext cx="87480" cy="406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90880" y="1349280"/>
            <a:ext cx="0" cy="1212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781440" y="1347840"/>
            <a:ext cx="0" cy="1233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67440" y="164628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2562120"/>
            <a:ext cx="0" cy="405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7480" y="2562120"/>
            <a:ext cx="0" cy="405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17920" y="2867040"/>
            <a:ext cx="1409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81440" y="1749600"/>
            <a:ext cx="227664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853240" y="1709640"/>
            <a:ext cx="214560" cy="62280"/>
          </a:xfrm>
          <a:custGeom>
            <a:avLst/>
            <a:gdLst/>
            <a:ahLst/>
            <a:rect l="0" t="0" r="r" b="b"/>
            <a:pathLst>
              <a:path w="596" h="173">
                <a:moveTo>
                  <a:pt x="596" y="102"/>
                </a:moveTo>
                <a:lnTo>
                  <a:pt x="0" y="0"/>
                </a:lnTo>
                <a:lnTo>
                  <a:pt x="0" y="173"/>
                </a:lnTo>
                <a:lnTo>
                  <a:pt x="596" y="10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4520" y="2832120"/>
            <a:ext cx="197280" cy="63720"/>
          </a:xfrm>
          <a:custGeom>
            <a:avLst/>
            <a:gdLst/>
            <a:ahLst/>
            <a:rect l="0" t="0" r="r" b="b"/>
            <a:pathLst>
              <a:path w="548" h="177">
                <a:moveTo>
                  <a:pt x="548" y="89"/>
                </a:moveTo>
                <a:lnTo>
                  <a:pt x="0" y="0"/>
                </a:lnTo>
                <a:lnTo>
                  <a:pt x="0" y="177"/>
                </a:lnTo>
                <a:lnTo>
                  <a:pt x="548" y="8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7480" y="2838600"/>
            <a:ext cx="203400" cy="63720"/>
          </a:xfrm>
          <a:custGeom>
            <a:avLst/>
            <a:gdLst/>
            <a:ahLst/>
            <a:rect l="0" t="0" r="r" b="b"/>
            <a:pathLst>
              <a:path w="565" h="177">
                <a:moveTo>
                  <a:pt x="0" y="70"/>
                </a:moveTo>
                <a:lnTo>
                  <a:pt x="565" y="0"/>
                </a:lnTo>
                <a:lnTo>
                  <a:pt x="565" y="177"/>
                </a:lnTo>
                <a:lnTo>
                  <a:pt x="0" y="7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92400" y="1339920"/>
            <a:ext cx="560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129200" y="1419120"/>
            <a:ext cx="1940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ntention Win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130640" y="2635200"/>
            <a:ext cx="860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t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81440" y="256212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19200" y="3373560"/>
            <a:ext cx="497520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965240" y="3102120"/>
            <a:ext cx="1157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r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041720" y="2179800"/>
            <a:ext cx="19400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off-Window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315120" y="2192400"/>
            <a:ext cx="14097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Fr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19520" y="3068640"/>
            <a:ext cx="4781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lot and Decrement Backoff as long as medium is id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1440" y="3335400"/>
            <a:ext cx="198720" cy="76680"/>
          </a:xfrm>
          <a:custGeom>
            <a:avLst/>
            <a:gdLst/>
            <a:ahLst/>
            <a:rect l="0" t="0" r="r" b="b"/>
            <a:pathLst>
              <a:path w="552" h="213">
                <a:moveTo>
                  <a:pt x="0" y="106"/>
                </a:moveTo>
                <a:lnTo>
                  <a:pt x="552" y="0"/>
                </a:lnTo>
                <a:lnTo>
                  <a:pt x="552" y="213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67240" y="3335400"/>
            <a:ext cx="221040" cy="82800"/>
          </a:xfrm>
          <a:custGeom>
            <a:avLst/>
            <a:gdLst/>
            <a:ahLst/>
            <a:rect l="0" t="0" r="r" b="b"/>
            <a:pathLst>
              <a:path w="614" h="230">
                <a:moveTo>
                  <a:pt x="614" y="105"/>
                </a:moveTo>
                <a:lnTo>
                  <a:pt x="0" y="0"/>
                </a:lnTo>
                <a:lnTo>
                  <a:pt x="0" y="230"/>
                </a:lnTo>
                <a:lnTo>
                  <a:pt x="614" y="10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81440" y="1722600"/>
            <a:ext cx="225720" cy="62280"/>
          </a:xfrm>
          <a:custGeom>
            <a:avLst/>
            <a:gdLst/>
            <a:ahLst/>
            <a:rect l="0" t="0" r="r" b="b"/>
            <a:pathLst>
              <a:path w="627" h="173">
                <a:moveTo>
                  <a:pt x="0" y="67"/>
                </a:moveTo>
                <a:lnTo>
                  <a:pt x="627" y="0"/>
                </a:lnTo>
                <a:lnTo>
                  <a:pt x="627" y="173"/>
                </a:lnTo>
                <a:lnTo>
                  <a:pt x="0" y="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1160" bIns="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9200" y="1589040"/>
            <a:ext cx="187560" cy="70200"/>
          </a:xfrm>
          <a:custGeom>
            <a:avLst/>
            <a:gdLst/>
            <a:ahLst/>
            <a:rect l="0" t="0" r="r" b="b"/>
            <a:pathLst>
              <a:path w="521" h="195">
                <a:moveTo>
                  <a:pt x="521" y="88"/>
                </a:moveTo>
                <a:lnTo>
                  <a:pt x="0" y="0"/>
                </a:lnTo>
                <a:lnTo>
                  <a:pt x="30" y="195"/>
                </a:lnTo>
                <a:lnTo>
                  <a:pt x="521" y="88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6200" y="1589040"/>
            <a:ext cx="192600" cy="70200"/>
          </a:xfrm>
          <a:custGeom>
            <a:avLst/>
            <a:gdLst/>
            <a:ahLst/>
            <a:rect l="0" t="0" r="r" b="b"/>
            <a:pathLst>
              <a:path w="535" h="195">
                <a:moveTo>
                  <a:pt x="0" y="88"/>
                </a:moveTo>
                <a:lnTo>
                  <a:pt x="517" y="0"/>
                </a:lnTo>
                <a:lnTo>
                  <a:pt x="535" y="195"/>
                </a:lnTo>
                <a:lnTo>
                  <a:pt x="0" y="88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18000" y="1959120"/>
            <a:ext cx="0" cy="66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41600" y="23144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90880" y="2003400"/>
            <a:ext cx="627120" cy="0"/>
          </a:xfrm>
          <a:prstGeom prst="line">
            <a:avLst/>
          </a:prstGeom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90880" y="2378160"/>
            <a:ext cx="450720" cy="0"/>
          </a:xfrm>
          <a:prstGeom prst="line">
            <a:avLst/>
          </a:prstGeom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1968480"/>
            <a:ext cx="187560" cy="70200"/>
          </a:xfrm>
          <a:custGeom>
            <a:avLst/>
            <a:gdLst/>
            <a:ahLst/>
            <a:rect l="0" t="0" r="r" b="b"/>
            <a:pathLst>
              <a:path w="521" h="195">
                <a:moveTo>
                  <a:pt x="521" y="88"/>
                </a:moveTo>
                <a:lnTo>
                  <a:pt x="0" y="0"/>
                </a:lnTo>
                <a:lnTo>
                  <a:pt x="30" y="195"/>
                </a:lnTo>
                <a:lnTo>
                  <a:pt x="521" y="8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97360" y="1968480"/>
            <a:ext cx="192600" cy="70200"/>
          </a:xfrm>
          <a:custGeom>
            <a:avLst/>
            <a:gdLst/>
            <a:ahLst/>
            <a:rect l="0" t="0" r="r" b="b"/>
            <a:pathLst>
              <a:path w="535" h="195">
                <a:moveTo>
                  <a:pt x="0" y="88"/>
                </a:moveTo>
                <a:lnTo>
                  <a:pt x="517" y="0"/>
                </a:lnTo>
                <a:lnTo>
                  <a:pt x="535" y="195"/>
                </a:lnTo>
                <a:lnTo>
                  <a:pt x="0" y="8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21000" y="2343240"/>
            <a:ext cx="119520" cy="74880"/>
          </a:xfrm>
          <a:custGeom>
            <a:avLst/>
            <a:gdLst/>
            <a:ahLst/>
            <a:rect l="0" t="0" r="r" b="b"/>
            <a:pathLst>
              <a:path w="332" h="208">
                <a:moveTo>
                  <a:pt x="332" y="88"/>
                </a:moveTo>
                <a:lnTo>
                  <a:pt x="0" y="0"/>
                </a:lnTo>
                <a:lnTo>
                  <a:pt x="13" y="208"/>
                </a:lnTo>
                <a:lnTo>
                  <a:pt x="332" y="88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90880" y="2343240"/>
            <a:ext cx="141480" cy="70200"/>
          </a:xfrm>
          <a:custGeom>
            <a:avLst/>
            <a:gdLst/>
            <a:ahLst/>
            <a:rect l="0" t="0" r="r" b="b"/>
            <a:pathLst>
              <a:path w="393" h="195">
                <a:moveTo>
                  <a:pt x="0" y="88"/>
                </a:moveTo>
                <a:lnTo>
                  <a:pt x="384" y="0"/>
                </a:lnTo>
                <a:lnTo>
                  <a:pt x="393" y="195"/>
                </a:lnTo>
                <a:lnTo>
                  <a:pt x="0" y="88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32280" y="2057400"/>
            <a:ext cx="533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F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98880" y="1701720"/>
            <a:ext cx="541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IF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800" y="2066760"/>
            <a:ext cx="790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9800" y="1914480"/>
            <a:ext cx="0" cy="63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08040" y="1901880"/>
            <a:ext cx="0" cy="15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41320" y="1773360"/>
            <a:ext cx="58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8120" y="2031840"/>
            <a:ext cx="186120" cy="70200"/>
          </a:xfrm>
          <a:custGeom>
            <a:avLst/>
            <a:gdLst/>
            <a:ahLst/>
            <a:rect l="0" t="0" r="r" b="b"/>
            <a:pathLst>
              <a:path w="517" h="195">
                <a:moveTo>
                  <a:pt x="517" y="88"/>
                </a:moveTo>
                <a:lnTo>
                  <a:pt x="0" y="0"/>
                </a:lnTo>
                <a:lnTo>
                  <a:pt x="30" y="195"/>
                </a:lnTo>
                <a:lnTo>
                  <a:pt x="517" y="88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3320" y="2031840"/>
            <a:ext cx="192600" cy="70200"/>
          </a:xfrm>
          <a:custGeom>
            <a:avLst/>
            <a:gdLst/>
            <a:ahLst/>
            <a:rect l="0" t="0" r="r" b="b"/>
            <a:pathLst>
              <a:path w="535" h="195">
                <a:moveTo>
                  <a:pt x="0" y="88"/>
                </a:moveTo>
                <a:lnTo>
                  <a:pt x="522" y="0"/>
                </a:lnTo>
                <a:lnTo>
                  <a:pt x="535" y="195"/>
                </a:lnTo>
                <a:lnTo>
                  <a:pt x="0" y="88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19200" y="3335400"/>
            <a:ext cx="197280" cy="76680"/>
          </a:xfrm>
          <a:custGeom>
            <a:avLst/>
            <a:gdLst/>
            <a:ahLst/>
            <a:rect l="0" t="0" r="r" b="b"/>
            <a:pathLst>
              <a:path w="548" h="213">
                <a:moveTo>
                  <a:pt x="0" y="106"/>
                </a:moveTo>
                <a:lnTo>
                  <a:pt x="548" y="0"/>
                </a:lnTo>
                <a:lnTo>
                  <a:pt x="548" y="213"/>
                </a:lnTo>
                <a:lnTo>
                  <a:pt x="0" y="10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87440" y="1111320"/>
            <a:ext cx="2154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access when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87440" y="1365120"/>
            <a:ext cx="2011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free longer than DI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496880" y="2130480"/>
            <a:ext cx="1494360" cy="429120"/>
            <a:chOff x="1496880" y="2130480"/>
            <a:chExt cx="1494360" cy="429120"/>
          </a:xfrm>
        </p:grpSpPr>
        <p:sp>
          <p:nvSpPr>
            <p:cNvPr id="154" name=""/>
            <p:cNvSpPr/>
            <p:nvPr/>
          </p:nvSpPr>
          <p:spPr>
            <a:xfrm>
              <a:off x="1496880" y="2130480"/>
              <a:ext cx="1494360" cy="429120"/>
            </a:xfrm>
            <a:custGeom>
              <a:avLst/>
              <a:gdLst/>
              <a:ahLst/>
              <a:rect l="0" t="0" r="r" b="b"/>
              <a:pathLst>
                <a:path w="4151" h="1192">
                  <a:moveTo>
                    <a:pt x="0" y="1192"/>
                  </a:moveTo>
                  <a:lnTo>
                    <a:pt x="242" y="0"/>
                  </a:lnTo>
                  <a:lnTo>
                    <a:pt x="4151" y="0"/>
                  </a:lnTo>
                  <a:lnTo>
                    <a:pt x="4151" y="1192"/>
                  </a:lnTo>
                  <a:lnTo>
                    <a:pt x="0" y="1192"/>
                  </a:lnTo>
                  <a:close/>
                </a:path>
              </a:pathLst>
            </a:custGeom>
            <a:solidFill>
              <a:srgbClr val="c0c0c0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1538280" y="2193840"/>
              <a:ext cx="13986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usy Medi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 txBox="1"/>
          <p:nvPr/>
        </p:nvSpPr>
        <p:spPr>
          <a:xfrm>
            <a:off x="768240" y="3657600"/>
            <a:ext cx="774072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ce collision probability where mostly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are waiting for medium to become f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lect Random Backoff after a Defer, resolving contention to avoid coll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fficient Backoff algorithm stable at high loa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nential Backoff window increases for retrans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ckoff timer elapses only when medium is i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 different fixed priority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allow immediate responses and PCF coexist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1506600"/>
            <a:ext cx="5553000" cy="228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CSMA/CA + ACK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838080" y="4114800"/>
            <a:ext cx="762012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er access based 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rier Sen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CA from PHY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Carrier Sen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tate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 access when medium is sensed free longer then DIFS, otherwise defer and backo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r of directed frames to return an ACK immediately when CRC corr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en no ACK received then retransmit frame after a random backoff (up to maximum limit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68480" y="1884240"/>
            <a:ext cx="1254240" cy="3268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57640" y="2476440"/>
            <a:ext cx="339840" cy="3222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882880" y="2000160"/>
            <a:ext cx="0" cy="397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108320" y="2025720"/>
            <a:ext cx="0" cy="392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2355840"/>
            <a:ext cx="0" cy="395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46600" y="2392200"/>
            <a:ext cx="612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78360" y="2362320"/>
            <a:ext cx="136800" cy="66960"/>
          </a:xfrm>
          <a:custGeom>
            <a:avLst/>
            <a:gdLst/>
            <a:ahLst/>
            <a:rect l="0" t="0" r="r" b="b"/>
            <a:pathLst>
              <a:path w="380" h="186">
                <a:moveTo>
                  <a:pt x="380" y="83"/>
                </a:moveTo>
                <a:lnTo>
                  <a:pt x="0" y="0"/>
                </a:lnTo>
                <a:lnTo>
                  <a:pt x="0" y="186"/>
                </a:lnTo>
                <a:lnTo>
                  <a:pt x="380" y="8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11640" y="2362320"/>
            <a:ext cx="136800" cy="66960"/>
          </a:xfrm>
          <a:custGeom>
            <a:avLst/>
            <a:gdLst/>
            <a:ahLst/>
            <a:rect l="0" t="0" r="r" b="b"/>
            <a:pathLst>
              <a:path w="380" h="186">
                <a:moveTo>
                  <a:pt x="0" y="83"/>
                </a:moveTo>
                <a:lnTo>
                  <a:pt x="380" y="0"/>
                </a:lnTo>
                <a:lnTo>
                  <a:pt x="380" y="186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100400" y="2500200"/>
            <a:ext cx="4683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197160" y="1903320"/>
            <a:ext cx="5238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459320" y="2590920"/>
            <a:ext cx="0" cy="687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722840" y="2884320"/>
            <a:ext cx="0" cy="474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5800" y="2982960"/>
            <a:ext cx="2103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27560" y="2952720"/>
            <a:ext cx="136800" cy="66960"/>
          </a:xfrm>
          <a:custGeom>
            <a:avLst/>
            <a:gdLst/>
            <a:ahLst/>
            <a:rect l="0" t="0" r="r" b="b"/>
            <a:pathLst>
              <a:path w="380" h="186">
                <a:moveTo>
                  <a:pt x="380" y="83"/>
                </a:moveTo>
                <a:lnTo>
                  <a:pt x="0" y="0"/>
                </a:lnTo>
                <a:lnTo>
                  <a:pt x="0" y="186"/>
                </a:lnTo>
                <a:lnTo>
                  <a:pt x="380" y="8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26080" y="2952720"/>
            <a:ext cx="136800" cy="66960"/>
          </a:xfrm>
          <a:custGeom>
            <a:avLst/>
            <a:gdLst/>
            <a:ahLst/>
            <a:rect l="0" t="0" r="r" b="b"/>
            <a:pathLst>
              <a:path w="380" h="186">
                <a:moveTo>
                  <a:pt x="0" y="83"/>
                </a:moveTo>
                <a:lnTo>
                  <a:pt x="380" y="0"/>
                </a:lnTo>
                <a:lnTo>
                  <a:pt x="380" y="186"/>
                </a:lnTo>
                <a:lnTo>
                  <a:pt x="0" y="8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71680" y="3201840"/>
            <a:ext cx="446040" cy="154080"/>
          </a:xfrm>
          <a:prstGeom prst="round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423040" y="3084480"/>
            <a:ext cx="700560" cy="295560"/>
          </a:xfrm>
          <a:custGeom>
            <a:avLst/>
            <a:gdLst/>
            <a:ahLst/>
            <a:rect l="0" t="0" r="r" b="b"/>
            <a:pathLst>
              <a:path fill="none" w="1946" h="821">
                <a:moveTo>
                  <a:pt x="0" y="821"/>
                </a:moveTo>
                <a:lnTo>
                  <a:pt x="242" y="0"/>
                </a:lnTo>
                <a:lnTo>
                  <a:pt x="1946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72200" y="2952720"/>
            <a:ext cx="138600" cy="66960"/>
          </a:xfrm>
          <a:custGeom>
            <a:avLst/>
            <a:gdLst/>
            <a:ahLst/>
            <a:rect l="0" t="0" r="r" b="b"/>
            <a:pathLst>
              <a:path w="385" h="186">
                <a:moveTo>
                  <a:pt x="385" y="83"/>
                </a:moveTo>
                <a:lnTo>
                  <a:pt x="0" y="0"/>
                </a:lnTo>
                <a:lnTo>
                  <a:pt x="0" y="186"/>
                </a:lnTo>
                <a:lnTo>
                  <a:pt x="385" y="8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505480" y="3084480"/>
            <a:ext cx="1050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MPD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22840" y="3084480"/>
            <a:ext cx="1138680" cy="295560"/>
          </a:xfrm>
          <a:custGeom>
            <a:avLst/>
            <a:gdLst/>
            <a:ahLst/>
            <a:rect l="0" t="0" r="r" b="b"/>
            <a:pathLst>
              <a:path fill="none" w="3163" h="821">
                <a:moveTo>
                  <a:pt x="0" y="821"/>
                </a:moveTo>
                <a:lnTo>
                  <a:pt x="242" y="0"/>
                </a:lnTo>
                <a:lnTo>
                  <a:pt x="3163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809960" y="3084480"/>
            <a:ext cx="8748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984920" y="3084480"/>
            <a:ext cx="8712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5072040" y="3084480"/>
            <a:ext cx="8748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897440" y="3084480"/>
            <a:ext cx="87480" cy="295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330200" y="1930320"/>
            <a:ext cx="5580360" cy="1460520"/>
            <a:chOff x="1330200" y="1930320"/>
            <a:chExt cx="5580360" cy="1460520"/>
          </a:xfrm>
        </p:grpSpPr>
        <p:grpSp>
          <p:nvGrpSpPr>
            <p:cNvPr id="187" name=""/>
            <p:cNvGrpSpPr/>
            <p:nvPr/>
          </p:nvGrpSpPr>
          <p:grpSpPr>
            <a:xfrm>
              <a:off x="1655640" y="2209680"/>
              <a:ext cx="5254920" cy="1181160"/>
              <a:chOff x="1655640" y="2209680"/>
              <a:chExt cx="5254920" cy="1181160"/>
            </a:xfrm>
          </p:grpSpPr>
          <p:sp>
            <p:nvSpPr>
              <p:cNvPr id="188" name=""/>
              <p:cNvSpPr/>
              <p:nvPr/>
            </p:nvSpPr>
            <p:spPr>
              <a:xfrm>
                <a:off x="1655640" y="2209680"/>
                <a:ext cx="525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655640" y="2800440"/>
                <a:ext cx="525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655640" y="3390840"/>
                <a:ext cx="525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 txBox="1"/>
            <p:nvPr/>
          </p:nvSpPr>
          <p:spPr>
            <a:xfrm>
              <a:off x="1330200" y="1930320"/>
              <a:ext cx="477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r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1319040" y="2495520"/>
            <a:ext cx="568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52520" y="3081240"/>
            <a:ext cx="703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14680" y="1739880"/>
            <a:ext cx="0" cy="461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6400" y="17463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57280" y="1814400"/>
            <a:ext cx="787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78240" y="1782720"/>
            <a:ext cx="136800" cy="68760"/>
          </a:xfrm>
          <a:custGeom>
            <a:avLst/>
            <a:gdLst/>
            <a:ahLst/>
            <a:rect l="0" t="0" r="r" b="b"/>
            <a:pathLst>
              <a:path w="380" h="191">
                <a:moveTo>
                  <a:pt x="380" y="89"/>
                </a:moveTo>
                <a:lnTo>
                  <a:pt x="0" y="0"/>
                </a:lnTo>
                <a:lnTo>
                  <a:pt x="0" y="191"/>
                </a:lnTo>
                <a:lnTo>
                  <a:pt x="380" y="8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81440" y="1782720"/>
            <a:ext cx="136800" cy="68760"/>
          </a:xfrm>
          <a:custGeom>
            <a:avLst/>
            <a:gdLst/>
            <a:ahLst/>
            <a:rect l="0" t="0" r="r" b="b"/>
            <a:pathLst>
              <a:path w="380" h="191">
                <a:moveTo>
                  <a:pt x="0" y="89"/>
                </a:moveTo>
                <a:lnTo>
                  <a:pt x="380" y="0"/>
                </a:lnTo>
                <a:lnTo>
                  <a:pt x="380" y="191"/>
                </a:lnTo>
                <a:lnTo>
                  <a:pt x="0" y="8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265720" y="2793960"/>
            <a:ext cx="1281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Wind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82880" y="1901880"/>
            <a:ext cx="0" cy="1871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22840" y="2887560"/>
            <a:ext cx="0" cy="88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882880" y="3672000"/>
            <a:ext cx="3278160" cy="3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897280" y="3641760"/>
            <a:ext cx="136800" cy="68760"/>
          </a:xfrm>
          <a:custGeom>
            <a:avLst/>
            <a:gdLst/>
            <a:ahLst/>
            <a:rect l="0" t="0" r="r" b="b"/>
            <a:pathLst>
              <a:path w="380" h="191">
                <a:moveTo>
                  <a:pt x="0" y="84"/>
                </a:moveTo>
                <a:lnTo>
                  <a:pt x="380" y="0"/>
                </a:lnTo>
                <a:lnTo>
                  <a:pt x="380" y="191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37240" y="3641760"/>
            <a:ext cx="136800" cy="68760"/>
          </a:xfrm>
          <a:custGeom>
            <a:avLst/>
            <a:gdLst/>
            <a:ahLst/>
            <a:rect l="0" t="0" r="r" b="b"/>
            <a:pathLst>
              <a:path w="380" h="191">
                <a:moveTo>
                  <a:pt x="0" y="84"/>
                </a:moveTo>
                <a:lnTo>
                  <a:pt x="380" y="0"/>
                </a:lnTo>
                <a:lnTo>
                  <a:pt x="380" y="191"/>
                </a:lnTo>
                <a:lnTo>
                  <a:pt x="0" y="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591080" y="3641760"/>
            <a:ext cx="136800" cy="68760"/>
          </a:xfrm>
          <a:custGeom>
            <a:avLst/>
            <a:gdLst/>
            <a:ahLst/>
            <a:rect l="0" t="0" r="r" b="b"/>
            <a:pathLst>
              <a:path w="380" h="191">
                <a:moveTo>
                  <a:pt x="380" y="84"/>
                </a:moveTo>
                <a:lnTo>
                  <a:pt x="0" y="0"/>
                </a:lnTo>
                <a:lnTo>
                  <a:pt x="0" y="191"/>
                </a:lnTo>
                <a:lnTo>
                  <a:pt x="380" y="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230640" y="3416400"/>
            <a:ext cx="10875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r Ac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843440" y="3409920"/>
            <a:ext cx="15494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off after Def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517840" y="1546200"/>
            <a:ext cx="473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040280" y="217476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389480" y="2789280"/>
            <a:ext cx="473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Throughput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90720" y="5257800"/>
            <a:ext cx="71629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icient and stable through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le throughput at overload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upport “Bursty Traffic”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494000" y="1306440"/>
            <a:ext cx="606276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05000" y="2236680"/>
            <a:ext cx="6324480" cy="223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30680" y="2992320"/>
            <a:ext cx="4043520" cy="1454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ff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90720" y="1335240"/>
            <a:ext cx="7543800" cy="43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ters contending for the medium may not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“Hear each other”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shown below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parate Control frame exchange (RTS / CTS) between transmitter and receiver will 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Reserve the Medium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subsequent data a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u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s distributed around both Tx and Rx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Hidden Node”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594240" y="3681360"/>
            <a:ext cx="2517480" cy="382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27400" y="3833640"/>
            <a:ext cx="2136600" cy="2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06880" y="3981600"/>
            <a:ext cx="317520" cy="2412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9920" y="3292560"/>
            <a:ext cx="317520" cy="3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ff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81560" y="3521160"/>
            <a:ext cx="317520" cy="2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41760" y="3325680"/>
            <a:ext cx="387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122640" y="3957480"/>
            <a:ext cx="480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5880" y="3498840"/>
            <a:ext cx="480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94240" y="3987720"/>
            <a:ext cx="228960" cy="76680"/>
          </a:xfrm>
          <a:custGeom>
            <a:avLst/>
            <a:gdLst/>
            <a:ahLst/>
            <a:rect l="0" t="0" r="r" b="b"/>
            <a:pathLst>
              <a:path w="636" h="213">
                <a:moveTo>
                  <a:pt x="0" y="213"/>
                </a:moveTo>
                <a:lnTo>
                  <a:pt x="636" y="0"/>
                </a:lnTo>
                <a:lnTo>
                  <a:pt x="636" y="213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883120" y="3681360"/>
            <a:ext cx="228960" cy="76680"/>
          </a:xfrm>
          <a:custGeom>
            <a:avLst/>
            <a:gdLst/>
            <a:ahLst/>
            <a:rect l="0" t="0" r="r" b="b"/>
            <a:pathLst>
              <a:path w="636" h="213">
                <a:moveTo>
                  <a:pt x="636" y="0"/>
                </a:moveTo>
                <a:lnTo>
                  <a:pt x="0" y="213"/>
                </a:lnTo>
                <a:lnTo>
                  <a:pt x="0" y="0"/>
                </a:lnTo>
                <a:lnTo>
                  <a:pt x="636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513400" y="2849400"/>
            <a:ext cx="946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-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646440" y="2706840"/>
            <a:ext cx="946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-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632040" y="3595680"/>
            <a:ext cx="878040" cy="363600"/>
            <a:chOff x="3632040" y="3595680"/>
            <a:chExt cx="878040" cy="363600"/>
          </a:xfrm>
        </p:grpSpPr>
        <p:sp>
          <p:nvSpPr>
            <p:cNvPr id="235" name=""/>
            <p:cNvSpPr/>
            <p:nvPr/>
          </p:nvSpPr>
          <p:spPr>
            <a:xfrm flipV="1">
              <a:off x="3632040" y="3595680"/>
              <a:ext cx="878040" cy="363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41880" y="3595680"/>
              <a:ext cx="249480" cy="152640"/>
            </a:xfrm>
            <a:custGeom>
              <a:avLst/>
              <a:gdLst/>
              <a:ahLst/>
              <a:rect l="0" t="0" r="r" b="b"/>
              <a:pathLst>
                <a:path w="693" h="424">
                  <a:moveTo>
                    <a:pt x="693" y="0"/>
                  </a:moveTo>
                  <a:lnTo>
                    <a:pt x="0" y="158"/>
                  </a:lnTo>
                  <a:lnTo>
                    <a:pt x="158" y="424"/>
                  </a:lnTo>
                  <a:lnTo>
                    <a:pt x="69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523880" y="2448000"/>
            <a:ext cx="1020960" cy="200160"/>
            <a:chOff x="1523880" y="2448000"/>
            <a:chExt cx="1020960" cy="200160"/>
          </a:xfrm>
        </p:grpSpPr>
        <p:sp>
          <p:nvSpPr>
            <p:cNvPr id="238" name=""/>
            <p:cNvSpPr/>
            <p:nvPr/>
          </p:nvSpPr>
          <p:spPr>
            <a:xfrm>
              <a:off x="1523880" y="2448000"/>
              <a:ext cx="1020960" cy="19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44680" y="2562120"/>
              <a:ext cx="190800" cy="86040"/>
            </a:xfrm>
            <a:custGeom>
              <a:avLst/>
              <a:gdLst/>
              <a:ahLst/>
              <a:rect l="0" t="0" r="r" b="b"/>
              <a:pathLst>
                <a:path w="530" h="239">
                  <a:moveTo>
                    <a:pt x="530" y="239"/>
                  </a:moveTo>
                  <a:lnTo>
                    <a:pt x="0" y="0"/>
                  </a:lnTo>
                  <a:lnTo>
                    <a:pt x="0" y="239"/>
                  </a:lnTo>
                  <a:lnTo>
                    <a:pt x="530" y="239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514520" y="3040200"/>
            <a:ext cx="1020600" cy="201960"/>
            <a:chOff x="1514520" y="3040200"/>
            <a:chExt cx="1020600" cy="201960"/>
          </a:xfrm>
        </p:grpSpPr>
        <p:sp>
          <p:nvSpPr>
            <p:cNvPr id="241" name=""/>
            <p:cNvSpPr/>
            <p:nvPr/>
          </p:nvSpPr>
          <p:spPr>
            <a:xfrm>
              <a:off x="1514520" y="3040200"/>
              <a:ext cx="1020600" cy="20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35320" y="3154320"/>
              <a:ext cx="190800" cy="87840"/>
            </a:xfrm>
            <a:custGeom>
              <a:avLst/>
              <a:gdLst/>
              <a:ahLst/>
              <a:rect l="0" t="0" r="r" b="b"/>
              <a:pathLst>
                <a:path w="530" h="244">
                  <a:moveTo>
                    <a:pt x="530" y="244"/>
                  </a:moveTo>
                  <a:lnTo>
                    <a:pt x="0" y="0"/>
                  </a:lnTo>
                  <a:lnTo>
                    <a:pt x="0" y="244"/>
                  </a:lnTo>
                  <a:lnTo>
                    <a:pt x="530" y="244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495440" y="2733840"/>
            <a:ext cx="1020600" cy="201600"/>
            <a:chOff x="1495440" y="2733840"/>
            <a:chExt cx="1020600" cy="201600"/>
          </a:xfrm>
        </p:grpSpPr>
        <p:sp>
          <p:nvSpPr>
            <p:cNvPr id="244" name=""/>
            <p:cNvSpPr/>
            <p:nvPr/>
          </p:nvSpPr>
          <p:spPr>
            <a:xfrm flipH="1">
              <a:off x="1495440" y="2733840"/>
              <a:ext cx="1020600" cy="20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04800" y="2849400"/>
              <a:ext cx="190800" cy="86040"/>
            </a:xfrm>
            <a:custGeom>
              <a:avLst/>
              <a:gdLst/>
              <a:ahLst/>
              <a:rect l="0" t="0" r="r" b="b"/>
              <a:pathLst>
                <a:path w="530" h="239">
                  <a:moveTo>
                    <a:pt x="0" y="239"/>
                  </a:moveTo>
                  <a:lnTo>
                    <a:pt x="530" y="0"/>
                  </a:lnTo>
                  <a:lnTo>
                    <a:pt x="530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495440" y="3308400"/>
            <a:ext cx="1020600" cy="200160"/>
            <a:chOff x="1495440" y="3308400"/>
            <a:chExt cx="1020600" cy="200160"/>
          </a:xfrm>
        </p:grpSpPr>
        <p:sp>
          <p:nvSpPr>
            <p:cNvPr id="247" name=""/>
            <p:cNvSpPr/>
            <p:nvPr/>
          </p:nvSpPr>
          <p:spPr>
            <a:xfrm flipH="1">
              <a:off x="1495440" y="3308400"/>
              <a:ext cx="1020600" cy="19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04800" y="3422520"/>
              <a:ext cx="190800" cy="86040"/>
            </a:xfrm>
            <a:custGeom>
              <a:avLst/>
              <a:gdLst/>
              <a:ahLst/>
              <a:rect l="0" t="0" r="r" b="b"/>
              <a:pathLst>
                <a:path w="530" h="239">
                  <a:moveTo>
                    <a:pt x="0" y="239"/>
                  </a:moveTo>
                  <a:lnTo>
                    <a:pt x="530" y="0"/>
                  </a:lnTo>
                  <a:lnTo>
                    <a:pt x="530" y="239"/>
                  </a:lnTo>
                  <a:lnTo>
                    <a:pt x="0" y="239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 txBox="1"/>
          <p:nvPr/>
        </p:nvSpPr>
        <p:spPr>
          <a:xfrm>
            <a:off x="1214280" y="2198520"/>
            <a:ext cx="480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435400" y="2198520"/>
            <a:ext cx="387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824120" y="2387520"/>
            <a:ext cx="382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814400" y="2644920"/>
            <a:ext cx="382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824120" y="2979720"/>
            <a:ext cx="393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833480" y="3247920"/>
            <a:ext cx="358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043600" y="3375000"/>
            <a:ext cx="1066680" cy="150840"/>
            <a:chOff x="5043600" y="3375000"/>
            <a:chExt cx="1066680" cy="150840"/>
          </a:xfrm>
        </p:grpSpPr>
        <p:sp>
          <p:nvSpPr>
            <p:cNvPr id="256" name=""/>
            <p:cNvSpPr/>
            <p:nvPr/>
          </p:nvSpPr>
          <p:spPr>
            <a:xfrm flipH="1" flipV="1">
              <a:off x="5043600" y="3375000"/>
              <a:ext cx="1066680" cy="1508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65560" y="3375000"/>
              <a:ext cx="302040" cy="63720"/>
            </a:xfrm>
            <a:custGeom>
              <a:avLst/>
              <a:gdLst/>
              <a:ahLst/>
              <a:rect l="0" t="0" r="r" b="b"/>
              <a:pathLst>
                <a:path w="839" h="177">
                  <a:moveTo>
                    <a:pt x="0" y="0"/>
                  </a:moveTo>
                  <a:lnTo>
                    <a:pt x="839" y="66"/>
                  </a:lnTo>
                  <a:lnTo>
                    <a:pt x="645" y="1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2878200" y="2830680"/>
            <a:ext cx="2215080" cy="1626120"/>
          </a:xfrm>
          <a:custGeom>
            <a:avLst/>
            <a:gdLst/>
            <a:ahLst/>
            <a:rect l="0" t="0" r="r" b="b"/>
            <a:pathLst>
              <a:path fill="none" w="6153" h="4517">
                <a:moveTo>
                  <a:pt x="1548" y="0"/>
                </a:moveTo>
                <a:lnTo>
                  <a:pt x="2598" y="220"/>
                </a:lnTo>
                <a:lnTo>
                  <a:pt x="2959" y="304"/>
                </a:lnTo>
                <a:lnTo>
                  <a:pt x="3325" y="445"/>
                </a:lnTo>
                <a:lnTo>
                  <a:pt x="3506" y="471"/>
                </a:lnTo>
                <a:lnTo>
                  <a:pt x="3780" y="555"/>
                </a:lnTo>
                <a:lnTo>
                  <a:pt x="3960" y="612"/>
                </a:lnTo>
                <a:lnTo>
                  <a:pt x="4190" y="696"/>
                </a:lnTo>
                <a:lnTo>
                  <a:pt x="4326" y="754"/>
                </a:lnTo>
                <a:lnTo>
                  <a:pt x="4742" y="890"/>
                </a:lnTo>
                <a:lnTo>
                  <a:pt x="5104" y="1009"/>
                </a:lnTo>
                <a:lnTo>
                  <a:pt x="5284" y="1178"/>
                </a:lnTo>
                <a:lnTo>
                  <a:pt x="5333" y="1231"/>
                </a:lnTo>
                <a:lnTo>
                  <a:pt x="5421" y="1315"/>
                </a:lnTo>
                <a:lnTo>
                  <a:pt x="5558" y="1398"/>
                </a:lnTo>
                <a:lnTo>
                  <a:pt x="5694" y="1566"/>
                </a:lnTo>
                <a:lnTo>
                  <a:pt x="5787" y="1681"/>
                </a:lnTo>
                <a:lnTo>
                  <a:pt x="5968" y="1848"/>
                </a:lnTo>
                <a:lnTo>
                  <a:pt x="6060" y="2020"/>
                </a:lnTo>
                <a:lnTo>
                  <a:pt x="6105" y="2104"/>
                </a:lnTo>
                <a:lnTo>
                  <a:pt x="6105" y="2241"/>
                </a:lnTo>
                <a:lnTo>
                  <a:pt x="6153" y="2439"/>
                </a:lnTo>
                <a:lnTo>
                  <a:pt x="6153" y="2576"/>
                </a:lnTo>
                <a:lnTo>
                  <a:pt x="6153" y="2827"/>
                </a:lnTo>
                <a:lnTo>
                  <a:pt x="6060" y="2942"/>
                </a:lnTo>
                <a:lnTo>
                  <a:pt x="5968" y="3167"/>
                </a:lnTo>
                <a:lnTo>
                  <a:pt x="5880" y="3308"/>
                </a:lnTo>
                <a:lnTo>
                  <a:pt x="5694" y="3476"/>
                </a:lnTo>
                <a:lnTo>
                  <a:pt x="5470" y="3534"/>
                </a:lnTo>
                <a:lnTo>
                  <a:pt x="5333" y="3644"/>
                </a:lnTo>
                <a:lnTo>
                  <a:pt x="5104" y="3811"/>
                </a:lnTo>
                <a:lnTo>
                  <a:pt x="5015" y="3869"/>
                </a:lnTo>
                <a:lnTo>
                  <a:pt x="4786" y="3922"/>
                </a:lnTo>
                <a:lnTo>
                  <a:pt x="4604" y="3979"/>
                </a:lnTo>
                <a:lnTo>
                  <a:pt x="3960" y="4151"/>
                </a:lnTo>
                <a:lnTo>
                  <a:pt x="3140" y="4235"/>
                </a:lnTo>
                <a:lnTo>
                  <a:pt x="2915" y="4292"/>
                </a:lnTo>
                <a:lnTo>
                  <a:pt x="2735" y="4319"/>
                </a:lnTo>
                <a:lnTo>
                  <a:pt x="2139" y="4376"/>
                </a:lnTo>
                <a:lnTo>
                  <a:pt x="1641" y="4433"/>
                </a:lnTo>
                <a:lnTo>
                  <a:pt x="1274" y="4433"/>
                </a:lnTo>
                <a:lnTo>
                  <a:pt x="771" y="4486"/>
                </a:lnTo>
                <a:lnTo>
                  <a:pt x="498" y="4517"/>
                </a:lnTo>
                <a:lnTo>
                  <a:pt x="0" y="4486"/>
                </a:lnTo>
              </a:path>
            </a:pathLst>
          </a:cu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111560" y="3805200"/>
            <a:ext cx="22114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s do not hear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111560" y="4033800"/>
            <a:ext cx="1593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y hear the 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03440" y="644400"/>
            <a:ext cx="772956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618ffd"/>
                </a:solidFill>
                <a:latin typeface="Arial"/>
                <a:ea typeface="Arial"/>
              </a:rPr>
              <a:t>Hidden Node” Prov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990720" y="4038480"/>
            <a:ext cx="739152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ld in RTS and CTS frames distribu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um Reserv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formation which is stored in a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Net Allocation Vector (NAV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r on either NAV or "CCA" indicating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edium Bus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RTS / CTS is optional but </a:t>
            </a: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  <a:ea typeface="Arial"/>
              </a:rPr>
              <a:t>m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 impleme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is controlled by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TS_Threshol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meter per s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o limit overhead for short fra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00160" y="1206360"/>
            <a:ext cx="6943680" cy="267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33480" y="1527120"/>
            <a:ext cx="477720" cy="3524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84280" y="2160720"/>
            <a:ext cx="477720" cy="3524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35440" y="1527120"/>
            <a:ext cx="1581120" cy="35244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91080" y="2160720"/>
            <a:ext cx="366840" cy="35244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292480" y="1652760"/>
            <a:ext cx="0" cy="1263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95440" y="2046240"/>
            <a:ext cx="0" cy="424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44720" y="2027160"/>
            <a:ext cx="0" cy="424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54160" y="1652760"/>
            <a:ext cx="0" cy="423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98920" y="1652760"/>
            <a:ext cx="0" cy="420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02240" y="2019240"/>
            <a:ext cx="0" cy="425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95320" y="155736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333520" y="219060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35640" y="2189160"/>
            <a:ext cx="49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373560" y="155088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940280" y="2286000"/>
            <a:ext cx="0" cy="736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270400" y="2600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08360" y="2705040"/>
            <a:ext cx="2648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773600" y="2673360"/>
            <a:ext cx="173520" cy="71640"/>
          </a:xfrm>
          <a:custGeom>
            <a:avLst/>
            <a:gdLst/>
            <a:ahLst/>
            <a:rect l="0" t="0" r="r" b="b"/>
            <a:pathLst>
              <a:path w="482" h="199">
                <a:moveTo>
                  <a:pt x="482" y="88"/>
                </a:moveTo>
                <a:lnTo>
                  <a:pt x="0" y="0"/>
                </a:lnTo>
                <a:lnTo>
                  <a:pt x="0" y="199"/>
                </a:lnTo>
                <a:lnTo>
                  <a:pt x="482" y="8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75440" y="2673360"/>
            <a:ext cx="171720" cy="71640"/>
          </a:xfrm>
          <a:custGeom>
            <a:avLst/>
            <a:gdLst/>
            <a:ahLst/>
            <a:rect l="0" t="0" r="r" b="b"/>
            <a:pathLst>
              <a:path w="477" h="199">
                <a:moveTo>
                  <a:pt x="0" y="88"/>
                </a:moveTo>
                <a:lnTo>
                  <a:pt x="477" y="0"/>
                </a:lnTo>
                <a:lnTo>
                  <a:pt x="477" y="199"/>
                </a:lnTo>
                <a:lnTo>
                  <a:pt x="0" y="8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514520" y="1373040"/>
            <a:ext cx="0" cy="481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44640" y="1393920"/>
            <a:ext cx="0" cy="463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89080" y="1440000"/>
            <a:ext cx="993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341360" y="1406520"/>
            <a:ext cx="173520" cy="73440"/>
          </a:xfrm>
          <a:custGeom>
            <a:avLst/>
            <a:gdLst/>
            <a:ahLst/>
            <a:rect l="0" t="0" r="r" b="b"/>
            <a:pathLst>
              <a:path w="482" h="204">
                <a:moveTo>
                  <a:pt x="482" y="93"/>
                </a:moveTo>
                <a:lnTo>
                  <a:pt x="0" y="0"/>
                </a:lnTo>
                <a:lnTo>
                  <a:pt x="0" y="204"/>
                </a:lnTo>
                <a:lnTo>
                  <a:pt x="482" y="9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49320" y="1406520"/>
            <a:ext cx="171720" cy="73440"/>
          </a:xfrm>
          <a:custGeom>
            <a:avLst/>
            <a:gdLst/>
            <a:ahLst/>
            <a:rect l="0" t="0" r="r" b="b"/>
            <a:pathLst>
              <a:path w="477" h="204">
                <a:moveTo>
                  <a:pt x="0" y="93"/>
                </a:moveTo>
                <a:lnTo>
                  <a:pt x="477" y="0"/>
                </a:lnTo>
                <a:lnTo>
                  <a:pt x="477" y="204"/>
                </a:lnTo>
                <a:lnTo>
                  <a:pt x="0" y="9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409760" y="1863720"/>
            <a:ext cx="6615000" cy="1266840"/>
            <a:chOff x="1409760" y="1863720"/>
            <a:chExt cx="6615000" cy="1266840"/>
          </a:xfrm>
        </p:grpSpPr>
        <p:sp>
          <p:nvSpPr>
            <p:cNvPr id="291" name=""/>
            <p:cNvSpPr/>
            <p:nvPr/>
          </p:nvSpPr>
          <p:spPr>
            <a:xfrm>
              <a:off x="1409760" y="1863720"/>
              <a:ext cx="6615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09760" y="2496960"/>
              <a:ext cx="6615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09760" y="3130560"/>
              <a:ext cx="6615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282760" y="2801880"/>
            <a:ext cx="2665440" cy="33480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35360" y="3121200"/>
            <a:ext cx="2112840" cy="330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443400" y="2863800"/>
            <a:ext cx="860400" cy="220680"/>
          </a:xfrm>
          <a:prstGeom prst="round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381480" y="2824200"/>
            <a:ext cx="569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53120" y="2813040"/>
            <a:ext cx="883080" cy="317880"/>
          </a:xfrm>
          <a:custGeom>
            <a:avLst/>
            <a:gdLst/>
            <a:ahLst/>
            <a:rect l="0" t="0" r="r" b="b"/>
            <a:pathLst>
              <a:path fill="none" w="2453" h="883">
                <a:moveTo>
                  <a:pt x="0" y="883"/>
                </a:moveTo>
                <a:lnTo>
                  <a:pt x="304" y="0"/>
                </a:lnTo>
                <a:lnTo>
                  <a:pt x="2453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097760" y="2673360"/>
            <a:ext cx="171720" cy="71640"/>
          </a:xfrm>
          <a:custGeom>
            <a:avLst/>
            <a:gdLst/>
            <a:ahLst/>
            <a:rect l="0" t="0" r="r" b="b"/>
            <a:pathLst>
              <a:path w="477" h="199">
                <a:moveTo>
                  <a:pt x="477" y="88"/>
                </a:moveTo>
                <a:lnTo>
                  <a:pt x="0" y="0"/>
                </a:lnTo>
                <a:lnTo>
                  <a:pt x="0" y="199"/>
                </a:lnTo>
                <a:lnTo>
                  <a:pt x="477" y="8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281640" y="2817720"/>
            <a:ext cx="1117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MP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70400" y="2813040"/>
            <a:ext cx="1433880" cy="317880"/>
          </a:xfrm>
          <a:custGeom>
            <a:avLst/>
            <a:gdLst/>
            <a:ahLst/>
            <a:rect l="0" t="0" r="r" b="b"/>
            <a:pathLst>
              <a:path fill="none" w="3983" h="883">
                <a:moveTo>
                  <a:pt x="0" y="883"/>
                </a:moveTo>
                <a:lnTo>
                  <a:pt x="304" y="0"/>
                </a:lnTo>
                <a:lnTo>
                  <a:pt x="3983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380200" y="2813040"/>
            <a:ext cx="110880" cy="31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600880" y="2813040"/>
            <a:ext cx="110880" cy="31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711760" y="2813040"/>
            <a:ext cx="109440" cy="31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5491080" y="2813040"/>
            <a:ext cx="109800" cy="317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023840" y="1569960"/>
            <a:ext cx="49536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009800" y="2190600"/>
            <a:ext cx="5922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50840" y="2817720"/>
            <a:ext cx="73512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902200" y="2468520"/>
            <a:ext cx="42552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292480" y="3024360"/>
            <a:ext cx="0" cy="844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270400" y="2602080"/>
            <a:ext cx="0" cy="126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2292480" y="3760920"/>
            <a:ext cx="4964040" cy="1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97600" y="3727440"/>
            <a:ext cx="173520" cy="73440"/>
          </a:xfrm>
          <a:custGeom>
            <a:avLst/>
            <a:gdLst/>
            <a:ahLst/>
            <a:rect l="0" t="0" r="r" b="b"/>
            <a:pathLst>
              <a:path w="482" h="204">
                <a:moveTo>
                  <a:pt x="482" y="93"/>
                </a:moveTo>
                <a:lnTo>
                  <a:pt x="0" y="0"/>
                </a:lnTo>
                <a:lnTo>
                  <a:pt x="0" y="204"/>
                </a:lnTo>
                <a:lnTo>
                  <a:pt x="482" y="9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03640" y="3727440"/>
            <a:ext cx="173520" cy="73440"/>
          </a:xfrm>
          <a:custGeom>
            <a:avLst/>
            <a:gdLst/>
            <a:ahLst/>
            <a:rect l="0" t="0" r="r" b="b"/>
            <a:pathLst>
              <a:path w="482" h="204">
                <a:moveTo>
                  <a:pt x="0" y="93"/>
                </a:moveTo>
                <a:lnTo>
                  <a:pt x="482" y="0"/>
                </a:lnTo>
                <a:lnTo>
                  <a:pt x="482" y="204"/>
                </a:lnTo>
                <a:lnTo>
                  <a:pt x="0" y="9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75440" y="3727440"/>
            <a:ext cx="171720" cy="73440"/>
          </a:xfrm>
          <a:custGeom>
            <a:avLst/>
            <a:gdLst/>
            <a:ahLst/>
            <a:rect l="0" t="0" r="r" b="b"/>
            <a:pathLst>
              <a:path w="477" h="204">
                <a:moveTo>
                  <a:pt x="0" y="93"/>
                </a:moveTo>
                <a:lnTo>
                  <a:pt x="477" y="0"/>
                </a:lnTo>
                <a:lnTo>
                  <a:pt x="477" y="204"/>
                </a:lnTo>
                <a:lnTo>
                  <a:pt x="0" y="9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84480" y="3478320"/>
            <a:ext cx="1157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er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508720" y="3478320"/>
            <a:ext cx="1655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off after De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51320" y="3179880"/>
            <a:ext cx="836640" cy="204840"/>
          </a:xfrm>
          <a:prstGeom prst="round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394080" y="3133800"/>
            <a:ext cx="569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787920" y="2846520"/>
            <a:ext cx="54936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808440" y="3162240"/>
            <a:ext cx="54936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0280" y="1165320"/>
            <a:ext cx="50148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182680" y="2075040"/>
            <a:ext cx="330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33840" y="2075040"/>
            <a:ext cx="331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87680" y="2075040"/>
            <a:ext cx="331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m Diepstraten</dc:creator>
  <dc:description/>
  <dc:language>en-US</dc:language>
  <cp:lastModifiedBy>Vic Hayes</cp:lastModifiedBy>
  <cp:revision>0</cp:revision>
  <dc:subject>March 96 meeting</dc:subject>
  <dc:title>802.11 Tutorial</dc:title>
</cp:coreProperties>
</file>