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31800" y="640872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905600" y="6362640"/>
            <a:ext cx="59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fld id="{E15E5A20-0377-4A10-92E4-3EFBA56F3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 Spec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87440" y="400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Jan Boer, Chair DS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cent Technologies WCND Utre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37339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rved for futur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00 signifies 802.11 compl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8560" y="1254240"/>
            <a:ext cx="5081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ngth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3505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es number of octets to be transmitted in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frame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DU CRC sy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798560" y="1254240"/>
            <a:ext cx="508176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380988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ITT CRC-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s Signal, Service and Length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92440" y="1258920"/>
            <a:ext cx="50943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cra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41911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bits transmitted by the DSSS Phy are scra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hening the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blocking (Barker sequnce is asymetr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50840" y="1379520"/>
            <a:ext cx="70866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PSK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8280" y="1174680"/>
            <a:ext cx="2579760" cy="2376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990720" y="4000680"/>
            <a:ext cx="722304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QPSK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978280" y="1174680"/>
            <a:ext cx="2579760" cy="2376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066680" y="3603600"/>
            <a:ext cx="723888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Spectrum M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859040"/>
            <a:ext cx="7156440" cy="30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85760" y="1523880"/>
            <a:ext cx="8621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Channe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1: Energy abov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2: Carrier sen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mode 3: Carrier sense with energy above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ion function of TX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gt; 100 mW: -8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gt; 50mW  :  -76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&lt; = 50mW: -70 d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 time 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ct PLCP header --&gt; CCA busy for full (intended) duration of of frame as indicated by PLCP Length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Specification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to Rx turnaroun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to Tx turnaround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temperature ran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1:     0  -  4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2:  -30  -  70 °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W/MH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Transmitted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level 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d above 1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DS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symbol is spreaded with a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r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power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65160" y="1992240"/>
            <a:ext cx="5214960" cy="206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913040" y="4573440"/>
            <a:ext cx="50547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Specification Summary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Center Frequency Tole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25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 Clock Frequency Toler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/- 25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On R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Power Down Ram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 Carrier sup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modulation accurac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0.08FER (1024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max input lev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4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 adjacent channel rej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3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&gt; 30 MHz sepa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-22860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Transmit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85640" y="1371600"/>
            <a:ext cx="80564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Receive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55680" y="1523880"/>
            <a:ext cx="82947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chip BARKER seq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autocorrelation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equence allowed by F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ing gain 10.4 d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2917800"/>
            <a:ext cx="48736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benef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dB coding g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interferers and noise (10 dB sup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bust against time delay 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ution of ech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6880" y="3112920"/>
            <a:ext cx="4834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SSS PHY character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ISM band (FCC 15.2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and 2 Mb/s datarate (DBPSK and DQPSK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rate 1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pping rate 11 MHz with 11  chip Barker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channels in 2.4 to 2.4835 GHz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Fram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55560" y="1744560"/>
            <a:ext cx="7664400" cy="33606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1584360" y="5516640"/>
            <a:ext cx="5419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and Header  always at 1Mb/s DBP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ynchro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342900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8 scrambled 1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 for o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gy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fset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5440" y="1251000"/>
            <a:ext cx="51483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Frame Delim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33526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field (hF3A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8560" y="1258920"/>
            <a:ext cx="508176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39625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ind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0A 1Mb/s DB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14  2Mb/s D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values reserved for future use (100 kb/s quant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98560" y="1251000"/>
            <a:ext cx="508176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n Boer</dc:creator>
  <dc:description/>
  <dc:language>en-US</dc:language>
  <cp:lastModifiedBy>Vic Hayes</cp:lastModifiedBy>
  <cp:revision>0</cp:revision>
  <dc:subject/>
  <dc:title>DSSS presentation</dc:title>
</cp:coreProperties>
</file>