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21376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795D81E7-FDAC-46ED-AAD7-2D9166F82975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5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6-9,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ltham, 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ssion starts on Monday, May 6, 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6/74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inue processing of D3 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nd WG Letter Ballot D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olve any multirat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apanese call sign re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CC wish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Wingding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rance and Spain Hop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Monday  | Tuesday |Wednesday|Thursday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802.11  |PH!PH!MAC|PH!PH!MAC|PH!PH!MAC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ADMIN  |DS!FH!   |DS!FH!   |DS!FH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MAC / PHY|  !  !   |..!..!   |.....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    |  !  !   | PHY !   | PHY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PHY !MAC|PH!PH!MAC|  802.11 | 802.11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!   |DS!FH!   |MAC/PHY  |Repor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.....!   |  !  !   |.........|Outpu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   |  !  !   |PH!PH!MAC|   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   |  !  !   |DS!FH!   |Next mtng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OPT   |         |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IR   |         |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|---------|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May 6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a Jolla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6/53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May 6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 from the Standing Committee on Regulatory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6/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y 8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y 9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y 9, 19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altham, M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st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ythe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 Tw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rvine Marri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haina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 Ma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Q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stin, T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691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-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buquerque, N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 Hayes</dc:creator>
  <dc:description/>
  <dc:language>en-US</dc:language>
  <cp:lastModifiedBy>Vic Hayes</cp:lastModifiedBy>
  <cp:revision>0</cp:revision>
  <dc:subject/>
  <dc:title>33rd Session of meetings of IEEE P802.11 Wireless Local Area Networks  Tentative Agenda</dc:title>
</cp:coreProperties>
</file>