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DBD57F-E9BE-4106-B6CF-15365B8E4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7924680" cy="6324480"/>
          </a:xfrm>
          <a:prstGeom prst="roundRect">
            <a:avLst/>
          </a:prstGeom>
          <a:noFill/>
          <a:ln w="12600">
            <a:solidFill>
              <a:srgbClr val="00279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204920" y="6545160"/>
            <a:ext cx="3521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EEE 802.11 MAC report  May 1996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oc 96/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070760" y="6545160"/>
            <a:ext cx="9540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vid Bag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y ‘96 MAC group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1905120"/>
            <a:ext cx="457200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09680" y="2895480"/>
            <a:ext cx="4572000" cy="1447920"/>
          </a:xfrm>
          <a:prstGeom prst="rect">
            <a:avLst/>
          </a:prstGeom>
          <a:solidFill>
            <a:srgbClr val="ffffff"/>
          </a:solidFill>
          <a:ln w="76320">
            <a:solidFill>
              <a:srgbClr val="618ffd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648320"/>
            <a:ext cx="45720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71800" y="3276720"/>
            <a:ext cx="2895480" cy="102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7200" spc="-1" strike="noStrike">
                <a:solidFill>
                  <a:srgbClr val="00279f"/>
                </a:solidFill>
                <a:latin typeface="Arial"/>
                <a:ea typeface="Arial"/>
              </a:rPr>
              <a:t>MA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43200" y="4724280"/>
            <a:ext cx="3352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100400" y="2111400"/>
            <a:ext cx="628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6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7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in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st handl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: C#10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needed work to supply missing Challenge text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one - only a reference correction needed so correction was editorial not technical - author agrees - comment closed with author con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8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comments adopted Mar/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30-40 comments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 in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2, 10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S poll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cline 102, 103 withdrawn, text added to clarify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ccept - only send CTS if nav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1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back off after xmit, rec=ac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llapse 2 overlapping sub section text re directed MP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delete some text from 9.2.8 (explana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Ma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had one goal - Process D3 LB comments and prepare D4.0 for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made it. (99.846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ontradiction fixed re CF ack vs null data fr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larify sentence re PCF issuing of some fa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-C# 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ding word to 9.2.5.2 re when use backoff det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05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me exchg sequences doc 96/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adopt 96/76 as amended by MF and discussion - revised paper provided by JZ to  for edit into clause 9 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7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1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esetting NAV cond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0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8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, C#: 126, 1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rifies PCF operation re getting on medium - requires sensing bef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B change for DTIM default value. from 5 to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990720" y="380880"/>
            <a:ext cx="7162920" cy="9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: c#: 133, 134, 135, 130, 113 Back off and R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.2.5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error recov responsibility of initiating sta of fame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Docs error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rifies retry limits and cou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9: 139, 13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ime Out St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K and CTS subclauses added para to deal  how time out is detected, distinguishes different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ly wording improv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9 - C#154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ags in order (not MSDUs in or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= acc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20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0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Mar/96 plen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isc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r MAC minutes approv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ust wait for Quorum in Ju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: C#43, 4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clarification of PSP - must get, vs can get data from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opened in Mar plenary - swapped 42/43 so that 42 is 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hanges clause 11.2.1.4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1 C#17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 randomization of beacons at TB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change 11.1.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 re C#17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9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ross Clause Su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BC/MC relia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21: multi-cast reliability from Jan (multiple com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bcast reliability Clause 11 C# 14,44,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dopt 96/15 and 96/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3, 0,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Plenary Vote: 4, 7,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Comments still open - not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72,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9: C#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11: c#67,91,92,100,1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 to accept 96/79R1 + change to encoding of supported rates, and incorporate into draft, and close related LB comments according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-rat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Amended to be as above “except for the portion of 96/79R1 which pertains to clause 14 and 1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 on amended motion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and Annex Com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st handled in Mar 96 Ple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mainder processed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Details to fol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xplicit that CF frames not used outside Cf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D3.1 statement added to 9.3.3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1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unable to process - refers to previous letter ballot comment with out any specific re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ails comment instru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- we looked, no action requested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un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is Week’s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ork was don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Clause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General &amp; Ann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2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inimally conformant network statement per PAR requ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 add def to clause 3 and ref in 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proposal: to add in clause 3 (defs)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A minimally conformant IEEE P802.11 network is one in which there are at least two Stations in a single BSA which are conformant with P802.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 C#123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nnection, connectionless, voice service (VH) no action requested in com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cepted without action and cl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Action requested (none) accep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un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0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Editorial com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107 thru 111, 114, 115, 120, 125, 126, 128 ed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Editors will process for D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No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27 k vs. K - Fixed in D3.1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osed unan in Ma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eneral: Pat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2:dissatisfaction with Patent due diligence / procedur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rec: refer to Vic to answer re procedure part and for contact to Ap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motion: to close w/o taking action (mover says intent is to not take action wrt to draft text) on basis that comment is not technical in n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Work 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rom here on in report the comment tables (rev 7) have not yet been updated at time of report to reflect thurs morn actions - this needs to result in rev 8 of tables for ma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nnex: State mac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113 -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close with “we have a volunteer to update the annex” - comment author accepts re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tate machines update 96/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adopt what MF has today for informative annex update and completed updates to be made avail to editors before D4.0 is publish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2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PICS 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general c#s: 3 thru 9, 104, 105, 106, 112 - PICs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, 4 are editor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re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3 accepted, 4 ed - ed’s get, 5 fixed in text, 6 fixed i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7- done, 8 same as 7, 9 accepted. text rewrit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4 missing refs to clause 5 &amp; 6 - accepted - text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05 accepted by mar 96 motion 8, 106 ac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112 accept - text not drafted yet. needs sec 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recs for PICs comments, PICs text done so far, and remainder of PICs text will be given to editors in time for D4.0 cre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1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ASN doc for MI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96/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ccept 96/89 as ASN MIB code and insert into a normative annex, any discrepancy between ASN code and this week’s work is considered editorial and editors will make the new annex consistent, also a statement will be added to annex that Annex takes precedence over other clauses in case of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0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1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C#34 TBTT and Next D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o decline comment on basis that comment is new functionality and does not have complete propose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2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1, 2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7 # 35 when can change MI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decline comment and close comment with “you may change any MIB attribute whenever the std allows it - the operational wisdom of such action should be considered before doing so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1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5, 0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ultiple MSDUs 96/91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o adopt text in 96/91R1 except for the 2nd to last paragraph of the submission beginning with the word ‘the station shall insure that there is no group-addressed…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7, 1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SIFS tole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lause 7: C#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that we insert into 9.2.3.1 “an 802.11 implementation shall not cause SIFS to vary from the nominal value by more than +/- 10% of aSlotTime for the PHY in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14, 0,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6,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0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2 Service classes, one ordered strictly, the other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96/92 MSDU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intain order at service interface instead of actual media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Discussion (re)ordering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: adopt 96/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4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2, 3,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the last motio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oved: that we incorporate the 2nd to last paragraph of 96/91r1 into draft 4.0 with the addition of the words “of strictly ordered service class” after “outstanding MSDU or MMPDU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MAC vote: 9, 0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Plenary Vote: 13, 1,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Goals for pre-July 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990720" y="129528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Forward D4.0 for Sponsor 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We anticipate that the July mtg will be bor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MAC group repor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That’s all for now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2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3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4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38088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1af0"/>
                </a:solidFill>
                <a:latin typeface="Arial"/>
                <a:ea typeface="Arial"/>
              </a:rPr>
              <a:t>Clause 5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371600"/>
            <a:ext cx="71629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  <a:ea typeface="Arial"/>
              </a:rPr>
              <a:t>Completed - in Plenary Mar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vid Bagby</dc:creator>
  <dc:description/>
  <dc:language>en-US</dc:language>
  <cp:lastModifiedBy>Vic Hayes</cp:lastModifiedBy>
  <cp:revision>0</cp:revision>
  <dc:subject/>
  <dc:title>November '94 MAC group agenda</dc:title>
</cp:coreProperties>
</file>