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49C63A52-B865-43DD-BCC0-860E51F0C021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6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8-12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chede, the Nether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8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6-3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rrisburg, P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cess D4 letter ballot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ly comments on NPRM 96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38880" y="2133720"/>
            <a:ext cx="1371600" cy="182880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Monday    |  Tuesday  |Wednesday  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Exec     |MAC!  PHY  |MAC! DS! FH |MAC! DS! FH |     802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     Comm.   |   !       |   !   !    |   !   !    |   Plenar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.......|   !   !    |   !........|</a:t>
            </a:r>
            <a:r>
              <a:rPr b="1" lang="en-US" sz="1600" spc="-1" strike="noStrike">
                <a:solidFill>
                  <a:srgbClr val="919191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    |   ! DS!FH |   !   !    |   !   PHY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|MAC! DS!FH |Full 802.11 |Full 802.11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Plenary    |   !   !   |Resolve     |   Repor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|   !   !   |  outputs   |   Outputs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|   !   !   |Cross issues|  Next mtng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Full 802.11 |   !   !   |Conform Tst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|IR! opt!opt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|  !MAC !PHY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|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ltham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4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Draft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tiny of Reg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 10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 11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@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6th Session of meetings of IEEE P802.11 Wireless Local Area Networks  Tentative Agenda</dc:title>
</cp:coreProperties>
</file>