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C762BFC-E6FC-46B8-A061-C0AD28CD70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371600" y="768240"/>
            <a:ext cx="5029200" cy="3767400"/>
          </a:xfrm>
          <a:prstGeom prst="rect">
            <a:avLst/>
          </a:prstGeom>
          <a:ln w="0">
            <a:noFill/>
          </a:ln>
        </p:spPr>
      </p:sp>
      <p:sp>
        <p:nvSpPr>
          <p:cNvPr id="1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371600" y="768240"/>
            <a:ext cx="5029200" cy="3767400"/>
          </a:xfrm>
          <a:prstGeom prst="rect">
            <a:avLst/>
          </a:prstGeom>
          <a:ln w="0">
            <a:noFill/>
          </a:ln>
        </p:spPr>
      </p:sp>
      <p:sp>
        <p:nvSpPr>
          <p:cNvPr id="1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371600" y="768240"/>
            <a:ext cx="5029200" cy="3767400"/>
          </a:xfrm>
          <a:prstGeom prst="rect">
            <a:avLst/>
          </a:prstGeom>
          <a:ln w="0">
            <a:noFill/>
          </a:ln>
        </p:spPr>
      </p:sp>
      <p:sp>
        <p:nvSpPr>
          <p:cNvPr id="1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371600" y="768240"/>
            <a:ext cx="5029200" cy="3767400"/>
          </a:xfrm>
          <a:prstGeom prst="rect">
            <a:avLst/>
          </a:prstGeom>
          <a:ln w="0">
            <a:noFill/>
          </a:ln>
        </p:spPr>
      </p:sp>
      <p:sp>
        <p:nvSpPr>
          <p:cNvPr id="1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371600" y="768240"/>
            <a:ext cx="5029200" cy="3767400"/>
          </a:xfrm>
          <a:prstGeom prst="rect">
            <a:avLst/>
          </a:prstGeom>
          <a:ln w="0">
            <a:noFill/>
          </a:ln>
        </p:spPr>
      </p:sp>
      <p:sp>
        <p:nvSpPr>
          <p:cNvPr id="1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1</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609480" y="228600"/>
            <a:ext cx="7924680" cy="6324480"/>
          </a:xfrm>
          <a:prstGeom prst="roundRect">
            <a:avLst/>
          </a:prstGeom>
          <a:no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204920" y="6545160"/>
            <a:ext cx="3591000" cy="2444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IEEE 802.11 MAC report  July 1996</a:t>
            </a:r>
            <a:r>
              <a:rPr b="1" lang="en-US" sz="1000" spc="-1" strike="noStrike">
                <a:solidFill>
                  <a:srgbClr val="000000"/>
                </a:solidFill>
                <a:latin typeface="Arial"/>
                <a:ea typeface="Arial"/>
              </a:rPr>
              <a:t>	</a:t>
            </a:r>
            <a:r>
              <a:rPr b="1" lang="en-US" sz="1000" spc="-1" strike="noStrike">
                <a:solidFill>
                  <a:srgbClr val="000000"/>
                </a:solidFill>
                <a:latin typeface="Arial"/>
                <a:ea typeface="Arial"/>
              </a:rPr>
              <a:t>Doc 96/110</a:t>
            </a:r>
            <a:endParaRPr b="0" lang="en-US" sz="1000" spc="-1" strike="noStrike">
              <a:solidFill>
                <a:srgbClr val="000000"/>
              </a:solidFill>
              <a:latin typeface="Arial"/>
            </a:endParaRPr>
          </a:p>
        </p:txBody>
      </p:sp>
      <p:sp>
        <p:nvSpPr>
          <p:cNvPr id="2" name=""/>
          <p:cNvSpPr txBox="1"/>
          <p:nvPr/>
        </p:nvSpPr>
        <p:spPr>
          <a:xfrm>
            <a:off x="6248520" y="6545160"/>
            <a:ext cx="2057400" cy="2444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Michael {virtual Dave} Fischer</a:t>
            </a:r>
            <a:endParaRPr b="0" lang="en-US" sz="10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txBox="1"/>
          <p:nvPr/>
        </p:nvSpPr>
        <p:spPr>
          <a:xfrm>
            <a:off x="990720" y="304920"/>
            <a:ext cx="7162920" cy="137160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July ‘96 MAC group Report</a:t>
            </a:r>
            <a:endParaRPr b="0" lang="en-US" sz="3600" spc="-1" strike="noStrike">
              <a:solidFill>
                <a:srgbClr val="000000"/>
              </a:solidFill>
              <a:latin typeface="Arial"/>
            </a:endParaRPr>
          </a:p>
        </p:txBody>
      </p:sp>
      <p:sp>
        <p:nvSpPr>
          <p:cNvPr id="50" name=""/>
          <p:cNvSpPr/>
          <p:nvPr/>
        </p:nvSpPr>
        <p:spPr>
          <a:xfrm>
            <a:off x="2209680" y="1905120"/>
            <a:ext cx="4572000" cy="762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 name=""/>
          <p:cNvSpPr/>
          <p:nvPr/>
        </p:nvSpPr>
        <p:spPr>
          <a:xfrm>
            <a:off x="2209680" y="2895480"/>
            <a:ext cx="4572000" cy="1447920"/>
          </a:xfrm>
          <a:prstGeom prst="rect">
            <a:avLst/>
          </a:prstGeom>
          <a:solidFill>
            <a:srgbClr val="ffffff"/>
          </a:solidFill>
          <a:ln w="76320">
            <a:solidFill>
              <a:srgbClr val="618ffd"/>
            </a:solidFill>
            <a:round/>
          </a:ln>
        </p:spPr>
        <p:txBody>
          <a:bodyPr lIns="128160" rIns="128160" tIns="83160" bIns="83160" anchor="t">
            <a:noAutofit/>
          </a:bodyPr>
          <a:p>
            <a:endParaRPr b="0" lang="en-US" sz="1800" spc="-1" strike="noStrike">
              <a:solidFill>
                <a:srgbClr val="000000"/>
              </a:solidFill>
              <a:latin typeface="Arial"/>
            </a:endParaRPr>
          </a:p>
        </p:txBody>
      </p:sp>
      <p:sp>
        <p:nvSpPr>
          <p:cNvPr id="52" name=""/>
          <p:cNvSpPr/>
          <p:nvPr/>
        </p:nvSpPr>
        <p:spPr>
          <a:xfrm>
            <a:off x="2209680" y="4648320"/>
            <a:ext cx="457200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 name=""/>
          <p:cNvSpPr txBox="1"/>
          <p:nvPr/>
        </p:nvSpPr>
        <p:spPr>
          <a:xfrm>
            <a:off x="2971800" y="3276720"/>
            <a:ext cx="2895480" cy="1021680"/>
          </a:xfrm>
          <a:prstGeom prst="rect">
            <a:avLst/>
          </a:prstGeom>
          <a:solidFill>
            <a:srgbClr val="ffffff"/>
          </a:solidFill>
          <a:ln w="0">
            <a:noFill/>
          </a:ln>
        </p:spPr>
        <p:txBody>
          <a:bodyPr lIns="0" rIns="0" tIns="0" bIns="0" anchor="t">
            <a:noAutofit/>
          </a:bodyPr>
          <a:p>
            <a:pPr algn="ctr">
              <a:lnSpc>
                <a:spcPct val="100000"/>
              </a:lnSpc>
            </a:pPr>
            <a:r>
              <a:rPr b="1" lang="en-US" sz="7200" spc="-1" strike="noStrike">
                <a:solidFill>
                  <a:srgbClr val="00279f"/>
                </a:solidFill>
                <a:latin typeface="Arial"/>
                <a:ea typeface="Arial"/>
              </a:rPr>
              <a:t>MAC</a:t>
            </a:r>
            <a:endParaRPr b="0" lang="en-US" sz="7200" spc="-1" strike="noStrike">
              <a:solidFill>
                <a:srgbClr val="000000"/>
              </a:solidFill>
              <a:latin typeface="Arial"/>
            </a:endParaRPr>
          </a:p>
        </p:txBody>
      </p:sp>
      <p:sp>
        <p:nvSpPr>
          <p:cNvPr id="54" name=""/>
          <p:cNvSpPr txBox="1"/>
          <p:nvPr/>
        </p:nvSpPr>
        <p:spPr>
          <a:xfrm>
            <a:off x="2743200" y="4724280"/>
            <a:ext cx="3352680" cy="533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HY</a:t>
            </a:r>
            <a:endParaRPr b="0" lang="en-US" sz="1800" spc="-1" strike="noStrike">
              <a:solidFill>
                <a:srgbClr val="000000"/>
              </a:solidFill>
              <a:latin typeface="Arial"/>
            </a:endParaRPr>
          </a:p>
        </p:txBody>
      </p:sp>
      <p:sp>
        <p:nvSpPr>
          <p:cNvPr id="55" name=""/>
          <p:cNvSpPr txBox="1"/>
          <p:nvPr/>
        </p:nvSpPr>
        <p:spPr>
          <a:xfrm>
            <a:off x="4100400" y="2111400"/>
            <a:ext cx="62856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Clause 7</a:t>
            </a:r>
            <a:endParaRPr b="0" lang="en-US" sz="3600" spc="-1" strike="noStrike">
              <a:solidFill>
                <a:srgbClr val="000000"/>
              </a:solidFill>
              <a:latin typeface="Arial"/>
            </a:endParaRPr>
          </a:p>
        </p:txBody>
      </p:sp>
      <p:sp>
        <p:nvSpPr>
          <p:cNvPr id="7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Summary:  50 total comment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43 from 96/106–3,  7 from 96/106–6</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1 resolved as part of technical NO vote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47 resolved that are not part of technical NO votes</a:t>
            </a:r>
            <a:endParaRPr b="0" lang="en-US" sz="1800" spc="-1" strike="noStrike">
              <a:solidFill>
                <a:srgbClr val="000000"/>
              </a:solidFill>
              <a:latin typeface="Arial"/>
            </a:endParaRPr>
          </a:p>
          <a:p>
            <a:pPr lvl="3" marL="1542960" indent="-17136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1 (96/103-6, #87) needs coordination w/ clause 11</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2 (96/106-3, comments #57, #69) require further discussion in MAC group</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TION:  That resolution of 47 comments from from clause 7 that are not part of technical NO votes (see 96/106-3r1 and -6r1) be accepted as approved in MAC group.</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Simon Black,  seconded Wim Diepstrate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0–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21: moved MAC Group, seconded Wim Diepstraten, ap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Clause 10</a:t>
            </a:r>
            <a:endParaRPr b="0" lang="en-US" sz="3600" spc="-1" strike="noStrike">
              <a:solidFill>
                <a:srgbClr val="000000"/>
              </a:solidFill>
              <a:latin typeface="Arial"/>
            </a:endParaRPr>
          </a:p>
        </p:txBody>
      </p:sp>
      <p:sp>
        <p:nvSpPr>
          <p:cNvPr id="81"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Summary:  2 total comment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ll resolved</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TION:  That resolution of all comments from from clause 10 (see 96/106-4r1) be accepted as approved in MAC group.</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Michael Fischer,  seconded Chris Zegeli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0–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22:  moved MAC Group, second Chris Zegelin, ap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Clause 11</a:t>
            </a:r>
            <a:endParaRPr b="0" lang="en-US" sz="3600" spc="-1" strike="noStrike">
              <a:solidFill>
                <a:srgbClr val="000000"/>
              </a:solidFill>
              <a:latin typeface="Arial"/>
            </a:endParaRPr>
          </a:p>
        </p:txBody>
      </p:sp>
      <p:sp>
        <p:nvSpPr>
          <p:cNvPr id="83" name=""/>
          <p:cNvSpPr txBox="1"/>
          <p:nvPr/>
        </p:nvSpPr>
        <p:spPr>
          <a:xfrm>
            <a:off x="990720" y="990720"/>
            <a:ext cx="7162920" cy="5486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Summary:  30 total comment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29 from 96/106–4,  1 from 96/106–6</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omment #1 in 96/106-3 is duplicated as comment #22 in 96/106-4, and is being considered under the later of these two number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26 resolved Tuesday (24 from 106–4,  1 from 106–6)</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1 resolved Wednesday as part of technical No vote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3 (96/106-4, comments #17, #22, and #30) need additional discussion in MAC group.</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TION: That resolution of 26 comments from from clause 11 that are not part of technical NO votes (see 96/106-4r1 and -6r1) be accepted as approved in MAC group.</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Michael Fischer,  seconded Simon Black</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0–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23: moved MAC Group, second Chris Zegelin, ap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Clause 8</a:t>
            </a:r>
            <a:endParaRPr b="0" lang="en-US" sz="3600" spc="-1" strike="noStrike">
              <a:solidFill>
                <a:srgbClr val="000000"/>
              </a:solidFill>
              <a:latin typeface="Arial"/>
            </a:endParaRPr>
          </a:p>
        </p:txBody>
      </p:sp>
      <p:sp>
        <p:nvSpPr>
          <p:cNvPr id="85"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lause 8 Summary:  11 total comment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ll resolv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These require consistency changes Clauses 10 &amp; 11</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Which were already needed due to inconsistencies between these clauses and the (correct) values in Annex D (!)</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TION:  That resolution of 11 comments from from clause 8 (see 96/106-3r1) and corresponding consistency changes to clauses 10 &amp; 11 be accepted as approved in MAC group.</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Michael Fischer,  seconded Simon Black</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9–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24:  moved MAC Group, seconded Ravi Nalamati, passed by plenary vote 18-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Status Thursday PM</a:t>
            </a:r>
            <a:endParaRPr b="0" lang="en-US" sz="3600" spc="-1" strike="noStrike">
              <a:solidFill>
                <a:srgbClr val="000000"/>
              </a:solidFill>
              <a:latin typeface="Arial"/>
            </a:endParaRPr>
          </a:p>
        </p:txBody>
      </p:sp>
      <p:sp>
        <p:nvSpPr>
          <p:cNvPr id="87" name=""/>
          <p:cNvSpPr txBox="1"/>
          <p:nvPr/>
        </p:nvSpPr>
        <p:spPr>
          <a:xfrm>
            <a:off x="990720" y="1066680"/>
            <a:ext cx="7162920" cy="5486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rocessing MAC comments nearly complete:</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Introductory, general &amp; intro (clauses 3–4) comment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279f"/>
                </a:solidFill>
                <a:latin typeface="Arial"/>
                <a:ea typeface="Arial"/>
              </a:rPr>
              <a:t>All but 2 (on one topic) MAC comments resolved</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s 5–6:</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All comments resolv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 7:</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All comments resolv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 8:</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All comments resolv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 9:</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All comments resolv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s 10–11:</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All comments resolv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The </a:t>
            </a:r>
            <a:r>
              <a:rPr b="1" lang="en-US" sz="1800" spc="-1" strike="noStrike" u="sng">
                <a:solidFill>
                  <a:srgbClr val="00279f"/>
                </a:solidFill>
                <a:uFillTx/>
                <a:latin typeface="Arial"/>
                <a:ea typeface="Arial"/>
              </a:rPr>
              <a:t>changes</a:t>
            </a:r>
            <a:r>
              <a:rPr b="1" lang="en-US" sz="1800" spc="-1" strike="noStrike">
                <a:solidFill>
                  <a:srgbClr val="00279f"/>
                </a:solidFill>
                <a:latin typeface="Arial"/>
                <a:ea typeface="Arial"/>
              </a:rPr>
              <a:t> due to accepted comments are all </a:t>
            </a:r>
            <a:r>
              <a:rPr b="1" lang="en-US" sz="1800" spc="-1" strike="noStrike" u="sng">
                <a:solidFill>
                  <a:srgbClr val="00279f"/>
                </a:solidFill>
                <a:uFillTx/>
                <a:latin typeface="Arial"/>
                <a:ea typeface="Arial"/>
              </a:rPr>
              <a:t>editorial</a:t>
            </a:r>
            <a:r>
              <a:rPr b="1" lang="en-US" sz="1800" spc="-1" strike="noStrike">
                <a:solidFill>
                  <a:srgbClr val="00279f"/>
                </a:solidFill>
                <a:latin typeface="Arial"/>
                <a:ea typeface="Arial"/>
              </a:rPr>
              <a:t>:</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279f"/>
                </a:solidFill>
                <a:latin typeface="Arial"/>
                <a:ea typeface="Arial"/>
              </a:rPr>
              <a:t>The changes are for consistency, clarity, and to correct editing artifacts and bring informative text up to date. </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279f"/>
                </a:solidFill>
                <a:latin typeface="Arial"/>
                <a:ea typeface="Arial"/>
              </a:rPr>
              <a:t>The editorial vs. technical discirminator for changes to the draft is </a:t>
            </a:r>
            <a:r>
              <a:rPr b="1" lang="en-US" sz="1600" spc="-1" strike="noStrike" u="sng">
                <a:solidFill>
                  <a:srgbClr val="00279f"/>
                </a:solidFill>
                <a:uFillTx/>
                <a:latin typeface="Arial"/>
                <a:ea typeface="Arial"/>
              </a:rPr>
              <a:t>not</a:t>
            </a:r>
            <a:r>
              <a:rPr b="1" lang="en-US" sz="1600" spc="-1" strike="noStrike">
                <a:solidFill>
                  <a:srgbClr val="00279f"/>
                </a:solidFill>
                <a:latin typeface="Arial"/>
                <a:ea typeface="Arial"/>
              </a:rPr>
              <a:t> how the commenter classified the comment.  The criterion is whether the change alters the behavior of the protocol, as observed at one of the exposed interfaces.</a:t>
            </a:r>
            <a:endParaRPr b="0" lang="en-US" sz="16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279f"/>
                </a:solidFill>
                <a:latin typeface="Arial"/>
                <a:ea typeface="Arial"/>
              </a:rPr>
              <a:t>Another way to consider this is by asking whether an implementation based on {the proper selection among inconsistencies in} D4.0 will interoperate with an implementation based on D5.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8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Because work was done by a plurality of small groups, and finished shortly before start of closing plenary, these are not organized into large, sequential block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6/106-3, comments #11 &amp; #39 on the lack of MSDU delivery service &amp; power management service definitions in clauses 5 &amp; 6.</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12:  That we decline comments #11 &amp; #39 from 96/106-3 (on MSDU delivery service &amp; power management service) due to lack of available text in the comment and insufficient time to create such text without the risk of introducting unintended side effect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Bob O'Hara,  second:  Howard Hall</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2–0–5</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29:  moved MAC group, second Simon Black, passed by plenary vote 19-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91"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Updated resolution of Anil's no vote — he requested that we incorporate material into 9.2.8 from comment 19 in 96/106-6 (which we would probably have done anyway):</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13:  That clause 9.2.8 be amended to read:</a:t>
            </a:r>
            <a:br>
              <a:rPr sz="1800"/>
            </a:br>
            <a:r>
              <a:rPr b="1" lang="en-US" sz="1800" spc="-1" strike="noStrike">
                <a:solidFill>
                  <a:srgbClr val="00279f"/>
                </a:solidFill>
                <a:latin typeface="Arial"/>
                <a:ea typeface="Arial"/>
              </a:rPr>
              <a:t>"The receiving station shall keep a cache of recently received &lt;source-address, sequence-number, fragment-number&gt; tuples.  A receiving STA may omit tuples obtained from broadcast/multicast or ATIM frames from the cach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NOTES:  This is an editorial change to 9.2.8</a:t>
            </a:r>
            <a:br>
              <a:rPr sz="1800"/>
            </a:br>
            <a:r>
              <a:rPr b="1" lang="en-US" sz="1800" spc="-1" strike="noStrike">
                <a:solidFill>
                  <a:srgbClr val="00279f"/>
                </a:solidFill>
                <a:latin typeface="Arial"/>
                <a:ea typeface="Arial"/>
              </a:rPr>
              <a:t>	</a:t>
            </a:r>
            <a:r>
              <a:rPr b="1" lang="en-US" sz="1800" spc="-1" strike="noStrike">
                <a:solidFill>
                  <a:srgbClr val="00279f"/>
                </a:solidFill>
                <a:latin typeface="Arial"/>
                <a:ea typeface="Arial"/>
              </a:rPr>
              <a:t> "source-address" is corrected to "contents of the</a:t>
            </a:r>
            <a:br>
              <a:rPr sz="1800"/>
            </a:br>
            <a:r>
              <a:rPr b="1" lang="en-US" sz="1800" spc="-1" strike="noStrike">
                <a:solidFill>
                  <a:srgbClr val="00279f"/>
                </a:solidFill>
                <a:latin typeface="Arial"/>
                <a:ea typeface="Arial"/>
              </a:rPr>
              <a:t>	</a:t>
            </a:r>
            <a:r>
              <a:rPr b="1" lang="en-US" sz="1800" spc="-1" strike="noStrike">
                <a:solidFill>
                  <a:srgbClr val="00279f"/>
                </a:solidFill>
                <a:latin typeface="Arial"/>
                <a:ea typeface="Arial"/>
              </a:rPr>
              <a:t>address2 field" in a subsequent motio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Simon Black, seconded: Wim Diepstrate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8-0-2</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30: moved: MAC group, second: Ravi Nalamati, passed by plenary vote: 20-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93"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mplete 96/106-3, comment #30, resolving the question about whether an AP is implicitly in State 3 with regards to the D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14:  To add statement to clause 5.5 to indicate that AP is always in state 3 because it is inherently able to communicate with the D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NOTE:  This is a clarifiction of existing functionality regarding access to and communication with/over the DS.  This does not change the requirement that stations authenticate with an AP before communicating via D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Chris Zegelin, seconded: Wim Diepstrate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1-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31: moved: MAC group,  second: Ravi Nalamati, passed by plenary vote: 20-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95"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mplete 96/106-3, comment #57</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15:  To decline comment #57 from 96/106-3 because</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1) Service class is per–MSDU, not per–STA, so the requested behavior (sending strictly ordered broadcasts/multicasts twice) is inappropriate.</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2) The broadcast address is defined in IEEE 802-1990 so we should leave this alon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Simon Black, seconded: Chris Zegeli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0-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32: moved: MAC group, second: Simon Black, passed by plenary vote: 21-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97"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mplete 96/106-3, comment #69</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16:  To decline comment #69 from 96/106-3 because this is a request for new functionality &amp; similar proposals have been voted down on at least 2 previous occasion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Jon Rosdahl, seconded: Wim Diepstrate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0-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33: moved: MAC group; second: Jon Rosdahl, ap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Goals for July ‘96</a:t>
            </a:r>
            <a:endParaRPr b="0" lang="en-US" sz="3600" spc="-1" strike="noStrike">
              <a:solidFill>
                <a:srgbClr val="000000"/>
              </a:solidFill>
              <a:latin typeface="Arial"/>
            </a:endParaRPr>
          </a:p>
        </p:txBody>
      </p:sp>
      <p:sp>
        <p:nvSpPr>
          <p:cNvPr id="59" name=""/>
          <p:cNvSpPr txBox="1"/>
          <p:nvPr/>
        </p:nvSpPr>
        <p:spPr>
          <a:xfrm>
            <a:off x="990720" y="129528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One goal - Forward Draft to Executive Committee for sponsor ballot.</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Based on decision at opening plenary, this is to be done by addressing as many comments as we have time for, identifying the technical vs. editorial change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The result will be draft D4.1 </a:t>
            </a:r>
            <a:r>
              <a:rPr b="1" lang="en-US" sz="1800" spc="-1" strike="noStrike">
                <a:solidFill>
                  <a:srgbClr val="ff6633"/>
                </a:solidFill>
                <a:latin typeface="Arial"/>
                <a:ea typeface="Arial"/>
              </a:rPr>
              <a:t>(with changes),</a:t>
            </a:r>
            <a:br>
              <a:rPr sz="1800"/>
            </a:br>
            <a:r>
              <a:rPr b="1" lang="en-US" sz="1800" spc="-1" strike="noStrike">
                <a:solidFill>
                  <a:srgbClr val="00279f"/>
                </a:solidFill>
                <a:latin typeface="Arial"/>
                <a:ea typeface="Arial"/>
              </a:rPr>
              <a:t>and D5.0 </a:t>
            </a:r>
            <a:r>
              <a:rPr b="1" lang="en-US" sz="1800" spc="-1" strike="noStrike">
                <a:solidFill>
                  <a:srgbClr val="ff6633"/>
                </a:solidFill>
                <a:latin typeface="Arial"/>
                <a:ea typeface="Arial"/>
              </a:rPr>
              <a:t>(the clean version to ballot)</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Which </a:t>
            </a:r>
            <a:r>
              <a:rPr b="1" lang="en-US" sz="1800" spc="-1" strike="noStrike" u="sng">
                <a:solidFill>
                  <a:srgbClr val="fc0128"/>
                </a:solidFill>
                <a:uFillTx/>
                <a:latin typeface="Arial"/>
                <a:ea typeface="Arial"/>
              </a:rPr>
              <a:t>possibly</a:t>
            </a:r>
            <a:r>
              <a:rPr b="1" lang="en-US" sz="1800" spc="-1" strike="noStrike">
                <a:solidFill>
                  <a:srgbClr val="00279f"/>
                </a:solidFill>
                <a:latin typeface="Arial"/>
                <a:ea typeface="Arial"/>
              </a:rPr>
              <a:t> will require approval in a 10-day confirmationballot within 802.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9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mplete 96/106-3, comment #76</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17:  To decline comment #76 from 96/106-3 because this is a request for a minor technical improvement, the inclusion of which is unjustifiable at this late dat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Simon Black, seconded: Jon Rosdahl</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8-0-2</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34: moved: MAC group, second: Simon Black, a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101" name=""/>
          <p:cNvSpPr txBox="1"/>
          <p:nvPr/>
        </p:nvSpPr>
        <p:spPr>
          <a:xfrm>
            <a:off x="990720" y="1143000"/>
            <a:ext cx="7162920" cy="53341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mplete 96/106-3, comment #87</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18: To resolve comment #87 from 96/106-3  by changing the text in 6th paragraph of 7.3.2.1 to read:</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600" spc="-1" strike="noStrike">
                <a:solidFill>
                  <a:srgbClr val="00279f"/>
                </a:solidFill>
                <a:latin typeface="Arial"/>
                <a:ea typeface="Arial"/>
              </a:rPr>
              <a:t>Each bit in the traffic-indication virtual bitmap shall correspond to traffic buffered for a specific station within the BSS that the AP is prepared to deliver at the time the beacon or probe response frame is transmitted. If bit Bit number N is shall be 0,if there are no directed frames buffered for the station whose Station ID is N. If any directed frames for that station are buffered, and the AP is prepared to deliver them, bit number N in the traffic-indication virtual bitmap is shall be 1. A PC may decline to set bits in the TIM for CF-Pollable stations is does not intend to poll (see clause 11.2.1.5)</a:t>
            </a:r>
            <a:endParaRPr b="0" lang="en-US" sz="16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nd in 11.2.5.1. (c) delete the words “CF-Pollabl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Wim Diepstraten, seconded: Simon Black</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1-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35: moved: MAC group, second: Wim Diepstraten, a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103"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Approval of a group of Clause 9 comment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19: To approve the proposed resolution of comments #130 through #146 from 96/106-3 (see 96/106-3r1), other than #136 (already approved on Wednesday in plenary motion #18).</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NOTE:  None of these result in technical change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Ravi Nalamati, seconded: Bob O'Hara</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9-0-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36: moved: MAC group, second: Ravi Nalamati, a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105"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Approval of a group of Clause 9 comment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20: To approve the proposed resolution of comments #101 through #126 from 96/106-3 (see 96/106-3r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NOTE:  None of these result in technical change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Simon Black, seconded: Wim Diepstrate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0-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37: moved: MAC group, second: Wim Diepstraten, a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107"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mplete 96/106-4, comment #17</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21: To decline comment #17 from 96/106-4 because this is a request for a minor technical improvement, the inclusion of which is unjustifiable at this late date. </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Jon Rosdahl, seconded: Wim Diepstrate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9-0-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38: moved: MAC group, second: Jon Rosdahl, a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10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mplete 96/106-4, comment #22</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22: To decline comment #22 from 96/106-4 because this is a non–trivial functional change, which may be useful, but is incomplete as proposed, because the problem identified extends beyond the cited Association and Reassociation frames to (at least) Authentication frames, and perhaps to other management frame type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Wim Diepstraten, seconded: Jon Rosdahl</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7-0-2</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39: moved: MAC group, second: Simon Black, a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111"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mplete 96/106-4, comment #30</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23: To decline comment #30 from 96/106-4 because this is a non–trivial functional change for which the impact has not been adequately investigated, and for which the need has not been substantiat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Jon Rosdahl, seconded: Chris Zegeli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8-0-2</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40: moved: MAC group, second: Chris Zegelin, a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113"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mplete 96/106-2, comment #45</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24: To approve comment #45 from 96/106-2 to incorporate the changes to the MAC PICS to properly describe the optional characteristics of the PCF.</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NOTE:  This also corrects an error in the PICS for PS-Poll, which was shown as being transmitted only by APs rather than only by non-AP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Simon Black, seconded: Bob O'Hara</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9-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41: moved: MAC group, second: Keith Amundsen, a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115"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mplete 96/106-6, comments #11, #17, #18</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25: To decline comments #11, #17, and #18 from 96/106-6 due to lack of text provided by the commenters and the lack of time to generate such text (in a form which did not produce new, undesired side effects or inconsistencies).  (see 96/106-6r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Simon Black, seconded: Jon Rosdahl</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7-0-3</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42: moved: MAC group, second: Simon Black, a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117"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Approval of a group of Clause 9 comment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26: To approve the proposed resolution of comments #13, #14, #15, #16, and #20 from 96/106-6.  (see 96/106-6r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NOTE:  None of these are technical change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Bob O'Hara, seconded: Chris Zegeli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0-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43: moved: MAC group, second: Simon Black, a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isc subjects:</a:t>
            </a:r>
            <a:endParaRPr b="0" lang="en-US" sz="3600" spc="-1" strike="noStrike">
              <a:solidFill>
                <a:srgbClr val="000000"/>
              </a:solidFill>
              <a:latin typeface="Arial"/>
            </a:endParaRPr>
          </a:p>
        </p:txBody>
      </p:sp>
      <p:sp>
        <p:nvSpPr>
          <p:cNvPr id="63"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Approved March, 1996 MAC minute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1:  To approve the March 1996 MAC minutes as distributed in document 96/055.</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Chris Zegelin, seconded Bob Marshall</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7–0–2</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Approved May, 1996 MAC minute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2:  To approve May 1996 MAC results as distributed in document 96/083 </a:t>
            </a:r>
            <a:r>
              <a:rPr b="1" lang="en-US" sz="1800" spc="-1" strike="noStrike">
                <a:solidFill>
                  <a:srgbClr val="ff6633"/>
                </a:solidFill>
                <a:latin typeface="Arial"/>
                <a:ea typeface="Arial"/>
              </a:rPr>
              <a:t>(the actual MAC minutes document 96/084 has not been distributed, but 96/083 contains all of the motions and voting results)</a:t>
            </a:r>
            <a:r>
              <a:rPr b="1" lang="en-US" sz="1800" spc="-1" strike="noStrike">
                <a:solidFill>
                  <a:srgbClr val="00279f"/>
                </a:solidFill>
                <a:latin typeface="Arial"/>
                <a:ea typeface="Arial"/>
              </a:rPr>
              <a:t>:</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Chris Zegelin, seconded Simon Black</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7–0–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Approval of Weds/Thurs results</a:t>
            </a:r>
            <a:endParaRPr b="0" lang="en-US" sz="3600" spc="-1" strike="noStrike">
              <a:solidFill>
                <a:srgbClr val="000000"/>
              </a:solidFill>
              <a:latin typeface="Arial"/>
            </a:endParaRPr>
          </a:p>
        </p:txBody>
      </p:sp>
      <p:sp>
        <p:nvSpPr>
          <p:cNvPr id="11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mplete 96/106-3, comments #34 &amp; #35</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MOTION #27: To resolve comments #34 and #35 from 96/106–3 to replace the text from 5.7.1 and delete references to state machines in 9.1.5  (see 96/106-3r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Jon Rosdahl, seconded: Wim Diepstrate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8-1-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44: moved: MAC group, second: Jon Rosdahl, a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Remaining Open Comments</a:t>
            </a:r>
            <a:endParaRPr b="0" lang="en-US" sz="3600" spc="-1" strike="noStrike">
              <a:solidFill>
                <a:srgbClr val="000000"/>
              </a:solidFill>
              <a:latin typeface="Arial"/>
            </a:endParaRPr>
          </a:p>
        </p:txBody>
      </p:sp>
      <p:sp>
        <p:nvSpPr>
          <p:cNvPr id="121" name=""/>
          <p:cNvSpPr txBox="1"/>
          <p:nvPr/>
        </p:nvSpPr>
        <p:spPr>
          <a:xfrm>
            <a:off x="914400" y="1066680"/>
            <a:ext cx="7162920" cy="52578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he following {non-PHY} comments have not been addressed:</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96/106-6, #1 (about patent procedures, not MAC issu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96/106-2, #32 &amp; #33</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These are two, diametrically opposed suggested dispositions of the MAC state machines in Annex C.  #32 calls for replacing the current, out-of date state machines with updated versions, #33 calls for removing the state machines entirely.</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Plenary Motion 45 (from floor):  The state machine content from Annex C be deleted and replaced with "TBD".  The informative Annex shall remain.  This will close comments #32 &amp; #33 from 96/106–3.</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Simon Black,  seconded:  Bob O'Hara passed by plenary vote:  16-0-5.</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600" spc="-1" strike="noStrike">
                <a:solidFill>
                  <a:srgbClr val="00279f"/>
                </a:solidFill>
                <a:latin typeface="Arial"/>
                <a:ea typeface="Arial"/>
              </a:rPr>
              <a:t>NOTE:  Michael Fischer has stated he will provide updated state machines that closely match D5.0 for review (via the FTP server) prior to the next meeting at which it will be possible to make changes to the draft (such as re-inserting state machi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Goals for Next Meeting</a:t>
            </a:r>
            <a:endParaRPr b="0" lang="en-US" sz="3600" spc="-1" strike="noStrike">
              <a:solidFill>
                <a:srgbClr val="000000"/>
              </a:solidFill>
              <a:latin typeface="Arial"/>
            </a:endParaRPr>
          </a:p>
        </p:txBody>
      </p:sp>
      <p:sp>
        <p:nvSpPr>
          <p:cNvPr id="125" name=""/>
          <p:cNvSpPr txBox="1"/>
          <p:nvPr/>
        </p:nvSpPr>
        <p:spPr>
          <a:xfrm>
            <a:off x="990720" y="129528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ff6633"/>
                </a:solidFill>
                <a:latin typeface="Arial"/>
                <a:ea typeface="Arial"/>
              </a:rPr>
              <a:t>If the request for letter ballot is approved, there is not going to need to be an August meeting, and the only goal for November, 1996 is to process sponsor ballot repsonses and have a revised draft for re-ballot or forwarding, as appropriate.</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ae00"/>
                </a:solidFill>
                <a:latin typeface="Arial"/>
                <a:ea typeface="Arial"/>
              </a:rPr>
              <a:t>If a confirmation ballot proves to be necessary, there needs to be an August meeting, with the only goal being to resolve the issues from the confirmation ballot, allowing us to proceed to sponsor ball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group report </a:t>
            </a:r>
            <a:endParaRPr b="0" lang="en-US" sz="3600" spc="-1" strike="noStrike">
              <a:solidFill>
                <a:srgbClr val="000000"/>
              </a:solidFill>
              <a:latin typeface="Arial"/>
            </a:endParaRPr>
          </a:p>
        </p:txBody>
      </p:sp>
      <p:sp>
        <p:nvSpPr>
          <p:cNvPr id="12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hat’s all for now...</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ff6633"/>
                </a:solidFill>
                <a:latin typeface="Arial"/>
                <a:ea typeface="Arial"/>
              </a:rPr>
              <a:t>virtual Dave would like to get back to being real Michael</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and looks forward to real Dave's return next meetin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This Week’s work summary</a:t>
            </a:r>
            <a:endParaRPr b="0" lang="en-US" sz="3600" spc="-1" strike="noStrike">
              <a:solidFill>
                <a:srgbClr val="000000"/>
              </a:solidFill>
              <a:latin typeface="Arial"/>
            </a:endParaRPr>
          </a:p>
        </p:txBody>
      </p:sp>
      <p:sp>
        <p:nvSpPr>
          <p:cNvPr id="67"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echnical No vote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Only 3 in MAC sections — all resolv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Resolutions faxed to no voters not present</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nil S. — 2 votes, agrees to change his no vote</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Joe K. — 1 vote, agrees and changes vote to yes</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Scope of the work:   230 total MAC comment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General, intro, annexes:</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32,  6 (T, t), rest (E,e)</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plus 16 PHY comment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s 5–9:</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167  (not well catagoriz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s 10–11:</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31,  17 (T, t), rest (E,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990720" y="380880"/>
            <a:ext cx="7162920" cy="92124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Tuesday &amp; Wednesday AM work summary</a:t>
            </a:r>
            <a:endParaRPr b="0" lang="en-US" sz="3600" spc="-1" strike="noStrike">
              <a:solidFill>
                <a:srgbClr val="000000"/>
              </a:solidFill>
              <a:latin typeface="Arial"/>
            </a:endParaRPr>
          </a:p>
        </p:txBody>
      </p:sp>
      <p:sp>
        <p:nvSpPr>
          <p:cNvPr id="69" name=""/>
          <p:cNvSpPr txBox="1"/>
          <p:nvPr/>
        </p:nvSpPr>
        <p:spPr>
          <a:xfrm>
            <a:off x="914400" y="1523880"/>
            <a:ext cx="7162920" cy="48006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Work was done in all MAC clause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Introductory, general &amp; intro (clauses 3–4) comment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ll MAC issues addressed, 4 not yet resolv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s 5–6</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ll addressed, 3 not yet complet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 7</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ll addressed, 2 not yet resolv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 8</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ll resolv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 9</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Fewer than 20 unaddressed, work ongoing</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s 10–11</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ll addressed, 3 not yet resol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990720" y="22860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Response to technical no votes</a:t>
            </a:r>
            <a:endParaRPr b="0" lang="en-US" sz="3600" spc="-1" strike="noStrike">
              <a:solidFill>
                <a:srgbClr val="000000"/>
              </a:solidFill>
              <a:latin typeface="Arial"/>
            </a:endParaRPr>
          </a:p>
        </p:txBody>
      </p:sp>
      <p:sp>
        <p:nvSpPr>
          <p:cNvPr id="71" name=""/>
          <p:cNvSpPr txBox="1"/>
          <p:nvPr/>
        </p:nvSpPr>
        <p:spPr>
          <a:xfrm>
            <a:off x="990720" y="838080"/>
            <a:ext cx="7162920" cy="55627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200" spc="-1" strike="noStrike">
                <a:solidFill>
                  <a:srgbClr val="00279f"/>
                </a:solidFill>
                <a:latin typeface="Arial"/>
                <a:ea typeface="Arial"/>
              </a:rPr>
              <a:t>MOTION:  That we decline the 2 technical no comments from Anil's no vote with the following rationale:</a:t>
            </a:r>
            <a:endParaRPr b="0" lang="en-US" sz="22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 7, #58:</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There is no necessity for the requested change, as it is a simple design optimization rather than a fault in the protocol, as sequence numbers in multicast/broadcast frames can safely be ignored because the Retry bit in those frames will never be set.</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lause 11, #21:</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There is no necessity for the requested change, as it is a simple design optimization rather than a fault in the protocol, as sequence numbers in ATIM frames can safely be ignored as the effect of accepting a duplicate ATIM is null.</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Bob O'Hara,  Seconded:  Wim Diepstrate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9–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This response read on telephone to Anil &amp; he agrees that they are acceptable to him</a:t>
            </a:r>
            <a:r>
              <a:rPr b="1" lang="en-US" sz="1800" spc="-1" strike="noStrike">
                <a:solidFill>
                  <a:srgbClr val="ff6633"/>
                </a:solidFill>
                <a:latin typeface="Arial"/>
                <a:ea typeface="Arial"/>
              </a:rPr>
              <a:t> provided #19 from 106-6 is accepted (which is editorial &amp; has been incorporat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17:  moved MAC Group, seconded Bob O'Hara, ap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Response to technical no vote</a:t>
            </a:r>
            <a:endParaRPr b="0" lang="en-US" sz="3600" spc="-1" strike="noStrike">
              <a:solidFill>
                <a:srgbClr val="000000"/>
              </a:solidFill>
              <a:latin typeface="Arial"/>
            </a:endParaRPr>
          </a:p>
        </p:txBody>
      </p:sp>
      <p:sp>
        <p:nvSpPr>
          <p:cNvPr id="73" name=""/>
          <p:cNvSpPr txBox="1"/>
          <p:nvPr/>
        </p:nvSpPr>
        <p:spPr>
          <a:xfrm>
            <a:off x="990720" y="1066680"/>
            <a:ext cx="7162920" cy="54100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200" spc="-1" strike="noStrike">
                <a:solidFill>
                  <a:srgbClr val="00279f"/>
                </a:solidFill>
                <a:latin typeface="Arial"/>
                <a:ea typeface="Arial"/>
              </a:rPr>
              <a:t>MOTION:  That we accept comment 136 on clause 9, suggest text from Joe Kubler from technical no vote, but place the text in a separate paragraph after the paragraph indicated in the comment (since the referenced paragraph refers to CF-Pollable stations).  This change, however, is a clarification, not a technical change to the standard.</a:t>
            </a:r>
            <a:endParaRPr b="0" lang="en-US" sz="22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hange is not technical because in 9.2.5.4 it is stated that the NAV is updated only when the new duration is greater than the existing duration.  In 9.3.2.2 the only conditions which may reset the NAV are CF-End or CF-End+ACK.</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Jon Rosdahl,  Seconded:  Bob O'Hara</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9–0–0</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Text FAXed to Joe, he agrees &amp; changes his vote to ye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18:  moved MAC Group, seconded Jon Rosdahl, ap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General &amp; Annexes</a:t>
            </a:r>
            <a:endParaRPr b="0" lang="en-US" sz="3600" spc="-1" strike="noStrike">
              <a:solidFill>
                <a:srgbClr val="000000"/>
              </a:solidFill>
              <a:latin typeface="Arial"/>
            </a:endParaRPr>
          </a:p>
        </p:txBody>
      </p:sp>
      <p:sp>
        <p:nvSpPr>
          <p:cNvPr id="75" name=""/>
          <p:cNvSpPr txBox="1"/>
          <p:nvPr/>
        </p:nvSpPr>
        <p:spPr>
          <a:xfrm>
            <a:off x="990720" y="990720"/>
            <a:ext cx="7162920" cy="5486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Summary:  48 total comment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28 resolved (27 in MAC, 1 in opening plenary)</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1 (96/106-2, comment #24) accepted in principle but requires someone to write the ASN.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4 not yet completed</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3 (96/106-2, comments #32, #33, #45) require further discussion or commenter input in MAC group</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1 (96/106-6, comment #1) on IP, handle in Full WG</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16 comments from 96/106-2 (#s 1-3, 11-16, 30, 34-37, 43, 46) are PHY related &amp; not being handled by MAC group.</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200" spc="-1" strike="noStrike">
                <a:solidFill>
                  <a:srgbClr val="00279f"/>
                </a:solidFill>
                <a:latin typeface="Arial"/>
                <a:ea typeface="Arial"/>
              </a:rPr>
              <a:t>MOTION:  That resolution of 28 MAC comments from from general, intro &amp; annexes (see 96/106-2r1) be accepted as approved in MAC group.</a:t>
            </a:r>
            <a:endParaRPr b="0" lang="en-US" sz="22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 Bob O'Hara,  second Jon Rosdahl/Chris Zegelin</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s:  10–0–0 (G&amp;A),  9–0–0 (clauses 3 &amp; 4)</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19:  moved MAC Group, second Bob O'Hara, ap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Clauses 5 &amp; 6</a:t>
            </a:r>
            <a:endParaRPr b="0" lang="en-US" sz="3600" spc="-1" strike="noStrike">
              <a:solidFill>
                <a:srgbClr val="000000"/>
              </a:solidFill>
              <a:latin typeface="Arial"/>
            </a:endParaRPr>
          </a:p>
        </p:txBody>
      </p:sp>
      <p:sp>
        <p:nvSpPr>
          <p:cNvPr id="77"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Summary: 31 total comment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28 resolved  (actually 27, since 1 was a duplicate)</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3 remain open (96/106-3, comments #11, #30, #39) for further discussion in MAC group</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TION:  That resolution of 28 comments from from clauses 5 &amp; 6 (see 96/106-3r1) be accepted as approved in MAC group.</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ved Ravi Nalamati,  seconded Chris Zegelin</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AC Vote:  10–0–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ae00"/>
                </a:solidFill>
                <a:latin typeface="Arial"/>
                <a:ea typeface="Arial"/>
              </a:rPr>
              <a:t>Plenary Motion 20:  moved MAC Group, seconded Ravi Nalamati, approved by voice vote without dis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avid Bagby</dc:creator>
  <dc:description/>
  <dc:language>en-US</dc:language>
  <cp:lastModifiedBy>Vic Hayes</cp:lastModifiedBy>
  <cp:revision>0</cp:revision>
  <dc:subject/>
  <dc:title>July 1996 MAC group report</dc:title>
</cp:coreProperties>
</file>