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90884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33F0D6FE-F6AE-4470-A1A3-009CB0FE3C93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457200"/>
            <a:ext cx="73152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7th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18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Tentative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280" y="29718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ject to cancel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 26-28,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arrisburg, 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August 26, 13:0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ut is subject to cancellation by e-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All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cess D4.1 Recirculation Bal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bmit D5.0 to LMSC (Sponsor) Bal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Aug 26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r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 Resolution of Recirculation Ballot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 Adjour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Wednesday n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80880" y="9144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6-2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risburg, P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M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,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 Marrio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haina, H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 Ma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Q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en Elizabe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-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stin, TX?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ouffer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-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-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buquerque, N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c Hayes</dc:creator>
  <dc:description/>
  <dc:language>en-US</dc:language>
  <cp:lastModifiedBy>Vic Hayes</cp:lastModifiedBy>
  <cp:revision>0</cp:revision>
  <dc:subject/>
  <dc:title>37th Session of meetings of IEEE P802.11 Wireless Local Area Networks  Tentative Agenda</dc:title>
</cp:coreProperties>
</file>