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FD064A-26A2-4E3D-ADBE-E34FD1741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76720" y="1066680"/>
            <a:ext cx="51814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65200" y="830160"/>
            <a:ext cx="238140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formation &amp; Support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65200" y="982800"/>
            <a:ext cx="2409840" cy="28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search &amp;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4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95360" y="1814400"/>
            <a:ext cx="838188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oeing Perspective on 802.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66960" y="3254400"/>
            <a:ext cx="5691240" cy="2232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2136600" y="5794200"/>
            <a:ext cx="52322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livered to the IEEE 80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ittee at Enschede, Neth, Jul 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29528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114560" y="2009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World has Changed Since the Last 802.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Boeing Mobility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ther standards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71440" y="12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hanged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685880" y="1952640"/>
            <a:ext cx="6715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 FCC Supernet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essure from W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essure from de facto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86120" y="162000"/>
            <a:ext cx="6124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oeing Mobility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700440" y="2951280"/>
            <a:ext cx="1835280" cy="2217600"/>
            <a:chOff x="3700440" y="2951280"/>
            <a:chExt cx="1835280" cy="2217600"/>
          </a:xfrm>
        </p:grpSpPr>
        <p:sp>
          <p:nvSpPr>
            <p:cNvPr id="72" name=""/>
            <p:cNvSpPr/>
            <p:nvPr/>
          </p:nvSpPr>
          <p:spPr>
            <a:xfrm>
              <a:off x="3895560" y="3041640"/>
              <a:ext cx="1477800" cy="1790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3700440" y="4856040"/>
              <a:ext cx="183528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eing Cam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87880" y="3757680"/>
              <a:ext cx="171360" cy="13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>
              <a:off x="5097600" y="3768840"/>
              <a:ext cx="168120" cy="15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30840" y="3116160"/>
              <a:ext cx="60336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917960" y="3846600"/>
              <a:ext cx="169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06760" y="3666960"/>
              <a:ext cx="396720" cy="314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03840" y="35337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03840" y="41608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92640" y="41608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38680" y="411624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292640" y="44290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03840" y="44290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838680" y="44290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49880" y="35337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38680" y="353376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803840" y="384660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349880" y="384660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38680" y="384660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349880" y="29512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38680" y="32194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49880" y="32194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03840" y="32194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38680" y="29512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61080" y="29512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33920" y="3174840"/>
              <a:ext cx="0" cy="4921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22720" y="317484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79960" y="348948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79960" y="3801960"/>
              <a:ext cx="2268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79960" y="407052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79960" y="438480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79960" y="469728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33920" y="3981600"/>
              <a:ext cx="0" cy="7156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03840" y="3801960"/>
              <a:ext cx="2840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00120" y="1343160"/>
            <a:ext cx="7829640" cy="528624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39840" y="1854360"/>
            <a:ext cx="23194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gional 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ed 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171880" y="3657600"/>
            <a:ext cx="1628640" cy="117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71880" y="4829040"/>
            <a:ext cx="371160" cy="28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400040" y="4857840"/>
            <a:ext cx="114300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96920" y="5937120"/>
            <a:ext cx="31478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mpu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ed Wireless 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998960" y="1738440"/>
            <a:ext cx="1465200" cy="919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389640" y="3478320"/>
            <a:ext cx="1411200" cy="1330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830160" y="3430440"/>
            <a:ext cx="2054160" cy="741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670200" y="5427720"/>
            <a:ext cx="199224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181160" y="2522520"/>
            <a:ext cx="2017800" cy="2179800"/>
            <a:chOff x="1181160" y="2522520"/>
            <a:chExt cx="2017800" cy="2179800"/>
          </a:xfrm>
        </p:grpSpPr>
        <p:sp>
          <p:nvSpPr>
            <p:cNvPr id="121" name=""/>
            <p:cNvSpPr/>
            <p:nvPr/>
          </p:nvSpPr>
          <p:spPr>
            <a:xfrm>
              <a:off x="1238400" y="2612880"/>
              <a:ext cx="1477800" cy="1790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1363680" y="4389480"/>
              <a:ext cx="1835280" cy="31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eing Cam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30360" y="3328920"/>
              <a:ext cx="171360" cy="133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2443320" y="3343320"/>
              <a:ext cx="168120" cy="158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60440" y="2657520"/>
              <a:ext cx="398520" cy="268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2176560" y="2690640"/>
              <a:ext cx="603360" cy="417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e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lephon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9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it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60440" y="3417840"/>
              <a:ext cx="169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49600" y="3238560"/>
              <a:ext cx="396720" cy="314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203560" y="2925720"/>
              <a:ext cx="171360" cy="357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46320" y="310500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46320" y="37321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35120" y="37321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81160" y="368784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35120" y="40006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46320" y="40006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81160" y="400068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2360" y="310500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81160" y="310500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46320" y="341784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92360" y="341784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81160" y="3417840"/>
              <a:ext cx="625320" cy="4935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92360" y="25225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81160" y="27907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92360" y="27907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46320" y="27907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81160" y="25225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03560" y="2522520"/>
              <a:ext cx="625320" cy="49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76400" y="2746440"/>
              <a:ext cx="0" cy="4921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65200" y="274644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22440" y="306072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22440" y="3373560"/>
              <a:ext cx="22716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22440" y="364176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22440" y="395604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22440" y="4268880"/>
              <a:ext cx="10224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76400" y="3552840"/>
              <a:ext cx="0" cy="7160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46320" y="3373560"/>
              <a:ext cx="28404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1717560" y="3263760"/>
              <a:ext cx="6127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943520" y="1324080"/>
            <a:ext cx="1995480" cy="13622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305840" y="2523960"/>
            <a:ext cx="1209600" cy="1582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276960" y="4665600"/>
            <a:ext cx="1663560" cy="14209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 flipV="1">
            <a:off x="3143160" y="3371760"/>
            <a:ext cx="343080" cy="285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228840" y="3886200"/>
            <a:ext cx="3857760" cy="114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171960" y="4114800"/>
            <a:ext cx="2857320" cy="1028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2801880" y="5106960"/>
            <a:ext cx="2112840" cy="7621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143160" y="4229280"/>
            <a:ext cx="657360" cy="771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937040" y="2825640"/>
            <a:ext cx="2266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tory 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365880" y="4108320"/>
            <a:ext cx="2674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cilities Engi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222960" y="6222960"/>
            <a:ext cx="197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739960" y="5937120"/>
            <a:ext cx="316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mpus Field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440" y="162000"/>
            <a:ext cx="898200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oeing On-Campus Mobility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7540560" y="4870440"/>
            <a:ext cx="236520" cy="254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325440" y="4911840"/>
            <a:ext cx="1760400" cy="14605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539640" y="6365880"/>
            <a:ext cx="4437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rehouse &amp; 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942840" y="4629240"/>
            <a:ext cx="228600" cy="48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2817720" y="1219320"/>
            <a:ext cx="1697040" cy="14349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flipV="1">
            <a:off x="3257640" y="3343320"/>
            <a:ext cx="1514520" cy="48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882880" y="2597040"/>
            <a:ext cx="17604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8"/>
          <a:stretch/>
        </p:blipFill>
        <p:spPr>
          <a:xfrm>
            <a:off x="1492200" y="1289160"/>
            <a:ext cx="998640" cy="1054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111240" y="1368360"/>
            <a:ext cx="17082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71480" y="2228760"/>
            <a:ext cx="257400" cy="657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68120" y="1454040"/>
            <a:ext cx="143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0600" y="4788000"/>
            <a:ext cx="103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44600" y="1816200"/>
            <a:ext cx="1311120" cy="28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AN Satell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Ns/C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llular 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sonal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reless A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34880" y="5146560"/>
            <a:ext cx="1809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ome &amp; Trave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139920" y="11494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203720" y="11494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184720" y="11494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165720" y="11494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175520" y="11494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242200" y="11494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083120" y="1171440"/>
            <a:ext cx="3240" cy="5203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118120" y="1171440"/>
            <a:ext cx="6480" cy="5191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05600" y="1171440"/>
            <a:ext cx="3240" cy="5185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86600" y="1171440"/>
            <a:ext cx="6480" cy="5185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8115480" y="1171440"/>
            <a:ext cx="9360" cy="514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29040" y="1514520"/>
            <a:ext cx="6057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16080" y="0"/>
            <a:ext cx="61149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at is Going to Happe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 Mobile Comput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657760" y="1981080"/>
            <a:ext cx="3124440" cy="50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040" bIns="-59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14600" y="187308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86640" y="2171880"/>
            <a:ext cx="14367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139920" y="2013120"/>
            <a:ext cx="1508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orldwide V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643720" y="3454560"/>
            <a:ext cx="1697040" cy="2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1200" bIns="-61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86600" y="3643200"/>
            <a:ext cx="1460520" cy="1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2280" bIns="-62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81160" y="3282840"/>
            <a:ext cx="1676520" cy="324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29280" y="4071960"/>
            <a:ext cx="1490760" cy="4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400" bIns="-59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86560" y="4257720"/>
            <a:ext cx="23716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048120" y="3886200"/>
            <a:ext cx="2109600" cy="6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715240" y="4486320"/>
            <a:ext cx="2001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100920" y="2610000"/>
            <a:ext cx="2376360" cy="4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400" bIns="-59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115040" y="2781360"/>
            <a:ext cx="1943280" cy="46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9400" bIns="-59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962440" y="2428920"/>
            <a:ext cx="5181480" cy="64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7120" y="2260440"/>
            <a:ext cx="13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alog(AM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693800" y="2468520"/>
            <a:ext cx="1488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DPD 19.2K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952800" y="262872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324160" y="3130560"/>
            <a:ext cx="717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441600" y="3330720"/>
            <a:ext cx="11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EEE 802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970440" y="350676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-25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197080" y="3762360"/>
            <a:ext cx="885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K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797200" y="3940200"/>
            <a:ext cx="717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363840" y="4118040"/>
            <a:ext cx="816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52920" y="4368960"/>
            <a:ext cx="1073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-25Mb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67640" y="6153120"/>
            <a:ext cx="12477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11480" y="5730840"/>
            <a:ext cx="3003480" cy="324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981080" y="56005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SDN(128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619440" y="5765760"/>
            <a:ext cx="1162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ble (10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619440" y="5994360"/>
            <a:ext cx="11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pper (6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14640" y="1986120"/>
            <a:ext cx="14432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57880" y="1986120"/>
            <a:ext cx="12286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629240" y="2171880"/>
            <a:ext cx="14572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6520" y="2171880"/>
            <a:ext cx="14857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57560" y="2614680"/>
            <a:ext cx="14428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00440" y="2614680"/>
            <a:ext cx="15004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76760" y="2781360"/>
            <a:ext cx="14288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05600" y="2781360"/>
            <a:ext cx="98100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00440" y="3457440"/>
            <a:ext cx="10432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9280" y="3643200"/>
            <a:ext cx="9716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100920" y="3643200"/>
            <a:ext cx="98568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443400" y="4071960"/>
            <a:ext cx="64296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86360" y="4071960"/>
            <a:ext cx="10429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114800" y="4257720"/>
            <a:ext cx="10144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129280" y="4257720"/>
            <a:ext cx="14857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72080" y="4486320"/>
            <a:ext cx="188604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72520" y="4486320"/>
            <a:ext cx="12427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48320" y="5934240"/>
            <a:ext cx="14572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34040" y="6153120"/>
            <a:ext cx="149544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20680" y="6521400"/>
            <a:ext cx="187956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152960" y="6524640"/>
            <a:ext cx="195732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310520" y="6524640"/>
            <a:ext cx="1765080" cy="3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5560" y="6345360"/>
            <a:ext cx="111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917800" y="6316560"/>
            <a:ext cx="1122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mited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129360" y="6316560"/>
            <a:ext cx="1133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rge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620120" y="2990880"/>
            <a:ext cx="14475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962520" y="2838600"/>
            <a:ext cx="5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M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24600" y="2990880"/>
            <a:ext cx="98100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105600" y="2990880"/>
            <a:ext cx="150480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111480" y="5502240"/>
            <a:ext cx="5737320" cy="3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0840" bIns="-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981080" y="5372280"/>
            <a:ext cx="689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a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8258040" y="6561000"/>
            <a:ext cx="765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4/24/96 RH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16880" y="5940360"/>
            <a:ext cx="124776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111720" y="5940360"/>
            <a:ext cx="1495440" cy="0"/>
          </a:xfrm>
          <a:prstGeom prst="line">
            <a:avLst/>
          </a:prstGeom>
          <a:ln w="38160">
            <a:solidFill>
              <a:srgbClr val="cecec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638600" y="6153120"/>
            <a:ext cx="1457280" cy="0"/>
          </a:xfrm>
          <a:prstGeom prst="line">
            <a:avLst/>
          </a:prstGeom>
          <a:ln w="38160">
            <a:solidFill>
              <a:srgbClr val="000000"/>
            </a:solidFill>
            <a:custDash>
              <a:ds d="33019" sp="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473200" y="95400"/>
            <a:ext cx="66578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ther Standards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2038320"/>
            <a:ext cx="8572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reless LAN Interoperability Forum (WL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reless 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771720" y="152280"/>
            <a:ext cx="36860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opos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28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rite a paper on the feasibility of standardizing HiperLAN and SuperNet PHYs - Boeing volunte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hard Paine</dc:creator>
  <dc:description/>
  <dc:language>en-US</dc:language>
  <cp:lastModifiedBy>Richard Paine</cp:lastModifiedBy>
  <cp:revision>0</cp:revision>
  <dc:subject/>
  <dc:title>Boeing Perspective on 802.11- Enschede, Neth</dc:title>
</cp:coreProperties>
</file>