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C4182F-1792-4C6E-BC3A-21C8BAFA3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35D3519-7DDD-45F3-81E0-53FD7396A379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ancouver, BC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LMSC (Sponsor)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 comments to Letter Ballot 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D 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atent Polo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sched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1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MSC (Sponsor) ballot on draft D5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SO/IEC JTC1/SC6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TU-R Working party 8A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Nov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les for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ointment of 802.11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ation of Comment to LB on CD8802-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Nov 13 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Nov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