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E3D1D3-D0FF-4D78-8664-F2835C5EE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76720" y="10666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63400" y="828720"/>
            <a:ext cx="23814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Suppor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63400" y="981000"/>
            <a:ext cx="2409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arch &amp;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4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5360" y="1479600"/>
            <a:ext cx="8381880" cy="14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Look at a Higher Speed 802.11 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66960" y="3254400"/>
            <a:ext cx="5691240" cy="2232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2120760" y="5794200"/>
            <a:ext cx="5265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ivered to the IEEE 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tee at Vancouver, BC, Nov 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508040" y="142920"/>
            <a:ext cx="7399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NII/Supernet at 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350Mhz-wide band (5150-5350MHz and 5.725-5875M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0 hops at 25Mbps (5MHz chann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greater chance of interference at 70 vs 79 hops @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the NII/Sup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ch higher clocking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57040" y="123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ults of the Future Work Meeting 11/11/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8000" y="1450800"/>
            <a:ext cx="895824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of use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view  of other standards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ula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cy al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the new PAR meets the 5 criteria for PA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t requirements for the highe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165480" y="184320"/>
            <a:ext cx="5830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verview  of User Nee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09560" y="1452600"/>
            <a:ext cx="314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e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1120" y="4708440"/>
            <a:ext cx="358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T GLOMO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50840" y="2290680"/>
            <a:ext cx="7908840" cy="22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ts of questions about Boeing requirements for wireless high bandwi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stions about the vendor position for customers such as Boeing-h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ny customers are there like Boeing.  Shouldn’t they be targ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umer or small company customers rather than the Boe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ts of questions about the Boeing intent on three dimensional CA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nswer was that three dimensional CAD will be everywhe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ing in the warehouses and fac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22400" y="5462640"/>
            <a:ext cx="7477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T attended the session with interest in delivery of informatio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litary people using high bandwidth wireless LAN technolog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2793960" y="212760"/>
            <a:ext cx="6056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2560" y="1662120"/>
            <a:ext cx="900756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c Hayes gave a report on ETSI and Hiper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,2,3,&amp;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1 is 5.1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2 is 17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perlan 3 is 60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e.wpi.edu for Hiperla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c mentioned that ETSI did not go to the ITU and s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U is upset with ETSI and is refusing to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siness with them since they have not work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the I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708200" y="155520"/>
            <a:ext cx="7327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Requirements for Higher Sp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43080" y="1365120"/>
            <a:ext cx="852012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/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- preferred but not required (with 802.11 spec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quency band  -  should we consider higher speeds in the 2.4GHZ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rt with about 150MHZ band near the NII and Hiperlan b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rate - 25Mbps, consider fall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(Range) - study will be conducted on spectral efficiency v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sitivity vs range vs immunity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 power - regula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apping networks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ath immunity - methods more immune to multipath, ie work will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ducted on channel models and immunity to multi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ference immunity - (modulation, protoc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conomics (complex/efficient vs low cost) - complex/efficient vs 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umption - mechanisms for power conservation (sleep mo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336840" y="155520"/>
            <a:ext cx="5181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requency Alloc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65000" y="2281320"/>
            <a:ext cx="83329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important to specify the band but a ra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ch as 150MHZ near NII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565440" y="184320"/>
            <a:ext cx="45324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A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766800" y="1770120"/>
            <a:ext cx="717228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ere are five criteria for a P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road market poten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istinct Ident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chnical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conomic Fea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28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new 10Mbps based on the NII/Superne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new 24 or 25Mbps based on the NII/Superne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666800"/>
            <a:ext cx="768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oeing Wireles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olution of Mobile Computing Co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O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imitations of 802.11 at Higher Sp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ination of the MAC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 Lim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86120" y="162000"/>
            <a:ext cx="61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700440" y="2951280"/>
            <a:ext cx="1835280" cy="2217600"/>
            <a:chOff x="3700440" y="2951280"/>
            <a:chExt cx="1835280" cy="2217600"/>
          </a:xfrm>
        </p:grpSpPr>
        <p:sp>
          <p:nvSpPr>
            <p:cNvPr id="60" name=""/>
            <p:cNvSpPr/>
            <p:nvPr/>
          </p:nvSpPr>
          <p:spPr>
            <a:xfrm>
              <a:off x="3895560" y="304164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3700440" y="485604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87880" y="375768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5097600" y="376884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30840" y="3116160"/>
              <a:ext cx="6033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17960" y="384660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06760" y="36669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0384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038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926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38680" y="41162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2926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38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3868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498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386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0384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498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386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498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386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498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0384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386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610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33920" y="31748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2720" y="31748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79960" y="34894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79960" y="3801960"/>
              <a:ext cx="226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79960" y="40705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79960" y="438480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79960" y="46972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33920" y="3981600"/>
              <a:ext cx="0" cy="715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803840" y="38019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00120" y="1343160"/>
            <a:ext cx="7829640" cy="5286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38400" y="1852560"/>
            <a:ext cx="2319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onal 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171880" y="3657600"/>
            <a:ext cx="1628640" cy="11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71880" y="4829040"/>
            <a:ext cx="371160" cy="2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400040" y="485784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5120" y="5937120"/>
            <a:ext cx="3147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998960" y="1738440"/>
            <a:ext cx="1465200" cy="919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389640" y="3478320"/>
            <a:ext cx="1411200" cy="1330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830160" y="3430440"/>
            <a:ext cx="2054160" cy="741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670200" y="5427720"/>
            <a:ext cx="199224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81160" y="2522520"/>
            <a:ext cx="2016360" cy="2179800"/>
            <a:chOff x="1181160" y="2522520"/>
            <a:chExt cx="2016360" cy="2179800"/>
          </a:xfrm>
        </p:grpSpPr>
        <p:sp>
          <p:nvSpPr>
            <p:cNvPr id="107" name=""/>
            <p:cNvSpPr/>
            <p:nvPr/>
          </p:nvSpPr>
          <p:spPr>
            <a:xfrm>
              <a:off x="1238400" y="261288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1362240" y="438948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30360" y="332892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2441520" y="334152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60440" y="2657520"/>
              <a:ext cx="398520" cy="26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2174760" y="2689200"/>
              <a:ext cx="603360" cy="41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ph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60440" y="341784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49600" y="32385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203560" y="2925720"/>
              <a:ext cx="171360" cy="35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4632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463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351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81160" y="36878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351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463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8116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923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811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4632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923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811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23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1811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923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4632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811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2035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6400" y="27464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65200" y="27464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22440" y="30607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2440" y="3373560"/>
              <a:ext cx="227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2440" y="36417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2440" y="39560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22440" y="42688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6400" y="3552840"/>
              <a:ext cx="0" cy="716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6320" y="33735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1716120" y="3263760"/>
              <a:ext cx="612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943520" y="1324080"/>
            <a:ext cx="1995480" cy="1362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305840" y="2523960"/>
            <a:ext cx="1209600" cy="1582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6276960" y="4665600"/>
            <a:ext cx="1663560" cy="1420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flipV="1">
            <a:off x="3143160" y="3371760"/>
            <a:ext cx="34308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228840" y="3886200"/>
            <a:ext cx="385776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71960" y="4114800"/>
            <a:ext cx="2857320" cy="10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2801880" y="5106960"/>
            <a:ext cx="211284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143160" y="4229280"/>
            <a:ext cx="657360" cy="771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37040" y="2824200"/>
            <a:ext cx="226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y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65880" y="4108320"/>
            <a:ext cx="267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ies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22960" y="62229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738520" y="5937120"/>
            <a:ext cx="316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Fiel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8440" y="162000"/>
            <a:ext cx="89820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On-Campus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540560" y="4870440"/>
            <a:ext cx="236520" cy="254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325440" y="4911840"/>
            <a:ext cx="1760400" cy="1460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538200" y="6365880"/>
            <a:ext cx="443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rehouse &amp; 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942840" y="4629240"/>
            <a:ext cx="22860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7"/>
          <a:stretch/>
        </p:blipFill>
        <p:spPr>
          <a:xfrm>
            <a:off x="2817720" y="1219320"/>
            <a:ext cx="1697040" cy="1434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flipV="1">
            <a:off x="3257640" y="3343320"/>
            <a:ext cx="151452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881440" y="2595600"/>
            <a:ext cx="1760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1492200" y="1289160"/>
            <a:ext cx="998640" cy="1054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09440" y="1366920"/>
            <a:ext cx="1708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1480" y="2228760"/>
            <a:ext cx="257400" cy="65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66680" y="1452600"/>
            <a:ext cx="143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9160" y="478800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42800" y="1814400"/>
            <a:ext cx="13111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N 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s/C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lular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33440" y="5146560"/>
            <a:ext cx="1809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me &amp; Trav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13848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03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184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1657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17552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8242200" y="114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083120" y="1171440"/>
            <a:ext cx="3240" cy="520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118120" y="1171440"/>
            <a:ext cx="6480" cy="519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05600" y="1171440"/>
            <a:ext cx="324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1171440"/>
            <a:ext cx="648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115480" y="1171440"/>
            <a:ext cx="9360" cy="514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29040" y="1514520"/>
            <a:ext cx="605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16080" y="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Going to Happe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Mobile Compu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657760" y="1981080"/>
            <a:ext cx="3124440" cy="5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040" bIns="-59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13160" y="187164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86640" y="2171880"/>
            <a:ext cx="1436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138480" y="2011320"/>
            <a:ext cx="1508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ldwide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643720" y="3454560"/>
            <a:ext cx="1697040" cy="2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1200" bIns="-61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086600" y="3643200"/>
            <a:ext cx="14605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81160" y="3282840"/>
            <a:ext cx="1676520" cy="324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29280" y="4071960"/>
            <a:ext cx="14907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86560" y="4257720"/>
            <a:ext cx="23716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048120" y="3890880"/>
            <a:ext cx="211428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715240" y="4486320"/>
            <a:ext cx="2001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100920" y="2610000"/>
            <a:ext cx="23763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15040" y="2781360"/>
            <a:ext cx="194328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962440" y="2428920"/>
            <a:ext cx="518148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95320" y="2259000"/>
            <a:ext cx="13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og(AM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692360" y="2467080"/>
            <a:ext cx="14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DPD 19.2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951360" y="26272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322360" y="312912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40160" y="333072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68640" y="35067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95640" y="3762360"/>
            <a:ext cx="88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795760" y="394020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362400" y="411804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52920" y="43689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67640" y="615312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11480" y="5730840"/>
            <a:ext cx="3003480" cy="324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979640" y="56005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DN(128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618000" y="5765760"/>
            <a:ext cx="1162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ble (1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618000" y="599436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per (6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014640" y="198612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57880" y="1986120"/>
            <a:ext cx="1228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29240" y="217188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86520" y="217188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57560" y="2614680"/>
            <a:ext cx="14428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00440" y="2614680"/>
            <a:ext cx="15004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76760" y="278136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05600" y="2781360"/>
            <a:ext cx="9810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00440" y="3457440"/>
            <a:ext cx="10432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29280" y="364320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00920" y="3643200"/>
            <a:ext cx="985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43400" y="407196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071960"/>
            <a:ext cx="10429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4257720"/>
            <a:ext cx="10144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29280" y="425772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572080" y="44863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72520" y="4486320"/>
            <a:ext cx="1242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48320" y="593424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34040" y="615312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20680" y="652140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152960" y="6524640"/>
            <a:ext cx="19573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310520" y="6524640"/>
            <a:ext cx="176508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3760" y="6345360"/>
            <a:ext cx="111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916360" y="631656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mited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129360" y="6316560"/>
            <a:ext cx="1133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rg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620120" y="29908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960720" y="283680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124600" y="2990880"/>
            <a:ext cx="98100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05600" y="2990880"/>
            <a:ext cx="15048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11480" y="5502240"/>
            <a:ext cx="573732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979640" y="5372280"/>
            <a:ext cx="68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a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58040" y="656100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/24/96 R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616880" y="594036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1720" y="594036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38600" y="615312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473200" y="95400"/>
            <a:ext cx="66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038320"/>
            <a:ext cx="8572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LAN Interoperability Forum (W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600280" y="1238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O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7400" y="6114960"/>
            <a:ext cx="6572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8629560" y="1514520"/>
            <a:ext cx="0" cy="460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057400" y="1739880"/>
            <a:ext cx="505476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115040" y="1514520"/>
            <a:ext cx="0" cy="4572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72080" y="1486080"/>
            <a:ext cx="9720" cy="463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57400" y="3343320"/>
            <a:ext cx="5057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057400" y="4629240"/>
            <a:ext cx="3514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72120" y="260028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210280" y="3981600"/>
            <a:ext cx="7426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62400" y="5305320"/>
            <a:ext cx="7430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7920" y="162864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53160" y="32385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7920" y="321948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7920" y="4514760"/>
            <a:ext cx="1228680" cy="2286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86520" y="408132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96240" y="1919160"/>
            <a:ext cx="228600" cy="1228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24360" y="188136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24360" y="2795760"/>
            <a:ext cx="159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738520" y="236700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776680" y="3660840"/>
            <a:ext cx="2368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081240" y="4108320"/>
            <a:ext cx="1641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719440" y="5118120"/>
            <a:ext cx="2233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00840" y="1749600"/>
            <a:ext cx="8190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603760" y="3535200"/>
            <a:ext cx="1525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71640" y="3343320"/>
            <a:ext cx="10857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95400" y="12524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020600" y="3565440"/>
            <a:ext cx="81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260360" y="177156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260360" y="4094280"/>
            <a:ext cx="33012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213680" y="4556160"/>
            <a:ext cx="179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308720" y="2309760"/>
            <a:ext cx="184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LME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050240" y="3154320"/>
            <a:ext cx="1736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79480" y="171360"/>
            <a:ext cx="7604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802.11 at Higher Sp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65240" y="1138320"/>
            <a:ext cx="882792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 in the 96microsec preamble plus 32microsec header plus packet transmit state timing for the PHY_S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25Mbps, 102791  bytes could conceivably be passed through the PHY_SAP.  The largest size packet allowed through the present SAP is 409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98320" y="3718080"/>
            <a:ext cx="5516640" cy="3019320"/>
            <a:chOff x="598320" y="3718080"/>
            <a:chExt cx="5516640" cy="3019320"/>
          </a:xfrm>
        </p:grpSpPr>
        <p:sp>
          <p:nvSpPr>
            <p:cNvPr id="295" name=""/>
            <p:cNvSpPr/>
            <p:nvPr/>
          </p:nvSpPr>
          <p:spPr>
            <a:xfrm>
              <a:off x="138744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87440" y="6651720"/>
              <a:ext cx="4727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6114960" y="3894120"/>
              <a:ext cx="0" cy="2757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025960" y="3894120"/>
              <a:ext cx="0" cy="2741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916440" y="3878280"/>
              <a:ext cx="6120" cy="2779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387440" y="4991040"/>
              <a:ext cx="363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87440" y="5761080"/>
              <a:ext cx="2529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27360" y="454500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56160" y="53737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621240" y="6167520"/>
              <a:ext cx="534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46400" y="4927680"/>
              <a:ext cx="88272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43160" y="491652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243160" y="5692680"/>
              <a:ext cx="884160" cy="1382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32360" y="5433840"/>
              <a:ext cx="1652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940280" y="4137120"/>
              <a:ext cx="163440" cy="736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598320" y="3718080"/>
              <a:ext cx="861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>
              <a:off x="615960" y="5105520"/>
              <a:ext cx="8110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768240" y="402912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768240" y="5423040"/>
              <a:ext cx="330120" cy="131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00040" y="4029120"/>
              <a:ext cx="36291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43160" y="3963960"/>
              <a:ext cx="884160" cy="136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657520" y="4486320"/>
            <a:ext cx="0" cy="105732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2657520" y="3629160"/>
            <a:ext cx="94284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3543480" y="3629160"/>
            <a:ext cx="568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543480" y="3371760"/>
            <a:ext cx="514080" cy="51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024440" y="3222720"/>
            <a:ext cx="844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6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444920" y="3390840"/>
            <a:ext cx="44640" cy="193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137280" y="301140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5X106bps = 822328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537240" y="4268880"/>
            <a:ext cx="177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2791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394320" y="251460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5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404040" y="4522680"/>
            <a:ext cx="18860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175440" y="5005440"/>
            <a:ext cx="274788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6X10-6s preamble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X10-6s header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 32760X10-6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X106bps = 328880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603840" y="6291360"/>
            <a:ext cx="1638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1110 oct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09840" y="4565520"/>
            <a:ext cx="1004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Y_S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565360" y="285840"/>
            <a:ext cx="6256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imits on 2.4GHz at 10Mb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43080" y="1714680"/>
            <a:ext cx="868680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 80Mhz-wid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9 hops at 2Mbps (1MHz/channel), 16 hops at 10Mb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5MHz/chann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 Channel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creasing number of channels increases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FCC Power Flux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’t cross the FCC power flux densit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 Preamble Cloc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bove 2Mbps there could be clock jitter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Paine</dc:creator>
  <dc:description/>
  <dc:language>en-US</dc:language>
  <cp:lastModifiedBy>Richard Paine</cp:lastModifiedBy>
  <cp:revision>0</cp:revision>
  <dc:subject/>
  <dc:title>Boeing Look at a Higher Speed 802.11 PHY</dc:title>
</cp:coreProperties>
</file>