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3480" y="6545160"/>
            <a:ext cx="3379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MAC report  Jan 199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6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70760" y="6545160"/>
            <a:ext cx="954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vid Bag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Jan ‘96 MAC group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1905120"/>
            <a:ext cx="4572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2895480"/>
            <a:ext cx="4572000" cy="144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18ffd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4648320"/>
            <a:ext cx="457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71800" y="3276720"/>
            <a:ext cx="2895480" cy="102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  <a:ea typeface="Arial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43200" y="472428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098960" y="210996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6.7 vs more bit ed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diting now caught up with Nov V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 plenary vot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6.3 visio e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diting now caught up with Nov v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 plenary vote requi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227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to accept comment resolutions for 227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0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20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6/3 Missing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to accept rec resolutions of comment of 96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2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21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cast Reliability Improve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6 comment 197 still un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hat the reliability of bcast should be impr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 8,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hat to improve reli of bcast we ask a ad-hoc group to work out the details of an approach based upon a mech of PIFS before all bcast incl beacon, restrict from new xmit at TBTT w or w/o a more bcast bit, and bring a detailed proposal back to the MAc group for 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9, 2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cast Reliability Improve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(96/15): To use PIFS before all multicast including beacons with a restriction against new TX at TBTT by non-AP, w/ more bit by adopting the text changes presented within this pres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or MORE bit, see section 8.2.1.4 - already in the d2.1 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ext in 96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7, 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11, 7, 4 (fa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SF Timer Spec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to change in clause 8.1.2.3 “0.0025” to “0.0035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5,4,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6,7,7 (fa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Hy - new backoff # after hop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 to adopt 96/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1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17, 0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uture No vote”</a:t>
            </a:r>
            <a:br>
              <a:rPr sz="3600"/>
            </a:b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 resolution in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im: No action requested. wanted to make group aware of issues. (see 96/19 for r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ar before fixed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ad vs word alignment tradeo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isc CIF bit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SS/IBSS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F a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ync vs TB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m T: How tell when CF period begi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o change Cf parameter CFP_rate as per text in cf_param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8, 0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15, 0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uture No vote”</a:t>
            </a:r>
            <a:br>
              <a:rPr sz="3600"/>
            </a:b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 resolution in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B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ec 6-218 - editors will change must to 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ec 6-110 does not match history, research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Johnny: moved: to move 4.4 inserted as new section into clause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8,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17, 1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Nov ‘95 Goals for Jan ‘96 mt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 D2 draft editing using D2.1 as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se output of Nov mtg (D2.1) to complete D2 LB comment processing resulting in D2.2 (D3.0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et’s make a D3 - </a:t>
            </a:r>
            <a:br>
              <a:rPr sz="3600"/>
            </a:b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“Third time is a charm..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hat 802.11 create Draft D3 from D2.1 and adopted changes from this week and send D3 out for (regular, not confirmation) Letter Ballot per schedule passed out by V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1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20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ostponed to after other sub-group report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oals for Mar 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have one goal - Process D3 LB comments and forward D3.1 for sponsor bal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group 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at’s all for now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sc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v MAC minutes ap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is Week’s Work Summ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ics Profor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ood progres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4, 5, 8 completed so far, 6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ther Clauses (1,2,3,7) not checked y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ics work refelcts D2.1 not this weeks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o adopt MAC PICs proforma work done so f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7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17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ec 6 LB comments vs 247 imp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2.0 LB comments not resol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6 comments were resolved, but reversal of 95/247 caused a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hat we decline LB comments 6-300, 301, 302, 304, 305, 307 because the plenary declined to alter the D2.1 multi-rate mech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7,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14, 1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ddt’l MAC mgt SAP text for clause 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; to adopt clause 7 MAC mgt improvements from Tom 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7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17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I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to adopt CIF changes rec by gr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0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17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State Machines (6.7) moved to informative Ann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 technical change from D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imply corrected placement of informativ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clause 6.7 be moved to an informative annex and that the MAC group continue to work according to agenda to improve that ann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1, 1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14, 1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