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90884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38DCA379-06F1-4BAE-AD71-F065BE4DAF64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457200"/>
            <a:ext cx="73152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4th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18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Tentative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29718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ch 11-15,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 Jolla,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March 11, 15:3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adjournment of the 802 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im meeting of subgroups, Monday, March 11, 08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9144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-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, CA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 Marriot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haina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 Ma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QU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All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olve comments on LB on D3.0 and prepare Draft for sponsor ballot 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lusion of FH tables for various other countries (France, Spain, Australia)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ive a tutorial to 802 in preparation of the sponsor ballot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 Mbit/s informational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CC wish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238880" y="2133720"/>
            <a:ext cx="1371600" cy="18288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99072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Monday    |  Tuesday  |Wednesday   |   Thursday |   Friday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Ex !MAC!DS!FH|MAC!  PHY  |MAC! DS! FH |MAC! DS! FH |     802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Com!   !  !  |   !       |   !   !    |   !   !    |   Plenary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!  !  |   !.......|   !   !    |   !........|</a:t>
            </a:r>
            <a:r>
              <a:rPr b="1" lang="en-US" sz="1600" spc="-1" strike="noStrike">
                <a:solidFill>
                  <a:srgbClr val="919191"/>
                </a:solidFill>
                <a:latin typeface="Courier New"/>
                <a:ea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!  !  |   ! DS!FH |   !   !    |   !   PHY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802     |MAC! DS!FH |Full 802.11 |Full 802.11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Plenary    |   !   !   |Resolve     |   Reports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             |   !   !   |  outputs   |   Outputs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.............|   !   !   |Cross issues|  Next mtng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Full 802.11 |   !   !   |Conform Tst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IR!OPT !OPT |IR!Tutorial|Social      |   Exec.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!MAC !PHY |  !  to 802|     Event  |     Comm.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:3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plenary a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ntreal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5/2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Diego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6/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etter ballot on draft D3.0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Jose meeting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Diego meeting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PR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eting with the FC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6/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dnesday PM, Mar 13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oss group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r 14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296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4000680"/>
                <a:tab algn="l" pos="4743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llot on Draft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r 14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@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