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38160">
            <a:solidFill>
              <a:srgbClr val="fc012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451640" y="6529320"/>
            <a:ext cx="9399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</a:t>
            </a:r>
            <a:fld id="{56A243FA-2891-4666-BFB1-DB9EFA4B95F8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of IEEE P802.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by Vic Hayes, Chair, AT&amp;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recht, 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76320"/>
            <a:ext cx="8153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MAC: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62040" y="3898800"/>
            <a:ext cx="7620120" cy="22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Medium Access Control Protocol” using an Ethernet like </a:t>
            </a:r>
            <a:r>
              <a:rPr b="0" i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SMA/CA + Ac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sion “Avoidance” rather then a “Detection” sche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36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ness demonstrated in </a:t>
            </a:r>
            <a:r>
              <a:rPr b="0" i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Wavel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du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MAC level recovery of “Lost Packet” using a retransmission algorith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provisions to deal with “Hidden Nod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03360" y="1449360"/>
            <a:ext cx="5553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MAC: Perform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76320" y="5300640"/>
            <a:ext cx="76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t and stable through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Based on 2 Mbps </a:t>
            </a:r>
            <a:r>
              <a:rPr b="0" i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Wavel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40000" y="1263600"/>
            <a:ext cx="6062760" cy="4046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95560" y="1876320"/>
            <a:ext cx="119556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MAC: Other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3320" y="137016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ming through the Wireless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Continuous conne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will “Re-Associate” with Access Points based on “Signal / Link Quality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multi channel roa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 System” will adapt to logical location changes of the s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sions to use minimum Battery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y: Switch nodes off as much as possible, while maintaining network configu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ffic buffering functions are included in the Access Point to support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d Equivalent Privacy” encryption algorithm is inclu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PHY, Ra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e radio work on the 2.4 GHz band (I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romising global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 Spectrum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allowed to start work in 1.9, 5.2 and 5.8 GHz 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ctivity y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equence Spread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equence uses an 11 chip Barker Sequence to multiply the transmitt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divides received signal by same Sequence to recover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row band interference demin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s can resolve multipath in the 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of 2 Mbit/s in DQPSK (Differential Quadrature Phase Shift Key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back modulation of 1 Mbit/s in DBPSK (Differential Binary P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Spread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uses one of out 79 channels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s from one frequency channel to the next at a 2.5 hops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sets of 22 hop sequences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1 Mbit/s in 2 level GFSK (Gaussian Frequency Shift Key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2 Mbit/s in 4 level GFSK, channel perm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PHY, Infra-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1 Mbit/s (basic rate) in 16-PPM (Pulse Position Mod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2 Mbit/s (enhanced rate) in 4 -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r illuminates the ceiling with diffused Infra-red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read from ceiling, so there is no requirements to line transmitter and receiver pai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draft ballot cond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.5 % approval (75 % required, unanimous prefer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 (17) appro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 (66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ppro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(11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ing negative votes at November/January 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draft sent to ISO annexed to a Proposed New Work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81200" y="1114560"/>
            <a:ext cx="762012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G Confirmation ballot Jan/Feb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issues at March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 Ballot Mar/Apr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issues at May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 Confirmation ballot Jun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issues at July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 September 17-18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conference, January 9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Layer Group assembled at the Westgate Hotel, San Diego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CC staff at the Federal Communications Building, Washington, D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um 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ROJECT 8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and Metropolitan Standards Committee (LM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d in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ed by the Computer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of 35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Area Networks (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LAN standards development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Standards adopted as International Standard by ISO/I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Standards Organization and International Electrical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ropolitan Are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450 Voting Members, over 600 Ob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Working Groups, 2 Technical Advisory Grou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 through 802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ROJECT 80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Area Network -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 to high signaling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1 Mbit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ly sized geographic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m  to campus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ly owned, used and operated by singl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ntrast to wide area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shared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roject 802.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Local Area Networks Standards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July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 voting members, 28 aspirant voting memb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hip is by individual, not by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mailing list with over 180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, Canada, Europe, Israel, Japan, Korea,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-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-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Functional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study showed two types of networking nee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, that is bursty traffic, but when something to send: need for very fast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chronous, that is regular traffic, in small amounts at a time, but at a constant 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 802.11 adopted the following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 MSDU delivery on al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DU is the MAC Service Data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"time-bound MSDU delivery servic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estrian speed and vehicular 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ise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first review 802.10 pro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MAC to support various PH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ion depend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803240"/>
            <a:ext cx="89028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PH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300400" y="1380960"/>
            <a:ext cx="1057320" cy="519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57760" y="1400040"/>
            <a:ext cx="12096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0" y="2666880"/>
            <a:ext cx="102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0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5200" y="2000160"/>
            <a:ext cx="155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62560" y="2000160"/>
            <a:ext cx="152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19600" y="2405160"/>
            <a:ext cx="1542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ROAD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62560" y="2392200"/>
            <a:ext cx="152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BASE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0520" y="2808360"/>
            <a:ext cx="1562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400720" y="2808360"/>
            <a:ext cx="1452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9880" y="3162240"/>
            <a:ext cx="1533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24400" y="3181320"/>
            <a:ext cx="1562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14760" y="3543120"/>
            <a:ext cx="1504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934320" y="2494080"/>
            <a:ext cx="14860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ll Ethernet, but not inter-operable on the med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419200" y="4514760"/>
            <a:ext cx="895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0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857840" y="4214880"/>
            <a:ext cx="114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838760" y="4610160"/>
            <a:ext cx="114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819680" y="5010120"/>
            <a:ext cx="1181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0" y="4214880"/>
            <a:ext cx="142884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ly all 802.11, but not inter-operable on the med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81200" y="2647800"/>
            <a:ext cx="95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62120" y="4476600"/>
            <a:ext cx="1238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